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gunshot.wav" ContentType="audio/x-wav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driveby.wav" ContentType="audio/x-wav"/>
  <Override PartName="/ppt/media/image19.png" ContentType="image/png"/>
  <Override PartName="/ppt/media/image18.wmf" ContentType="image/x-wmf"/>
  <Override PartName="/ppt/media/carbrake.wav" ContentType="audio/x-wav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5793-2872-4549-BE74-FBA7B91E2C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AE17-34AE-40F5-A826-AFCE1A93B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675-616C-4216-A540-DBAA3ACE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5E9-2FC2-4E81-8ACC-9220B5BB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B09-336D-4CF4-882C-5E317066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905-E48F-4EBA-83BC-F7A7C6B9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82FBA-7849-44CA-8B2A-86F7973F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401AC-6791-447D-9F01-6FA86A78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4F9DC-B7CA-4F4A-BD38-7C3AF77B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EC27B-7936-462C-A424-863CF777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6B5CF-F1B2-4343-82F2-F7D0D101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18E54-C904-42EB-AF01-AAA6C4B4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BA42A-2FD6-4535-83E5-3DA68959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85D-199B-4D90-98AF-D4F0C299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2C9BD-F797-42FC-BA8B-2B70E387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98A3E-C441-4B28-91CF-9F629CF6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3FC85-2539-4944-B008-98170C13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774AC-DCAF-4A21-9F2F-A3A639A0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A2117-7D2A-4FA0-8FD7-2A1E5CB5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0A7-6810-47EB-9DCF-D379AF05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67C-5043-433E-8666-33B43125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610-95DE-47D5-BBC9-A25E839A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9B8-E021-4E74-8248-F882FF63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BF8-ACD0-4545-B813-DA5640AE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167-28C0-4B5A-A2E2-00046605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2BC-3F9A-4497-9A8C-93DC19C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F000F175-A1FE-4931-81ED-07C75C86D565}" type="datetime13">
              <a:rPr b="0" lang="en-US" sz="1200" spc="-1" strike="noStrike">
                <a:solidFill>
                  <a:srgbClr val="000000"/>
                </a:solidFill>
                <a:latin typeface="Arial"/>
              </a:rPr>
              <a:t>05:3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3997-DEEE-41AE-A8AE-637AAF2C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6D0908E7-DE39-46A5-A086-08FDEAE49E4C}" type="datetime13">
              <a:rPr b="0" lang="en-US" sz="1200" spc="-1" strike="noStrike">
                <a:solidFill>
                  <a:srgbClr val="ffffff"/>
                </a:solidFill>
                <a:latin typeface="Arial"/>
              </a:rPr>
              <a:t>05:3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9B17-0DE7-41B2-9C30-857CA87D40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unsho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743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3ff"/>
                </a:solidFill>
                <a:latin typeface="Arial"/>
              </a:rPr>
              <a:t>DO N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29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ON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167652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. Identify 3 major aerospace manufacturing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191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Explain how a person such as your self can own part of an airlin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j0215086"/>
          <p:cNvPicPr/>
          <p:nvPr/>
        </p:nvPicPr>
        <p:blipFill>
          <a:blip r:embed="rId1"/>
          <a:stretch/>
        </p:blipFill>
        <p:spPr>
          <a:xfrm>
            <a:off x="7238880" y="6094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xed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1knejj1i[1]"/>
          <p:cNvPicPr/>
          <p:nvPr/>
        </p:nvPicPr>
        <p:blipFill>
          <a:blip r:embed="rId1"/>
          <a:stretch/>
        </p:blipFill>
        <p:spPr>
          <a:xfrm>
            <a:off x="5867280" y="228600"/>
            <a:ext cx="2721240" cy="152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57200" y="16765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a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lying boats) uses floats or hulls in place of conventional landing gear to take off and land on water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04920" y="39625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nd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assified by location of wing, landing gear type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irplane-overall"/>
          <p:cNvPicPr/>
          <p:nvPr/>
        </p:nvPicPr>
        <p:blipFill>
          <a:blip r:embed="rId1"/>
          <a:stretch/>
        </p:blipFill>
        <p:spPr>
          <a:xfrm>
            <a:off x="304920" y="685800"/>
            <a:ext cx="8577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050840" y="1692360"/>
            <a:ext cx="67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phib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n operate either on land or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qbti3oiv[1]"/>
          <p:cNvPicPr/>
          <p:nvPr/>
        </p:nvPicPr>
        <p:blipFill>
          <a:blip r:embed="rId1"/>
          <a:stretch/>
        </p:blipFill>
        <p:spPr>
          <a:xfrm>
            <a:off x="3048120" y="3809880"/>
            <a:ext cx="380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64480" y="1981080"/>
            <a:ext cx="41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SUMMARY (ACCOUNTABLE TALK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04920" y="243828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57200" y="3809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" y="5410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591960" y="685800"/>
            <a:ext cx="2369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063A-65F1-44BA-AA3C-58654424BE56}" type="datetime3">
              <a:rPr b="1" lang="en-US" sz="2800" spc="-1" strike="noStrike">
                <a:solidFill>
                  <a:srgbClr val="ffff00"/>
                </a:solidFill>
                <a:latin typeface="Garamond"/>
              </a:rPr>
              <a:t>July 31,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gyzhx0v1[1]"/>
          <p:cNvPicPr/>
          <p:nvPr/>
        </p:nvPicPr>
        <p:blipFill>
          <a:blip r:embed="rId1"/>
          <a:stretch/>
        </p:blipFill>
        <p:spPr>
          <a:xfrm rot="492000">
            <a:off x="6171840" y="2141280"/>
            <a:ext cx="251460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Track 17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Track 1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355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36007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2435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640" y="1600200"/>
            <a:ext cx="42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Instructional Objectives: (SWBA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228600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) Explain the 2 primary classes of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) Discuss types of heavier than air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52280" y="4952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) Identify 2 types of fixed wing aircraf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94800" y="914400"/>
            <a:ext cx="2567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991D-89C7-4888-B2E1-23C3D104F013}" type="datetime">
              <a:rPr b="1" lang="en-US" sz="2800" spc="-1" strike="noStrike">
                <a:solidFill>
                  <a:srgbClr val="ffff00"/>
                </a:solidFill>
                <a:latin typeface="Garamond"/>
              </a:rPr>
              <a:t>07/31/26</a:t>
            </a:fld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fld id="{7F21F8BC-2923-4B80-8B9C-5C53D7D8B52B}" type="datetime10">
              <a:rPr b="1" lang="en-US" sz="2800" spc="-1" strike="noStrike">
                <a:solidFill>
                  <a:srgbClr val="ffff00"/>
                </a:solidFill>
                <a:latin typeface="Garamond"/>
              </a:rPr>
              <a:t>05:30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j0233070"/>
          <p:cNvPicPr/>
          <p:nvPr/>
        </p:nvPicPr>
        <p:blipFill>
          <a:blip r:embed="rId1"/>
          <a:stretch/>
        </p:blipFill>
        <p:spPr>
          <a:xfrm>
            <a:off x="6324480" y="2362320"/>
            <a:ext cx="1828800" cy="91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7278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I) What are the two primary classes of aircrafts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xu4r021a[1]"/>
          <p:cNvPicPr/>
          <p:nvPr/>
        </p:nvPicPr>
        <p:blipFill>
          <a:blip r:embed="rId1"/>
          <a:stretch/>
        </p:blipFill>
        <p:spPr>
          <a:xfrm rot="580800">
            <a:off x="5638680" y="4571640"/>
            <a:ext cx="2667240" cy="142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16960" y="413064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eavier- than ai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yk1os4jy[1]"/>
          <p:cNvPicPr/>
          <p:nvPr/>
        </p:nvPicPr>
        <p:blipFill>
          <a:blip r:embed="rId2"/>
          <a:stretch/>
        </p:blipFill>
        <p:spPr>
          <a:xfrm rot="615000">
            <a:off x="5334120" y="2057400"/>
            <a:ext cx="30477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er-than ai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1905120"/>
            <a:ext cx="7178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ofsryk1a[1]"/>
          <p:cNvPicPr/>
          <p:nvPr/>
        </p:nvPicPr>
        <p:blipFill>
          <a:blip r:embed="rId1"/>
          <a:stretch/>
        </p:blipFill>
        <p:spPr>
          <a:xfrm>
            <a:off x="6705720" y="2133720"/>
            <a:ext cx="1981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Lighter-than air:</a:t>
            </a: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3wgveq1a[1]"/>
          <p:cNvPicPr/>
          <p:nvPr/>
        </p:nvPicPr>
        <p:blipFill>
          <a:blip r:embed="rId1"/>
          <a:stretch/>
        </p:blipFill>
        <p:spPr>
          <a:xfrm>
            <a:off x="7010280" y="5486400"/>
            <a:ext cx="1839960" cy="853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838080"/>
            <a:ext cx="7178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free balloon” or “hot air balloon”, has no internal or external framework. Has no stee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57200" y="335268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imp,  gas is contained in a fabric covered wooden or metal frame work. A gondola (control car)  is underneath which carries engines and pers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4dx2hamv[1]"/>
          <p:cNvPicPr/>
          <p:nvPr/>
        </p:nvPicPr>
        <p:blipFill>
          <a:blip r:embed="rId2"/>
          <a:stretch/>
        </p:blipFill>
        <p:spPr>
          <a:xfrm>
            <a:off x="7543800" y="1295280"/>
            <a:ext cx="1116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76 L 0.108 0.08276 L 0.072 0.16686 L 0.108 0.24962 L 0.036 0.24962 L 0 0.33372 L -0.036 0.24962 L -0.108 0.24962 L -0.072 0.16686 L -0.108 0.08276 L -0.036 0.08276 L 0 0 Z">
                                      <p:cBhvr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vier-than air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29718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4" descr="wghzham_[1]"/>
          <p:cNvPicPr/>
          <p:nvPr/>
        </p:nvPicPr>
        <p:blipFill>
          <a:blip r:embed="rId1"/>
          <a:stretch/>
        </p:blipFill>
        <p:spPr>
          <a:xfrm>
            <a:off x="4038480" y="3962520"/>
            <a:ext cx="3722760" cy="13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olzytqi0[1]"/>
          <p:cNvPicPr/>
          <p:nvPr/>
        </p:nvPicPr>
        <p:blipFill>
          <a:blip r:embed="rId2"/>
          <a:stretch/>
        </p:blipFill>
        <p:spPr>
          <a:xfrm>
            <a:off x="5638680" y="457200"/>
            <a:ext cx="2667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Heavier-than a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tary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28600" y="175248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974880" y="3352680"/>
            <a:ext cx="816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Autogi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n powered air driven blades. Forward flight is accomplished by use of a conventional engine and propeller. Forward motion caused free wheeling rotating bl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5" descr="ijtw4rnv[1]"/>
          <p:cNvPicPr/>
          <p:nvPr/>
        </p:nvPicPr>
        <p:blipFill>
          <a:blip r:embed="rId2"/>
          <a:stretch/>
        </p:blipFill>
        <p:spPr>
          <a:xfrm>
            <a:off x="5334120" y="533520"/>
            <a:ext cx="337824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360" y="4366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licop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pkyq2wy1[1]"/>
          <p:cNvPicPr/>
          <p:nvPr/>
        </p:nvPicPr>
        <p:blipFill>
          <a:blip r:embed="rId1"/>
          <a:stretch/>
        </p:blipFill>
        <p:spPr>
          <a:xfrm>
            <a:off x="2362320" y="3962520"/>
            <a:ext cx="62071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2:14:57Z</dcterms:created>
  <dc:creator>T1</dc:creator>
  <dc:description>aircraft classification</dc:description>
  <cp:keywords>aircraft classification</cp:keywords>
  <dc:language>en-US</dc:language>
  <cp:lastModifiedBy>RomaK</cp:lastModifiedBy>
  <dcterms:modified xsi:type="dcterms:W3CDTF">2015-09-03T12:17:28Z</dcterms:modified>
  <cp:revision>57</cp:revision>
  <dc:subject>aircraft classification</dc:subject>
  <dc:title>aircraft classification</dc:title>
</cp:coreProperties>
</file>