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09A2-A194-4FA9-9A8E-9A387CA5A0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compounds - covalent (molecular) and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formula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lemental analysis, empirical formula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olar masses with empirical formulas --&gt; chemical </a:t>
            </a:r>
            <a:r>
              <a:rPr b="0" lang="en-US" sz="1200" spc="-1" strike="noStrike">
                <a:solidFill>
                  <a:srgbClr val="ffffff"/>
                </a:solidFill>
                <a:latin typeface="Times New Roman"/>
              </a:rPr>
              <a:t>	</a:t>
            </a:r>
            <a:r>
              <a:rPr b="0" lang="en-US" sz="1200" spc="-1" strike="noStrike">
                <a:solidFill>
                  <a:srgbClr val="ffffff"/>
                </a:solidFill>
                <a:latin typeface="Times New Roman"/>
              </a:rPr>
              <a:t>formul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ressing chemical equ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ichiometric calcul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ing Reactant : determines amount of product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etical yields vs actual yiel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compounds - covalent (molecular) and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form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lemental analysis, empirical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olar masses with empirical formulas --&gt; chemical </a:t>
            </a:r>
            <a:r>
              <a:rPr b="0" lang="en-GB" sz="1200" spc="-1" strike="noStrike">
                <a:solidFill>
                  <a:srgbClr val="000000"/>
                </a:solidFill>
                <a:latin typeface="Times New Roman"/>
              </a:rPr>
              <a:t>	</a:t>
            </a:r>
            <a:r>
              <a:rPr b="0" lang="en-GB"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ressing 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ichiometric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ing Reactant : determines amount of product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oretical yields vs actual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umns are called GROUPS (FAMILIES) and rows are called PERIO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a group have similar chemical and physical properti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 are called GROUPS (FAMILIES) and rows are called PERI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a group have similar chemical and physical prope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otal number of electrons within a group is different, increasing in number down a gro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e number of electrons furthest away from the nucleus, called the OUTER or VALENCE electrons is the same for all elements in a grou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electrons within a group is different, increasing in number down a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number of electrons furthest away from the nucleus, called the OUTER or VALENCE electrons is the same for all elements in a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s are referred to by names, which often derive from thei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 Alkali metals; II – Alkaline Earth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I – Halogens; VIII – Noble gas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in the middle block are called 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re referred to by names, which often derive from thei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Alkali metals; II – Alkaline Earth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I – Halogens; VIII –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middle block are called 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the A group are diverse; metals and non-metals, solids and gases at room 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all metals, and are solids at room temp, except for H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ong the transition elements are two sets of 14 elements - the LANTHANIDES and the ACTINID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the A group are diverse; metals and non-metals, solids and gases at room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all metals, and are solids at room temp, except for H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e transition elements are two sets of 14 elements - the LANTHANIDES and the ACTIN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cal and Chemical properties such as melting points, thermal and electrical conductivity, atomic size, vary systematically across 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within a column have simila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Chemical properties such as melting points, thermal and electrical conductivity, atomic size, vary systematically acros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within a column have simila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ic radius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omic radius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zig-zag” division of the table divides metals from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to the left of the zig-zag line are metals (except for hydrogen, which is unique) and to the right are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along the border have intermediate properties and are called metalloi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zig-zag” division of the table divides metals from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to the left of the zig-zag line are metals (except for hydrogen, which is unique) and to the right are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along the border have intermediate properties and are called metall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Bond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hemical bond results from strong electrostatic interactions between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ature of the atoms determines the kind of bon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bonds result from a strong interaction between NEUTRAL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atom donates an electron resulting in a pair of electrons that are SHARED between the two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bond results from strong electrostatic interactions between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 atoms determines the kind of b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bonds result from a strong interaction between NEUTRAL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 donates an electron resulting in a pair of electrons that are SHARED between the tw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ega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ype of bond formed between a pair of atoms is determined by the ability of the atoms to attract electrons from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eg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nd formed between a pair of atoms is determined by the ability of the atoms to attract electrons from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Metallic elements loose electrons (to form positive ions) more readily than non-metallic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elements are hence referred to as being more ELECTROPOSITIVE that non-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s are more ELECTRONEGATIVE compared to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Metallic elements loose electrons (to form positive ions) more readily than non-metallic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elements are hence referred to as being more ELECTROPOSITIVE that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ELECTRONEGATIVE compared to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allows for a comparative scale for the electronegativity of elemen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for a comparative scale for the electronegativity of el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uorine is the most electronegative element, and francium the least electronega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ine is the most electronegative element, and francium the least electro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er differences result in a more equitable “sharing” of electrons between the bonded atoms, resulting in a COVALENT bond between the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ds of bonds formed between elements (covalent vs ionic) can be determined by comparing electronegativity of the two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differences result in a more equitable “sharing” of electrons between the bonded atoms, resulting in a COVALENT bond between the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ds of bonds formed between elements (covalent vs ionic) can be determined by comparing electronegativity of the two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and Cl form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gives up an electron and Cl accepts the electron to form Na+ and Cl-.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and Cl form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gives up an electron and Cl accepts the electron to form Na+ and 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d on the position of elements in the periodic table, we can determine the kind of bond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lic element + nonmetallic element  Molecular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ar compounds are typically gases, liquids, or low melting point solids and are characteristically poor conductors. Examples are H2O, CH4, NH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osition of elements in the periodic table, we can determine the kind of bond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lic element + nonmetallic element  Molecular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ompounds are typically gases, liquids, or low melting point solids and are characteristically poor conductors. Examples are H2O, CH4,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compound + nonmetallic compound  IONIC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c compounds are generally high-melting solids that are good conductors of heat and electricity in the molten stat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re NaCl, common salt, and NaF, sodium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compound + nonmetallic compound  IO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c compounds are generally high-melting solids that are good conductors of heat and electricity in the molten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re NaCl, common salt, and NaF, sodium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hemical formula represents the composition of each molecu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writing the chemical formula, in almost all cases the element farthest to the left of the periodic table is written firs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for example the chemical formula of a compound that contains one sulfur atom and six fluorine atoms is SF6.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the two elements are in the same period, the symbol of the element of that is lower in the group (i.e. heavier) is written first e.g. IF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mical formula represents the composition of each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riting the chemical formula, in almost all cases the element farthest to the left of the periodic table is written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example the chemical formula of a compound that contains one sulfur atom and six fluorine atoms is SF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elements are in the same period, the symbol of the element of that is lower in the group (i.e. heavier) is written first e.g. IF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naming covalent compounds, the name of the first element in the formula is unchang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ffix “-ide”  is added to the second ele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ften a prefix to the name of the second element indicates the number of the element in the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F6 – sulfur hexa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4O10 – tetraphosphorous dec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 – carbo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2 – carbon di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aming covalent compounds, the name of the first element in the formula is un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ffix “-ide”  is added to the second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a prefix to the name of the second element indicates the number of the element in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6 – sulfur hexa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4O10 – tetraphosphorous dec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 – carbo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consider a hydrogen molecule, H2.  When the two hydrogen, H, atoms are far apart from each other they do not feel any interaction.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y come closer each “feels” the presence of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on on each H atom occupies a volume that covers both H atoms and a COVALENT bond is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the bond has been formed, the two electrons are shared by BOTH H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consider a hydrogen molecule, H2.  When the two hydrogen, H, atoms are far apart from each other they do not feel any inter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y come closer each “feels” the presence of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on each H atom occupies a volume that covers both H atoms and a COVALENT bond is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bond has been formed, the two electrons are shared by BOTH H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nary compounds of hydrogen are special cases.  They were discovered before a convention was adopted and hence their original names have stay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ydrogen forms binary compounds with almost all non-metals except the noble gas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F - hydrogen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Cl - hydrogen chlor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2S - hydrogen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H2O is not called dihydroge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nary compounds of hydrogen are special cases.  They were discovered before a convention was adopted and hence their original names have st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gen forms binary compounds with almost all non-metals except the noble g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F - hydrogen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2S - hydrogen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H2O is not called dihydroge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c molecules (containing C) have a separate nomencl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lecular formulas for compounds containing C and H (called hydrocarbons) are written with C first.  Example, CH4, C2H6, etc.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molecules (containing C) have a separate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ar formulas for compounds containing C and H (called hydrocarbons) are written with C first.  Example, CH4, C2H6,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NARY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ounds formed by elements on opposite sides of the periodic table which either give up (left side) or take up electrons (right s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ending on the atom, there can be an exchange of more than one electron resulting in charges greater than ±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formed by elements on opposite sides of the periodic table which either give up (left side) or take up electrons (right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atom, there can be an exchange of more than one electron resulting in charges great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A – alkali metals – loose 1 e- to form +1 (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 A– alkaline earth metals –loose 2 e- to form +2 (Ca+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I A– loose three e- to form +3 (A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V A– loose four e- to form +4 (Sn+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 A– accept three e- to form  –3 (N-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 A– accept two e- to form  –2 (O-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IA – accept one e- to form  –1 (Cl-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 – alkali metals – loose 1 e- to form +1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 A– alkaline earth metals –loose 2 e- to form +2 (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 A– loose three e- to form +3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 A– loose four e- to form +4 (S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 A– accept three e- to form  –3 (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 A– accept two e- to form  –2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 – accept one e- to form  –1 (C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ons – suffix – “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Cl- is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xygen O2- is 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2- is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Na+, Ca2+, the name of the ion is the same except refer to the 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SODIUM ION or SODIUM C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Cl - sod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Cl2 - calc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ming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ons – suffix – “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l- is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O2- is 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2- is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Na+, Ca2+, the name of the ion is the same except refer to the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SODIUM ION or SODIUM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Cl - sod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Cl2 - calc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charged compounds -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ive Molecular 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d the name with “ium” or “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H4+ is ammonium, H3O + is hydr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gative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charged compounds -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Molecula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the name with “ium” or “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4+ is ammonium, H3O + is hydr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chemically quite different from the metals in the “A” block, due to differences in electronic configur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Fe can loose two or three electrons to become Fe2+ and Fe3+, respectivel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chemically quite different from the metals in the “A” block, due to differences in electronic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Fe can loose two or three electrons to become Fe2+ and Fe3+,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identify the charge of Fe in a compound the following nomenclature is us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2+ is iron(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3+ is iron (I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iron(III) chloride is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ous chloride =&gt; FeCl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ic chloride =&gt;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is convention does not indicate the numerical value of the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dentify the charge of Fe in a compound the following nomenclature i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is iron(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3+ is iron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ron(III) chloride is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ous chloride =&gt; Fe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ic chloride =&gt;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is convention does not indicate the numerical value of the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lectron density plot for the H2 molecule shows that the shared electrons occupy a volume equally distributed over BOTH H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on density plot for the H2 molecule shows that the shared electrons occupy a volume equally distributed over BOTH H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lso possible that, as two atoms come closer, one electron is transferred to the 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tom that gives up an electron acquires a +1 charge and the other atom, which accepts the electron acquires a –1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atoms are attracted to each other through Coulombic interactions – opposite charges attract – resulting in an IONIC bo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possible that, as two atoms come closer, one electron is transferred to the 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that gives up an electron acquires a +1 charge and the other atom, which accepts the electron acquires a –1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atoms are attracted to each other through Coulombic interactions – opposite charges attract – resulting in an IONIC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factors determine if an atom forms a covalent or ionic bond with an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stry of an element depends almost entirely on the number of electrons, and hence its atomic numb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actors determine if an atom forms a covalent or ionic bond with an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of an element depends almost entirely on the number of electrons, and hence its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1C027-0144-4D01-B443-BCEB1ADD4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2B7DF-650C-4D60-AAD3-D38E6A3CE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DAC89-C2FD-435D-8880-55647C113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F27E9-53D8-41AC-A18D-306A54989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19E7D-1B3E-4E9F-89B4-7F3FC93B7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70D15-4A88-4C51-A345-414CA615F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087AD-6D04-42A7-A147-60205DC70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52B92-A172-49E2-8591-282631CCB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D0155-2A66-4B6F-9EDE-CD722EB6D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CC08D-DB32-47AC-B6C4-04F74D568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71853-0590-41A5-90E1-FDBB25828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4D5FF-9156-4430-8116-23EF81F29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ECB3-CD31-41CF-8792-4BD6079B63F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304920"/>
            <a:ext cx="883944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compounds - covalent (molecular) and ionic</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formula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lemental analysis, empirical formula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lar masses with empirical formulas --&gt; chemical </a:t>
            </a:r>
            <a:r>
              <a:rPr b="1" lang="en-US" sz="2400" spc="-1" strike="noStrike">
                <a:solidFill>
                  <a:srgbClr val="ffffff"/>
                </a:solidFill>
                <a:latin typeface="Arial"/>
              </a:rPr>
              <a:t>	</a:t>
            </a:r>
            <a:r>
              <a:rPr b="1" lang="en-US" sz="2400" spc="-1" strike="noStrike">
                <a:solidFill>
                  <a:srgbClr val="ffffff"/>
                </a:solidFill>
                <a:latin typeface="Arial"/>
              </a:rPr>
              <a:t>formul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ressing chemical equ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ichiometric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ing Reactant : determines amount of product form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oretical yields vs actual yi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507960" y="355680"/>
            <a:ext cx="8128080" cy="614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6" descr=""/>
          <p:cNvPicPr/>
          <p:nvPr/>
        </p:nvPicPr>
        <p:blipFill>
          <a:blip r:embed="rId1"/>
          <a:stretch/>
        </p:blipFill>
        <p:spPr>
          <a:xfrm>
            <a:off x="76320" y="533520"/>
            <a:ext cx="8915400" cy="544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0" y="3429000"/>
            <a:ext cx="9144000" cy="32767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lumns are called </a:t>
            </a:r>
            <a:r>
              <a:rPr b="1" lang="en-US" sz="2400" spc="-1" strike="noStrike">
                <a:solidFill>
                  <a:srgbClr val="ffff00"/>
                </a:solidFill>
                <a:latin typeface="Arial"/>
                <a:ea typeface="Times New Roman"/>
              </a:rPr>
              <a:t>GROUPS</a:t>
            </a:r>
            <a:r>
              <a:rPr b="1" lang="en-US" sz="2400" spc="-1" strike="noStrike">
                <a:solidFill>
                  <a:srgbClr val="ffffff"/>
                </a:solidFill>
                <a:latin typeface="Arial"/>
                <a:ea typeface="Times New Roman"/>
              </a:rPr>
              <a:t> (FAMILIES) and rows are called </a:t>
            </a:r>
            <a:r>
              <a:rPr b="1" lang="en-US" sz="2400" spc="-1" strike="noStrike">
                <a:solidFill>
                  <a:srgbClr val="ffff00"/>
                </a:solidFill>
                <a:latin typeface="Arial"/>
                <a:ea typeface="Times New Roman"/>
              </a:rPr>
              <a:t>PERIODS</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ments in a group have similar chemical and physical propertie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0" name="Picture 6" descr=""/>
          <p:cNvPicPr/>
          <p:nvPr/>
        </p:nvPicPr>
        <p:blipFill>
          <a:blip r:embed="rId1"/>
          <a:stretch/>
        </p:blipFill>
        <p:spPr>
          <a:xfrm>
            <a:off x="1600200" y="76320"/>
            <a:ext cx="5410080" cy="33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885840"/>
            <a:ext cx="9144000" cy="2514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otal number of electrons within a group is different, increasing in number down a gro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e number of electrons furthest away from the nucleus, called the OUTER or </a:t>
            </a:r>
            <a:r>
              <a:rPr b="1" lang="en-US" sz="2400" spc="-1" strike="noStrike">
                <a:solidFill>
                  <a:srgbClr val="ffff00"/>
                </a:solidFill>
                <a:latin typeface="Arial"/>
                <a:ea typeface="Times New Roman"/>
              </a:rPr>
              <a:t>VALENCE</a:t>
            </a:r>
            <a:r>
              <a:rPr b="1" lang="en-US" sz="2400" spc="-1" strike="noStrike">
                <a:solidFill>
                  <a:srgbClr val="ffffff"/>
                </a:solidFill>
                <a:latin typeface="Arial"/>
                <a:ea typeface="Times New Roman"/>
              </a:rPr>
              <a:t> electrons is the same for all elements in a group.  </a:t>
            </a:r>
            <a:endParaRPr b="0" lang="en-US" sz="2400" spc="-1" strike="noStrike">
              <a:solidFill>
                <a:srgbClr val="ffffff"/>
              </a:solidFill>
              <a:latin typeface="Times New Roman"/>
            </a:endParaRPr>
          </a:p>
        </p:txBody>
      </p:sp>
      <p:pic>
        <p:nvPicPr>
          <p:cNvPr id="72" name="Picture 6"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360" y="4267080"/>
            <a:ext cx="8991720" cy="1828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s are referred to by names, which often derive from their propertie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 – Alkali metals; II – Alkaline Earth 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II – Halogens; VIII – Noble gases</a:t>
            </a:r>
            <a:endParaRPr b="0" lang="en-US" sz="2400" spc="-1" strike="noStrike">
              <a:solidFill>
                <a:srgbClr val="ffffff"/>
              </a:solidFill>
              <a:latin typeface="Times New Roman"/>
            </a:endParaRPr>
          </a:p>
        </p:txBody>
      </p:sp>
      <p:sp>
        <p:nvSpPr>
          <p:cNvPr id="74" name="Text Box 5"/>
          <p:cNvSpPr/>
          <p:nvPr/>
        </p:nvSpPr>
        <p:spPr>
          <a:xfrm>
            <a:off x="0" y="5959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ments in the middle block are called TRANSITION ELEMENTS</a:t>
            </a:r>
            <a:endParaRPr b="0" lang="en-US" sz="2400" spc="-1" strike="noStrike">
              <a:solidFill>
                <a:srgbClr val="ffffff"/>
              </a:solidFill>
              <a:latin typeface="Arial"/>
            </a:endParaRPr>
          </a:p>
        </p:txBody>
      </p:sp>
      <p:pic>
        <p:nvPicPr>
          <p:cNvPr id="75" name="Picture 15" descr=""/>
          <p:cNvPicPr/>
          <p:nvPr/>
        </p:nvPicPr>
        <p:blipFill>
          <a:blip r:embed="rId1"/>
          <a:stretch/>
        </p:blipFill>
        <p:spPr>
          <a:xfrm>
            <a:off x="1600200" y="76320"/>
            <a:ext cx="6400800" cy="39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3809880"/>
            <a:ext cx="914400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in the A group are diverse; metals and non-metals, solids and gases at room temper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all metals, and are solids at room temp, except for Hg.</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mong the transition elements are two sets of 14 elements - the LANTHANIDES and the ACTINIDES</a:t>
            </a:r>
            <a:endParaRPr b="0" lang="en-US" sz="2400" spc="-1" strike="noStrike">
              <a:solidFill>
                <a:srgbClr val="ffffff"/>
              </a:solidFill>
              <a:latin typeface="Times New Roman"/>
            </a:endParaRPr>
          </a:p>
        </p:txBody>
      </p:sp>
      <p:pic>
        <p:nvPicPr>
          <p:cNvPr id="77"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75960" y="4495320"/>
            <a:ext cx="8762760" cy="22100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hysical and Chemical properties such as melting points, thermal and electrical conductivity, atomic size, vary systematically across 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within a column have similar properties</a:t>
            </a:r>
            <a:endParaRPr b="0" lang="en-US" sz="2400" spc="-1" strike="noStrike">
              <a:solidFill>
                <a:srgbClr val="ffffff"/>
              </a:solidFill>
              <a:latin typeface="Times New Roman"/>
            </a:endParaRPr>
          </a:p>
        </p:txBody>
      </p:sp>
      <p:pic>
        <p:nvPicPr>
          <p:cNvPr id="79" name="Picture 5" descr=""/>
          <p:cNvPicPr/>
          <p:nvPr/>
        </p:nvPicPr>
        <p:blipFill>
          <a:blip r:embed="rId1"/>
          <a:stretch/>
        </p:blipFill>
        <p:spPr>
          <a:xfrm>
            <a:off x="1600200" y="76320"/>
            <a:ext cx="6477120" cy="395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990720" y="76320"/>
            <a:ext cx="7010280" cy="3522600"/>
          </a:xfrm>
          <a:prstGeom prst="rect">
            <a:avLst/>
          </a:prstGeom>
          <a:ln w="0">
            <a:noFill/>
          </a:ln>
        </p:spPr>
      </p:pic>
      <p:sp>
        <p:nvSpPr>
          <p:cNvPr id="81" name="Text Box 4"/>
          <p:cNvSpPr/>
          <p:nvPr/>
        </p:nvSpPr>
        <p:spPr>
          <a:xfrm rot="16200000">
            <a:off x="-234720" y="1531800"/>
            <a:ext cx="206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radius (Å)</a:t>
            </a:r>
            <a:endParaRPr b="0" lang="en-US" sz="1800" spc="-1" strike="noStrike">
              <a:solidFill>
                <a:srgbClr val="ffffff"/>
              </a:solidFill>
              <a:latin typeface="Arial"/>
            </a:endParaRPr>
          </a:p>
        </p:txBody>
      </p:sp>
      <p:pic>
        <p:nvPicPr>
          <p:cNvPr id="82" name="Picture 5" descr=""/>
          <p:cNvPicPr/>
          <p:nvPr/>
        </p:nvPicPr>
        <p:blipFill>
          <a:blip r:embed="rId2"/>
          <a:stretch/>
        </p:blipFill>
        <p:spPr>
          <a:xfrm>
            <a:off x="2286000" y="3733920"/>
            <a:ext cx="4800600" cy="293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2"/>
          <p:cNvGrpSpPr/>
          <p:nvPr/>
        </p:nvGrpSpPr>
        <p:grpSpPr>
          <a:xfrm>
            <a:off x="1523880" y="838080"/>
            <a:ext cx="6096240" cy="3851280"/>
            <a:chOff x="1523880" y="838080"/>
            <a:chExt cx="6096240" cy="3851280"/>
          </a:xfrm>
        </p:grpSpPr>
        <p:graphicFrame>
          <p:nvGraphicFramePr>
            <p:cNvPr id="84" name="Object 2"/>
            <p:cNvGraphicFramePr/>
            <p:nvPr/>
          </p:nvGraphicFramePr>
          <p:xfrm>
            <a:off x="1523880" y="838080"/>
            <a:ext cx="6096240" cy="3851280"/>
          </p:xfrm>
          <a:graphic>
            <a:graphicData uri="http://schemas.openxmlformats.org/presentationml/2006/ole">
              <p:oleObj progId="Excel.Sheet.12" r:id="rId1" spid="">
                <p:embed/>
                <p:pic>
                  <p:nvPicPr>
                    <p:cNvPr id="85" name="Object 2" descr=""/>
                    <p:cNvPicPr/>
                    <p:nvPr/>
                  </p:nvPicPr>
                  <p:blipFill>
                    <a:blip r:embed="rId2"/>
                    <a:stretch/>
                  </p:blipFill>
                  <p:spPr>
                    <a:xfrm>
                      <a:off x="1523880" y="838080"/>
                      <a:ext cx="6096240" cy="3851280"/>
                    </a:xfrm>
                    <a:prstGeom prst="rect">
                      <a:avLst/>
                    </a:prstGeom>
                    <a:ln w="0">
                      <a:noFill/>
                    </a:ln>
                  </p:spPr>
                </p:pic>
              </p:oleObj>
            </a:graphicData>
          </a:graphic>
        </p:graphicFrame>
        <p:sp>
          <p:nvSpPr>
            <p:cNvPr id="86" name="Text Box 3"/>
            <p:cNvSpPr/>
            <p:nvPr/>
          </p:nvSpPr>
          <p:spPr>
            <a:xfrm>
              <a:off x="1981080" y="36576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a:t>
              </a:r>
              <a:endParaRPr b="0" lang="en-US" sz="1400" spc="-1" strike="noStrike">
                <a:solidFill>
                  <a:srgbClr val="ffffff"/>
                </a:solidFill>
                <a:latin typeface="Arial"/>
              </a:endParaRPr>
            </a:p>
          </p:txBody>
        </p:sp>
        <p:sp>
          <p:nvSpPr>
            <p:cNvPr id="87" name="Text Box 4"/>
            <p:cNvSpPr/>
            <p:nvPr/>
          </p:nvSpPr>
          <p:spPr>
            <a:xfrm>
              <a:off x="2133720" y="29718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a:t>
              </a:r>
              <a:endParaRPr b="0" lang="en-US" sz="1400" spc="-1" strike="noStrike">
                <a:solidFill>
                  <a:srgbClr val="ffffff"/>
                </a:solidFill>
                <a:latin typeface="Arial"/>
              </a:endParaRPr>
            </a:p>
          </p:txBody>
        </p:sp>
        <p:sp>
          <p:nvSpPr>
            <p:cNvPr id="88" name="Text Box 5"/>
            <p:cNvSpPr/>
            <p:nvPr/>
          </p:nvSpPr>
          <p:spPr>
            <a:xfrm>
              <a:off x="251460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ffffff"/>
                </a:solidFill>
                <a:latin typeface="Arial"/>
              </a:endParaRPr>
            </a:p>
          </p:txBody>
        </p:sp>
        <p:sp>
          <p:nvSpPr>
            <p:cNvPr id="89" name="Text Box 6"/>
            <p:cNvSpPr/>
            <p:nvPr/>
          </p:nvSpPr>
          <p:spPr>
            <a:xfrm>
              <a:off x="2971800" y="12952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p:txBody>
        </p:sp>
        <p:sp>
          <p:nvSpPr>
            <p:cNvPr id="90" name="Text Box 7"/>
            <p:cNvSpPr/>
            <p:nvPr/>
          </p:nvSpPr>
          <p:spPr>
            <a:xfrm>
              <a:off x="30481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ffffff"/>
                </a:solidFill>
                <a:latin typeface="Arial"/>
              </a:endParaRPr>
            </a:p>
          </p:txBody>
        </p:sp>
        <p:sp>
          <p:nvSpPr>
            <p:cNvPr id="91" name="Text Box 8"/>
            <p:cNvSpPr/>
            <p:nvPr/>
          </p:nvSpPr>
          <p:spPr>
            <a:xfrm>
              <a:off x="342900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ffffff"/>
                </a:solidFill>
                <a:latin typeface="Arial"/>
              </a:endParaRPr>
            </a:p>
          </p:txBody>
        </p:sp>
        <p:sp>
          <p:nvSpPr>
            <p:cNvPr id="92" name="Text Box 9"/>
            <p:cNvSpPr/>
            <p:nvPr/>
          </p:nvSpPr>
          <p:spPr>
            <a:xfrm>
              <a:off x="373392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ffffff"/>
                </a:solidFill>
                <a:latin typeface="Arial"/>
              </a:endParaRPr>
            </a:p>
          </p:txBody>
        </p:sp>
        <p:sp>
          <p:nvSpPr>
            <p:cNvPr id="93" name="Text Box 10"/>
            <p:cNvSpPr/>
            <p:nvPr/>
          </p:nvSpPr>
          <p:spPr>
            <a:xfrm>
              <a:off x="41148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a:r>
              <a:endParaRPr b="0" lang="en-US" sz="1400" spc="-1" strike="noStrike">
                <a:solidFill>
                  <a:srgbClr val="ffffff"/>
                </a:solidFill>
                <a:latin typeface="Arial"/>
              </a:endParaRPr>
            </a:p>
          </p:txBody>
        </p:sp>
        <p:sp>
          <p:nvSpPr>
            <p:cNvPr id="94" name="Text Box 11"/>
            <p:cNvSpPr/>
            <p:nvPr/>
          </p:nvSpPr>
          <p:spPr>
            <a:xfrm>
              <a:off x="40384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ffffff"/>
                </a:solidFill>
                <a:latin typeface="Arial"/>
              </a:endParaRPr>
            </a:p>
          </p:txBody>
        </p:sp>
        <p:sp>
          <p:nvSpPr>
            <p:cNvPr id="95" name="Text Box 12"/>
            <p:cNvSpPr/>
            <p:nvPr/>
          </p:nvSpPr>
          <p:spPr>
            <a:xfrm>
              <a:off x="4267080" y="3429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a:t>
              </a:r>
              <a:endParaRPr b="0" lang="en-US" sz="1400" spc="-1" strike="noStrike">
                <a:solidFill>
                  <a:srgbClr val="ffffff"/>
                </a:solidFill>
                <a:latin typeface="Arial"/>
              </a:endParaRPr>
            </a:p>
          </p:txBody>
        </p:sp>
        <p:sp>
          <p:nvSpPr>
            <p:cNvPr id="96" name="Text Box 13"/>
            <p:cNvSpPr/>
            <p:nvPr/>
          </p:nvSpPr>
          <p:spPr>
            <a:xfrm>
              <a:off x="4724280" y="3276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ffffff"/>
                </a:solidFill>
                <a:latin typeface="Arial"/>
              </a:endParaRPr>
            </a:p>
          </p:txBody>
        </p:sp>
        <p:sp>
          <p:nvSpPr>
            <p:cNvPr id="97" name="Text Box 14"/>
            <p:cNvSpPr/>
            <p:nvPr/>
          </p:nvSpPr>
          <p:spPr>
            <a:xfrm>
              <a:off x="510552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t>
              </a:r>
              <a:endParaRPr b="0" lang="en-US" sz="1400" spc="-1" strike="noStrike">
                <a:solidFill>
                  <a:srgbClr val="ffffff"/>
                </a:solidFill>
                <a:latin typeface="Arial"/>
              </a:endParaRPr>
            </a:p>
          </p:txBody>
        </p:sp>
        <p:sp>
          <p:nvSpPr>
            <p:cNvPr id="98" name="Text Box 15"/>
            <p:cNvSpPr/>
            <p:nvPr/>
          </p:nvSpPr>
          <p:spPr>
            <a:xfrm>
              <a:off x="54100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ffffff"/>
                </a:solidFill>
                <a:latin typeface="Arial"/>
              </a:endParaRPr>
            </a:p>
          </p:txBody>
        </p:sp>
        <p:sp>
          <p:nvSpPr>
            <p:cNvPr id="99" name="Text Box 17"/>
            <p:cNvSpPr/>
            <p:nvPr/>
          </p:nvSpPr>
          <p:spPr>
            <a:xfrm>
              <a:off x="5638680" y="36576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ffffff"/>
                </a:solidFill>
                <a:latin typeface="Arial"/>
              </a:endParaRPr>
            </a:p>
          </p:txBody>
        </p:sp>
        <p:sp>
          <p:nvSpPr>
            <p:cNvPr id="100" name="Text Box 18"/>
            <p:cNvSpPr/>
            <p:nvPr/>
          </p:nvSpPr>
          <p:spPr>
            <a:xfrm>
              <a:off x="58672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t>
              </a:r>
              <a:endParaRPr b="0" lang="en-US" sz="1400" spc="-1" strike="noStrike">
                <a:solidFill>
                  <a:srgbClr val="ffffff"/>
                </a:solidFill>
                <a:latin typeface="Arial"/>
              </a:endParaRPr>
            </a:p>
          </p:txBody>
        </p:sp>
        <p:sp>
          <p:nvSpPr>
            <p:cNvPr id="101" name="Text Box 19"/>
            <p:cNvSpPr/>
            <p:nvPr/>
          </p:nvSpPr>
          <p:spPr>
            <a:xfrm>
              <a:off x="61722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a:t>
              </a:r>
              <a:endParaRPr b="0" lang="en-US" sz="1400" spc="-1" strike="noStrike">
                <a:solidFill>
                  <a:srgbClr val="ffffff"/>
                </a:solidFill>
                <a:latin typeface="Arial"/>
              </a:endParaRPr>
            </a:p>
          </p:txBody>
        </p:sp>
        <p:sp>
          <p:nvSpPr>
            <p:cNvPr id="102" name="Text Box 20"/>
            <p:cNvSpPr/>
            <p:nvPr/>
          </p:nvSpPr>
          <p:spPr>
            <a:xfrm>
              <a:off x="63244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ffffff"/>
                </a:solidFill>
                <a:latin typeface="Arial"/>
              </a:endParaRPr>
            </a:p>
          </p:txBody>
        </p:sp>
        <p:sp>
          <p:nvSpPr>
            <p:cNvPr id="103" name="Text Box 21"/>
            <p:cNvSpPr/>
            <p:nvPr/>
          </p:nvSpPr>
          <p:spPr>
            <a:xfrm>
              <a:off x="6477120" y="3276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60" y="3809880"/>
            <a:ext cx="899172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zig-zag” division of the table divides metals from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to the left of the zig-zag line are metals (except for hydrogen, which is unique) and to the right are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along the border have intermediate properties and are called metalloids.</a:t>
            </a:r>
            <a:endParaRPr b="0" lang="en-US" sz="2400" spc="-1" strike="noStrike">
              <a:solidFill>
                <a:srgbClr val="ffffff"/>
              </a:solidFill>
              <a:latin typeface="Times New Roman"/>
            </a:endParaRPr>
          </a:p>
        </p:txBody>
      </p:sp>
      <p:pic>
        <p:nvPicPr>
          <p:cNvPr id="105" name="Picture 5" descr=""/>
          <p:cNvPicPr/>
          <p:nvPr/>
        </p:nvPicPr>
        <p:blipFill>
          <a:blip r:embed="rId1"/>
          <a:stretch/>
        </p:blipFill>
        <p:spPr>
          <a:xfrm>
            <a:off x="1600200" y="76320"/>
            <a:ext cx="5943600" cy="3630600"/>
          </a:xfrm>
          <a:prstGeom prst="rect">
            <a:avLst/>
          </a:prstGeom>
          <a:ln w="0">
            <a:noFill/>
          </a:ln>
        </p:spPr>
      </p:pic>
      <p:sp>
        <p:nvSpPr>
          <p:cNvPr id="106" name="Text Box 6">
            <a:hlinkClick r:id="rId2"/>
          </p:cNvPr>
          <p:cNvSpPr/>
          <p:nvPr/>
        </p:nvSpPr>
        <p:spPr>
          <a:xfrm>
            <a:off x="8001000" y="64911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133720" y="228240"/>
            <a:ext cx="50292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emical Bonding</a:t>
            </a:r>
            <a:endParaRPr b="0" lang="en-US" sz="3200" spc="-1" strike="noStrike">
              <a:solidFill>
                <a:srgbClr val="ffff00"/>
              </a:solidFill>
              <a:latin typeface="Times New Roman"/>
            </a:endParaRPr>
          </a:p>
        </p:txBody>
      </p:sp>
      <p:sp>
        <p:nvSpPr>
          <p:cNvPr id="50" name="PlaceHolder 2"/>
          <p:cNvSpPr>
            <a:spLocks noGrp="1"/>
          </p:cNvSpPr>
          <p:nvPr>
            <p:ph type="subTitle"/>
          </p:nvPr>
        </p:nvSpPr>
        <p:spPr>
          <a:xfrm>
            <a:off x="0" y="1066320"/>
            <a:ext cx="9144000" cy="4419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chemical bond results from strong electrostatic interactions between two atoms.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ature of the atoms determines the kind of bond.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COVALENT</a:t>
            </a:r>
            <a:r>
              <a:rPr b="1" lang="en-US" sz="2400" spc="-1" strike="noStrike">
                <a:solidFill>
                  <a:srgbClr val="ffffff"/>
                </a:solidFill>
                <a:latin typeface="Arial"/>
                <a:ea typeface="Times New Roman"/>
              </a:rPr>
              <a:t> bonds result from a strong interaction between </a:t>
            </a:r>
            <a:r>
              <a:rPr b="1" lang="en-US" sz="2400" spc="-1" strike="noStrike">
                <a:solidFill>
                  <a:srgbClr val="ffff00"/>
                </a:solidFill>
                <a:latin typeface="Arial"/>
                <a:ea typeface="Times New Roman"/>
              </a:rPr>
              <a:t>NEUTRAL</a:t>
            </a:r>
            <a:r>
              <a:rPr b="1" lang="en-US" sz="2400" spc="-1" strike="noStrike">
                <a:solidFill>
                  <a:srgbClr val="ffffff"/>
                </a:solidFill>
                <a:latin typeface="Arial"/>
                <a:ea typeface="Times New Roman"/>
              </a:rPr>
              <a:t> atoms</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ach atom donates an electron resulting in a pair of electrons that are SHARED between the two ato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95480" y="0"/>
            <a:ext cx="327672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ctronegativity</a:t>
            </a:r>
            <a:endParaRPr b="0" lang="en-US" sz="2400" spc="-1" strike="noStrike">
              <a:solidFill>
                <a:srgbClr val="ffffff"/>
              </a:solidFill>
              <a:latin typeface="Times New Roman"/>
            </a:endParaRPr>
          </a:p>
        </p:txBody>
      </p:sp>
      <p:sp>
        <p:nvSpPr>
          <p:cNvPr id="108" name="Text Box 4"/>
          <p:cNvSpPr/>
          <p:nvPr/>
        </p:nvSpPr>
        <p:spPr>
          <a:xfrm>
            <a:off x="0" y="838080"/>
            <a:ext cx="89917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ype of bond formed between a pair of atoms is determined by the ability of the atoms to attract electrons from the oth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positively charged ion (</a:t>
            </a:r>
            <a:r>
              <a:rPr b="1" lang="en-US" sz="2400" spc="-1" strike="noStrike">
                <a:solidFill>
                  <a:srgbClr val="ffff00"/>
                </a:solidFill>
                <a:latin typeface="Arial"/>
                <a:ea typeface="Times New Roman"/>
              </a:rPr>
              <a:t>CATION</a:t>
            </a:r>
            <a:r>
              <a:rPr b="1" lang="en-US" sz="2400" spc="-1" strike="noStrike">
                <a:solidFill>
                  <a:srgbClr val="ffffff"/>
                </a:solidFill>
                <a:latin typeface="Arial"/>
                <a:ea typeface="Times New Roman"/>
              </a:rPr>
              <a:t>) is formed when an atom looses one or more electrons and a negatively charged ion (</a:t>
            </a:r>
            <a:r>
              <a:rPr b="1" lang="en-US" sz="2400" spc="-1" strike="noStrike">
                <a:solidFill>
                  <a:srgbClr val="ffff00"/>
                </a:solidFill>
                <a:latin typeface="Arial"/>
                <a:ea typeface="Times New Roman"/>
              </a:rPr>
              <a:t>ANION</a:t>
            </a:r>
            <a:r>
              <a:rPr b="1" lang="en-US" sz="2400" spc="-1" strike="noStrike">
                <a:solidFill>
                  <a:srgbClr val="ffffff"/>
                </a:solidFill>
                <a:latin typeface="Arial"/>
                <a:ea typeface="Times New Roman"/>
              </a:rPr>
              <a:t>) is formed when an atom accepts one or more electrons.</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a free, isolated atom its ability to loose an electron is measured by its </a:t>
            </a:r>
            <a:r>
              <a:rPr b="1" lang="en-US" sz="2400" spc="-1" strike="noStrike">
                <a:solidFill>
                  <a:srgbClr val="ffff00"/>
                </a:solidFill>
                <a:latin typeface="Arial"/>
                <a:ea typeface="Times New Roman"/>
              </a:rPr>
              <a:t>IONIZATION ENERGY</a:t>
            </a:r>
            <a:r>
              <a:rPr b="1" lang="en-US" sz="2400" spc="-1" strike="noStrike">
                <a:solidFill>
                  <a:srgbClr val="ffffff"/>
                </a:solidFill>
                <a:latin typeface="Arial"/>
                <a:ea typeface="Times New Roman"/>
              </a:rPr>
              <a:t>, while the ability to gain an electron is measured by its </a:t>
            </a:r>
            <a:r>
              <a:rPr b="1" lang="en-US" sz="2400" spc="-1" strike="noStrike">
                <a:solidFill>
                  <a:srgbClr val="ffff00"/>
                </a:solidFill>
                <a:latin typeface="Arial"/>
                <a:ea typeface="Times New Roman"/>
              </a:rPr>
              <a:t>ELECTRON AFFI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verage of these two properties for isolated atoms define the atom’s </a:t>
            </a:r>
            <a:r>
              <a:rPr b="1" lang="en-US" sz="2400" spc="-1" strike="noStrike">
                <a:solidFill>
                  <a:srgbClr val="ffff00"/>
                </a:solidFill>
                <a:latin typeface="Arial"/>
                <a:ea typeface="Times New Roman"/>
              </a:rPr>
              <a:t>ELECTRONEGATIVITY</a:t>
            </a:r>
            <a:r>
              <a:rPr b="1" lang="en-US" sz="2400" spc="-1" strike="noStrike">
                <a:solidFill>
                  <a:srgbClr val="ffffff"/>
                </a:solidFill>
                <a:latin typeface="Arial"/>
                <a:ea typeface="Times New Roman"/>
              </a:rPr>
              <a:t> which measures the tendency of one atom to attract electrons from another atom to which it is  bond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Metallic elements loose electrons (to form positive ions) more readily than non-metallic element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elements are hence referred to as being more </a:t>
            </a:r>
            <a:r>
              <a:rPr b="1" lang="en-US" sz="2400" spc="-1" strike="noStrike">
                <a:solidFill>
                  <a:srgbClr val="ffff00"/>
                </a:solidFill>
                <a:latin typeface="Arial"/>
                <a:ea typeface="Times New Roman"/>
              </a:rPr>
              <a:t>ELECTROPOSITIVE</a:t>
            </a:r>
            <a:r>
              <a:rPr b="1" lang="en-US" sz="2400" spc="-1" strike="noStrike">
                <a:solidFill>
                  <a:srgbClr val="ffffff"/>
                </a:solidFill>
                <a:latin typeface="Arial"/>
                <a:ea typeface="Times New Roman"/>
              </a:rPr>
              <a:t> that non-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s are more </a:t>
            </a:r>
            <a:r>
              <a:rPr b="1" lang="en-US" sz="2400" spc="-1" strike="noStrike">
                <a:solidFill>
                  <a:srgbClr val="ffff00"/>
                </a:solidFill>
                <a:latin typeface="Arial"/>
                <a:ea typeface="Times New Roman"/>
              </a:rPr>
              <a:t>ELECTRONEGATIVE</a:t>
            </a:r>
            <a:r>
              <a:rPr b="1" lang="en-US" sz="2400" spc="-1" strike="noStrike">
                <a:solidFill>
                  <a:srgbClr val="ffffff"/>
                </a:solidFill>
                <a:latin typeface="Arial"/>
                <a:ea typeface="Times New Roman"/>
              </a:rPr>
              <a:t> compared to meta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0" y="457200"/>
            <a:ext cx="9144000" cy="2666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periodic table’s arrangement results in a separation of metals from non-metals (metallic nature increasing to the left and down, non metallic increasing right and 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is allows for a comparative scale for the electronegativity of elements.  </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380880" y="457200"/>
            <a:ext cx="8153640" cy="4117320"/>
            <a:chOff x="380880" y="457200"/>
            <a:chExt cx="8153640" cy="4117320"/>
          </a:xfrm>
        </p:grpSpPr>
        <p:sp>
          <p:nvSpPr>
            <p:cNvPr id="113" name="Rectangle 4"/>
            <p:cNvSpPr/>
            <p:nvPr/>
          </p:nvSpPr>
          <p:spPr>
            <a:xfrm>
              <a:off x="380880" y="457200"/>
              <a:ext cx="815364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3" descr=""/>
            <p:cNvPicPr/>
            <p:nvPr/>
          </p:nvPicPr>
          <p:blipFill>
            <a:blip r:embed="rId1"/>
            <a:stretch/>
          </p:blipFill>
          <p:spPr>
            <a:xfrm>
              <a:off x="609480" y="609480"/>
              <a:ext cx="7772400" cy="3114720"/>
            </a:xfrm>
            <a:prstGeom prst="rect">
              <a:avLst/>
            </a:prstGeom>
            <a:ln w="0">
              <a:noFill/>
            </a:ln>
          </p:spPr>
        </p:pic>
        <p:sp>
          <p:nvSpPr>
            <p:cNvPr id="115" name="Text Box 5"/>
            <p:cNvSpPr/>
            <p:nvPr/>
          </p:nvSpPr>
          <p:spPr>
            <a:xfrm>
              <a:off x="2438280" y="4114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egativity Scale</a:t>
              </a:r>
              <a:endParaRPr b="0" lang="en-US" sz="2400" spc="-1" strike="noStrike">
                <a:solidFill>
                  <a:srgbClr val="ffffff"/>
                </a:solidFill>
                <a:latin typeface="Arial"/>
              </a:endParaRPr>
            </a:p>
          </p:txBody>
        </p:sp>
      </p:grpSp>
      <p:sp>
        <p:nvSpPr>
          <p:cNvPr id="116" name="Text Box 6"/>
          <p:cNvSpPr/>
          <p:nvPr/>
        </p:nvSpPr>
        <p:spPr>
          <a:xfrm>
            <a:off x="0" y="50292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luorine is the most electronegative element, and francium the least electronegative.</a:t>
            </a:r>
            <a:endParaRPr b="0" lang="en-US" sz="2400" spc="-1" strike="noStrike">
              <a:solidFill>
                <a:srgbClr val="ffffff"/>
              </a:solidFill>
              <a:latin typeface="Arial"/>
            </a:endParaRPr>
          </a:p>
        </p:txBody>
      </p:sp>
      <p:sp>
        <p:nvSpPr>
          <p:cNvPr id="117" name="Text Box 8">
            <a:hlinkClick r:id="rId2"/>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0" y="0"/>
            <a:ext cx="914400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maller differences result in a more equitable “sharing” of electrons between the bonded atoms, resulting in a COVALENT bond between the two atom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kinds of bonds formed between elements (covalent vs ionic) can be determined by comparing electronegativity of the two elements.</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75960" y="3962160"/>
            <a:ext cx="8915400" cy="281916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and Cl form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gives up an electron and Cl accepts the electron to form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nd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differences between electronegativity between the two bonding elements decreases, there is more equitable sharing of electrons and the elements form covalent bond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p:txBody>
      </p:sp>
      <p:pic>
        <p:nvPicPr>
          <p:cNvPr id="121"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75960"/>
            <a:ext cx="9220320" cy="6629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ased on the position of elements in the periodic table, we can determine the kind of bond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lic element + nonmetallic element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Molecular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lecular compounds are typically gases, liquids, or low melting point solids and are characteristically poor conductors. Examples ar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N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3"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51920" y="228240"/>
            <a:ext cx="899172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compound + nonmetallic compound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IONIC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onic compounds are generally high-melting solids that are good conductors of heat and electricity in the molten stat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s are NaCl, common salt, and NaF, sodium fluoride</a:t>
            </a:r>
            <a:r>
              <a:rPr b="0" lang="en-US" sz="3200" spc="-1" strike="noStrike">
                <a:solidFill>
                  <a:srgbClr val="ffffff"/>
                </a:solidFill>
                <a:latin typeface="Arial"/>
                <a:ea typeface="Times New Roman"/>
              </a:rPr>
              <a:t>.</a:t>
            </a:r>
            <a:endParaRPr b="0" lang="en-US" sz="32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51920" y="914400"/>
            <a:ext cx="899172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chemical formula represents the composition of each molecul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writing the chemical formula, in almost all cases </a:t>
            </a:r>
            <a:r>
              <a:rPr b="1" lang="en-US" sz="2400" spc="-1" strike="noStrike">
                <a:solidFill>
                  <a:srgbClr val="ffff00"/>
                </a:solidFill>
                <a:latin typeface="Arial"/>
                <a:ea typeface="Times New Roman"/>
              </a:rPr>
              <a:t>the element farthest to the left of the periodic table is written firs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for example the chemical formula of a compound that contains one sulfur atom and six fluorine atoms is 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f the two elements are in the same period, the symbol of the element of that is lower in the group (i.e. heavier) is written first e.g. IF</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7" name="Text Box 3"/>
          <p:cNvSpPr/>
          <p:nvPr/>
        </p:nvSpPr>
        <p:spPr>
          <a:xfrm>
            <a:off x="2590920" y="228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NAMING COMPOU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0" y="0"/>
            <a:ext cx="9220320" cy="4952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naming covalent compounds, the name of the first element in the formula is unchang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suffix “-ide”  is added to the second elemen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ften a prefix to the name of the second element indicates the number of the element in the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 sulfur hexaflu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O</a:t>
            </a:r>
            <a:r>
              <a:rPr b="1" lang="en-US" sz="2400" spc="-1" strike="noStrike" baseline="-25000">
                <a:solidFill>
                  <a:srgbClr val="ffffff"/>
                </a:solidFill>
                <a:latin typeface="Arial"/>
                <a:ea typeface="Times New Roman"/>
              </a:rPr>
              <a:t>10</a:t>
            </a:r>
            <a:r>
              <a:rPr b="1" lang="en-US" sz="2400" spc="-1" strike="noStrike">
                <a:solidFill>
                  <a:srgbClr val="ffffff"/>
                </a:solidFill>
                <a:latin typeface="Arial"/>
                <a:ea typeface="Times New Roman"/>
              </a:rPr>
              <a:t> – tetraphosphorous dec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 – carbon mon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rbon dioxide</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1920" y="151920"/>
            <a:ext cx="8991720" cy="48769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consider a hydrogen molecul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When the two hydrogen, H, atoms are far apart from each other they do not feel any interaction.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they come closer each “feels” the presence of the ot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ctron on each H atom occupies a volume that covers both H atoms and a COVALENT bond is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nce the bond has been formed, the two electrons are shared by BOTH H atom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60" y="0"/>
            <a:ext cx="8839080" cy="1371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inary compounds of hydrogen are special cases.  They were discovered before a convention was adopted and hence their original names have stay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Text Box 3"/>
          <p:cNvSpPr/>
          <p:nvPr/>
        </p:nvSpPr>
        <p:spPr>
          <a:xfrm>
            <a:off x="0" y="2514600"/>
            <a:ext cx="8991720" cy="32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ydrogen forms binary compounds with almost all non-metals except the noble gas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F - hydrogen fluori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Cl - hydrogen chlori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S - hydrogen sulf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Text Box 4"/>
          <p:cNvSpPr/>
          <p:nvPr/>
        </p:nvSpPr>
        <p:spPr>
          <a:xfrm>
            <a:off x="0" y="1523880"/>
            <a:ext cx="8610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ater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is not called dihydrogen monox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762120"/>
            <a:ext cx="9144000" cy="4114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ganic molecules (containing C) have a separate nomencl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molecular formulas for compounds containing C and H (called hydrocarbons) are written with C first.  Example,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C</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et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BINARY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mpounds formed by elements on opposite sides of the periodic table which either give up (left side) or take up electrons (right sid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pending on the atom, there can be an exchange of more than one electron resulting in charges greater than ±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320" y="3352680"/>
            <a:ext cx="9067680" cy="3200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A – alkali metals – loose 1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 A– alkaline earth metals –loose 2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I A– loose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Al</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V A– loose four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4 (Sn</a:t>
            </a:r>
            <a:r>
              <a:rPr b="1" lang="en-US" sz="2400" spc="-1" strike="noStrike" baseline="30000">
                <a:solidFill>
                  <a:srgbClr val="ffffff"/>
                </a:solidFill>
                <a:latin typeface="Arial"/>
                <a:ea typeface="Times New Roman"/>
              </a:rPr>
              <a:t>+4</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 A– accept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N</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 A– accept two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IA – accept on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Cl</a:t>
            </a:r>
            <a:r>
              <a:rPr b="1" lang="en-US" sz="2400" spc="-1" strike="noStrike" baseline="30000">
                <a:solidFill>
                  <a:srgbClr val="ffffff"/>
                </a:solidFill>
                <a:latin typeface="Arial"/>
                <a:ea typeface="Times New Roman"/>
              </a:rPr>
              <a:t>-1</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pic>
        <p:nvPicPr>
          <p:cNvPr id="135" name="Picture 3" descr=""/>
          <p:cNvPicPr/>
          <p:nvPr/>
        </p:nvPicPr>
        <p:blipFill>
          <a:blip r:embed="rId1"/>
          <a:stretch/>
        </p:blipFill>
        <p:spPr>
          <a:xfrm>
            <a:off x="1905120" y="76320"/>
            <a:ext cx="4647960" cy="316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60" y="228240"/>
            <a:ext cx="8839080" cy="56386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ming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ions – suffix – “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xygen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is 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SULF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the name of the ion is the same except refer to the 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SODIUM ION or SODIUM C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Cl - sod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Cl</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lc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60" y="395280"/>
            <a:ext cx="8839080" cy="31240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valent, charged compounds -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sitive Molecular 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nd the name with “ium” or “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H</a:t>
            </a:r>
            <a:r>
              <a:rPr b="1" lang="en-US" sz="2400" spc="-1" strike="noStrike" baseline="-25000">
                <a:solidFill>
                  <a:srgbClr val="ffffff"/>
                </a:solidFill>
                <a:latin typeface="Arial"/>
                <a:ea typeface="Times New Roman"/>
              </a:rPr>
              <a:t>4</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ammonium, 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O </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hydr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egative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8" name="Group 21"/>
          <p:cNvGrpSpPr/>
          <p:nvPr/>
        </p:nvGrpSpPr>
        <p:grpSpPr>
          <a:xfrm>
            <a:off x="0" y="3914640"/>
            <a:ext cx="3200400" cy="2691360"/>
            <a:chOff x="0" y="3914640"/>
            <a:chExt cx="3200400" cy="2691360"/>
          </a:xfrm>
        </p:grpSpPr>
        <p:grpSp>
          <p:nvGrpSpPr>
            <p:cNvPr id="139" name="Group 8"/>
            <p:cNvGrpSpPr/>
            <p:nvPr/>
          </p:nvGrpSpPr>
          <p:grpSpPr>
            <a:xfrm>
              <a:off x="76320" y="3914640"/>
              <a:ext cx="3124080" cy="648000"/>
              <a:chOff x="76320" y="3914640"/>
              <a:chExt cx="3124080" cy="648000"/>
            </a:xfrm>
          </p:grpSpPr>
          <p:sp>
            <p:nvSpPr>
              <p:cNvPr id="140" name="Text Box 6"/>
              <p:cNvSpPr/>
              <p:nvPr/>
            </p:nvSpPr>
            <p:spPr>
              <a:xfrm>
                <a:off x="533520" y="3914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1" name="Rectangle 7"/>
              <p:cNvSpPr/>
              <p:nvPr/>
            </p:nvSpPr>
            <p:spPr>
              <a:xfrm>
                <a:off x="76320" y="40525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 - NITRATE</a:t>
                </a:r>
                <a:endParaRPr b="0" lang="en-US" sz="2400" spc="-1" strike="noStrike">
                  <a:solidFill>
                    <a:srgbClr val="ffffff"/>
                  </a:solidFill>
                  <a:latin typeface="Arial"/>
                </a:endParaRPr>
              </a:p>
            </p:txBody>
          </p:sp>
        </p:grpSp>
        <p:grpSp>
          <p:nvGrpSpPr>
            <p:cNvPr id="142" name="Group 12"/>
            <p:cNvGrpSpPr/>
            <p:nvPr/>
          </p:nvGrpSpPr>
          <p:grpSpPr>
            <a:xfrm>
              <a:off x="0" y="4586040"/>
              <a:ext cx="3124080" cy="648360"/>
              <a:chOff x="0" y="4586040"/>
              <a:chExt cx="3124080" cy="648360"/>
            </a:xfrm>
          </p:grpSpPr>
          <p:sp>
            <p:nvSpPr>
              <p:cNvPr id="143" name="Text Box 13"/>
              <p:cNvSpPr/>
              <p:nvPr/>
            </p:nvSpPr>
            <p:spPr>
              <a:xfrm>
                <a:off x="457200" y="45860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4" name="Rectangle 14"/>
              <p:cNvSpPr/>
              <p:nvPr/>
            </p:nvSpPr>
            <p:spPr>
              <a:xfrm>
                <a:off x="0" y="47242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SULFATE</a:t>
                </a:r>
                <a:endParaRPr b="0" lang="en-US" sz="2400" spc="-1" strike="noStrike">
                  <a:solidFill>
                    <a:srgbClr val="ffffff"/>
                  </a:solidFill>
                  <a:latin typeface="Arial"/>
                </a:endParaRPr>
              </a:p>
            </p:txBody>
          </p:sp>
        </p:grpSp>
        <p:grpSp>
          <p:nvGrpSpPr>
            <p:cNvPr id="145" name="Group 15"/>
            <p:cNvGrpSpPr/>
            <p:nvPr/>
          </p:nvGrpSpPr>
          <p:grpSpPr>
            <a:xfrm>
              <a:off x="0" y="5271840"/>
              <a:ext cx="3124080" cy="648360"/>
              <a:chOff x="0" y="5271840"/>
              <a:chExt cx="3124080" cy="648360"/>
            </a:xfrm>
          </p:grpSpPr>
          <p:sp>
            <p:nvSpPr>
              <p:cNvPr id="146" name="Text Box 16"/>
              <p:cNvSpPr/>
              <p:nvPr/>
            </p:nvSpPr>
            <p:spPr>
              <a:xfrm>
                <a:off x="457200" y="52718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7" name="Rectangle 17"/>
              <p:cNvSpPr/>
              <p:nvPr/>
            </p:nvSpPr>
            <p:spPr>
              <a:xfrm>
                <a:off x="0" y="54100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NITRITE</a:t>
                </a:r>
                <a:endParaRPr b="0" lang="en-US" sz="2400" spc="-1" strike="noStrike">
                  <a:solidFill>
                    <a:srgbClr val="ffffff"/>
                  </a:solidFill>
                  <a:latin typeface="Arial"/>
                </a:endParaRPr>
              </a:p>
            </p:txBody>
          </p:sp>
        </p:grpSp>
        <p:grpSp>
          <p:nvGrpSpPr>
            <p:cNvPr id="148" name="Group 18"/>
            <p:cNvGrpSpPr/>
            <p:nvPr/>
          </p:nvGrpSpPr>
          <p:grpSpPr>
            <a:xfrm>
              <a:off x="0" y="5957640"/>
              <a:ext cx="3124080" cy="648360"/>
              <a:chOff x="0" y="5957640"/>
              <a:chExt cx="3124080" cy="648360"/>
            </a:xfrm>
          </p:grpSpPr>
          <p:sp>
            <p:nvSpPr>
              <p:cNvPr id="149" name="Text Box 19"/>
              <p:cNvSpPr/>
              <p:nvPr/>
            </p:nvSpPr>
            <p:spPr>
              <a:xfrm>
                <a:off x="457200" y="5957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50" name="Rectangle 20"/>
              <p:cNvSpPr/>
              <p:nvPr/>
            </p:nvSpPr>
            <p:spPr>
              <a:xfrm>
                <a:off x="0" y="60958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PHOSPHATE</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0" y="4419360"/>
            <a:ext cx="9144000" cy="24382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chemically quite different from the metals in the “A” block, due to differences in electronic configur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Fe can loose two or three electrons to become Fe</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and 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respectivel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Picture 1027" descr=""/>
          <p:cNvPicPr/>
          <p:nvPr/>
        </p:nvPicPr>
        <p:blipFill>
          <a:blip r:embed="rId1"/>
          <a:stretch/>
        </p:blipFill>
        <p:spPr>
          <a:xfrm>
            <a:off x="1600200" y="609480"/>
            <a:ext cx="5943600" cy="3630600"/>
          </a:xfrm>
          <a:prstGeom prst="rect">
            <a:avLst/>
          </a:prstGeom>
          <a:ln w="0">
            <a:noFill/>
          </a:ln>
        </p:spPr>
      </p:pic>
      <p:sp>
        <p:nvSpPr>
          <p:cNvPr id="153" name="Text Box 1028"/>
          <p:cNvSpPr/>
          <p:nvPr/>
        </p:nvSpPr>
        <p:spPr>
          <a:xfrm>
            <a:off x="2895480" y="763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 El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 identify the charge of Fe in a compound the following nomenclature is us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iron(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is iron (I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iron(III) chloride is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 older scheme differentiated between the lower and higher charge by ending the name of the element with “ous” to indicate the lower charge and “ic” for the hig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ous chloride =&gt; FeCl</a:t>
            </a:r>
            <a:r>
              <a:rPr b="1" lang="en-US" sz="2400" spc="-1" strike="noStrike" baseline="-25000">
                <a:solidFill>
                  <a:srgbClr val="ffffff"/>
                </a:solidFill>
                <a:latin typeface="Arial"/>
                <a:ea typeface="Times New Roman"/>
              </a:rPr>
              <a:t>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ic chloride =&gt;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is convention does not indicate the numerical value of the charg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54">
                                            <p:txEl>
                                              <p:pRg st="6" end="6"/>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54">
                                            <p:txEl>
                                              <p:pRg st="7" end="7"/>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54">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7"/>
          <p:cNvSpPr/>
          <p:nvPr/>
        </p:nvSpPr>
        <p:spPr>
          <a:xfrm>
            <a:off x="0" y="1081080"/>
            <a:ext cx="8915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electron density plot for the H</a:t>
            </a:r>
            <a:r>
              <a:rPr b="1" lang="en-US" sz="2400" spc="-1" strike="noStrike" baseline="-25000">
                <a:solidFill>
                  <a:srgbClr val="ffffff"/>
                </a:solidFill>
                <a:latin typeface="Arial"/>
              </a:rPr>
              <a:t>2</a:t>
            </a:r>
            <a:r>
              <a:rPr b="1" lang="en-US" sz="2400" spc="-1" strike="noStrike">
                <a:solidFill>
                  <a:srgbClr val="ffffff"/>
                </a:solidFill>
                <a:latin typeface="Arial"/>
              </a:rPr>
              <a:t> molecule shows that the shared electrons occupy a volume equally distributed over BOTH H atoms.</a:t>
            </a:r>
            <a:endParaRPr b="0" lang="en-US" sz="2400" spc="-1" strike="noStrike">
              <a:solidFill>
                <a:srgbClr val="ffffff"/>
              </a:solidFill>
              <a:latin typeface="Arial"/>
            </a:endParaRPr>
          </a:p>
        </p:txBody>
      </p:sp>
      <p:grpSp>
        <p:nvGrpSpPr>
          <p:cNvPr id="53" name="Group 12"/>
          <p:cNvGrpSpPr/>
          <p:nvPr/>
        </p:nvGrpSpPr>
        <p:grpSpPr>
          <a:xfrm>
            <a:off x="2057400" y="2666880"/>
            <a:ext cx="5257800" cy="2720160"/>
            <a:chOff x="2057400" y="2666880"/>
            <a:chExt cx="5257800" cy="2720160"/>
          </a:xfrm>
        </p:grpSpPr>
        <p:pic>
          <p:nvPicPr>
            <p:cNvPr id="54" name="Picture 10" descr=""/>
            <p:cNvPicPr/>
            <p:nvPr/>
          </p:nvPicPr>
          <p:blipFill>
            <a:blip r:embed="rId1"/>
            <a:stretch/>
          </p:blipFill>
          <p:spPr>
            <a:xfrm>
              <a:off x="2819520" y="2666880"/>
              <a:ext cx="3124080" cy="2081160"/>
            </a:xfrm>
            <a:prstGeom prst="rect">
              <a:avLst/>
            </a:prstGeom>
            <a:ln w="0">
              <a:noFill/>
            </a:ln>
          </p:spPr>
        </p:pic>
        <p:sp>
          <p:nvSpPr>
            <p:cNvPr id="55" name="Text Box 11"/>
            <p:cNvSpPr/>
            <p:nvPr/>
          </p:nvSpPr>
          <p:spPr>
            <a:xfrm>
              <a:off x="2057400" y="4876920"/>
              <a:ext cx="5257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Density for the H</a:t>
              </a:r>
              <a:r>
                <a:rPr b="0" lang="en-US" sz="2400" spc="-1" strike="noStrike" baseline="-25000">
                  <a:solidFill>
                    <a:srgbClr val="ffffff"/>
                  </a:solidFill>
                  <a:latin typeface="Arial"/>
                </a:rPr>
                <a:t>2</a:t>
              </a:r>
              <a:r>
                <a:rPr b="0" lang="en-US" sz="2400" spc="-1" strike="noStrike">
                  <a:solidFill>
                    <a:srgbClr val="ffffff"/>
                  </a:solidFill>
                  <a:latin typeface="Arial"/>
                </a:rPr>
                <a:t> molecul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2362320" y="457200"/>
            <a:ext cx="3913200" cy="5791320"/>
          </a:xfrm>
          <a:prstGeom prst="rect">
            <a:avLst/>
          </a:prstGeom>
          <a:ln w="0">
            <a:noFill/>
          </a:ln>
        </p:spPr>
      </p:pic>
      <p:sp>
        <p:nvSpPr>
          <p:cNvPr id="57" name="Text Box 4"/>
          <p:cNvSpPr/>
          <p:nvPr/>
        </p:nvSpPr>
        <p:spPr>
          <a:xfrm rot="16200000">
            <a:off x="291960" y="29840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58" name="Text Box 5"/>
          <p:cNvSpPr/>
          <p:nvPr/>
        </p:nvSpPr>
        <p:spPr>
          <a:xfrm>
            <a:off x="62485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304920" y="457200"/>
            <a:ext cx="8153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t is also possible that, as two atoms come closer, one electron is transferred to the other at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tom that gives up an electron acquires a +1 charge and the other atom, which accepts the electron acquires a –1 charg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wo atoms are attracted to each other through Coulombic interactions – opposite charges attract – resulting in an IONIC bo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 Box 6"/>
          <p:cNvSpPr/>
          <p:nvPr/>
        </p:nvSpPr>
        <p:spPr>
          <a:xfrm>
            <a:off x="7543800" y="6491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im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2133720" y="533520"/>
            <a:ext cx="3913200" cy="5790960"/>
          </a:xfrm>
          <a:prstGeom prst="rect">
            <a:avLst/>
          </a:prstGeom>
          <a:ln w="0">
            <a:noFill/>
          </a:ln>
        </p:spPr>
      </p:pic>
      <p:sp>
        <p:nvSpPr>
          <p:cNvPr id="62" name="Text Box 3"/>
          <p:cNvSpPr/>
          <p:nvPr/>
        </p:nvSpPr>
        <p:spPr>
          <a:xfrm rot="16200000">
            <a:off x="138240" y="29858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63" name="Text Box 4"/>
          <p:cNvSpPr/>
          <p:nvPr/>
        </p:nvSpPr>
        <p:spPr>
          <a:xfrm>
            <a:off x="60199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151920"/>
            <a:ext cx="9144000" cy="6248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hat factors determine if an atom forms a covalent or ionic bond with another ato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umber of electrons in an atom, particularly the number of the electrons furthest away from the nucleus determines the atom’s reactivity and hence its tendency to form covalent or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se outermost electrons are the one’s that are more likely to “feel” the presence of other atoms and hence the one’s involved in bonding i.e. in reac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hemistry of an element depends almost entirely on the number of electrons, and hence its atomic number.</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514240" y="0"/>
            <a:ext cx="380988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Text Box 5"/>
          <p:cNvSpPr/>
          <p:nvPr/>
        </p:nvSpPr>
        <p:spPr>
          <a:xfrm>
            <a:off x="0" y="83808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y the late 1800’s it was realized that elements could be grouped by similar chemical properties and that the </a:t>
            </a:r>
            <a:r>
              <a:rPr b="1" lang="en-US" sz="2400" spc="-1" strike="noStrike">
                <a:solidFill>
                  <a:srgbClr val="ffff00"/>
                </a:solidFill>
                <a:latin typeface="Arial"/>
                <a:ea typeface="Times New Roman"/>
              </a:rPr>
              <a:t>chemical and physical properties of elements are periodic functions of their atomic numbers</a:t>
            </a:r>
            <a:r>
              <a:rPr b="1" lang="en-US" sz="2400" spc="-1" strike="noStrike">
                <a:solidFill>
                  <a:srgbClr val="ffffff"/>
                </a:solidFill>
                <a:latin typeface="Arial"/>
                <a:ea typeface="Times New Roman"/>
              </a:rPr>
              <a:t> – </a:t>
            </a:r>
            <a:r>
              <a:rPr b="1" lang="en-US" sz="2400" spc="-1" strike="noStrike">
                <a:solidFill>
                  <a:srgbClr val="ffff00"/>
                </a:solidFill>
                <a:latin typeface="Arial"/>
                <a:ea typeface="Times New Roman"/>
              </a:rPr>
              <a:t>PERIODIC LAW</a:t>
            </a: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rrangements of the elements in order of increasing atomic number, with elements having similar properties placed in a vertical column, is called the PERIODIC TABLE.</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1T17:10:42Z</dcterms:created>
  <dc:creator>B. Venkataraman</dc:creator>
  <dc:description/>
  <dc:language>en-US</dc:language>
  <cp:lastModifiedBy>RomaK</cp:lastModifiedBy>
  <cp:lastPrinted>2000-09-20T18:35:52Z</cp:lastPrinted>
  <dcterms:modified xsi:type="dcterms:W3CDTF">2015-09-01T16:20:53Z</dcterms:modified>
  <cp:revision>306</cp:revision>
  <dc:subject/>
  <dc:title>Matter and Measurement</dc:title>
</cp:coreProperties>
</file>