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9956-11BB-4C5B-B54E-E8E5C2AFFB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force is not  equal to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t force = 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ED19-EB5C-427F-835A-6F58FC07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997-8EB1-467B-AB7C-BAC02AA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8B81-AC5A-4AE5-826C-E2C5E1D4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88E-664C-46FD-80F2-514F757E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ED11-8E8A-4902-BA72-F86EF82B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590-47C8-4130-BE4F-8AB28B7C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8808-8660-4A46-93B1-4E9AB08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A30-BB59-44C9-98D9-D8C7E2CF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0449-0C36-4B3F-ACE4-A7EFA58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10A-9551-468C-A30C-92C95987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B04-5161-4A65-885D-E0973B1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D3F-3570-4011-9CDD-CF87A531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1308-436A-4CA5-8DF3-45CC4F668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ether the following diagrams illustrate acceleration or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your paper from 1 to 5 and answer A if you think it is showing acceleration or E if you think it is showing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981080" y="51814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is not  equal to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267080" y="5867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3886200" y="3276720"/>
            <a:ext cx="175248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800600" y="40384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 flipH="1">
            <a:off x="2666520" y="40384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2209680" y="3352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095880" y="3200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809880" y="3505320"/>
            <a:ext cx="21337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952880" y="40384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248520" y="3200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3429000" y="2971800"/>
            <a:ext cx="220968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4495680" y="3581280"/>
            <a:ext cx="2286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4495680" y="40384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990360" y="3733920"/>
            <a:ext cx="3352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1752480" y="29718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943600" y="2743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095880" y="4343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581280" y="2438280"/>
            <a:ext cx="13716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>
            <a:off x="4191120" y="30481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4191120" y="2971800"/>
            <a:ext cx="3809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74320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562720" y="2514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: acceleration     B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00400" y="3276720"/>
            <a:ext cx="1752480" cy="11430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038480" y="3962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 flipV="1">
            <a:off x="4114800" y="220932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"/>
          <p:cNvSpPr/>
          <p:nvPr/>
        </p:nvSpPr>
        <p:spPr>
          <a:xfrm>
            <a:off x="4191120" y="3809880"/>
            <a:ext cx="1752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 flipH="1">
            <a:off x="2362320" y="3809880"/>
            <a:ext cx="16761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733920" y="1676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3581280" y="5943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295280" y="3429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6095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457200" y="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: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886200" y="2514600"/>
            <a:ext cx="175248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 flipH="1">
            <a:off x="2666520" y="33526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90920" y="2590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7913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762120" y="3049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124080" y="4724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Net force = 0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6T19:20:03Z</dcterms:created>
  <dc:creator>vanattab</dc:creator>
  <dc:description/>
  <dc:language>en-US</dc:language>
  <cp:lastModifiedBy>RomaK</cp:lastModifiedBy>
  <dcterms:modified xsi:type="dcterms:W3CDTF">2015-09-03T12:16:46Z</dcterms:modified>
  <cp:revision>3</cp:revision>
  <dc:subject/>
  <dc:title>A: acceleration     B:equilibrium</dc:title>
</cp:coreProperties>
</file>