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310D-DE65-4449-852C-523C7883D9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EF8-2A1A-4BA8-8E63-9E51080A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DC7-516E-4219-BFC3-4A8F6677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980-4823-4FB5-9F29-B97CFEE8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76B-FD01-4D43-A2B6-8A13BC4C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7E1-4527-4F23-9E08-EF18D4A0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D4B-C8EF-4F9D-B2E9-5AFDCFBC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645-D17A-4A71-A0BB-115994D8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6B0-9577-4888-A859-4B799E75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C65-4655-48DF-A7E6-5BB691AC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F0A-6044-4F14-8F20-BF883FDF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C85C-4CBF-418F-8E99-B63BEE76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FD8-8794-46E6-9EDB-D6C9BF95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6BBE-04B4-40A7-B5C4-ABD996B4B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7080" y="5867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124080" y="4724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20:03Z</dcterms:created>
  <dc:creator>vanattab</dc:creator>
  <dc:description/>
  <dc:language>en-US</dc:language>
  <cp:lastModifiedBy>RomaK</cp:lastModifiedBy>
  <dcterms:modified xsi:type="dcterms:W3CDTF">2015-09-03T12:16:46Z</dcterms:modified>
  <cp:revision>3</cp:revision>
  <dc:subject/>
  <dc:title>A: acceleration     B:equilibrium</dc:title>
</cp:coreProperties>
</file>