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D714-339D-4DD9-89E7-FE7ACE429F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whether the following diagrams illustrate acceleration or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your paper from 1 to 5 and answer A if you think it is showing acceleration or E if you think it is showing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whether the following diagrams illustrate acceleration or equilib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your paper from 1 to 5 and answer A if you think it is showing acceleration or E if you think it is showing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B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Net force =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t force =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3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: acceleration     B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: acceleration     B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Net force =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t force =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ED6D-4EC1-43CC-9354-686217ADC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CE71-C735-4A7A-A8C6-0589B013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826A-08EF-48E9-9DBA-123C5B29C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F423-49ED-4524-AC00-A8E393F3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E498-584A-4E9A-8283-93B531DE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2386-3375-48C4-9903-EFAF6334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8D1E-EE57-4D9C-982F-EEFF9B13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A0EC-23D7-44EB-8C1C-1DC3D297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8C58-D0D3-4367-9B75-6DF3B825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FBC9-A2CB-47FF-BF41-8CE0C206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5F12-0291-4BFE-8DAE-D3DB7B5B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022F-0256-43BB-86A1-C3B78435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667D-B416-4234-AC7C-208EAA30D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ether the following diagrams illustrate acceleration or equilibr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your paper from 1 to 5 and answer A if you think it is showing acceleration or E if you think it is showing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886200" y="3276720"/>
            <a:ext cx="17524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4800600" y="4038480"/>
            <a:ext cx="3581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 flipH="1">
            <a:off x="2666520" y="40384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209680" y="3352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095880" y="3200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81080" y="5181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is not  equal to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809880" y="3505320"/>
            <a:ext cx="21337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4952880" y="40384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6248520" y="3200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981080" y="5181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is not  equal to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3429000" y="2971800"/>
            <a:ext cx="22096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4495680" y="3581280"/>
            <a:ext cx="2286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4495680" y="4038480"/>
            <a:ext cx="1828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 flipH="1">
            <a:off x="990360" y="3733920"/>
            <a:ext cx="3352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752480" y="2971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5943600" y="2743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609588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1981080" y="5181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is not  equal to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581280" y="2438280"/>
            <a:ext cx="13716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4191120" y="30481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4191120" y="2971800"/>
            <a:ext cx="3809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743200" y="3962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5562720" y="2514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1981080" y="5181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is not  equal to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200400" y="3276720"/>
            <a:ext cx="1752480" cy="1143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6"/>
          <p:cNvSpPr/>
          <p:nvPr/>
        </p:nvSpPr>
        <p:spPr>
          <a:xfrm>
            <a:off x="4038480" y="3962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 flipV="1">
            <a:off x="4114800" y="22093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"/>
          <p:cNvSpPr/>
          <p:nvPr/>
        </p:nvSpPr>
        <p:spPr>
          <a:xfrm>
            <a:off x="4191120" y="3809880"/>
            <a:ext cx="1752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9"/>
          <p:cNvSpPr/>
          <p:nvPr/>
        </p:nvSpPr>
        <p:spPr>
          <a:xfrm flipH="1">
            <a:off x="2362320" y="3809880"/>
            <a:ext cx="1676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3733920" y="1676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3581280" y="5943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1295280" y="3429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6095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4267080" y="58672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=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3886200" y="2514600"/>
            <a:ext cx="175248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>
            <a:off x="4724280" y="33526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 flipH="1">
            <a:off x="2666520" y="33526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5909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79132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762120" y="3049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886200" y="3276720"/>
            <a:ext cx="17524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4800600" y="4038480"/>
            <a:ext cx="3581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 flipH="1">
            <a:off x="2666520" y="40384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2209680" y="3352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6095880" y="3200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809880" y="3505320"/>
            <a:ext cx="21337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>
            <a:off x="4952880" y="40384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6248520" y="3200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3429000" y="2971800"/>
            <a:ext cx="22096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4495680" y="3581280"/>
            <a:ext cx="2286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>
            <a:off x="4495680" y="4038480"/>
            <a:ext cx="1828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 flipH="1">
            <a:off x="990360" y="3733920"/>
            <a:ext cx="3352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1752480" y="2971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5943600" y="2743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609588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3581280" y="2438280"/>
            <a:ext cx="13716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"/>
          <p:cNvSpPr/>
          <p:nvPr/>
        </p:nvSpPr>
        <p:spPr>
          <a:xfrm>
            <a:off x="4191120" y="30481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4191120" y="2971800"/>
            <a:ext cx="3809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743200" y="3962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562720" y="2514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B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200400" y="3276720"/>
            <a:ext cx="1752480" cy="1143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"/>
          <p:cNvSpPr/>
          <p:nvPr/>
        </p:nvSpPr>
        <p:spPr>
          <a:xfrm>
            <a:off x="4038480" y="3962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 flipV="1">
            <a:off x="4114800" y="22093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4191120" y="3809880"/>
            <a:ext cx="1752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 flipH="1">
            <a:off x="2362320" y="3809880"/>
            <a:ext cx="1676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3733920" y="1676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3581280" y="5943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295280" y="3429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6095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886200" y="2514600"/>
            <a:ext cx="175248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4724280" y="33526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 flipH="1">
            <a:off x="2666520" y="33526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5909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579132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762120" y="3049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3124080" y="47242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=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19:20:03Z</dcterms:created>
  <dc:creator>vanattab</dc:creator>
  <dc:description/>
  <dc:language>en-US</dc:language>
  <cp:lastModifiedBy>RomaK</cp:lastModifiedBy>
  <dcterms:modified xsi:type="dcterms:W3CDTF">2015-09-03T12:16:46Z</dcterms:modified>
  <cp:revision>3</cp:revision>
  <dc:subject/>
  <dc:title>A: acceleration     B:equilibrium</dc:title>
</cp:coreProperties>
</file>