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41.jpeg" ContentType="image/jpeg"/>
  <Override PartName="/ppt/media/image28.jpeg" ContentType="image/jpeg"/>
  <Override PartName="/ppt/media/image7.jpeg" ContentType="image/jpeg"/>
  <Override PartName="/ppt/media/image12.gif" ContentType="image/gif"/>
  <Override PartName="/ppt/media/image30.png" ContentType="image/png"/>
  <Override PartName="/ppt/media/image29.jpeg" ContentType="image/jpeg"/>
  <Override PartName="/ppt/media/image31.jpeg" ContentType="image/jpeg"/>
  <Override PartName="/ppt/media/image19.jpeg" ContentType="image/jpeg"/>
  <Override PartName="/ppt/media/image34.png" ContentType="image/png"/>
  <Override PartName="/ppt/media/image13.png" ContentType="image/png"/>
  <Override PartName="/ppt/media/image37.png" ContentType="image/pn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11.png" ContentType="image/pn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  <p:sldId id="290" r:id="rId65"/>
    <p:sldId id="291" r:id="rId66"/>
    <p:sldId id="292" r:id="rId67"/>
    <p:sldId id="293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slide" Target="slides/slide35.xml"/><Relationship Id="rId66" Type="http://schemas.openxmlformats.org/officeDocument/2006/relationships/slide" Target="slides/slide36.xml"/><Relationship Id="rId67" Type="http://schemas.openxmlformats.org/officeDocument/2006/relationships/slide" Target="slides/slide37.xml"/><Relationship Id="rId68" Type="http://schemas.openxmlformats.org/officeDocument/2006/relationships/slide" Target="slides/slide38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9C58-3A7C-423B-8FE3-367B77B3DD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CD95-BCCB-4FC3-8E94-A569C0FD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4D84-264B-4542-9FF8-C7089F8D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8759A-34CF-406F-BAAF-4A5B21B5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F2C2A-2EF4-4D0A-A458-F2C83C2E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2F2C1-E59C-4DA3-B497-3C48602C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2C2BF-23D6-4FD6-90B0-DC9C607B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FFA67-2C02-41B3-BC52-D36535FE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7A166-F121-49FB-BA72-DAEE43A5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03A41-0048-4915-9105-DDAA4C91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D3953-DDAF-4446-BD3B-4C5F2CC4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604F3-8938-4276-B1DD-47C77724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B6C2F-65CD-47FA-8543-842CE466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621D-C727-4D1A-9C37-C77D1D8A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FD384-E16F-43A8-9DBA-B7F0E146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A53C8-27B8-49AA-9854-D2D93C9B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6E103-D6C1-4704-8C00-34C84ACC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2DA1F-3A19-4159-A2E8-6A9D60E4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5DEB1-450B-4EFB-922C-971F611E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F09D2-2909-4646-875D-F4C770BA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A9565-CF26-43DB-9631-F577F68B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5CCA1-9458-4A82-AE71-FC93B2F4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9A9A0-B188-46C6-BE37-11DEE230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9C90E-A8BB-4D6E-AE12-9F9E4A01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7D2B-5989-4D6C-BF93-B0912DB0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AA819-DB1C-4110-8F3E-0EAE1108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CE5D7-48A1-4961-9C78-3D16E8B6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F7EF3-1983-4AB7-9597-4398E1A1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DBDA6-E061-4DFC-A8C3-A26001D0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F3D01-A763-4D53-9866-BEF85634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2F7BE-16D5-4A14-BB6B-4E7D3208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05AE3-D7CD-4589-A4DC-0DC7320B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19002-964E-47FC-8911-8BA1D421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9D3BC-22E1-4D3C-90A5-3D12CD73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E684D-F2B6-425A-A970-1FE0FC53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34E19-8AC2-46EB-97D7-39BCE589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0BF25-A88C-4D0B-AC00-823E69B4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91224-2642-4154-8FC0-94E50B8B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99DB8-6A55-42D0-BDC8-81E83D5A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E1317-0488-49A3-8A81-FEBC4560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D6BD1-69D8-46A1-809D-3B55D104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C0479-2804-4189-8D1C-F165E4E6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06557-818A-46DB-A1EB-3DED57B5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40437-7E33-4111-9A2F-B3257CFF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48785-7720-4D57-BA96-74C1E8BB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0E879-FFA8-456A-9DCB-E0596D2C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A6632-C7B2-4A31-9751-BF93900C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C9DF5-47B5-4196-90E9-328E11CA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5E8E5-5D9F-4C9A-8654-0AE248B5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5AEF0-6CA7-4525-A8D9-D56D4020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8F212-7EB7-480C-9509-EF8D1127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3AAEA-F57D-4EEF-ACED-5A920086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2BCDE-9FF8-4082-80F6-A17AF3F6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C5543-DF70-4B70-96BB-6CF4E99E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C2549-3F82-40D1-AF56-173CF389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4EB5B-B7FC-498C-8E3B-730CD362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3FE23-120F-4808-9D0B-6DC2C9CA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30CE0-7DDD-46F9-8D38-E7A5905C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E54C2-8E4B-4FFE-B994-0C358BFC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27D8B-8C4E-4931-A96C-4DE07F74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113AE-70AC-4BE4-B64F-3FFD9703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812B4-FD70-457F-B3A0-4EBD8081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DDCA7-83B5-46A8-9682-9C5EB255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0DAA4-908F-457F-95DF-631F37CE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E760F-9308-443E-95AF-90259F89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6B875-CC8B-4612-A5D6-39084259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9012B-5BBA-4DEE-93DA-0940AFF8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CB5D9-3355-44EB-8C3B-4C6E7F92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8A6E3-D2A6-4BD9-808E-01CE1BEB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8EF15-2E5F-4878-A841-4D786C12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B7F16-4A61-4C14-9358-D352218F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E8FCA-5A5F-488C-8B71-6E245376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9F7E4F-8E9B-49F6-9B08-E0BD773A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F48857-5C4B-427F-8C6D-D3E9B6C3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0E435-016A-4750-B451-59663D60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1F6CD-7490-484C-B6FD-D2F7D00C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12761-EB5D-49F3-A199-B4F6A7A8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49070-30DA-47E4-BE23-A98BB3D5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C7F5E-147B-44CC-BEAD-445761D5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AFB24-52C8-4812-AB29-2AF5FB7F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78D56B-D0E5-409C-99E5-5A4EE5BF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178C24-58AF-4456-9740-956799C7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6D29E-11F7-499A-95CD-00B24915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52E2D7-BAB1-4507-80AF-7C909C46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56F47-705D-46BC-BD4B-9901EBB4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2499C-D5E6-4434-8CE2-66E449FF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2423A-6DCE-47D8-B189-C00485BD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8638AA-ABE4-4E14-87D5-1D8D0B9F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AC26BF-1D04-4E8C-A433-BAF09053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9486D-0B45-4E14-8AD9-6BC8405E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89DF5-553E-4C30-A482-862783D8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74CC9-A609-444F-B7AC-4E19330F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BA91F-52AD-4BF5-A471-22FED47D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680F3-3E6B-4301-92A3-BE75C94C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A374B-D8D4-448A-A662-B11C6EA8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DAB04-A594-42E8-B318-4389D89B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FC0EF-C35C-4F4D-95E2-4DD1FE21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6E29A0-A462-4D9A-93EE-3B38F080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7C00C-9C17-49CA-9CAB-724683A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426F8-B464-486F-B938-7B18F0D0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2FEA2-737B-4485-9E2C-DD89546A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15832-4C0E-4540-9D42-D3C5E828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06143-FAB9-4EB4-ADBE-CA7D6CC6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5A0E45-9F87-4DA1-A924-81CE90D0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AE28B9-1546-417C-BDE8-462E437E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AC511A-9CE9-4B7E-8BBE-CEA4D558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ADEEE-3911-4995-A021-AC14EB99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58D5C8-4D37-4F5B-BFE1-9D995078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36F7F6-D77F-4181-9068-0A6ADA9F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48934B-08DC-4572-874F-BDE8A236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232F8-7BE1-476F-AAB3-EFBE4906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3CCC03-7C3C-43D7-BCA3-EDAF3152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8EACF-D9FF-4D1F-8B7E-CC3D0AEF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104C1-C512-4E0D-8C27-95CAFC55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615C95-31EA-49B4-A762-71EB08D4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C1003F-0DEF-4CCE-801F-E9731275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AF242-4A1F-4A45-AD14-F67C9CE0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1690D-9D50-4B12-B83E-2DAD2934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40BA2C-8B88-4313-BF0D-03B3325D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E5B41C-2D3E-40AA-8AD8-2C52CA00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7E06D5-2E82-4703-B8C7-39F4F992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7F85B9-6A13-49FE-99DF-4AB8738C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8A1E9-0FE3-4444-A16D-1385AF8D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DBD9E-5AE4-47F9-B5A5-CB75E9E0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C5BFC-0067-4E1D-990E-80FE2D1C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FC7F8-DBC9-4A7A-AB68-2F3D8E09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DAC694-B0A2-40FE-B9BC-21DA2D99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E3C01B-BA00-4261-A256-E43474F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FA5A0-A4BE-4682-A549-F2EA3E5A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8434A-1ACB-40D6-8D5D-490FE064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F6BE3D-10CC-459B-BEDF-91961441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89A54-AA0E-437E-89E8-FD24B833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8B968-4A21-483A-B8DE-041F72FB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32F4F-3949-4A3B-9AE9-C618E643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C1A7E4-7736-4C56-9BF0-9A9FBD14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FDBB3-E0F5-4038-B6CE-3404FE46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3647C5-095E-4ABF-9CA1-6F644526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830DD-BE6E-45CF-9956-7A49666D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22F87C-FAA1-4B8A-AD16-34FD035D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9864C2-5FB1-4EC0-92FB-70DA021C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1C338-5822-4D78-9C2C-DD6B6B9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0593EF-7E2A-4B97-A5A2-AB17164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8DC86-D0EA-4D58-90EB-C59C677C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933C53-3B3A-4D48-B62D-F83C43D0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F8B04-7005-4550-AA0B-E4980A3B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11B233-D1C2-4031-B800-9BA03A68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E828C-ECAD-4A46-9455-12BF5E3E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E8E90C-31A4-4F50-A547-2734B8B2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B68513-347B-4989-8BB7-2095148B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E1E22-826F-43C3-81AC-FF4DEF56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67F461-FE35-42B7-A7F9-14AE6D0C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C8C01D-1220-4F09-8E9C-6E915612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3ED2A-6694-4B36-A25F-3DFC9D8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78FDE6-F02B-4984-9436-42998E78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145E3-9EE8-47B1-9139-F377D0B6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0E907B-E671-4A07-AF44-218D7722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D42E6-AB94-4970-BAD0-7E6E7680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D07B7-3AE7-49B1-A45C-867DDB56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9B0FBA-2A99-4CDE-8CCE-73656D64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042AE3-F526-4C54-85C2-0F511EE4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F7E8B-F2F5-441D-8BAE-69368E73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70304-5262-48F8-95A3-EB93FED9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0D37BD-0E8F-4435-ADDF-5C6287B6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0F2CCD-0947-4692-A9E9-566896B0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81BEF8-77E8-41B0-83F6-62C4C62D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87973-EB70-4AAE-9E6D-D68BEB61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7906F3-4E8B-435F-AA57-D32BEC85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141A7C-0AAA-4EC8-B235-4A128C23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CFCE-BEC5-45E8-A30D-B8F8F691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E608D2-FC29-440A-9E5E-ABEC0C91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9BED52-AB54-45A8-86EB-AC2CC97A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6E4A96-AFA4-4C66-9E69-26CA6499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5037B8-D0F0-49BB-ADBA-A064E674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C1E5F6-EFFE-43D5-8EEE-E947AC48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802FA3-038F-4132-A6FB-EF61ACD8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394968-9E43-4DD8-8FFF-7C65C1B6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4BAA05-D17B-4A02-9036-88E78E85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8B4200-A05D-446E-871A-FCDB6F6A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47C3E7-4B32-4448-9E4C-37FE9181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1BA01-32E7-4615-A89C-F3FFB3F5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AC38DA-F78B-4C6C-8943-4A9C6197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934A15-1B0B-4E95-810F-8CDBAE2F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B0B503-FED8-4653-8036-AABC9544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0A9798-8F42-4F80-8396-3C586B1F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C93B17-A1AE-4D0C-9342-324549B4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E096AA-DDAA-49E6-B36E-E51B440A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C827CC-D216-455C-B6AD-00CC91AE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E63492-AFDA-4F8F-8FB0-289374CB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62DB40-36C9-4392-A637-A145F303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C71810-D7D9-4F54-A631-93B74BE3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8B0FB-7797-417F-AA08-A990DCDB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950F1F-562B-471D-956C-B3C14588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6A3214-D53F-4754-9B5E-2C9D026F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DD5A61-DA72-4D8E-B109-00BDDA62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52449D-0D8E-4BC3-9F0C-47A66F01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636D11-8A4B-4B70-8B37-F61EDD9A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39C3FA-9FAE-4CBF-8FA1-3451E0CE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93BBB4-DFBD-4C6D-B372-2D91E279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75F84F-AD09-4740-A639-7A6F82F6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03E96E-6425-47C5-86D5-E869D10C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3BD12E-D672-49AA-8857-BA8C94CB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CC5BB-3E41-4B1B-8989-CD93524E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4BFB87-E08B-4FA6-8900-C53A6AD5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F292CF-6E8B-4BF0-B5E9-17945A70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4FE58C-156C-465C-8890-A3DF552D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34B88E-ADF9-4741-9842-2E6A8B51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75F084-7B6C-4010-AE32-E36EE78A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A279C8-A262-41F3-AB9A-1AD6E596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68CD60-8720-4C4A-AF99-BE8053F7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1CB20E-79C3-4943-8294-0E839E1D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B57230-45D6-4B69-9768-EE06F288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6F4F49-BD47-4F00-B25F-A068C77D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F1E3-5CFF-4169-B1FB-4186C9E4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8200CD-71EA-43A0-9862-8FCEEDA5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53EBDA-3488-4C38-BD96-F0A85F60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F9DA93-B976-44A0-9604-6D9D01F2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6ACF8F-0592-42DD-B74A-073CB032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7D3A7D-36A4-43CF-B20E-3EC74084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FBA447-A224-4F71-96D3-DD6E661A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F0DD13-4931-45B1-8793-6CA61A65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8AA9AB-6CBA-4851-971B-C94039C2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7435F4-D7BB-4265-B329-FB99174C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9A1286-D6C6-4B7E-82A5-12646E35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17EB-A272-438C-863B-2D3AF1C1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D418-3F4C-458A-81AF-D1E40226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7CEA20-FFBA-4D89-8A87-AC9318AE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588D50-4985-446B-9E9B-E28D6C93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80E67F-67BD-416A-A670-EA8B2218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B2CDBC-4085-45FB-99A4-BE0CFE5F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281D8F-C29B-406E-A019-F1DE8847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CBF37B-2278-4D36-BF9B-A42438DE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860737-C1F0-47CB-8304-35B06C6D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D714EE-D523-4A8D-9D80-0384A1E0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A4356B-5EB4-4215-B860-9A353E0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AD651B-26CE-4068-A613-986715D3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D4805-E447-4207-AF7C-B75A8CAD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3A08DD-8CC6-433F-9509-EC4EEBC9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5CE2B8-B51C-4D05-B9BE-F4124AF9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924262-A48D-4B8B-8AC5-5FB465C9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D79E16-A2A5-4CF0-A679-48669D9C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E4834C-2FBE-4BBE-96BB-3EA6D33A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364B28-E38C-4354-AE4F-1ADBAEDF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7008ED-8D04-428F-BAE5-1AD39279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34DA98-939C-44E6-9133-FCA207E1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312AFE-7134-4106-B512-CE8452F1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C40286-1BD9-409E-82FD-6E0B934F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531D-0036-4D6D-8154-5316AE9F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E9C002-B79D-4FDE-8B0E-39A0483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69F7EB-ACF1-424E-8D30-5EFFCD0C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CD261E-170E-43BB-BE1B-781C797A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577BC8-085F-4275-A5F9-7DE3D15E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A49DB2-E37A-4DD6-B45D-8ACBD2E6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2C9275-AC8A-410D-B508-8D86D06F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076658-F5AF-4DAA-AA12-F66F13E8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545B77-2427-41B5-95D0-2B92B563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894AD4-CD34-4F84-87A6-4ABDBE7A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4F554E-3D04-4F92-89B0-D48AC9B9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E474-302C-48CE-B759-1535121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B933B1-CAF8-49D6-8F2D-A7755A7C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4A4966-7B51-4E73-828D-7F554701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2D3050-B2BC-4790-AC1B-12D84A35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5850A3-DA4D-45FF-B7BA-80C73D81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F5A616-BF82-4178-BCA4-EEDDA8BB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386DFA-F4D1-47B1-8885-D34ACC1F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1EE3DE-D213-440A-AE1B-79919EC9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92BDA-7CCF-4044-81C4-6EF357CE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C290F-18DC-4A55-B3B8-8DD126BF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04CF-3550-48F0-BD00-819AD2D2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D51B8-63E2-437C-894F-A15755F7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46C9A-C676-4354-824E-9C633501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8FAC7-8072-48FB-85D5-A9C66ECC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A1053-378B-4CC1-AD64-78650D8A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E0F04-21F6-4147-9057-5A3F321D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C08CA-DEB0-4E4A-A462-22635138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D41E3-706D-484F-AC7D-DBEB6065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1927A-4042-4657-816F-A3F2DAC7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E3934-C753-4511-9A05-0A919C1F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E64E-8760-4626-A5A8-0FBB737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0AC1-D427-4804-9B25-34F1D84E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6163-DF65-418C-B0B8-001BFDE5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032F2-876D-4292-98E4-43479947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25880-8B13-47D4-905A-CE7FBA4B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FBA4-E449-4272-B406-FE520071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566C5-E18C-4F18-9572-AB98686E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9B1FC-578F-4563-A5B0-A70B15DA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ED548-1FEB-4A10-AD5F-054B5879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B1248-6D6C-4C7D-98DA-1C6F3381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DC5AB-3B9E-4E43-9B44-249EB5C8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5F9B8-2AB2-4E34-8AEF-E0EE7BA3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986BC-A0A4-485A-BCC2-09202780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7B6E3-3F25-434E-9F57-2348FE12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A6F69-2080-487F-B9BD-DC6425DF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6B494-B2D8-4CB0-9A4E-9C552DB3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4701-89A9-40C7-AB4B-0ABDE365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2B238-65C2-4F72-8B82-8F989F98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6E1C1-E523-4BD2-855C-C568C565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06A6D-C07D-4DD1-A48C-CCBF9028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7BE9B-4980-4430-BA5E-C6DD7DD0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8D293-B3FE-4CC6-B318-D264BDE4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1E9BD-89CF-4E6F-9E53-2A3BB388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92F1B-621A-4E45-AE86-5587470B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0F0A2-790A-42D8-A2A8-3F45ADB7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EDE15-5891-4825-B605-46CA3CB2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3776C-7204-43AA-9DC8-C15B225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23FC-4B9C-4B77-93FD-1AD205EB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117FA-6B8B-485F-8C1C-4BCE1DDB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1AB4B-364C-45BD-B427-2590700C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5D0F1-481C-4D10-85BF-CF596099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678D9-F484-4704-9132-DA577760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0BF8A-865D-492F-AFD2-6D6153F0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93D51-7BA9-4DC9-B46A-915ABEBE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D1AE2-D984-4D4A-BA8B-35A5CC4C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87EBD-E538-44DA-9343-1FD4D8A4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93107-F1C4-4540-88FF-93EA475E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A081A-5A4D-4705-90F9-EB5D270E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35CA6-BFAB-476B-AFC9-A4A702C9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59F32-B7D8-41D8-9FDE-0388B9F3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79223-1BD4-496B-8309-F5CDDA9A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C92E2-911D-4958-9536-7BF2E765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341EC-96C7-4DB1-9FF0-3CD0C580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28B2B-87F3-40BC-BD42-4CDF1948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64A30F-DCF9-4BB2-A891-7734616E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1BE14E-C633-436C-B2EB-45B12FA4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4BAE3B-8BD6-48DA-9A5D-E4EAB562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592DEA-8D04-4ABD-83C1-00E3C84F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DCFA3C-EE8F-40F9-ABE0-14979621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E8AD-1571-447B-9AE0-125C7BE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47BBEB-35AC-4B92-86B2-EDC8DAD2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BC951F-6185-49D1-9D52-4C31DEC6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5E890-13E0-4968-B086-EAEBFA02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FF8447-B957-4548-B24E-34320D6D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480A6B-69A8-483A-9270-A29BB00A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00A993-3C8C-48B2-9B92-B05065AF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76C050-63F7-44FA-A48B-452498B3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BAF76-A40A-489B-BF5D-77C7CCF0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B8032-AC92-44C5-9C81-BF9DFA85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87F21-53E2-4EB9-B068-E4B8A633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D743-6986-4285-940A-6B7BB37420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1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D052-CD60-4569-93BA-E4CDA5768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7188-31E6-4A9C-874F-F6042986B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1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B6D0-6338-43B4-827B-34BFCB5F61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1F4A-E649-48C7-95A8-8C85218E73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2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3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4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189D-D986-49E4-ABFA-7A95AEDC47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2C52-72D1-4092-853B-EFEF674790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62A4-0FDC-4D20-843E-1D55147049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33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4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4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4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4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4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5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5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5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6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6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6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7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7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37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37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38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8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8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9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9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9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0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0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0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0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41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1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2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2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2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2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3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3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3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4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4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44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44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45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ED0E-EAD5-4F27-9B2D-E7F5852312C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51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51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4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E57A-70A5-45C8-AC22-C535387240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E761-B3D1-43B2-9297-B020E71EB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3D4A-21CC-4DA2-B901-37878FC2DC8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5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5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323B-7BC7-41F7-85FC-561A2FECF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9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E5A3-24DE-4BFE-BF54-6D79577798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3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 type="ftr" idx="6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14AC-A85E-4DFF-882F-6DADEE6178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8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8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 type="dt" idx="6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 type="sldNum" idx="6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465B-1F5D-4B0C-9263-BC5EB59139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83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9FF0-496C-47AA-A291-6EEFFA048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A858-0D4F-4144-B17C-78E3A66EE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7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7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0E70-FD12-4855-89DE-CC5671A105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8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3118-2197-4B7C-A808-100CE9EE1FE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25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25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27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dt" idx="8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8522-6230-4D3D-A3C7-104D5818D7C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51AB-0BFA-48AA-8EDB-C965C61C6C4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30DE-2ADA-4ABB-BA9F-0D814FFF02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9C30-14C7-4F80-8420-EB1E98156F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E279-AF85-4803-BB61-075952A25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0240-604B-4D41-BDF1-F7CE3B96E1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BC4B-E4DC-42FC-AAE8-9ACE63E204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B111-959B-44C7-A0F6-FD3B67CADB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300" spc="-1" strike="noStrike">
                <a:solidFill>
                  <a:srgbClr val="ffffcc"/>
                </a:solidFill>
                <a:latin typeface="Monotype Corsiva"/>
              </a:rPr>
              <a:t>Viruses &amp; Bacteria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hapter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iolog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Presentation put together by Mandie Lyn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6" name="Picture 4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1" name="Picture 5" descr="Retrovirus_life_cycle"/>
          <p:cNvPicPr/>
          <p:nvPr/>
        </p:nvPicPr>
        <p:blipFill>
          <a:blip r:embed="rId1"/>
          <a:stretch/>
        </p:blipFill>
        <p:spPr>
          <a:xfrm>
            <a:off x="3505320" y="685800"/>
            <a:ext cx="5408640" cy="5638680"/>
          </a:xfrm>
          <a:prstGeom prst="rect">
            <a:avLst/>
          </a:prstGeom>
          <a:ln w="0">
            <a:noFill/>
          </a:ln>
        </p:spPr>
      </p:pic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281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DNA into 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a Retrovirus is H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4" name="Picture 5" descr="Retrovirus"/>
          <p:cNvPicPr/>
          <p:nvPr/>
        </p:nvPicPr>
        <p:blipFill>
          <a:blip r:embed="rId1"/>
          <a:stretch/>
        </p:blipFill>
        <p:spPr>
          <a:xfrm>
            <a:off x="4495680" y="1547640"/>
            <a:ext cx="4496040" cy="3549960"/>
          </a:xfrm>
          <a:prstGeom prst="rect">
            <a:avLst/>
          </a:prstGeom>
          <a:ln w="0">
            <a:noFill/>
          </a:ln>
        </p:spPr>
      </p:pic>
      <p:sp>
        <p:nvSpPr>
          <p:cNvPr id="2485" name="Rectangle 6"/>
          <p:cNvSpPr/>
          <p:nvPr/>
        </p:nvSpPr>
        <p:spPr>
          <a:xfrm>
            <a:off x="304920" y="771840"/>
            <a:ext cx="4190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ypical, "minimal" retrovirus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uter envelope which was derived from the plasma membrane of its h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copies of an envelope protein embedded in the lipid bilayer of its envel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psid; a protein shell cont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molecules of RNA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cules of the enzyme reverse transcript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6" name="Picture 7" descr="BacterialCell150"/>
          <p:cNvPicPr/>
          <p:nvPr/>
        </p:nvPicPr>
        <p:blipFill>
          <a:blip r:embed="rId1"/>
          <a:stretch/>
        </p:blipFill>
        <p:spPr>
          <a:xfrm>
            <a:off x="380880" y="2286000"/>
            <a:ext cx="1428840" cy="2571840"/>
          </a:xfrm>
          <a:prstGeom prst="rect">
            <a:avLst/>
          </a:prstGeom>
          <a:ln w="0">
            <a:noFill/>
          </a:ln>
        </p:spPr>
      </p:pic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a C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88" name="Picture 17" descr="bacteria"/>
          <p:cNvPicPr/>
          <p:nvPr/>
        </p:nvPicPr>
        <p:blipFill>
          <a:blip r:embed="rId2"/>
          <a:stretch/>
        </p:blipFill>
        <p:spPr>
          <a:xfrm>
            <a:off x="5105520" y="228600"/>
            <a:ext cx="3886200" cy="2855880"/>
          </a:xfrm>
          <a:prstGeom prst="rect">
            <a:avLst/>
          </a:prstGeom>
          <a:ln w="0">
            <a:noFill/>
          </a:ln>
        </p:spPr>
      </p:pic>
      <p:pic>
        <p:nvPicPr>
          <p:cNvPr id="2489" name="Picture 20" descr="imageT9V"/>
          <p:cNvPicPr/>
          <p:nvPr/>
        </p:nvPicPr>
        <p:blipFill>
          <a:blip r:embed="rId3"/>
          <a:stretch/>
        </p:blipFill>
        <p:spPr>
          <a:xfrm>
            <a:off x="2057400" y="2514600"/>
            <a:ext cx="4572000" cy="4081320"/>
          </a:xfrm>
          <a:prstGeom prst="rect">
            <a:avLst/>
          </a:prstGeom>
          <a:ln w="0">
            <a:noFill/>
          </a:ln>
        </p:spPr>
      </p:pic>
      <p:pic>
        <p:nvPicPr>
          <p:cNvPr id="2490" name="Picture 23" descr="Bacteria"/>
          <p:cNvPicPr/>
          <p:nvPr/>
        </p:nvPicPr>
        <p:blipFill>
          <a:blip r:embed="rId4"/>
          <a:stretch/>
        </p:blipFill>
        <p:spPr>
          <a:xfrm>
            <a:off x="6400800" y="4467240"/>
            <a:ext cx="25146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3" name="Picture 6" descr="so23_09"/>
          <p:cNvPicPr/>
          <p:nvPr/>
        </p:nvPicPr>
        <p:blipFill>
          <a:blip r:embed="rId1"/>
          <a:stretch/>
        </p:blipFill>
        <p:spPr>
          <a:xfrm>
            <a:off x="4530600" y="53352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4" name="Picture 5" descr="prokaryo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Eubacter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the larger of the two prokaryote 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are surrounded by a cell wall composed of complex carbohyd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7" name="Picture 13" descr="Eubacteria"/>
          <p:cNvPicPr/>
          <p:nvPr/>
        </p:nvPicPr>
        <p:blipFill>
          <a:blip r:embed="rId3"/>
          <a:stretch/>
        </p:blipFill>
        <p:spPr>
          <a:xfrm>
            <a:off x="4876920" y="1998720"/>
            <a:ext cx="3733560" cy="3591000"/>
          </a:xfrm>
          <a:prstGeom prst="rect">
            <a:avLst/>
          </a:prstGeom>
          <a:ln w="0">
            <a:noFill/>
          </a:ln>
        </p:spPr>
      </p:pic>
      <p:sp>
        <p:nvSpPr>
          <p:cNvPr id="2498" name="AutoShape 9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AutoShape 11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yano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95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otosynthetic bac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uish-greenish co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membranes that carry out the process of photosy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not contain the same type of chloroplasts as plants 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bluish-greenish algae can be found nearly everywhere on ear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survive in extremely hot environments and even extremely cold enviro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2" name="Picture 5" descr="Cyanobacteria"/>
          <p:cNvPicPr/>
          <p:nvPr/>
        </p:nvPicPr>
        <p:blipFill>
          <a:blip r:embed="rId1"/>
          <a:stretch/>
        </p:blipFill>
        <p:spPr>
          <a:xfrm>
            <a:off x="3314880" y="1600200"/>
            <a:ext cx="58291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3" name="Picture 5" descr="archaebacteria"/>
          <p:cNvPicPr/>
          <p:nvPr/>
        </p:nvPicPr>
        <p:blipFill>
          <a:blip r:embed="rId1"/>
          <a:stretch/>
        </p:blipFill>
        <p:spPr>
          <a:xfrm>
            <a:off x="3352680" y="1600200"/>
            <a:ext cx="5562720" cy="5056200"/>
          </a:xfrm>
          <a:prstGeom prst="rect">
            <a:avLst/>
          </a:prstGeom>
          <a:ln w="0">
            <a:noFill/>
          </a:ln>
        </p:spPr>
      </p:pic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Archaebacter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819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ack important carbohydrate found in cell wall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ave different lipids in their cell membra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fferent types of ribosom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ery different gene sequenc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rchaebacteria can live in extremely harsh environ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Identifying Prokaryo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8" name="Picture 5" descr="Prokaryote2"/>
          <p:cNvPicPr/>
          <p:nvPr/>
        </p:nvPicPr>
        <p:blipFill>
          <a:blip r:embed="rId4"/>
          <a:stretch/>
        </p:blipFill>
        <p:spPr>
          <a:xfrm>
            <a:off x="4724280" y="1905120"/>
            <a:ext cx="3262320" cy="2792160"/>
          </a:xfrm>
          <a:prstGeom prst="rect">
            <a:avLst/>
          </a:prstGeom>
          <a:ln w="0">
            <a:noFill/>
          </a:ln>
        </p:spPr>
      </p:pic>
      <p:pic>
        <p:nvPicPr>
          <p:cNvPr id="2509" name="Picture 8" descr="Prokaryote7"/>
          <p:cNvPicPr/>
          <p:nvPr/>
        </p:nvPicPr>
        <p:blipFill>
          <a:blip r:embed="rId5"/>
          <a:stretch/>
        </p:blipFill>
        <p:spPr>
          <a:xfrm>
            <a:off x="1143000" y="388620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0" name="Picture 5" descr="BACTERIA"/>
          <p:cNvPicPr/>
          <p:nvPr/>
        </p:nvPicPr>
        <p:blipFill>
          <a:blip r:embed="rId1"/>
          <a:stretch/>
        </p:blipFill>
        <p:spPr>
          <a:xfrm>
            <a:off x="5872320" y="457200"/>
            <a:ext cx="3271680" cy="6248520"/>
          </a:xfrm>
          <a:prstGeom prst="rect">
            <a:avLst/>
          </a:prstGeom>
          <a:ln w="0">
            <a:noFill/>
          </a:ln>
        </p:spPr>
      </p:pic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re Viru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virus is a non-cellular particle made up of genetic material and protein that can invade living cel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3" name="Picture 5" descr="cwprofile"/>
          <p:cNvPicPr/>
          <p:nvPr/>
        </p:nvPicPr>
        <p:blipFill>
          <a:blip r:embed="rId1"/>
          <a:stretch/>
        </p:blipFill>
        <p:spPr>
          <a:xfrm>
            <a:off x="228600" y="3733920"/>
            <a:ext cx="8610480" cy="1976400"/>
          </a:xfrm>
          <a:prstGeom prst="rect">
            <a:avLst/>
          </a:prstGeom>
          <a:ln w="0">
            <a:noFill/>
          </a:ln>
        </p:spPr>
      </p:pic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Gram + and Gram – Bacterium Cell W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ellular Wal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nature of a cell wall can be determined by Gram St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finding out what color the cell produces when it is gram stained you can figure out the type of carbohydrates in the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7" name="Picture 5" descr="Prokaryotes4"/>
          <p:cNvPicPr/>
          <p:nvPr/>
        </p:nvPicPr>
        <p:blipFill>
          <a:blip r:embed="rId1"/>
          <a:stretch/>
        </p:blipFill>
        <p:spPr>
          <a:xfrm>
            <a:off x="1371600" y="3471840"/>
            <a:ext cx="640080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v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5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agella ~ Tail like structure the whips around to propel the bacteri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llia ~ Miniature flagella surround the cell that help to “swim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n motile ~ Sticky cillia like structures that keep the bacterium from mov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Flagell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1" name="Picture 5" descr="fladist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20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-360" y="-49366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ef6"/>
              </a:solidFill>
              <a:latin typeface="Comic Sans MS"/>
            </a:endParaRPr>
          </a:p>
        </p:txBody>
      </p:sp>
      <p:pic>
        <p:nvPicPr>
          <p:cNvPr id="2523" name="Picture 5" descr="img0102"/>
          <p:cNvPicPr/>
          <p:nvPr/>
        </p:nvPicPr>
        <p:blipFill>
          <a:blip r:embed="rId1"/>
          <a:stretch/>
        </p:blipFill>
        <p:spPr>
          <a:xfrm>
            <a:off x="533520" y="1295280"/>
            <a:ext cx="3368520" cy="4572000"/>
          </a:xfrm>
          <a:prstGeom prst="rect">
            <a:avLst/>
          </a:prstGeom>
          <a:ln w="0">
            <a:noFill/>
          </a:ln>
        </p:spPr>
      </p:pic>
      <p:pic>
        <p:nvPicPr>
          <p:cNvPr id="2524" name="Picture 8" descr="CB"/>
          <p:cNvPicPr/>
          <p:nvPr/>
        </p:nvPicPr>
        <p:blipFill>
          <a:blip r:embed="rId2"/>
          <a:stretch/>
        </p:blipFill>
        <p:spPr>
          <a:xfrm>
            <a:off x="426708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and their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7" name="Picture 9" descr="lin-bacteria-w"/>
          <p:cNvPicPr/>
          <p:nvPr/>
        </p:nvPicPr>
        <p:blipFill>
          <a:blip r:embed="rId1"/>
          <a:stretch/>
        </p:blipFill>
        <p:spPr>
          <a:xfrm>
            <a:off x="3581280" y="167652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utotro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their own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Solar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Cyanobac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0" name="Picture 5" descr="cyanobacteria"/>
          <p:cNvPicPr/>
          <p:nvPr/>
        </p:nvPicPr>
        <p:blipFill>
          <a:blip r:embed="rId1"/>
          <a:stretch/>
        </p:blipFill>
        <p:spPr>
          <a:xfrm>
            <a:off x="4572000" y="2212920"/>
            <a:ext cx="4114800" cy="333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otroph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own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hemical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Archaebac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3" name="Picture 5" descr="archaebacteria"/>
          <p:cNvPicPr/>
          <p:nvPr/>
        </p:nvPicPr>
        <p:blipFill>
          <a:blip r:embed="rId1"/>
          <a:stretch/>
        </p:blipFill>
        <p:spPr>
          <a:xfrm>
            <a:off x="4572000" y="1881360"/>
            <a:ext cx="4343400" cy="394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terotroph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E-c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6" name="Picture 5" descr="x_e"/>
          <p:cNvPicPr/>
          <p:nvPr/>
        </p:nvPicPr>
        <p:blipFill>
          <a:blip r:embed="rId1"/>
          <a:stretch/>
        </p:blipFill>
        <p:spPr>
          <a:xfrm>
            <a:off x="4191120" y="2114640"/>
            <a:ext cx="4647960" cy="3873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teria Respi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ultativ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ive with or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not live without oxyg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9" name="Picture 17" descr="viruses"/>
          <p:cNvPicPr/>
          <p:nvPr/>
        </p:nvPicPr>
        <p:blipFill>
          <a:blip r:embed="rId1"/>
          <a:stretch/>
        </p:blipFill>
        <p:spPr>
          <a:xfrm>
            <a:off x="1165320" y="1523880"/>
            <a:ext cx="2868480" cy="388620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22" descr="viruses2"/>
          <p:cNvPicPr/>
          <p:nvPr/>
        </p:nvPicPr>
        <p:blipFill>
          <a:blip r:embed="rId2"/>
          <a:stretch/>
        </p:blipFill>
        <p:spPr>
          <a:xfrm>
            <a:off x="4637160" y="1676520"/>
            <a:ext cx="2703600" cy="3809880"/>
          </a:xfrm>
          <a:prstGeom prst="rect">
            <a:avLst/>
          </a:prstGeom>
          <a:ln w="0">
            <a:noFill/>
          </a:ln>
        </p:spPr>
      </p:pic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ecff"/>
                </a:solidFill>
                <a:latin typeface="Antique Olive"/>
              </a:rPr>
              <a:t>T4 Bacteriophage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teria Re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F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ju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e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4" name="Picture 5" descr="img003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45" name="Rectangle 7"/>
          <p:cNvSpPr/>
          <p:nvPr/>
        </p:nvSpPr>
        <p:spPr>
          <a:xfrm>
            <a:off x="0" y="541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8" name="Picture 5" descr="conjugation"/>
          <p:cNvPicPr/>
          <p:nvPr/>
        </p:nvPicPr>
        <p:blipFill>
          <a:blip r:embed="rId1"/>
          <a:stretch/>
        </p:blipFill>
        <p:spPr>
          <a:xfrm>
            <a:off x="4495680" y="457200"/>
            <a:ext cx="433872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996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Spore Formation: Endosp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type of dormant ce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hibit no signs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ghly resistant to environmental stresses such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High temper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Irrad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Strong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Disinfec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1" name="Picture 5" descr="endospore"/>
          <p:cNvPicPr/>
          <p:nvPr/>
        </p:nvPicPr>
        <p:blipFill>
          <a:blip r:embed="rId1"/>
          <a:stretch/>
        </p:blipFill>
        <p:spPr>
          <a:xfrm>
            <a:off x="5029200" y="1447920"/>
            <a:ext cx="38210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bi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relationship between to species in which at least one species benefits from the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together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6" name="Picture 5" descr="Mycobacterium-tuberculosis"/>
          <p:cNvPicPr/>
          <p:nvPr/>
        </p:nvPicPr>
        <p:blipFill>
          <a:blip r:embed="rId1"/>
          <a:stretch/>
        </p:blipFill>
        <p:spPr>
          <a:xfrm>
            <a:off x="4282920" y="990720"/>
            <a:ext cx="4083120" cy="4876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tual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9" name="Picture 4" descr="_394740_ecoli300"/>
          <p:cNvPicPr/>
          <p:nvPr/>
        </p:nvPicPr>
        <p:blipFill>
          <a:blip r:embed="rId1"/>
          <a:stretch/>
        </p:blipFill>
        <p:spPr>
          <a:xfrm>
            <a:off x="4572000" y="2400480"/>
            <a:ext cx="411480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trogen Fixatio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2" name="Picture 6" descr="em_herps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Herpes Viru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4" name="Picture 5" descr="_394740_ecoli300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3611520"/>
          </a:xfrm>
          <a:prstGeom prst="rect">
            <a:avLst/>
          </a:prstGeom>
          <a:ln w="0">
            <a:noFill/>
          </a:ln>
        </p:spPr>
      </p:pic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scherichia Coli Bacteriu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228240" y="51051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coli is a bacterium.  That is a crude cell, it is not a virus because viruses are protein containers with DNA cores or RNA c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Picture 5" descr="tphage1"/>
          <p:cNvPicPr/>
          <p:nvPr/>
        </p:nvPicPr>
        <p:blipFill>
          <a:blip r:embed="rId1"/>
          <a:stretch/>
        </p:blipFill>
        <p:spPr>
          <a:xfrm>
            <a:off x="457200" y="3808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7" descr="attaching phage"/>
          <p:cNvPicPr/>
          <p:nvPr/>
        </p:nvPicPr>
        <p:blipFill>
          <a:blip r:embed="rId2"/>
          <a:stretch/>
        </p:blipFill>
        <p:spPr>
          <a:xfrm>
            <a:off x="3124080" y="2286000"/>
            <a:ext cx="2248200" cy="134316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9" descr="phagedna"/>
          <p:cNvPicPr/>
          <p:nvPr/>
        </p:nvPicPr>
        <p:blipFill>
          <a:blip r:embed="rId3"/>
          <a:stretch/>
        </p:blipFill>
        <p:spPr>
          <a:xfrm>
            <a:off x="6629400" y="2666880"/>
            <a:ext cx="961920" cy="127656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13" descr="tphage2"/>
          <p:cNvPicPr/>
          <p:nvPr/>
        </p:nvPicPr>
        <p:blipFill>
          <a:blip r:embed="rId4"/>
          <a:stretch/>
        </p:blipFill>
        <p:spPr>
          <a:xfrm>
            <a:off x="2819520" y="4038480"/>
            <a:ext cx="4762440" cy="11145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15" descr="t4movie"/>
          <p:cNvPicPr/>
          <p:nvPr/>
        </p:nvPicPr>
        <p:blipFill>
          <a:blip r:embed="rId5"/>
          <a:stretch/>
        </p:blipFill>
        <p:spPr>
          <a:xfrm>
            <a:off x="2438280" y="5791320"/>
            <a:ext cx="4896000" cy="857160"/>
          </a:xfrm>
          <a:prstGeom prst="rect">
            <a:avLst/>
          </a:prstGeom>
          <a:ln w="0">
            <a:noFill/>
          </a:ln>
        </p:spPr>
      </p:pic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. Coli and the Bacterioph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2521080" y="502884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t looks like in real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Structure Of a Vi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are composed of a core of nucle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acid core is surrounded by a protein coat called a caps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core is either made up of DNA or RNA but never b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6" name="Picture 8" descr="bacteriophage"/>
          <p:cNvPicPr/>
          <p:nvPr/>
        </p:nvPicPr>
        <p:blipFill>
          <a:blip r:embed="rId1"/>
          <a:stretch/>
        </p:blipFill>
        <p:spPr>
          <a:xfrm>
            <a:off x="4495680" y="1523880"/>
            <a:ext cx="419904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Picture 8" descr="image012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ycle of Lytic and Lysogenic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ccin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 grown on chicken embryos are attenuated vacc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type of vaccine is made by heat killing the virus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3:14:57Z</dcterms:created>
  <dc:creator>Jeddy</dc:creator>
  <dc:description/>
  <dc:language>en-US</dc:language>
  <cp:lastModifiedBy>RomaK</cp:lastModifiedBy>
  <dcterms:modified xsi:type="dcterms:W3CDTF">2015-09-04T10:53:29Z</dcterms:modified>
  <cp:revision>24</cp:revision>
  <dc:subject/>
  <dc:title>Viruses &amp; Bacteria</dc:title>
</cp:coreProperties>
</file>