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41.jpeg" ContentType="image/jpeg"/>
  <Override PartName="/ppt/media/image28.jpeg" ContentType="image/jpeg"/>
  <Override PartName="/ppt/media/image7.jpeg" ContentType="image/jpeg"/>
  <Override PartName="/ppt/media/image12.gif" ContentType="image/gif"/>
  <Override PartName="/ppt/media/image30.png" ContentType="image/png"/>
  <Override PartName="/ppt/media/image29.jpeg" ContentType="image/jpeg"/>
  <Override PartName="/ppt/media/image31.jpeg" ContentType="image/jpeg"/>
  <Override PartName="/ppt/media/image19.jpeg" ContentType="image/jpeg"/>
  <Override PartName="/ppt/media/image34.png" ContentType="image/png"/>
  <Override PartName="/ppt/media/image13.png" ContentType="image/png"/>
  <Override PartName="/ppt/media/image37.png" ContentType="image/png"/>
  <Override PartName="/ppt/media/image20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11.png" ContentType="image/png"/>
  <Override PartName="/ppt/media/image9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  <p:sldId id="285" r:id="rId60"/>
    <p:sldId id="286" r:id="rId61"/>
    <p:sldId id="287" r:id="rId62"/>
    <p:sldId id="288" r:id="rId63"/>
    <p:sldId id="289" r:id="rId64"/>
    <p:sldId id="290" r:id="rId65"/>
    <p:sldId id="291" r:id="rId66"/>
    <p:sldId id="292" r:id="rId67"/>
    <p:sldId id="293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slide" Target="slides/slide30.xml"/><Relationship Id="rId61" Type="http://schemas.openxmlformats.org/officeDocument/2006/relationships/slide" Target="slides/slide31.xml"/><Relationship Id="rId62" Type="http://schemas.openxmlformats.org/officeDocument/2006/relationships/slide" Target="slides/slide32.xml"/><Relationship Id="rId63" Type="http://schemas.openxmlformats.org/officeDocument/2006/relationships/slide" Target="slides/slide33.xml"/><Relationship Id="rId64" Type="http://schemas.openxmlformats.org/officeDocument/2006/relationships/slide" Target="slides/slide34.xml"/><Relationship Id="rId65" Type="http://schemas.openxmlformats.org/officeDocument/2006/relationships/slide" Target="slides/slide35.xml"/><Relationship Id="rId66" Type="http://schemas.openxmlformats.org/officeDocument/2006/relationships/slide" Target="slides/slide36.xml"/><Relationship Id="rId67" Type="http://schemas.openxmlformats.org/officeDocument/2006/relationships/slide" Target="slides/slide37.xml"/><Relationship Id="rId68" Type="http://schemas.openxmlformats.org/officeDocument/2006/relationships/slide" Target="slides/slide38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05FD-3823-4536-9C21-A9BAC31702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&amp;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put together by Mandie Lynn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&amp;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put together by Mandie Lynn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NA into 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 Retrovirus is H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NA into 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 Retrovirus is HI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, "minimal" retrovirus consists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er envelope which was derived from the plasma membrane of its h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n envelope protein embedded in the lipid bilayer of its enve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sid; a protein shell cont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lecules of RN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of the enzyme 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ical, "minimal" retrovirus consists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er envelope which was derived from the plasma membrane of its h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n envelope protein embedded in the lipid bilayer of its enve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sid; a protein shell conta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lecules of RN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of the enzyme 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larger of the two prokaryote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are surrounded by a cell wall composed of complex 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larger of the two prokaryote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are surrounded by a cell wall composed of complex carbohyd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ish-greenish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membranes that carry out the process of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ontain the same type of chloroplasts as plan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luish-greenish algae can be found nearly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rvive in extremely hot environments and even extremely col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ish-greenish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membranes that carry out the process of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ontain the same type of chloroplasts as plan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luish-greenish algae can be found nearly everywhere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urvive in extremely hot environments and even extremely col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important carbohydrate found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lipids in their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gene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 can live in extremely harsh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important carbohydrate found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ifferent lipids in their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ypes of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gene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aebacteria can live in extremely harsh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us is a non-cellular particle made up of genetic material and protein that can invade living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rus is a non-cellular particle made up of genetic material and protein that can invade living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+ and Gram – Bacterium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+ and Gram – Bacterium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nature of a cell wall can be determined by Gram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inding out what color the cell produces when it is gram stained you can figure out the type of carbohydrates in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nature of a cell wall can be determined by Gram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inding out what color the cell produces when it is gram stained you can figure out the type of carbohydrates in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ella ~ Tail like structure the whips around to propel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lia ~ Miniature flagella surround the cell that help to “swi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motile ~ Sticky cillia like structures that keep the bacterium from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gella ~ Tail like structure the whips around to propel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lia ~ Miniature flagella surround the cell that help to “swi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motile ~ Sticky cillia like structures that keep the bacterium from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and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and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ir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Sola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ir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Sola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ow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Archae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live with or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live without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Ae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live with or withou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live without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4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 Formation: Endos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dormant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 no sign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istant to environmental stresse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gh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infe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 Formation: Endos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dormant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 no signs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istant to environmental stresse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gh temper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rong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isinfe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relationship between to species in which at least one species benefits from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together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relationship between to species in which at least one species benefits from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together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Fix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Fix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pes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pes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herichia Coli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is a bacterium.  That is a crude cell, it is not a virus because viruses are protein containers with DNA cores or RNA 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herichia Coli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is a bacterium.  That is a crude cell, it is not a virus because viruses are protein containers with DNA cores or RNA c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and the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t looks like in re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Coli and the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t looks like in re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re composed of a core of nucle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acid core is surrounded by a protein coat called a cap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core is either made up of DNA or RNA but neve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are composed of a core of nucle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acid core is surrounded by a protein coat called a caps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c core is either made up of DNA or RNA but neve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of Lytic and Lysoge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e of Lytic and Lysogen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grown on chicken embryos are attenuated 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ype of vaccine is made by heat killing the viru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grown on chicken embryos are attenuated 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ype of vaccine is made by heat killing the viru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A63A0-B318-4D8E-AD0A-09FB3E54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5A08A-EDC5-4235-B66C-E7BA8ACB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1007D-A6EF-40DE-86D4-3146AA61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CA475-F335-4AED-8279-DD000926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C4338-2BF9-4AB9-93AA-B9778110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59095-4BA1-4F4A-82A2-F9FD63CD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787B8-1E47-4716-A04B-E18A5B0D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DB4EF-36D8-4F0B-B8E9-14F4D120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8129E-E25E-423F-A585-E41DB9D2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F1B1A-2264-4CE2-9E45-FE8053EF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59A4D-C084-446E-AAAC-C69EC909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EC4ABA-A3B4-4574-8A39-485F905C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65765-E181-4A69-AD0F-6124E22F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4986C-C30F-42FC-9685-152AE53C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E8DC69-B9AC-4180-BE15-84569E6B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4219F-434E-4E76-8BA0-7CDCD72A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0F087-04A3-4634-A7AA-D39C978F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90803-68B0-4A63-961E-D4D35BBD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4470C-CB79-4A17-8659-F0CD43C0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3D7D2E-4AD9-48F1-A180-0F228BFB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4E39C-5A62-4B3F-8898-C8EFF8D0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F9355-251F-4A73-BF7B-3E3E3421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E01BA-0770-4961-96E4-56F36D93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5A493-EE90-429B-A6BC-39BE4A3A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60EF7C-CC90-48BE-8924-09213AF6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BD479-9927-4AE6-8E98-090F7DF4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D3606-1E77-4D45-8414-688F5AB9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85EC7-2782-4E6C-92EE-98E447BB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C8AD1-2EBE-4F6D-9F18-AE615C01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4556B-64A0-47C3-A86E-BBDC1721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BA5C7-C865-4DA9-A3FD-4568A440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A9A8C-DD4D-4E8F-833F-33A92B27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70AAE-9E3E-45B1-A608-20E891D2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46EC3-0C0E-4029-9A85-51B43907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26BD0-A9E3-43E8-946D-71F37D2F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867B9-8271-4FBD-89D4-2E8DC4D3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75CFD-7532-466A-BA25-BD0CDF99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EF9FA-5F3C-41F0-A918-36333359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2199D-D830-481E-8A86-3AE76210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75A52-44AB-45F7-80CD-1BC0EF8C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D8CEB-56C7-4FDB-B55E-88A08628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2543F-7A99-4830-8095-17FC9A1E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E2EDB-5486-4E73-9D8C-32858A45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46D07-545C-4A64-80BE-DCDBC86F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017DA-94CD-473D-A00C-4D11B7A2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A9F7C-FA4F-4350-8FAA-55C457E8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6DA3E-119C-4973-85BD-4E995FC3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47847-489F-4D99-A1CA-2456D904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15BCF-1047-46F0-9B6F-D05F20EE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DA64D-9AFC-4664-B5D7-0B6A9B7B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DC511-B670-4DFD-BE93-BD3880BE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C8A5F-F24A-43A3-B64F-3D50A82F5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C0E73-2FCB-47F3-9EF6-103F1DE9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4433C8-F55B-44BC-B4F7-64BB49F2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DAFC9-5DAF-4250-9AF3-3E5AEFB2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14E75-D1B6-47BA-8C0E-C6C0A745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09FF9-B6AE-49ED-89AC-2AF7007F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1B312-A463-4AA6-BF62-11D143EB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16BFC-14BB-400B-807C-BE48DAE8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EAF30-4032-40CD-836B-E1DD4BA3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22FFA-7D8A-4DB9-9069-2C7DEC0D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FD31E-7F72-4F3A-912F-6C8E92CE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DD9D6-53A0-4487-BB4D-C78E19E0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05DCF-6B65-46E6-BEAB-CE0A335F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F195B-BF7B-4D23-BE60-FC54A7E9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7086C-4B88-4A42-A562-4D939D10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DB1A50-D70F-4956-87D5-5F6C48CA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EA23B-CE8A-43C2-8B36-F241AE15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18B141-09CE-4D6F-9312-8384FD75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BA43C4-B40A-4840-B14D-AB62D600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9C784-ABB5-45DA-91D3-B2EB6389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B5BE76-A706-4407-960D-A3426941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03F1D7-0A60-411C-90AB-A0FD13C3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F912DC-D316-4D6F-998C-C1B481AA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257FA-7750-4E24-9A58-8428111D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F7546B-5D5E-4436-AB51-2FE71C42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508E61-4651-4E33-9B92-A60341F9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EE1CC-A25C-4F4D-A9DB-10763EC8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09E2E-9EC6-4880-BE30-035A15F2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052079-4FDD-4F5C-B684-3631B7B9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CCC8E9-3D92-4DCB-8C7A-A00D605B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FB6F3-D74F-450F-A564-DDDBE0D8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3DB555-16F2-4DCB-8AA9-0EE76BAB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82E450-9AC3-47A2-9778-DFB8614A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96880E-68CE-4E5D-9D21-02622B1D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96E81E-3998-4CB8-9CCE-C98532BE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6B7CF8-E74F-402F-BBCF-AC1E0AD5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72D354-BECA-42C4-88ED-C0C9065B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93614E-72C7-4B9F-BA3F-F9056A71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FD9CB-E0E3-44D8-925F-AC34BC1D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494709-0CD2-4AF0-9A36-50E13DB7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CC594E-2E9E-4957-B09F-76AD1F94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7BC505-1C38-485C-B23F-D840D6DB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90B80E-28F2-4A8F-B3E4-B451B4CC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26663F-4382-4517-ABD7-84B788CC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E57608-6627-4621-BA8B-BFEDE0B9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39163C-F9A7-4955-B086-187D47AE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6A5BEC-7876-4B57-A96A-844C0AFB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1E9794-33B3-4599-9BF0-4547A0E5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E972DF-848B-433C-A79D-1A1FD41D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68CF0-0D28-4519-9B32-F528BC0F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F22984-135D-43F1-9C3A-930DF99A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7E733D-BAD1-43A4-8ABD-09AC628B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B23EB8-4256-44C1-ABBD-16655FDB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628CFC-9769-43AC-B146-7EE554CD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5AA134-579A-4E52-AED3-98BCD01B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2637EB-EF3B-4A86-B6C6-5C0A3835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4D5741-4658-40B7-90D4-D3523ACE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2EEB9-A8F9-4287-AB50-2A8A919E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F1F617-F35C-4EB0-86DE-D46B0715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90EB15-BD1B-4039-BA44-5EC24BFF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F88B9-2D7F-4D24-BCED-6456A4C3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2D4A1-8E3D-48D0-82D4-30828DA6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9BA4C4-ED19-428E-98A5-3B51927C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575846-2698-4DB0-A1D0-E1830138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16F331-C76E-4F52-B08E-1B108C30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98E970-7A57-4071-923E-F05AA8F2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F0947E-5CC1-4A45-B39E-EA23CD61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42E297-8CB9-4B4C-B50B-C0A94A3B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A1F20B-53D0-4ED3-AC59-68BB9238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24CACA-3B0A-4EC1-A5D0-24F5AFC0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E448D4-D605-440C-9FCD-AFA12505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09BA4E-B93C-41D6-B7DD-E72A34B3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238B2-F773-4B83-9C4E-53A35CB1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C2F0E1-44F8-4399-96B4-3D5594D1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ED9E83-9D76-46F7-8FC4-C59CF830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5FEA77-E90F-4B37-A1D0-9D1482CA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51068B-98D8-4678-88E9-59FE0C97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C4C178-7B11-42A0-816D-5D117B31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885A9D-C42A-413A-87FD-215C1E21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20E096-D0AF-43DB-B994-CF39E181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E9CDC9-0681-490C-9B1F-768539CD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EF5A90-AA49-4046-BF21-D9E74E62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E302F2-03D8-4F94-94BF-587EDD5B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777B6-2271-4F55-A7B7-9A5FDF20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5BD300-E0D9-4C6C-9C23-5508C523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1B2DBB-609C-4380-9D28-5084F870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CCAC55-C245-4DB5-82AB-ADD0CBEF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37C737-3E78-4905-9FBA-4E3B1ECB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27EEDA-8407-4192-B48B-67F3CA06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3686B2-5DA9-4D64-8B17-716DBB64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760750-99CA-414C-BC84-58F79B65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455B54-E2E0-4A2A-A831-271DF62B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839F31-B6A7-4262-88ED-04821CBA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94F779-0F1F-40C3-85EA-E2416533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6CDC6-B353-499A-B349-3640C4B4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A6F1A2-2D19-4410-8F45-4857B1D6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9B45C1-E9FC-45C1-BBCD-1755BD01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EDC873-2088-45EE-A469-3A0A2B0A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2E4414-78E2-4BE1-920F-D243CB65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615585-9B0B-4F9A-8A7E-7DC5F887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7D3387-F749-49E3-92A9-419D017A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79A876-E581-4E06-8154-31DCFAAC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076F56-2523-4432-B70B-1D3F671C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BE047E-1FE4-4B9B-B89D-61D8DDA5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276866-74F5-4761-88A7-707A49AA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2F4B3-FDF0-40A0-B06B-2FABAC65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7A6CF4-3652-4A87-AA7D-7FB11846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FBB9C7-C92E-4784-987A-F803F0D0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45CB0E-0E6D-4C6F-820F-50D0EB0A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584D32-6472-4858-8C73-7B2A1C05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8FAE6E-B3E7-48F4-AF06-90EB7541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356897-C718-4AC2-85D3-81DF5A38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F068C1-E82A-4F00-A44A-BEAFF63B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44551B-4322-4046-8DF5-C1FC2309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70A343-ADA7-459E-875C-BCEC1EFB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F1F630-1FDF-4F93-B178-83F0EC88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14E58-09E9-4F3D-BE40-CB04AE01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A9D44C-EA66-4642-B74C-26DF000C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58646A-FF7F-47DA-A5C0-63194FB2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87973A-83C6-4ED4-A2BE-0F7FD70C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159C43-18F5-44B1-A6FA-E55FCD30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83CF28-5746-4D13-9615-7B6A1F2F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66D92A-858C-439B-835D-CC796068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57779D-37A0-4C51-AA6E-B21721F5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3037BF-963A-4E7D-9486-545AFF3A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42A050-4670-4F30-984B-F7ADFF75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BDDACE-91E4-4509-838A-5BA885FA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61C89-FB5C-4C9E-8728-C441F9FE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45FD0C-6EB5-4643-A313-9AC43071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6005F6-5F5E-47BF-BA1E-4EE0201C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3C5BF5-4CE6-41EB-A6F3-506FE2DB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31BB56-FEAC-4B2B-93EC-AFD26890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D32E74-075B-4EA5-B8FD-3108BC9A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C352CB-9FE7-4421-A7A9-8D930E34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1B4220-39DB-482F-82C1-871395F2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E612A4-9DBC-407D-A234-235724B8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B8F95B-A076-4D8C-98F3-7655BC79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E0BF9A-5FAA-4CC2-9B2E-9995E726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820A9-E160-4E76-B169-42C6DBCB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58843E-F45D-45B1-A3F3-ECA0F8F2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91F368-C052-4377-A4C6-ED6CF19E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33ECB1-0258-4F1D-8E37-09C2BB5D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2E9BE5-4B49-40CF-9421-EC7E54C6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CF239B-5C91-45FB-90ED-E83CE115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B0C4C5-0B13-419F-8490-52C39435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C6AF6E-78DC-4D02-9C71-5BED4248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441329-3F18-4864-A6D7-36CD2BA4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578EF9-7ECA-4C89-A1CB-8DAD9C85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25E789-FD91-4413-A077-27BC2498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0704F-CAD1-4087-A0BC-C8D62681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ED2D63-313E-4E09-B189-1E604056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C47DE3-DFF9-414A-9847-DCCA4268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DA08E3-3AED-4CA4-A3E4-FBC43EFF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AB52E9-7BE9-4317-A64C-A5838484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1547C0-E515-42E5-B92E-6694B7E1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FF6B0B-D12D-4811-9D88-76A2F3A7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E8DD3D-44C3-4DEE-98BF-DE6B5995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E9F13D-3E30-405E-8838-E08F04C7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6771C1-9FF1-44B5-B503-75E3EA59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D63878-D714-4431-858D-761A816B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BA94D-2F29-4719-844A-E8A24E9B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B1F2FD-4470-46C1-9EA1-18F010F3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8A9AB9-9382-4272-BECE-D0800222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60A2D4-982B-4DFC-8552-FEA62052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CB037A-A07A-4B45-8C4B-076364A1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2DA432-D3F3-4F12-9054-41FF9AD2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6B71D9-5F23-4936-83B0-8FB5F113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C409CF-E893-41D9-93A0-18C7CF10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4BB5CB-2FA1-4128-88C3-5CE6878F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C0419F-B2CC-4B81-8CB2-CFECD815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307D08-E727-4CEF-8A06-8518FCEC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5078C-A709-4FB0-AF1B-CA4673EC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88678-FF6F-4EE3-8510-0549D51B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A8F7F2-F565-4CC3-92F4-EE976385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6B6415-F7E4-425B-9628-1CA5A82A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FAF50E-0567-4EAE-88B1-36A62BB1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99A3F4-1141-4E16-A21F-7CAF9822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B654BA-52C2-4A6F-B343-9A09D21C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B36487-57F5-48EF-B545-80C5440E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977CD3-5754-4FD2-A647-43BC328D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99614C-3FC9-4C01-B0C1-2C70D1A7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2CC47F-DD5C-4216-A01F-182EB840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E3BBF2-E57D-466B-9CCF-02062028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C241D-5241-42B3-902E-9F2637DA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AEBC2A-46E2-436B-91C9-16BEA0EB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E31D3A-7500-4EE3-8CBC-37A28175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3FC818-1F13-491A-895D-B8CDA1D6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7CC3F4-AB07-4109-B1AB-5093C5FA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C4B58F-FA8A-4E03-9024-4609C9CA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C9F082-F66D-46CC-A6A6-1C698CB9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C3E350-489B-4ECB-933D-51BF2CC6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653E1A-B0FA-42E5-93B0-D2E03C1C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3E594E-07CD-4BDF-A181-DACE1ACB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9CF152-2BDE-4F02-A8EA-B92C17EF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3FFCE-7ABD-432E-AACC-95284F2E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3C28B3-20D1-46D7-8E1A-B2B2F945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721F3C-5F5E-47E2-9224-33F3CD1A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8D1AC0-8737-43A3-A15F-628982D6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5B392D-7BA2-4CB5-999C-13002AC2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C2875A-3F24-4FFB-8D1A-94E0C6A8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E038C5-E8A0-4AD5-A3E0-43A423F8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2133CD-141F-4580-9A20-6F9EBC2B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977C9D-62FD-44AE-BC89-C8546DB4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4361E9-5981-4A41-AA0F-E5F78DB0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5ADDFF-8CC4-477A-86AC-E81341F0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8BEBA-0CAE-484A-B930-F39EE2E2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002D63-0965-4126-A4D0-EFED675B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6CE843-B4C9-46B0-BC84-5CEF08D1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F3066E-3961-4410-9905-68BD9C88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B13E8A-86FA-4754-9B38-0CEEAC0D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603725-6740-4D01-AF66-2E9825D4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CC0949-F54B-47DF-B31F-4920137C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FF2499-09F8-4897-ACF1-200C19FC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529D7-5918-4688-ABB2-071C93DD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786B9-9A0A-4A27-8F2C-50D10D7D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2E04C-1E03-4ED3-BB9B-0739C4C3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D6E4A-8294-494D-B3A3-67D651DC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B82F0-7D9D-4A38-ADF3-47684339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02069-0DF2-461C-8E40-E67609F5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934CD-7226-4C1E-9E17-EDDA774D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FB6CE-31DE-4EB8-A715-0EF14A8B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9799A-89E9-41FC-BC8F-AE3C8274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5310E-8CA0-4C84-A5FC-2804A2FC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6171B-CC5B-40DA-9866-E9D2D77E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AA4E3-E995-4C39-81A8-84990391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5A314-144A-42D6-98D1-01D2B840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45AE8-2B54-4EC0-8485-8078D338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934FF-00B8-4765-BD0C-BCAE653B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CA225-DF81-4EA5-BE38-5A07DD3A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522E5-78B4-44B7-A220-D21DB179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A034D-1DA7-4652-9555-8FCC0E11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9AD59-2963-45DB-98E3-41DD0317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73E318-471E-467B-B515-4F91424F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833984-8DE7-47B1-8CB7-489EC20D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CA0F4-0309-487C-A37D-6E333E55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2B6BC-6856-43FA-BC17-585ECA8D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6BD52C-ADBA-496E-B80C-414E6E2F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CBB6A8-6AC6-4984-B674-6264EDDA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4C193B-868C-4DB0-96BA-0C727C7B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6A178-1DF8-4A88-A017-63661FC5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CE7A5-779A-4944-B22E-A69D96C2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9D9AD-DE83-4E4A-9587-4F355252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103FCC-4985-42C5-A402-CF48BCC7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EE69D-3961-423A-88F1-6C08D47E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6D260-15EC-4CAF-AC37-AC413770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AA273-8CDE-434B-9C98-D63A4541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D599D-70EF-4B14-835C-4710661B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582A5-D671-4872-BBEF-1C0DE3A7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80328-B82C-47A1-9459-1F1B8ADE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36907-0343-4F42-A28D-DF92E888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DA72B-19AF-4AAB-B258-DB493895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24015-6D26-4AD7-A70A-FDE3F1DD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AF2B9-6FF6-4DFC-98A6-CBEFF8CF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002D4-1412-48F8-89DB-061059AC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C6841-22C8-4A93-B039-B35B2FDC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D11F7-872E-4635-B483-F6B6E8C8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798E5-8570-485A-A349-0C07C47C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442F0-E2B9-479E-8A74-52DC2453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468A8-D46B-416B-A355-E4790CAE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44972-96DE-40A2-80E4-10777C77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035FD-325B-4E98-9EC2-1C01C9BE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EEB4D-4082-4CAD-9013-CD7BBBF0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8DC77-5D12-4B29-BF3F-E772995D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EDA7A-D3FB-466D-ACE1-97403E97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CA51F-512A-4115-BCA1-3ABC59A6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C3B65-4E76-4D4E-9310-CC6B8127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43ABC-9C9E-445E-8088-FC8E3B93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34015-AED3-4CFF-A9C8-F8B2BDE6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EB263-924F-4457-B366-CD14EAD8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5C972B-FEF4-48D0-8D6C-FB664939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F122FA-3046-45F3-A911-0D73B868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A5DBEC-FF43-4A02-A0D3-56B5C3D6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A403E4-35E0-448E-85F1-FFCA6999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AB8A37-D300-41C0-8D0A-4FF23BE9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C166C-A113-464A-8B09-70140123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3B44E8-A774-4444-8169-C0F0594E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437B47-653F-4AA2-B6D2-62B3E9AE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30F9E1-9752-4831-9C05-A5A59C44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5A61B6-A7E2-4872-95D7-96F0A377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0A99D5-238A-4664-BE58-8DF6BB45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7BC20D-1A00-4099-805F-2EAFD2A0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9D7E32-79C1-45C1-833A-31B050B4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3D979-F45F-4622-82D1-9C4F7B35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753AD-83A9-4AFB-B122-E82340C2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16135-1B03-4A9A-97BA-992F81A3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ABB5-4DED-427C-9DDB-BD6171801A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61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2C34-7926-4716-BE5F-4FB3DD972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C9D9-A7C8-4990-BDE7-9727F078BF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1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EE90-3AA9-461A-A67D-CECB4CAFC1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4F88-07F0-4517-BD5C-06902AE9A56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2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3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4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D9E5-EE18-4AFB-B19E-51189C9A2B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2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C73D-FF4A-408F-B9E1-C54E266DE4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7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CA90-F442-42FE-9887-0CA27B49C8D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8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33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34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343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34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34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348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349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0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1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352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3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4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355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35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9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0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361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2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364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6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367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8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9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370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1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2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373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5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376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7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8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379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0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1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382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3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4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385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6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7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388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9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0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391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3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394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5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6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39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9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00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1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2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03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4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5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0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8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409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0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1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13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414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5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6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417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8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420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1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2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423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4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5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426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7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8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429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1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432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4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435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438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0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441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44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6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447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448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45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0275-7695-4733-BA1A-A5ED1584868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51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51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54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B77F-E765-4497-A434-C51FDBEEF3E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9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59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2F67-1A86-430B-8E8D-BC584A6EDC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D657-68C1-42CB-A29F-B365221E53A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5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6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dt" idx="5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ftr" idx="5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sldNum" idx="6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BE13-08D3-411E-83B1-EEC562ED6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94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CFA9-0A8D-496A-BB74-10736E32F27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3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3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 type="dt" idx="6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 type="ftr" idx="6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E445-C64B-4B68-A897-7A00549022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8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8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1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9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 type="dt" idx="6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 type="ftr" idx="6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 type="sldNum" idx="6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D3F0-8E01-4021-9C66-556414FD23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183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F3A3-999A-4806-89FB-ACFCF3C42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5DEB-C05A-40E7-BA9F-94CCBD7B0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13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 type="dt" idx="7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 type="ftr" idx="7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14D1-9951-4B4B-9671-A0F76F31CD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8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814B-6183-4F5C-B96F-E8EC183837F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5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256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257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0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271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 type="dt" idx="8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75F3-091F-499A-81EB-A901850E539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1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9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0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6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2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5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1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5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0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5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1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4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87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0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5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98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1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4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0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0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3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6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9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5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C0FA-7C94-410E-ACC4-CF86A313CB6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9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9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2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7A07-9893-4049-AB52-16C0E24E87E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6B98-14FF-4842-B012-A9724C4595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0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3444-9756-4AE6-B6D8-650578F8F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D9A7-A3BC-4540-8CAC-79E0EA4E957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AA47-F1B2-4D70-ADF5-A59F90217D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FB4F-121A-4670-9883-DFFA4A93F6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09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300" spc="-1" strike="noStrike">
                <a:solidFill>
                  <a:srgbClr val="ffffcc"/>
                </a:solidFill>
                <a:latin typeface="Monotype Corsiva"/>
              </a:rPr>
              <a:t>Viruses &amp; Bacteria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hapter 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Biology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Presentation put together by Mandie Lynn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6" name="Picture 4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1" name="Picture 5" descr="Retrovirus_life_cycle"/>
          <p:cNvPicPr/>
          <p:nvPr/>
        </p:nvPicPr>
        <p:blipFill>
          <a:blip r:embed="rId1"/>
          <a:stretch/>
        </p:blipFill>
        <p:spPr>
          <a:xfrm>
            <a:off x="3505320" y="685800"/>
            <a:ext cx="5408640" cy="5638680"/>
          </a:xfrm>
          <a:prstGeom prst="rect">
            <a:avLst/>
          </a:prstGeom>
          <a:ln w="0">
            <a:noFill/>
          </a:ln>
        </p:spPr>
      </p:pic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886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tro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2819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DNA into 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a Retrovirus is HI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4" name="Picture 5" descr="Retrovirus"/>
          <p:cNvPicPr/>
          <p:nvPr/>
        </p:nvPicPr>
        <p:blipFill>
          <a:blip r:embed="rId1"/>
          <a:stretch/>
        </p:blipFill>
        <p:spPr>
          <a:xfrm>
            <a:off x="4495680" y="1547640"/>
            <a:ext cx="4496040" cy="3549960"/>
          </a:xfrm>
          <a:prstGeom prst="rect">
            <a:avLst/>
          </a:prstGeom>
          <a:ln w="0">
            <a:noFill/>
          </a:ln>
        </p:spPr>
      </p:pic>
      <p:sp>
        <p:nvSpPr>
          <p:cNvPr id="2485" name="Rectangle 6"/>
          <p:cNvSpPr/>
          <p:nvPr/>
        </p:nvSpPr>
        <p:spPr>
          <a:xfrm>
            <a:off x="304920" y="771840"/>
            <a:ext cx="4190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ypical, "minimal" retrovirus consist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uter envelope which was derived from the plasma membrane of its h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copies of an envelope protein embedded in the lipid bilayer of its envel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psid; a protein shell cont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molecules of RNA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ecules of the enzyme reverse transcript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6" name="Picture 7" descr="BacterialCell150"/>
          <p:cNvPicPr/>
          <p:nvPr/>
        </p:nvPicPr>
        <p:blipFill>
          <a:blip r:embed="rId1"/>
          <a:stretch/>
        </p:blipFill>
        <p:spPr>
          <a:xfrm>
            <a:off x="380880" y="2286000"/>
            <a:ext cx="1428840" cy="2571840"/>
          </a:xfrm>
          <a:prstGeom prst="rect">
            <a:avLst/>
          </a:prstGeom>
          <a:ln w="0">
            <a:noFill/>
          </a:ln>
        </p:spPr>
      </p:pic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teria Ce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88" name="Picture 17" descr="bacteria"/>
          <p:cNvPicPr/>
          <p:nvPr/>
        </p:nvPicPr>
        <p:blipFill>
          <a:blip r:embed="rId2"/>
          <a:stretch/>
        </p:blipFill>
        <p:spPr>
          <a:xfrm>
            <a:off x="5105520" y="228600"/>
            <a:ext cx="3886200" cy="2855880"/>
          </a:xfrm>
          <a:prstGeom prst="rect">
            <a:avLst/>
          </a:prstGeom>
          <a:ln w="0">
            <a:noFill/>
          </a:ln>
        </p:spPr>
      </p:pic>
      <p:pic>
        <p:nvPicPr>
          <p:cNvPr id="2489" name="Picture 20" descr="imageT9V"/>
          <p:cNvPicPr/>
          <p:nvPr/>
        </p:nvPicPr>
        <p:blipFill>
          <a:blip r:embed="rId3"/>
          <a:stretch/>
        </p:blipFill>
        <p:spPr>
          <a:xfrm>
            <a:off x="2057400" y="2514600"/>
            <a:ext cx="4572000" cy="4081320"/>
          </a:xfrm>
          <a:prstGeom prst="rect">
            <a:avLst/>
          </a:prstGeom>
          <a:ln w="0">
            <a:noFill/>
          </a:ln>
        </p:spPr>
      </p:pic>
      <p:pic>
        <p:nvPicPr>
          <p:cNvPr id="2490" name="Picture 23" descr="Bacteria"/>
          <p:cNvPicPr/>
          <p:nvPr/>
        </p:nvPicPr>
        <p:blipFill>
          <a:blip r:embed="rId4"/>
          <a:stretch/>
        </p:blipFill>
        <p:spPr>
          <a:xfrm>
            <a:off x="6400800" y="4467240"/>
            <a:ext cx="251460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that do not have a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 almost every wher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 in numbers so great you can see them with the unaided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placed in either the Eubacteria or the Archebacteria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up the smaller of the two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3" name="Picture 6" descr="so23_09"/>
          <p:cNvPicPr/>
          <p:nvPr/>
        </p:nvPicPr>
        <p:blipFill>
          <a:blip r:embed="rId1"/>
          <a:stretch/>
        </p:blipFill>
        <p:spPr>
          <a:xfrm>
            <a:off x="4530600" y="533520"/>
            <a:ext cx="459108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4" name="Picture 5" descr="prokaryo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omic Sans MS"/>
              </a:rPr>
              <a:t>Eubacteri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up the larger of the two prokaryote kingd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are surrounded by a cell wall composed of complex carbohyd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7" name="Picture 13" descr="Eubacteria"/>
          <p:cNvPicPr/>
          <p:nvPr/>
        </p:nvPicPr>
        <p:blipFill>
          <a:blip r:embed="rId3"/>
          <a:stretch/>
        </p:blipFill>
        <p:spPr>
          <a:xfrm>
            <a:off x="4876920" y="1998720"/>
            <a:ext cx="3733560" cy="3591000"/>
          </a:xfrm>
          <a:prstGeom prst="rect">
            <a:avLst/>
          </a:prstGeom>
          <a:ln w="0">
            <a:noFill/>
          </a:ln>
        </p:spPr>
      </p:pic>
      <p:sp>
        <p:nvSpPr>
          <p:cNvPr id="2498" name="AutoShape 9"/>
          <p:cNvSpPr/>
          <p:nvPr/>
        </p:nvSpPr>
        <p:spPr>
          <a:xfrm>
            <a:off x="3757680" y="2757600"/>
            <a:ext cx="1628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AutoShape 11"/>
          <p:cNvSpPr/>
          <p:nvPr/>
        </p:nvSpPr>
        <p:spPr>
          <a:xfrm>
            <a:off x="3757680" y="2757600"/>
            <a:ext cx="1628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Cyano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95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otosynthetic bacter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uish-greenish col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 membranes that carry out the process of photosynthe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not contain the same type of chloroplasts as plants 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bluish-greenish algae can be found nearly everywhere on earth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survive in extremely hot environments and even extremely cold environ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2" name="Picture 5" descr="Cyanobacteria"/>
          <p:cNvPicPr/>
          <p:nvPr/>
        </p:nvPicPr>
        <p:blipFill>
          <a:blip r:embed="rId1"/>
          <a:stretch/>
        </p:blipFill>
        <p:spPr>
          <a:xfrm>
            <a:off x="3314880" y="1600200"/>
            <a:ext cx="582912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3" name="Picture 5" descr="archaebacteria"/>
          <p:cNvPicPr/>
          <p:nvPr/>
        </p:nvPicPr>
        <p:blipFill>
          <a:blip r:embed="rId1"/>
          <a:stretch/>
        </p:blipFill>
        <p:spPr>
          <a:xfrm>
            <a:off x="3352680" y="1600200"/>
            <a:ext cx="5562720" cy="5056200"/>
          </a:xfrm>
          <a:prstGeom prst="rect">
            <a:avLst/>
          </a:prstGeom>
          <a:ln w="0">
            <a:noFill/>
          </a:ln>
        </p:spPr>
      </p:pic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Archaebacter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819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ack important carbohydrate found in cell wall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ave different lipids in their cell membran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ifferent types of ribosom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Very different gene sequenc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rchaebacteria can live in extremely harsh environmen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hey do not require oxygen and can live in extremely salty environments as well as extremely hot environmen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omic Sans MS"/>
              </a:rPr>
              <a:t>Identifying Prokaryo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8" name="Picture 5" descr="Prokaryote2"/>
          <p:cNvPicPr/>
          <p:nvPr/>
        </p:nvPicPr>
        <p:blipFill>
          <a:blip r:embed="rId4"/>
          <a:stretch/>
        </p:blipFill>
        <p:spPr>
          <a:xfrm>
            <a:off x="4724280" y="1905120"/>
            <a:ext cx="3262320" cy="2792160"/>
          </a:xfrm>
          <a:prstGeom prst="rect">
            <a:avLst/>
          </a:prstGeom>
          <a:ln w="0">
            <a:noFill/>
          </a:ln>
        </p:spPr>
      </p:pic>
      <p:pic>
        <p:nvPicPr>
          <p:cNvPr id="2509" name="Picture 8" descr="Prokaryote7"/>
          <p:cNvPicPr/>
          <p:nvPr/>
        </p:nvPicPr>
        <p:blipFill>
          <a:blip r:embed="rId5"/>
          <a:stretch/>
        </p:blipFill>
        <p:spPr>
          <a:xfrm>
            <a:off x="1143000" y="3886200"/>
            <a:ext cx="3048120" cy="241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0" name="Picture 5" descr="BACTERIA"/>
          <p:cNvPicPr/>
          <p:nvPr/>
        </p:nvPicPr>
        <p:blipFill>
          <a:blip r:embed="rId1"/>
          <a:stretch/>
        </p:blipFill>
        <p:spPr>
          <a:xfrm>
            <a:off x="5872320" y="457200"/>
            <a:ext cx="3271680" cy="6248520"/>
          </a:xfrm>
          <a:prstGeom prst="rect">
            <a:avLst/>
          </a:prstGeom>
          <a:ln w="0">
            <a:noFill/>
          </a:ln>
        </p:spPr>
      </p:pic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um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ci~ Sphere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illus~ Rod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rillium ~ Spiral shaped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ella~ Leg-like structures that help to propel the bacte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are Viru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A virus is a non-cellular particle made up of genetic material and protein that can invade living cel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3" name="Picture 5" descr="cwprofile"/>
          <p:cNvPicPr/>
          <p:nvPr/>
        </p:nvPicPr>
        <p:blipFill>
          <a:blip r:embed="rId1"/>
          <a:stretch/>
        </p:blipFill>
        <p:spPr>
          <a:xfrm>
            <a:off x="228600" y="3733920"/>
            <a:ext cx="8610480" cy="1976400"/>
          </a:xfrm>
          <a:prstGeom prst="rect">
            <a:avLst/>
          </a:prstGeom>
          <a:ln w="0">
            <a:noFill/>
          </a:ln>
        </p:spPr>
      </p:pic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Gram + and Gram – Bacterium Cell W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Cellular Wal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nature of a cell wall can be determined by Gram St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finding out what color the cell produces when it is gram stained you can figure out the type of carbohydrates in the cell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7" name="Picture 5" descr="Prokaryotes4"/>
          <p:cNvPicPr/>
          <p:nvPr/>
        </p:nvPicPr>
        <p:blipFill>
          <a:blip r:embed="rId1"/>
          <a:stretch/>
        </p:blipFill>
        <p:spPr>
          <a:xfrm>
            <a:off x="1371600" y="3471840"/>
            <a:ext cx="640080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v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55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lagella ~ Tail like structure the whips around to propel the bacteriu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illia ~ Miniature flagella surround the cell that help to “swim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n motile ~ Sticky cillia like structures that keep the bacterium from mov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Comic Sans MS"/>
              </a:rPr>
              <a:t>Flagell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1" name="Picture 5" descr="fladist"/>
          <p:cNvPicPr/>
          <p:nvPr/>
        </p:nvPicPr>
        <p:blipFill>
          <a:blip r:embed="rId1"/>
          <a:stretch/>
        </p:blipFill>
        <p:spPr>
          <a:xfrm>
            <a:off x="304920" y="2743200"/>
            <a:ext cx="8610480" cy="208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-360" y="-493668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dfdef6"/>
              </a:solidFill>
              <a:latin typeface="Comic Sans MS"/>
            </a:endParaRPr>
          </a:p>
        </p:txBody>
      </p:sp>
      <p:pic>
        <p:nvPicPr>
          <p:cNvPr id="2523" name="Picture 5" descr="img0102"/>
          <p:cNvPicPr/>
          <p:nvPr/>
        </p:nvPicPr>
        <p:blipFill>
          <a:blip r:embed="rId1"/>
          <a:stretch/>
        </p:blipFill>
        <p:spPr>
          <a:xfrm>
            <a:off x="533520" y="1295280"/>
            <a:ext cx="3368520" cy="4572000"/>
          </a:xfrm>
          <a:prstGeom prst="rect">
            <a:avLst/>
          </a:prstGeom>
          <a:ln w="0">
            <a:noFill/>
          </a:ln>
        </p:spPr>
      </p:pic>
      <p:pic>
        <p:nvPicPr>
          <p:cNvPr id="2524" name="Picture 8" descr="CB"/>
          <p:cNvPicPr/>
          <p:nvPr/>
        </p:nvPicPr>
        <p:blipFill>
          <a:blip r:embed="rId2"/>
          <a:stretch/>
        </p:blipFill>
        <p:spPr>
          <a:xfrm>
            <a:off x="4267080" y="12952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and their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7" name="Picture 9" descr="lin-bacteria-w"/>
          <p:cNvPicPr/>
          <p:nvPr/>
        </p:nvPicPr>
        <p:blipFill>
          <a:blip r:embed="rId1"/>
          <a:stretch/>
        </p:blipFill>
        <p:spPr>
          <a:xfrm>
            <a:off x="3581280" y="1676520"/>
            <a:ext cx="541044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utotroph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their own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Solar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. Cyanobacte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0" name="Picture 5" descr="cyanobacteria"/>
          <p:cNvPicPr/>
          <p:nvPr/>
        </p:nvPicPr>
        <p:blipFill>
          <a:blip r:embed="rId1"/>
          <a:stretch/>
        </p:blipFill>
        <p:spPr>
          <a:xfrm>
            <a:off x="4572000" y="2212920"/>
            <a:ext cx="4114800" cy="3330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motroph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e own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ing Chemical ener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. Archaebac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33" name="Picture 5" descr="archaebacteria"/>
          <p:cNvPicPr/>
          <p:nvPr/>
        </p:nvPicPr>
        <p:blipFill>
          <a:blip r:embed="rId1"/>
          <a:stretch/>
        </p:blipFill>
        <p:spPr>
          <a:xfrm>
            <a:off x="4572000" y="1881360"/>
            <a:ext cx="4343400" cy="3948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eterotroph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tain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ea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. E-co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6" name="Picture 5" descr="x_e"/>
          <p:cNvPicPr/>
          <p:nvPr/>
        </p:nvPicPr>
        <p:blipFill>
          <a:blip r:embed="rId1"/>
          <a:stretch/>
        </p:blipFill>
        <p:spPr>
          <a:xfrm>
            <a:off x="4191120" y="2114640"/>
            <a:ext cx="4647960" cy="3873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cteria Respi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 An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ultative An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 Aerob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withou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live with or withou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not live without oxyge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9" name="Picture 17" descr="viruses"/>
          <p:cNvPicPr/>
          <p:nvPr/>
        </p:nvPicPr>
        <p:blipFill>
          <a:blip r:embed="rId1"/>
          <a:stretch/>
        </p:blipFill>
        <p:spPr>
          <a:xfrm>
            <a:off x="1165320" y="1523880"/>
            <a:ext cx="2868480" cy="3886200"/>
          </a:xfrm>
          <a:prstGeom prst="rect">
            <a:avLst/>
          </a:prstGeom>
          <a:ln w="0">
            <a:noFill/>
          </a:ln>
        </p:spPr>
      </p:pic>
      <p:pic>
        <p:nvPicPr>
          <p:cNvPr id="2460" name="Picture 22" descr="viruses2"/>
          <p:cNvPicPr/>
          <p:nvPr/>
        </p:nvPicPr>
        <p:blipFill>
          <a:blip r:embed="rId2"/>
          <a:stretch/>
        </p:blipFill>
        <p:spPr>
          <a:xfrm>
            <a:off x="4637160" y="1676520"/>
            <a:ext cx="2703600" cy="3809880"/>
          </a:xfrm>
          <a:prstGeom prst="rect">
            <a:avLst/>
          </a:prstGeom>
          <a:ln w="0">
            <a:noFill/>
          </a:ln>
        </p:spPr>
      </p:pic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ccecff"/>
                </a:solidFill>
                <a:latin typeface="Antique Olive"/>
              </a:rPr>
              <a:t>T4 Bacteriophage</a:t>
            </a:r>
            <a:endParaRPr b="0" lang="en-US" sz="55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teria Rep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nary Fi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jug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re 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4" name="Picture 5" descr="img003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545" name="Rectangle 7"/>
          <p:cNvSpPr/>
          <p:nvPr/>
        </p:nvSpPr>
        <p:spPr>
          <a:xfrm>
            <a:off x="0" y="5410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ellular organism copies it’s genetic information then splits into two identical daught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of Bacteria 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ganism swap genetic information, that contains the information such as a resistance to penicil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8" name="Picture 5" descr="conjugation"/>
          <p:cNvPicPr/>
          <p:nvPr/>
        </p:nvPicPr>
        <p:blipFill>
          <a:blip r:embed="rId1"/>
          <a:stretch/>
        </p:blipFill>
        <p:spPr>
          <a:xfrm>
            <a:off x="4495680" y="457200"/>
            <a:ext cx="4338720" cy="6400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7996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Comic Sans MS"/>
              </a:rPr>
              <a:t>Spore Formation: Endospo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type of dormant cel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xhibit no signs of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ighly resistant to environmental stresses such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High temper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Irrad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Strong ac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Disinfect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dospores are formed by vegetative cells in response to environmental signals that indicate a limiting factor for vegetative growth, such as exhaustion of an essential nutri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1" name="Picture 5" descr="endospore"/>
          <p:cNvPicPr/>
          <p:nvPr/>
        </p:nvPicPr>
        <p:blipFill>
          <a:blip r:embed="rId1"/>
          <a:stretch/>
        </p:blipFill>
        <p:spPr>
          <a:xfrm>
            <a:off x="5029200" y="1447920"/>
            <a:ext cx="38210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mbio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 relationship between to species in which at least one species benefits from the 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 together for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exploit the host cell, injur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Mychobacterium tubercu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6" name="Picture 5" descr="Mycobacterium-tuberculosis"/>
          <p:cNvPicPr/>
          <p:nvPr/>
        </p:nvPicPr>
        <p:blipFill>
          <a:blip r:embed="rId1"/>
          <a:stretch/>
        </p:blipFill>
        <p:spPr>
          <a:xfrm>
            <a:off x="4282920" y="990720"/>
            <a:ext cx="4083120" cy="4876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tualis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biosis in which two of the species live together in such a way that both benefit from the relatio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g. E-coli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9" name="Picture 4" descr="_394740_ecoli300"/>
          <p:cNvPicPr/>
          <p:nvPr/>
        </p:nvPicPr>
        <p:blipFill>
          <a:blip r:embed="rId1"/>
          <a:stretch/>
        </p:blipFill>
        <p:spPr>
          <a:xfrm>
            <a:off x="4572000" y="2400480"/>
            <a:ext cx="411480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itrogen Fixation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by which nitrogen in the atmosphere is converted into a form that can be used by living thin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2" name="Picture 6" descr="em_herps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Herpes Viru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4" name="Picture 5" descr="_394740_ecoli300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3611520"/>
          </a:xfrm>
          <a:prstGeom prst="rect">
            <a:avLst/>
          </a:prstGeom>
          <a:ln w="0">
            <a:noFill/>
          </a:ln>
        </p:spPr>
      </p:pic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scherichia Coli Bacteriu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228240" y="510516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coli is a bacterium.  That is a crude cell, it is not a virus because viruses are protein containers with DNA cores or RNA c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7" name="Picture 5" descr="tphage1"/>
          <p:cNvPicPr/>
          <p:nvPr/>
        </p:nvPicPr>
        <p:blipFill>
          <a:blip r:embed="rId1"/>
          <a:stretch/>
        </p:blipFill>
        <p:spPr>
          <a:xfrm>
            <a:off x="457200" y="38088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2468" name="Picture 7" descr="attaching phage"/>
          <p:cNvPicPr/>
          <p:nvPr/>
        </p:nvPicPr>
        <p:blipFill>
          <a:blip r:embed="rId2"/>
          <a:stretch/>
        </p:blipFill>
        <p:spPr>
          <a:xfrm>
            <a:off x="3124080" y="2286000"/>
            <a:ext cx="2248200" cy="1343160"/>
          </a:xfrm>
          <a:prstGeom prst="rect">
            <a:avLst/>
          </a:prstGeom>
          <a:ln w="0">
            <a:noFill/>
          </a:ln>
        </p:spPr>
      </p:pic>
      <p:pic>
        <p:nvPicPr>
          <p:cNvPr id="2469" name="Picture 9" descr="phagedna"/>
          <p:cNvPicPr/>
          <p:nvPr/>
        </p:nvPicPr>
        <p:blipFill>
          <a:blip r:embed="rId3"/>
          <a:stretch/>
        </p:blipFill>
        <p:spPr>
          <a:xfrm>
            <a:off x="6629400" y="2666880"/>
            <a:ext cx="961920" cy="1276560"/>
          </a:xfrm>
          <a:prstGeom prst="rect">
            <a:avLst/>
          </a:prstGeom>
          <a:ln w="0">
            <a:noFill/>
          </a:ln>
        </p:spPr>
      </p:pic>
      <p:pic>
        <p:nvPicPr>
          <p:cNvPr id="2470" name="Picture 13" descr="tphage2"/>
          <p:cNvPicPr/>
          <p:nvPr/>
        </p:nvPicPr>
        <p:blipFill>
          <a:blip r:embed="rId4"/>
          <a:stretch/>
        </p:blipFill>
        <p:spPr>
          <a:xfrm>
            <a:off x="2819520" y="4038480"/>
            <a:ext cx="4762440" cy="1114560"/>
          </a:xfrm>
          <a:prstGeom prst="rect">
            <a:avLst/>
          </a:prstGeom>
          <a:ln w="0">
            <a:noFill/>
          </a:ln>
        </p:spPr>
      </p:pic>
      <p:pic>
        <p:nvPicPr>
          <p:cNvPr id="2471" name="Picture 15" descr="t4movie"/>
          <p:cNvPicPr/>
          <p:nvPr/>
        </p:nvPicPr>
        <p:blipFill>
          <a:blip r:embed="rId5"/>
          <a:stretch/>
        </p:blipFill>
        <p:spPr>
          <a:xfrm>
            <a:off x="2438280" y="5791320"/>
            <a:ext cx="4896000" cy="857160"/>
          </a:xfrm>
          <a:prstGeom prst="rect">
            <a:avLst/>
          </a:prstGeom>
          <a:ln w="0">
            <a:noFill/>
          </a:ln>
        </p:spPr>
      </p:pic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. Coli and the Bacterioph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subTitle"/>
          </p:nvPr>
        </p:nvSpPr>
        <p:spPr>
          <a:xfrm>
            <a:off x="2521080" y="5028840"/>
            <a:ext cx="510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t looks like in real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he Structure Of a Vir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uses are composed of a core of nucle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cleic acid core is surrounded by a protein coat called a caps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cleic core is either made up of DNA or RNA but never b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6" name="Picture 8" descr="bacteriophage"/>
          <p:cNvPicPr/>
          <p:nvPr/>
        </p:nvPicPr>
        <p:blipFill>
          <a:blip r:embed="rId1"/>
          <a:stretch/>
        </p:blipFill>
        <p:spPr>
          <a:xfrm>
            <a:off x="4495680" y="1523880"/>
            <a:ext cx="419904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7" name="Picture 8" descr="image012"/>
          <p:cNvPicPr/>
          <p:nvPr/>
        </p:nvPicPr>
        <p:blipFill>
          <a:blip r:embed="rId1"/>
          <a:stretch/>
        </p:blipFill>
        <p:spPr>
          <a:xfrm>
            <a:off x="0" y="89532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ycle of Lytic and Lysogenic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ccin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es grown on chicken embryos are attenuated vacc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type of vaccine is made by heat killing the virus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3:14:57Z</dcterms:created>
  <dc:creator>Jeddy</dc:creator>
  <dc:description/>
  <dc:language>en-US</dc:language>
  <cp:lastModifiedBy>RomaK</cp:lastModifiedBy>
  <dcterms:modified xsi:type="dcterms:W3CDTF">2015-09-04T10:53:29Z</dcterms:modified>
  <cp:revision>24</cp:revision>
  <dc:subject/>
  <dc:title>Viruses &amp; Bacteria</dc:title>
</cp:coreProperties>
</file>