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slideMaster17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8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296.xml" ContentType="application/vnd.openxmlformats-officedocument.presentationml.slideLayout+xml"/>
  <Override PartName="/ppt/media/image27.png" ContentType="image/png"/>
  <Override PartName="/ppt/media/image33.jpeg" ContentType="image/jpeg"/>
  <Override PartName="/ppt/media/image26.jpeg" ContentType="image/jpeg"/>
  <Override PartName="/ppt/media/image42.png" ContentType="image/png"/>
  <Override PartName="/ppt/media/image23.png" ContentType="image/png"/>
  <Override PartName="/ppt/media/image22.png" ContentType="image/png"/>
  <Override PartName="/ppt/media/image21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41.jpeg" ContentType="image/jpeg"/>
  <Override PartName="/ppt/media/image28.jpeg" ContentType="image/jpeg"/>
  <Override PartName="/ppt/media/image7.jpeg" ContentType="image/jpeg"/>
  <Override PartName="/ppt/media/image12.gif" ContentType="image/gif"/>
  <Override PartName="/ppt/media/image30.png" ContentType="image/png"/>
  <Override PartName="/ppt/media/image29.jpeg" ContentType="image/jpeg"/>
  <Override PartName="/ppt/media/image31.jpeg" ContentType="image/jpeg"/>
  <Override PartName="/ppt/media/image19.jpeg" ContentType="image/jpeg"/>
  <Override PartName="/ppt/media/image34.png" ContentType="image/png"/>
  <Override PartName="/ppt/media/image13.png" ContentType="image/png"/>
  <Override PartName="/ppt/media/image37.png" ContentType="image/png"/>
  <Override PartName="/ppt/media/image20.png" ContentType="image/png"/>
  <Override PartName="/ppt/media/image36.jpeg" ContentType="image/jpeg"/>
  <Override PartName="/ppt/media/image4.jpeg" ContentType="image/jpeg"/>
  <Override PartName="/ppt/media/image40.png" ContentType="image/png"/>
  <Override PartName="/ppt/media/image11.png" ContentType="image/png"/>
  <Override PartName="/ppt/media/image9.jpeg" ContentType="image/jpeg"/>
  <Override PartName="/ppt/media/image39.jpeg" ContentType="image/jpeg"/>
  <Override PartName="/ppt/media/image38.png" ContentType="image/png"/>
  <Override PartName="/ppt/media/image8.png" ContentType="image/png"/>
  <Override PartName="/ppt/media/image18.png" ContentType="image/png"/>
  <Override PartName="/ppt/media/image6.jpeg" ContentType="image/jpeg"/>
  <Override PartName="/ppt/media/image10.png" ContentType="image/png"/>
  <Override PartName="/ppt/media/image5.png" ContentType="image/png"/>
  <Override PartName="/ppt/media/image35.png" ContentType="image/png"/>
  <Override PartName="/ppt/media/image2.png" ContentType="image/png"/>
  <Override PartName="/ppt/media/image25.jpeg" ContentType="image/jpeg"/>
  <Override PartName="/ppt/media/image3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</p:sldMasterIdLst>
  <p:notesMasterIdLst>
    <p:notesMasterId r:id="rId30"/>
  </p:notesMasterIdLst>
  <p:sldIdLst>
    <p:sldId id="256" r:id="rId31"/>
    <p:sldId id="257" r:id="rId32"/>
    <p:sldId id="258" r:id="rId33"/>
    <p:sldId id="259" r:id="rId34"/>
    <p:sldId id="260" r:id="rId35"/>
    <p:sldId id="261" r:id="rId36"/>
    <p:sldId id="262" r:id="rId37"/>
    <p:sldId id="263" r:id="rId38"/>
    <p:sldId id="264" r:id="rId39"/>
    <p:sldId id="265" r:id="rId40"/>
    <p:sldId id="266" r:id="rId41"/>
    <p:sldId id="267" r:id="rId42"/>
    <p:sldId id="268" r:id="rId43"/>
    <p:sldId id="269" r:id="rId44"/>
    <p:sldId id="270" r:id="rId45"/>
    <p:sldId id="271" r:id="rId46"/>
    <p:sldId id="272" r:id="rId47"/>
    <p:sldId id="273" r:id="rId48"/>
    <p:sldId id="274" r:id="rId49"/>
    <p:sldId id="275" r:id="rId50"/>
    <p:sldId id="276" r:id="rId51"/>
    <p:sldId id="277" r:id="rId52"/>
    <p:sldId id="278" r:id="rId53"/>
    <p:sldId id="279" r:id="rId54"/>
    <p:sldId id="280" r:id="rId55"/>
    <p:sldId id="281" r:id="rId56"/>
    <p:sldId id="282" r:id="rId57"/>
    <p:sldId id="283" r:id="rId58"/>
    <p:sldId id="284" r:id="rId59"/>
    <p:sldId id="285" r:id="rId60"/>
    <p:sldId id="286" r:id="rId61"/>
    <p:sldId id="287" r:id="rId62"/>
    <p:sldId id="288" r:id="rId63"/>
    <p:sldId id="289" r:id="rId64"/>
    <p:sldId id="290" r:id="rId65"/>
    <p:sldId id="291" r:id="rId66"/>
    <p:sldId id="292" r:id="rId67"/>
    <p:sldId id="293" r:id="rId6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notesMaster" Target="notesMasters/notesMaster1.xml"/><Relationship Id="rId31" Type="http://schemas.openxmlformats.org/officeDocument/2006/relationships/slide" Target="slides/slide1.xml"/><Relationship Id="rId32" Type="http://schemas.openxmlformats.org/officeDocument/2006/relationships/slide" Target="slides/slide2.xml"/><Relationship Id="rId33" Type="http://schemas.openxmlformats.org/officeDocument/2006/relationships/slide" Target="slides/slide3.xml"/><Relationship Id="rId34" Type="http://schemas.openxmlformats.org/officeDocument/2006/relationships/slide" Target="slides/slide4.xml"/><Relationship Id="rId35" Type="http://schemas.openxmlformats.org/officeDocument/2006/relationships/slide" Target="slides/slide5.xml"/><Relationship Id="rId36" Type="http://schemas.openxmlformats.org/officeDocument/2006/relationships/slide" Target="slides/slide6.xml"/><Relationship Id="rId37" Type="http://schemas.openxmlformats.org/officeDocument/2006/relationships/slide" Target="slides/slide7.xml"/><Relationship Id="rId38" Type="http://schemas.openxmlformats.org/officeDocument/2006/relationships/slide" Target="slides/slide8.xml"/><Relationship Id="rId39" Type="http://schemas.openxmlformats.org/officeDocument/2006/relationships/slide" Target="slides/slide9.xml"/><Relationship Id="rId40" Type="http://schemas.openxmlformats.org/officeDocument/2006/relationships/slide" Target="slides/slide10.xml"/><Relationship Id="rId41" Type="http://schemas.openxmlformats.org/officeDocument/2006/relationships/slide" Target="slides/slide11.xml"/><Relationship Id="rId42" Type="http://schemas.openxmlformats.org/officeDocument/2006/relationships/slide" Target="slides/slide12.xml"/><Relationship Id="rId43" Type="http://schemas.openxmlformats.org/officeDocument/2006/relationships/slide" Target="slides/slide13.xml"/><Relationship Id="rId44" Type="http://schemas.openxmlformats.org/officeDocument/2006/relationships/slide" Target="slides/slide14.xml"/><Relationship Id="rId45" Type="http://schemas.openxmlformats.org/officeDocument/2006/relationships/slide" Target="slides/slide15.xml"/><Relationship Id="rId46" Type="http://schemas.openxmlformats.org/officeDocument/2006/relationships/slide" Target="slides/slide16.xml"/><Relationship Id="rId47" Type="http://schemas.openxmlformats.org/officeDocument/2006/relationships/slide" Target="slides/slide17.xml"/><Relationship Id="rId48" Type="http://schemas.openxmlformats.org/officeDocument/2006/relationships/slide" Target="slides/slide18.xml"/><Relationship Id="rId49" Type="http://schemas.openxmlformats.org/officeDocument/2006/relationships/slide" Target="slides/slide19.xml"/><Relationship Id="rId50" Type="http://schemas.openxmlformats.org/officeDocument/2006/relationships/slide" Target="slides/slide20.xml"/><Relationship Id="rId51" Type="http://schemas.openxmlformats.org/officeDocument/2006/relationships/slide" Target="slides/slide21.xml"/><Relationship Id="rId52" Type="http://schemas.openxmlformats.org/officeDocument/2006/relationships/slide" Target="slides/slide22.xml"/><Relationship Id="rId53" Type="http://schemas.openxmlformats.org/officeDocument/2006/relationships/slide" Target="slides/slide23.xml"/><Relationship Id="rId54" Type="http://schemas.openxmlformats.org/officeDocument/2006/relationships/slide" Target="slides/slide24.xml"/><Relationship Id="rId55" Type="http://schemas.openxmlformats.org/officeDocument/2006/relationships/slide" Target="slides/slide25.xml"/><Relationship Id="rId56" Type="http://schemas.openxmlformats.org/officeDocument/2006/relationships/slide" Target="slides/slide26.xml"/><Relationship Id="rId57" Type="http://schemas.openxmlformats.org/officeDocument/2006/relationships/slide" Target="slides/slide27.xml"/><Relationship Id="rId58" Type="http://schemas.openxmlformats.org/officeDocument/2006/relationships/slide" Target="slides/slide28.xml"/><Relationship Id="rId59" Type="http://schemas.openxmlformats.org/officeDocument/2006/relationships/slide" Target="slides/slide29.xml"/><Relationship Id="rId60" Type="http://schemas.openxmlformats.org/officeDocument/2006/relationships/slide" Target="slides/slide30.xml"/><Relationship Id="rId61" Type="http://schemas.openxmlformats.org/officeDocument/2006/relationships/slide" Target="slides/slide31.xml"/><Relationship Id="rId62" Type="http://schemas.openxmlformats.org/officeDocument/2006/relationships/slide" Target="slides/slide32.xml"/><Relationship Id="rId63" Type="http://schemas.openxmlformats.org/officeDocument/2006/relationships/slide" Target="slides/slide33.xml"/><Relationship Id="rId64" Type="http://schemas.openxmlformats.org/officeDocument/2006/relationships/slide" Target="slides/slide34.xml"/><Relationship Id="rId65" Type="http://schemas.openxmlformats.org/officeDocument/2006/relationships/slide" Target="slides/slide35.xml"/><Relationship Id="rId66" Type="http://schemas.openxmlformats.org/officeDocument/2006/relationships/slide" Target="slides/slide36.xml"/><Relationship Id="rId67" Type="http://schemas.openxmlformats.org/officeDocument/2006/relationships/slide" Target="slides/slide37.xml"/><Relationship Id="rId68" Type="http://schemas.openxmlformats.org/officeDocument/2006/relationships/slide" Target="slides/slide38.xml"/><Relationship Id="rId6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9" name="PlaceHolder 2"/>
          <p:cNvSpPr>
            <a:spLocks noGrp="1"/>
          </p:cNvSpPr>
          <p:nvPr>
            <p:ph type="dt" idx="8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5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2" name="PlaceHolder 5"/>
          <p:cNvSpPr>
            <a:spLocks noGrp="1"/>
          </p:cNvSpPr>
          <p:nvPr>
            <p:ph type="ftr" idx="8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3" name="PlaceHolder 6"/>
          <p:cNvSpPr>
            <a:spLocks noGrp="1"/>
          </p:cNvSpPr>
          <p:nvPr>
            <p:ph type="sldNum" idx="8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ED2E5-51C5-442B-8B04-7E6418B58E2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ruses &amp; Bac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ology 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ntation put together by Mandie Lynn Wa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ruses &amp; Bac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ology 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ntation put together by Mandie Lynn Wa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rovi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DNA into RN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of a Retrovirus is HIV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rovi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DNA into RN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of a Retrovirus is HIV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typical, "minimal" retrovirus consists of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outer envelope which was derived from the plasma membrane of its hos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copies of an envelope protein embedded in the lipid bilayer of its envelop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apsid; a protein shell contain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molecules of RNA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lecules of the enzyme reverse transcript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typical, "minimal" retrovirus consists of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outer envelope which was derived from the plasma membrane of its hos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copies of an envelope protein embedded in the lipid bilayer of its envelop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apsid; a protein shell contain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molecules of RNA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lecules of the enzyme reverse transcript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acteria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acteria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karyo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s that do not have a nucle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ist almost every where on ea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w in numbers so great you can see them with the unaided ey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placed in either the Eubacteria or the Archebacteria Kingd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up the smaller of the two kingd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karyo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s that do not have a nucle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ist almost every where on ea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w in numbers so great you can see them with the unaided ey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placed in either the Eubacteria or the Archebacteria Kingd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up the smaller of the two kingd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ubac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up the larger of the two prokaryote kingd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lly are surrounded by a cell wall composed of complex carbohydr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ubac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up the larger of the two prokaryote kingd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lly are surrounded by a cell wall composed of complex carbohydr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yanobac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otosynthetic bacte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uish-greenish col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in membranes that carry out the process of photosyn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not contain the same type of chloroplasts as plants 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bluish-greenish algae can be found nearly everywhere on ear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survive in extremely hot environments and even extremely cold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yanobac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otosynthetic bacte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uish-greenish col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in membranes that carry out the process of photosyn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not contain the same type of chloroplasts as plants 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bluish-greenish algae can be found nearly everywhere on ear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survive in extremely hot environments and even extremely cold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chaebac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ck important carbohydrate found in cell wa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different lipids in their cell membr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t types of ribos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different gene sequ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chaebacteria can live in extremely harsh environ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do not require oxygen and can live in extremely salty environments as well as extremely hot environ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chaebac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ck important carbohydrate found in cell wa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different lipids in their cell membr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t types of ribos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different gene sequ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chaebacteria can live in extremely harsh environ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do not require oxygen and can live in extremely salty environments as well as extremely hot environ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ntifying Prokaryo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Sha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ntifying Prokaryo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Sha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acterium Sha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cci~ Sphere shaped bac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acillus~ Rod shaped bac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pirrillium ~ Spiral shaped bac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lagella~ Leg-like structures that help to propel the bacteriu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acterium Sha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cci~ Sphere shaped bac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acillus~ Rod shaped bac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pirrillium ~ Spiral shaped bac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lagella~ Leg-like structures that help to propel the bacteriu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re Viru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virus is a non-cellular particle made up of genetic material and protein that can invade living ce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re Viru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virus is a non-cellular particle made up of genetic material and protein that can invade living ce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m + and Gram – Bacterium Cell Wa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m + and Gram – Bacterium Cell Wa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ular Wa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ical nature of a cell wall can be determined by Gram Stai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finding out what color the cell produces when it is gram stained you can figure out the type of carbohydrates in the cell 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ular Wa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ical nature of a cell wall can be determined by Gram Stai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finding out what color the cell produces when it is gram stained you can figure out the type of carbohydrates in the cell 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agella ~ Tail like structure the whips around to propel the bacte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llia ~ Miniature flagella surround the cell that help to “swim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 motile ~ Sticky cillia like structures that keep the bacterium from mov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agella ~ Tail like structure the whips around to propel the bacte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llia ~ Miniature flagella surround the cell that help to “swim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 motile ~ Sticky cillia like structures that keep the bacterium from mov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lagel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lagel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acteria and their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utotrop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emotrop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terotrop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acteria and their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utotrop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emotrop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terotrop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totrop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their own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Solar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. Cyanobac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totrop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their own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Solar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. Cyanobac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otrop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own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Chemical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. Archaebac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otrop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own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Chemical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. Archaebac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terotrop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 f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ea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. E-co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terotrop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 f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ea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. E-co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teria Respi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ligate Anaerob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ultative Anaerob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ligate Aerob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e without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live with or without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not live without oxyge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teria Respi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ligate Anaerob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ultative Anaerob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ligate Aerob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e without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live with or without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not live without oxyge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4 Bacterioph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4 Bacterioph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acteria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inary Fi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njug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pore 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acteria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inary Fi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njug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pore 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ular organism copies it’s genetic information then splits into two identical daughter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ular organism copies it’s genetic information then splits into two identical daughter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jug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type of Bacteria Se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rganism swap genetic information, that contains the information such as a resistance to penicill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jug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type of Bacteria Se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rganism swap genetic information, that contains the information such as a resistance to penicill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ore Formation: Endosp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type of dormant cel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hibit no signs of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ly resistant to environmental stresses such a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High tempera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Ir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Strong ac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Disinfect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ospores are formed by vegetative cells in response to environmental signals that indicate a limiting factor for vegetative growth, such as exhaustion of an essential nutrien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ore Formation: Endosp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type of dormant cel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hibit no signs of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ly resistant to environmental stresses such a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High tempera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Ir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Strong ac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Disinfect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ospores are formed by vegetative cells in response to environmental signals that indicate a limiting factor for vegetative growth, such as exhaustion of an essential nutrien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mbi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se relationship between to species in which at least one species benefits from the o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e together for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mbi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se relationship between to species in which at least one species benefits from the o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e together for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sit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teria exploit the host cell, injuring th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. Mychobacterium tubercul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sit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teria exploit the host cell, injuring th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. Mychobacterium tubercul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tual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mbiosis in which two of the species live together in such a way that both benefit from the relationsh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. E-coli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tual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mbiosis in which two of the species live together in such a way that both benefit from the relationsh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. E-coli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itrogen Fixa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by which nitrogen in the atmosphere is converted into a form that can be used by living thing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itrogen Fixa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by which nitrogen in the atmosphere is converted into a form that can be used by living thing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rpes Vi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rpes Vi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cherichia Coli Bacte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 coli is a bacterium.  That is a crude cell, it is not a virus because viruses are protein containers with DNA cores or RNA cor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cherichia Coli Bacte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 coli is a bacterium.  That is a crude cell, it is not a virus because viruses are protein containers with DNA cores or RNA cor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 Coli and the Bacterioph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t looks like in real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 Coli and the Bacterioph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t looks like in real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ructure Of a Vi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ruses are composed of a core of nucle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cleic acid core is surrounded by a protein coat called a caps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cleic core is either made up of DNA or RNA but never bo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ructure Of a Vi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ruses are composed of a core of nucle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cleic acid core is surrounded by a protein coat called a caps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cleic core is either made up of DNA or RNA but never bo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ycle of Lytic and Lysogenic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ycle of Lytic and Lysogenic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ccin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ruses grown on chicken embryos are attenuated vacc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other type of vaccine is made by heat killing the virus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ccin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ruses grown on chicken embryos are attenuated vacc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other type of vaccine is made by heat killing the virus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EE8F87-9AF8-4D66-897A-BEEAFA99B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2FD9DB-094C-4B01-8CA9-2FBF2F481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BAF6F8-FF7C-49B2-B809-B600745C0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9777AE-C205-4B12-96F3-C1D779B9D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D19EB4-4436-4712-9705-0A20FB80A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84378F-A993-49D6-8087-9B893CC8F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ED5C9C-D0B7-4824-BB32-7A21F906A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03030C-8AD7-4F33-BE97-55B2D0CCB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B0AB74-BD3A-423F-925F-03F394486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F2C36D-BCC3-4A11-9E64-BF51B9D90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75AD82-EFAB-443D-A17B-FAB027B5D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C35773A-DEEF-4078-B637-E37E65349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426931-D0CA-4365-89B1-97C80967B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FBD399C-7F92-4577-80F7-A71AA4672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D2BE5DA-8497-4C95-9B43-7B0F1EB72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7991130-E8A0-457A-B8F8-7D56121F8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FA4F451-E68E-4555-9960-C0922C9F2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28650BB-A57D-4386-968F-8EFBD089D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CD93239-FCC0-496F-8EA0-574D55655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C39B5EF-549B-42B6-8087-9A139D7D6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32B82DA-56CB-4D2E-9855-E78DAE32F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2AE771B-53C3-4014-896E-1585152B0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DAD98A0-18F2-42B2-948B-28DF8862D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37A804-EB25-4617-9892-C01BC1000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198F06B-4467-458B-91B3-F4897A8DD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823416-3588-416D-89F5-F581D64CF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00C2A9-B52E-4053-9D27-CD3C3D422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C26B2F-31E3-4E2E-8BF4-C864C602E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F47FD7-2CE9-4541-8CE8-0111B06A4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997314-BBF4-4264-A520-E1CFF4DCF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618CFA-9618-45C4-A0E0-243E3A24B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E14E80-985F-4102-9B35-78D6C446F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529E64-99C6-4DAF-9ABE-A9FD5DDFA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6F56F2-E925-4038-9F57-12CEAABDC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ACF0DC-0CCD-44BF-BED7-7DB8424BB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B7D774-55ED-4D7C-B237-11587BE10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EF1810-D7EE-434F-8ABC-847F20DA3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381E29-86D0-402A-A471-7DCEF237C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D67DDD-214A-4014-A677-ACFF6643F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1B4B4C-695C-4C88-B0B9-A3D15CF18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5E0BE5-73B9-4D47-BBF6-F5C40B55B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767976-C2BE-482C-B4B3-63C79CD10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C63648-5F97-42B4-A425-4CBA72B46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F2441E-A3F2-4DF9-96F0-A62E96031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3F4ACA-12B4-4846-BE1E-9BBD9484D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110A75-E943-48F4-B69C-976601C02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5163DF-132B-43CC-9A55-699DFCB79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8BB7C7-D28C-4E07-872C-148D4A96C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6ACC3B-A666-4D5C-8F21-205B1DDD2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5DC60D-3B09-478D-916F-9FBA985DD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F6E1D9-78E0-4CBC-AE71-2BA48B82A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E18F446-3B67-4215-92E1-89BBCB6F9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C452494-3885-4D26-8F7B-68986A40B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60D0722-B388-4CEB-9483-1F0D43319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8644EC7-D9F5-423F-BBF3-FDFC479D7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05EFEB0-7461-43E5-9FF1-7D9B0B635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E84518-6111-4244-8FDA-F3866E57F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6425B68-BBA3-4C55-B6AD-649C6F514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B990BFF-6572-460C-B9F8-D6241E6DE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7A322C1-0715-4E95-A167-1B2450C4C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EBEDECF-5F68-46CE-BBF0-D2514531C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DFC3B5F-8313-4DF7-B196-DC173DBFA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A81FE63-0A05-4D55-A768-E8FBA9BC4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9CC56CC-FA57-4290-8D47-69DA50543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180F56A-557A-410F-87E0-EA32C74D7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C222EA5-0674-4199-B2A7-C3A1C866B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1AD291B-C369-4951-A161-AAA94CC27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2CD028-05BE-4475-B217-0FA598E84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6920A51-4B95-4812-BD6E-81155E488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AD7E969-9C34-4FD1-B618-DA47B7DDC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DCED14A-03B3-4270-A678-489E44CAA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638DD89-8A23-4FAB-8AEE-AC5755B29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09E6DE6-993A-4689-88A9-55200968F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53823B4-EC92-4D2E-B1DB-4751157E8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EEED0CF-B82F-476A-8F18-4F03F0837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E727A1D-DD19-47DB-A110-9688DCEE1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B867E2D-E168-4A86-8635-0EF2DC16E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4BAF3EB-F60A-4811-B67E-0D887EE1D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BE1D2F-AAE7-4B9B-B821-EB385C933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72A25AA-4CA8-4B6E-BD3E-DAD512503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C745899-697D-4A69-81DB-187913B61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B71B821-FB04-471C-B561-4F21881DF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34FCAD4-8A15-46B3-BB70-D1FEEBBEB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BE70794-0E7A-42A5-AB59-16DB6D914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4BCDDDD-EF87-4757-B2BF-08F6AD510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4B69382-B9E0-4D48-854A-D58D27E75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F271835-725F-43C7-9830-14827156C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2BA9F9D-FD66-4C35-ABAA-8E54EE196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17E9AB9-8872-4D19-A815-79B9F53B5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302B70-8910-4583-BA2C-D1EDDDDE7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2ED9429-C2F6-45F4-89A8-68081DF63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9C69D27-F3D3-4627-B826-9761483F5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4278576-5634-47D4-AEC7-191CD99F3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24DF9CB-F018-4BA0-97AB-85CF5165B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CB6B185-59FE-4377-B81A-A31AAC5DE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CDADFB6-72BB-4AB3-BB50-179A8D33A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D693FBD-54CC-4096-8AAB-ED9563BC0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A08BB23-173F-488D-A644-D55FD01A6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313D68E-FFF5-4277-9468-E1B38CE15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7A88616-1BC7-4BB5-8C96-7A00641CB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07B5F9-9E97-45F0-903E-3E689AC7A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BE5890D-05A9-44D6-A714-02E4EA388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B20E840-697D-4D7F-AF29-25F5CF8B5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EE32AAA-B9D0-4F5F-B806-7C49EBA08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750F485-8F94-4E8A-AC89-731B37ED3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5617D3B-F535-45A6-A89C-7680611C3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A7FB089-BAC6-4DAB-8901-957066B68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9D4A189-E7DE-43D1-A6BD-3133E6342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78B42AE-C905-451E-BC79-DADA51326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5428949-5C7C-444D-ACB3-770EF128F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065CA69-BBD4-4C61-9FD5-F1F6B8EF5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B7CA78-B3FF-4CEC-8CDA-F4E1530A1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6361B9-26EB-4BE4-A7A1-53014645B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978F6EA-0AB5-41C8-846D-9B4E09CD9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9325B0B-7F98-4EF8-B05A-B3FC0C420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9B40DA2-556E-4F61-A515-CE8063C36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684D4AC-3F47-49D9-96D3-672505059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043FC0F-FE53-4F96-B0DC-D25A899E3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9423FC9-69F2-4E11-8852-E387FA2EB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3721E0C-ACD2-4BF4-9947-53EBC1C32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600164C-BAAD-4667-9DA3-F814048A8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82EA959-D4E3-468F-A0FE-2B542EC7B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FCF07FD-7AA7-4673-B434-72142C889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24F6F3-9A3E-4B59-8102-DA15B3160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D45FA59-8189-41F1-AF6E-FD7F89CE7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2E74D40-D9AA-4F39-BE6D-2B5143EA0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59232B0-856A-4DDC-B61F-755E3A59B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C98F4CA-95F3-4103-9AF3-533C9FA09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2D38981-2FF3-45E1-B596-768C84942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6A920EC-A565-4C59-9A34-F5AD8F09F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3DA97F0-F5EE-4A5C-8171-13BC43ED0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133B1C1-AA55-4D06-B388-02D492DB9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6541C9F-46A3-494F-8A5A-FCCF86107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DF4504C-4451-4F0C-9D3C-3710DF0DA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2A478D-E153-4538-995E-CAF7787A0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CEB1FA7-25B7-4378-8F5B-858B64307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C8DF820-888B-4836-9303-B5789B4A7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C23324E-AB12-4340-80A0-A76ACE4F8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5A6DDFF-4DDD-4745-8143-1BBE7D803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4B0DEC0-196E-441C-B060-B33F06D0C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E852588-9110-4A54-97F9-3830F2111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DBDC1A2-973A-4066-910D-47713A5E1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8FB2AE8-2BC4-4632-919A-071EF49B0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A4F9E31-095B-4C85-B302-28C498B05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C1B4936-8AAD-400A-BB15-4C7AA9334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D2647D-5834-4979-941B-BF4434DEB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864FF6A-7EBE-4E99-8F2F-26318858B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E5695BB-E59E-428F-A0C0-28FF6339A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8C14076-BA7A-4DAF-9788-0C1798CA7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F191ABF-F0C4-48D7-A099-7B1BEF18F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70F7B56-338E-4085-B855-AE269AE4D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5FF9C98-10C7-4001-BF9D-F433243DE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D83D838-FEF4-484C-B093-6FBED8F68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2E31B41-11E8-4851-9BA8-F9069E3B6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579BD7F-A574-4BBF-8776-F134C7AE4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EA9A30E-05F0-4BCF-823B-41A89E854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FD8328-11E7-4804-8E1D-524164CDB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40686CB-1ABB-48D1-8723-BDE83DFB5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96065CE-420E-404D-9721-DCCF4D69A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6995C8F-7B8B-46CB-9D58-D525857AF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3854ADC-6549-4515-88AD-8B9FBDBF3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B3129EC-154C-4144-A9AE-2193C453A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21D40D6-45AF-434A-ACA3-2300E125B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0A102EC-EFE2-4492-A73D-96E7A1775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E693FBC-7505-40EF-AF53-A4D78FDA5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4561EEB-4E96-4014-8315-6B126C2AF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88F4A3B-2185-4C87-B906-EB56BE27C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233806-8056-460C-A6F2-5A17E1A64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0779FD0-0137-42D4-8DD6-DE7005C0D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3B42551-0560-4DBC-ABE8-21461B154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430044B-1BB0-4304-BB73-A1736B54A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C03B7A4-E36D-4FB8-B427-9B688392C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4C36E7D-DDB3-48DF-A28E-ED62B713F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5B5BC58-D3BC-47CA-94F4-E30102151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D74A45F-5792-48A6-8116-4235D6EDF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07EF5BE-6C2D-4163-BD2D-AFC0CF3AA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63C11D5-2E06-4D72-9880-28C2C99FD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A4B09F6-7AC9-4DB5-9517-1EBED805D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683CFC-2745-42EA-8A83-329B6DB84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2BF798C-AA49-41D6-ADE3-8EE4065CC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163B249-3432-4B78-85D5-74BE6DF34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4CE8C7E-2903-4AA8-BF04-C4CBB7C53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EA23993-B6A7-41C9-B7D1-C25FDAC8D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DAF6A2F-31D8-4960-B05E-CA86AE906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C62B6E1-DF42-454B-A2B0-DC5C39D1F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51A7E8E-7F7D-4919-9843-49536339B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43BCEAC-E7C8-4B87-B452-1EF418AAD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E58973B-F475-4618-BDE5-9B31FF1EC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9F27949-E385-4D1C-AD52-5374C4802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F7C12A-61E3-46B9-90AD-8B8AB7C0B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0954771-345A-4D68-8311-5E6A7FDFC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1454651-3CDB-477A-827A-DCE44C448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CBDA030-70B6-415A-8548-489FEDE3C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9DD7517-90E1-4C9F-B6B2-22ABD511A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E8EC206-405B-41B7-B981-A277B43CB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4DD035D-5365-4916-8324-35DC64239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452D489-9110-45C9-8EA0-426A9E84D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12B52C9-09D2-41AE-B8AF-130A159C4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65ACC06-974E-41B1-B3D9-553F5D047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80C577B-D4EE-47E1-AF32-51E6502F9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A52582-5932-4F94-B75E-1FB2A6110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9C65A1F-F4EF-470F-842C-414D50E8F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297333D-0D54-4F7F-B32E-EB397DF31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772F604-4A2D-48CC-8E05-4EB07CCF0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63D6744-920C-4502-A119-0435C6C78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555C182-4379-404F-8252-54074857B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FF0717B-451C-4612-A247-7489F5726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1BB7A09-D09D-4CC7-A889-E6726DE34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1D7C039-D9E3-4312-9D15-B05F83E1B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183FBFF-5A06-401C-971C-21D0D858B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A0BA451-B488-4F32-8A95-CC7D68ECA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DC26C4-F619-4A5B-99EA-015D76889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46676B6-BA19-4049-94A9-19899A311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3BCFFD7-ED03-46FD-8EB0-001FAB2BE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51C749F-099C-4654-9E93-1FF810F8A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DB5FD01-F954-4D31-AAEF-4F98C9721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C447721-B5DB-4037-9632-7F40AB151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DF164AC-6F6C-43C2-9CD2-6A3DD5131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9485F23-AB88-4852-A0DE-8414EF1A0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C7B6C76-E0A2-450F-BE57-EB1FA78F2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AFC5123-9942-4C5D-B35C-41C0104BD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2DE92CD-AFEF-48CA-BBC6-9F4B6631E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F79338-BB64-49F8-9D37-663CE70FA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B10E30-AAFE-44BC-ACB2-29D5C3559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9A0BB71-97C3-42D5-B7BA-7FB4B2384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2DD9E11-D557-4817-9CE6-CBA7A8FB6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8BA6A93-3D07-4C59-B737-8B69DEB40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648DE77-1C39-4F30-B9BD-086F6A34F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1BFC735-DF05-471E-83B4-FB3040AB6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6989B56-2861-4EC9-866F-1C4ACFA73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8923C99-07BC-47E0-A485-087C5B2D7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1BD684D-68F0-4FDE-B957-218023367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9919846-0BB4-45BF-94E6-B7D341018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C4D59FF-BF81-4C5A-A043-CE618FB08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468A36-2C3D-4C27-864E-245D14CD0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BAEFA95-318F-404D-B539-457346F08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6C265B5-AB0E-4A56-9C1A-9B7873B57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009265E-9E61-4AA7-B45F-5D4F4CE05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D40B4E5-FA0B-4C0F-A2DC-A9EF9AE02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A8A5DB7-4EE1-4CBC-8CE5-401664866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F15E6B0-6C49-4661-B8DB-C19F2BC9E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642F9EA-58F8-45B6-9B5C-E43D495E6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08CC164-26C1-49B3-BBBD-E66959B7D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4C82F36-401F-4078-8CF9-DD21F391B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6F43680-8F63-44E9-A75C-2D46316CB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B2C797-0F3B-4720-A60A-31E987849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5C2D845-06F1-4368-89A8-628592BD9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A4D2DCB-9764-47D9-B878-5F0C43912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E93A114-FC04-47CF-A744-8A80563AF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BFCE812-7080-4BD5-B65C-489DCF069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14BB1ED-ED27-4906-9236-F5D3AF55A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3862954-2528-4577-9869-ED3F89C83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3AE1EF3-3E8D-4C57-9590-8312D3F68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283F3E4-D5ED-4C76-B150-F463338DC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59915E0-493C-4DA1-AE16-91EAA331F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C65D767-B890-4DC6-9C0C-22C796E95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CC6EDA-E39D-49A3-9987-482B639E6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01F6C33-2AD8-45DE-AB09-8024C60F8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6861AF0-BBCA-492B-9E5B-737420984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F2A13BD-3D28-42C4-86FA-78DBCA9BF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3D52FA9-F225-4A3D-B432-9D0C3E490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0854E37-C1C8-4A22-9C3F-EB755F640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8302210-81D4-4264-AF0E-A78E7A877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B8BF120-A722-4B15-9DC5-2D1A8F335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70D419-0A88-4CDA-A815-C89865396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D3C992-5F85-4411-BDCD-ABCB0D2DB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0ACA7F-6CD5-49A7-818C-8A92BD9DC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D9EE73-66B6-4E52-9DF8-40959199B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67CD48-355A-401A-B481-362445585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CA80C7-C6A8-44BE-A93C-D61E53722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72B65A-4AE2-493E-A6D2-2F946EAB4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8D3E06-084F-4B72-AE06-198D9F7A0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1255DE-C6A2-4CEC-A357-86B7DCFA8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B0BB4D-965F-4137-B361-9C2FC4E2A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1A052A-00B5-4B01-820E-BF69D9043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59F5B7-A0A0-420B-B7B0-411696496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52428C-4528-454F-BFDA-F257B911F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935716-F299-4F0D-9D52-91DA66A3B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8C84C6-86A3-41A1-A2E5-B78FDD72F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F41D8F-3A97-4D27-8A9F-785B754ED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3CAEF14-D32A-4D11-93FE-F01376A0D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E3BAF2-27E9-4FC1-BDB5-C755E5F17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26F439D-F61C-4F69-B5A6-6A796C0F4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DECFBCE-7B7B-4507-83E0-A3673403B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52F289B-67D8-4103-AAD4-C317765F6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96EC325-8369-47BE-A10D-421A7DD68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39131BC-3800-49C3-85FC-DB17032AB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47CE8CA-DA47-4AC1-AC23-38D76A44A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A99918F-9476-494A-8E47-4593C29B4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B842BBF-BAB6-4305-B067-D42146BB4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5A112EF-84CA-42B3-934D-9E48D9028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4D3CEC2-0E55-4F13-BE11-ED00E4BF5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389A0C-5C7F-4EC2-B381-67E7213B9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D65B1C4-BBA4-43C3-B119-CACF029CD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2F9573-FE40-41BE-A395-714C844DA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F19617-D615-47BA-9443-43721C995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FE8651-5E0F-46CA-B5BF-75541A0F4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2AFE09-C70C-4482-8874-BADFA8A41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8D93C7-004C-424C-B780-07D72B964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2E8492-98BC-4617-865B-2EFAE8AC9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DC55A1-90AD-4292-9B99-DBF264188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7842D7-6BFB-4B2F-8629-08F413FEA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0281A8-9017-47AF-A1A0-6B0D207A8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9A1B90-70C2-4664-A14E-EDC3118D5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FD65ED-3830-436B-BBEB-8808BA69F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7D53CF-2BD3-4BC7-B5D0-9C87D958E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79E7AB-ACD1-4316-B2DF-E4E954149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CBF4EB-B30A-486C-BC90-DFA359E00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06EA42-92D7-456C-B4B3-9A20CE3BB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DDF4F3-4695-4059-8FAC-A2E62C7D2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385F4D-BB4F-4096-AD4F-AEE0902AF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810D30-D91B-4256-9E27-F4E5BAF35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A1642B-F910-4873-8936-E46685315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582E70-4A91-4E37-B3A4-3F054B4A9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2DBEA5-8869-4D40-8452-416D34F30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DFF231-A6E8-47D1-AF5F-A420DF120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914719-B17C-4B94-AA02-5BB4F1AC8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B03DE2-379C-49BD-9659-F4FC436FF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E5819C-6709-41B5-9A1C-D0CF93ABD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7D2B24-EBBD-4948-8672-1ABFA5986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23866C1-E04E-461F-B911-CE095DE56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E91258B-6119-4C30-9647-9B2C072B5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1A33803-415F-4599-B66E-8741CA252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04C5773-1B63-4514-8A43-926E80CC3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C7D4429-055E-4865-AFA4-BF42624B9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660A3E-DB5C-4CF8-917B-E56624B24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6B0783A-5506-4A68-B253-876A4B00D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F54044F-8558-48D4-9678-B108E71BC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0EBD1F0-2C3B-4979-BAF0-A365BBB2F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7C5DF84-62C1-4887-8885-7847EF6BC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7212D53-9C0E-4010-A991-64B9FA745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26E808E-81D3-40EE-B82D-5B3F14E6E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8C4C859-6988-4611-BA36-B5EF19718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629CC3-2985-4C60-81CD-15CEC2034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236D04-6136-4C5D-8B57-63E4F2EA1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6CA774-845D-4E17-9316-3A0BFCA97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09.xml"/><Relationship Id="rId8" Type="http://schemas.openxmlformats.org/officeDocument/2006/relationships/slideLayout" Target="../slideLayouts/slideLayout110.xml"/><Relationship Id="rId9" Type="http://schemas.openxmlformats.org/officeDocument/2006/relationships/slideLayout" Target="../slideLayouts/slideLayout111.xml"/><Relationship Id="rId10" Type="http://schemas.openxmlformats.org/officeDocument/2006/relationships/slideLayout" Target="../slideLayouts/slideLayout112.xml"/><Relationship Id="rId11" Type="http://schemas.openxmlformats.org/officeDocument/2006/relationships/slideLayout" Target="../slideLayouts/slideLayout113.xml"/><Relationship Id="rId12" Type="http://schemas.openxmlformats.org/officeDocument/2006/relationships/slideLayout" Target="../slideLayouts/slideLayout114.xml"/><Relationship Id="rId13" Type="http://schemas.openxmlformats.org/officeDocument/2006/relationships/slideLayout" Target="../slideLayouts/slideLayout115.xml"/><Relationship Id="rId14" Type="http://schemas.openxmlformats.org/officeDocument/2006/relationships/slideLayout" Target="../slideLayouts/slideLayout116.xml"/><Relationship Id="rId15" Type="http://schemas.openxmlformats.org/officeDocument/2006/relationships/slideLayout" Target="../slideLayouts/slideLayout117.xml"/><Relationship Id="rId16" Type="http://schemas.openxmlformats.org/officeDocument/2006/relationships/slideLayout" Target="../slideLayouts/slideLayout118.xml"/><Relationship Id="rId17" Type="http://schemas.openxmlformats.org/officeDocument/2006/relationships/slideLayout" Target="../slideLayouts/slideLayout119.xml"/><Relationship Id="rId18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277.xml"/><Relationship Id="rId8" Type="http://schemas.openxmlformats.org/officeDocument/2006/relationships/slideLayout" Target="../slideLayouts/slideLayout278.xml"/><Relationship Id="rId9" Type="http://schemas.openxmlformats.org/officeDocument/2006/relationships/slideLayout" Target="../slideLayouts/slideLayout279.xml"/><Relationship Id="rId10" Type="http://schemas.openxmlformats.org/officeDocument/2006/relationships/slideLayout" Target="../slideLayouts/slideLayout280.xml"/><Relationship Id="rId11" Type="http://schemas.openxmlformats.org/officeDocument/2006/relationships/slideLayout" Target="../slideLayouts/slideLayout281.xml"/><Relationship Id="rId12" Type="http://schemas.openxmlformats.org/officeDocument/2006/relationships/slideLayout" Target="../slideLayouts/slideLayout282.xml"/><Relationship Id="rId13" Type="http://schemas.openxmlformats.org/officeDocument/2006/relationships/slideLayout" Target="../slideLayouts/slideLayout283.xml"/><Relationship Id="rId14" Type="http://schemas.openxmlformats.org/officeDocument/2006/relationships/slideLayout" Target="../slideLayouts/slideLayout284.xml"/><Relationship Id="rId15" Type="http://schemas.openxmlformats.org/officeDocument/2006/relationships/slideLayout" Target="../slideLayouts/slideLayout285.xml"/><Relationship Id="rId16" Type="http://schemas.openxmlformats.org/officeDocument/2006/relationships/slideLayout" Target="../slideLayouts/slideLayout286.xml"/><Relationship Id="rId17" Type="http://schemas.openxmlformats.org/officeDocument/2006/relationships/slideLayout" Target="../slideLayouts/slideLayout287.xml"/><Relationship Id="rId18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B8EEA-1D3D-432B-9157-F40337DD02F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1" name="Group 2"/>
          <p:cNvGrpSpPr/>
          <p:nvPr/>
        </p:nvGrpSpPr>
        <p:grpSpPr>
          <a:xfrm>
            <a:off x="-103320" y="1308240"/>
            <a:ext cx="9350640" cy="5634000"/>
            <a:chOff x="-103320" y="1308240"/>
            <a:chExt cx="9350640" cy="5634000"/>
          </a:xfrm>
        </p:grpSpPr>
        <p:sp>
          <p:nvSpPr>
            <p:cNvPr id="612" name="Rectangle 3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Rectangle 4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Rectangle 5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Rectangle 6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Rectangle 7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Rectangle 8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Rectangle 9"/>
            <p:cNvSpPr/>
            <p:nvPr/>
          </p:nvSpPr>
          <p:spPr>
            <a:xfrm flipV="1" rot="20466600">
              <a:off x="-147600" y="268956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Rectangle 10"/>
            <p:cNvSpPr/>
            <p:nvPr/>
          </p:nvSpPr>
          <p:spPr>
            <a:xfrm flipV="1" rot="20343600">
              <a:off x="-156960" y="295776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Rectangle 11"/>
            <p:cNvSpPr/>
            <p:nvPr/>
          </p:nvSpPr>
          <p:spPr>
            <a:xfrm flipV="1" rot="20211600">
              <a:off x="-261720" y="325836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Rectangle 12"/>
            <p:cNvSpPr/>
            <p:nvPr/>
          </p:nvSpPr>
          <p:spPr>
            <a:xfrm flipV="1" rot="20103000">
              <a:off x="-339840" y="363348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Rectangle 13"/>
            <p:cNvSpPr/>
            <p:nvPr/>
          </p:nvSpPr>
          <p:spPr>
            <a:xfrm flipV="1" rot="19923600">
              <a:off x="-496800" y="415512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Rectangle 14"/>
            <p:cNvSpPr/>
            <p:nvPr/>
          </p:nvSpPr>
          <p:spPr>
            <a:xfrm flipV="1" rot="19686600">
              <a:off x="14040" y="457344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Rectangle 15"/>
            <p:cNvSpPr/>
            <p:nvPr/>
          </p:nvSpPr>
          <p:spPr>
            <a:xfrm flipV="1" rot="19383600">
              <a:off x="2093760" y="464796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Rectangle 16"/>
            <p:cNvSpPr/>
            <p:nvPr/>
          </p:nvSpPr>
          <p:spPr>
            <a:xfrm flipV="1" rot="18994200">
              <a:off x="4255920" y="48751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Rectangle 17"/>
            <p:cNvSpPr/>
            <p:nvPr/>
          </p:nvSpPr>
          <p:spPr>
            <a:xfrm flipV="1" rot="18603600">
              <a:off x="6433920" y="5560920"/>
              <a:ext cx="330120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Rectangle 18"/>
            <p:cNvSpPr/>
            <p:nvPr/>
          </p:nvSpPr>
          <p:spPr>
            <a:xfrm flipH="1" flipV="1" rot="18391200">
              <a:off x="8521560" y="661536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Rectangle 19"/>
            <p:cNvSpPr/>
            <p:nvPr/>
          </p:nvSpPr>
          <p:spPr>
            <a:xfrm rot="1058400">
              <a:off x="-231480" y="374724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Rectangle 20"/>
            <p:cNvSpPr/>
            <p:nvPr/>
          </p:nvSpPr>
          <p:spPr>
            <a:xfrm rot="1563600">
              <a:off x="-314280" y="53920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Rectangle 21"/>
            <p:cNvSpPr/>
            <p:nvPr/>
          </p:nvSpPr>
          <p:spPr>
            <a:xfrm rot="1732800">
              <a:off x="-262080" y="57542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Rectangle 22"/>
            <p:cNvSpPr/>
            <p:nvPr/>
          </p:nvSpPr>
          <p:spPr>
            <a:xfrm rot="1968600">
              <a:off x="-174240" y="622728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Rectangle 23"/>
            <p:cNvSpPr/>
            <p:nvPr/>
          </p:nvSpPr>
          <p:spPr>
            <a:xfrm rot="1386000">
              <a:off x="-343080" y="51145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Rectangle 24"/>
            <p:cNvSpPr/>
            <p:nvPr/>
          </p:nvSpPr>
          <p:spPr>
            <a:xfrm rot="983400">
              <a:off x="-182160" y="338004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Rectangle 25"/>
            <p:cNvSpPr/>
            <p:nvPr/>
          </p:nvSpPr>
          <p:spPr>
            <a:xfrm flipV="1" rot="930600">
              <a:off x="127080" y="308844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Rectangle 26"/>
            <p:cNvSpPr/>
            <p:nvPr/>
          </p:nvSpPr>
          <p:spPr>
            <a:xfrm rot="867600">
              <a:off x="593640" y="286056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Rectangle 27"/>
            <p:cNvSpPr/>
            <p:nvPr/>
          </p:nvSpPr>
          <p:spPr>
            <a:xfrm rot="775200">
              <a:off x="1346040" y="251136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Rectangle 28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Rectangle 29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Rectangle 30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Rectangle 31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Rectangle 32"/>
            <p:cNvSpPr/>
            <p:nvPr/>
          </p:nvSpPr>
          <p:spPr>
            <a:xfrm flipV="1" rot="804000">
              <a:off x="969480" y="267264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Rectangle 33"/>
            <p:cNvSpPr/>
            <p:nvPr/>
          </p:nvSpPr>
          <p:spPr>
            <a:xfrm flipV="1" rot="1273800">
              <a:off x="-323640" y="472428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Rectangle 34"/>
            <p:cNvSpPr/>
            <p:nvPr/>
          </p:nvSpPr>
          <p:spPr>
            <a:xfrm flipV="1" rot="1170000">
              <a:off x="-275760" y="422712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Oval 35"/>
            <p:cNvSpPr/>
            <p:nvPr/>
          </p:nvSpPr>
          <p:spPr>
            <a:xfrm>
              <a:off x="1174680" y="53334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Oval 36"/>
            <p:cNvSpPr/>
            <p:nvPr/>
          </p:nvSpPr>
          <p:spPr>
            <a:xfrm>
              <a:off x="374760" y="48808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Oval 37"/>
            <p:cNvSpPr/>
            <p:nvPr/>
          </p:nvSpPr>
          <p:spPr>
            <a:xfrm>
              <a:off x="252360" y="57985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Oval 38"/>
            <p:cNvSpPr/>
            <p:nvPr/>
          </p:nvSpPr>
          <p:spPr>
            <a:xfrm>
              <a:off x="3297240" y="42249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Oval 39"/>
            <p:cNvSpPr/>
            <p:nvPr/>
          </p:nvSpPr>
          <p:spPr>
            <a:xfrm>
              <a:off x="1941480" y="488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Oval 40"/>
            <p:cNvSpPr/>
            <p:nvPr/>
          </p:nvSpPr>
          <p:spPr>
            <a:xfrm>
              <a:off x="2676600" y="453636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Oval 41"/>
            <p:cNvSpPr/>
            <p:nvPr/>
          </p:nvSpPr>
          <p:spPr>
            <a:xfrm>
              <a:off x="1190520" y="450756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Oval 42"/>
            <p:cNvSpPr/>
            <p:nvPr/>
          </p:nvSpPr>
          <p:spPr>
            <a:xfrm>
              <a:off x="582480" y="421704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Oval 43"/>
            <p:cNvSpPr/>
            <p:nvPr/>
          </p:nvSpPr>
          <p:spPr>
            <a:xfrm>
              <a:off x="1860480" y="4194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Oval 44"/>
            <p:cNvSpPr/>
            <p:nvPr/>
          </p:nvSpPr>
          <p:spPr>
            <a:xfrm>
              <a:off x="3811680" y="3945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Oval 45"/>
            <p:cNvSpPr/>
            <p:nvPr/>
          </p:nvSpPr>
          <p:spPr>
            <a:xfrm>
              <a:off x="3032280" y="367416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Oval 46"/>
            <p:cNvSpPr/>
            <p:nvPr/>
          </p:nvSpPr>
          <p:spPr>
            <a:xfrm>
              <a:off x="3578400" y="34200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Oval 47"/>
            <p:cNvSpPr/>
            <p:nvPr/>
          </p:nvSpPr>
          <p:spPr>
            <a:xfrm>
              <a:off x="4352760" y="365940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Oval 48"/>
            <p:cNvSpPr/>
            <p:nvPr/>
          </p:nvSpPr>
          <p:spPr>
            <a:xfrm>
              <a:off x="4464000" y="301356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Oval 49"/>
            <p:cNvSpPr/>
            <p:nvPr/>
          </p:nvSpPr>
          <p:spPr>
            <a:xfrm>
              <a:off x="5907240" y="2845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Oval 50"/>
            <p:cNvSpPr/>
            <p:nvPr/>
          </p:nvSpPr>
          <p:spPr>
            <a:xfrm>
              <a:off x="5600880" y="3010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Oval 51"/>
            <p:cNvSpPr/>
            <p:nvPr/>
          </p:nvSpPr>
          <p:spPr>
            <a:xfrm>
              <a:off x="4863960" y="282276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Oval 52"/>
            <p:cNvSpPr/>
            <p:nvPr/>
          </p:nvSpPr>
          <p:spPr>
            <a:xfrm>
              <a:off x="5202360" y="3213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Oval 53"/>
            <p:cNvSpPr/>
            <p:nvPr/>
          </p:nvSpPr>
          <p:spPr>
            <a:xfrm>
              <a:off x="4805280" y="342936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Oval 54"/>
            <p:cNvSpPr/>
            <p:nvPr/>
          </p:nvSpPr>
          <p:spPr>
            <a:xfrm>
              <a:off x="2490840" y="38948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Oval 55"/>
            <p:cNvSpPr/>
            <p:nvPr/>
          </p:nvSpPr>
          <p:spPr>
            <a:xfrm>
              <a:off x="2957400" y="3219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Oval 56"/>
            <p:cNvSpPr/>
            <p:nvPr/>
          </p:nvSpPr>
          <p:spPr>
            <a:xfrm>
              <a:off x="2401920" y="3453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Oval 57"/>
            <p:cNvSpPr/>
            <p:nvPr/>
          </p:nvSpPr>
          <p:spPr>
            <a:xfrm>
              <a:off x="1890720" y="366912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Oval 58"/>
            <p:cNvSpPr/>
            <p:nvPr/>
          </p:nvSpPr>
          <p:spPr>
            <a:xfrm>
              <a:off x="1832040" y="325008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Oval 59"/>
            <p:cNvSpPr/>
            <p:nvPr/>
          </p:nvSpPr>
          <p:spPr>
            <a:xfrm>
              <a:off x="1812960" y="2862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Oval 60"/>
            <p:cNvSpPr/>
            <p:nvPr/>
          </p:nvSpPr>
          <p:spPr>
            <a:xfrm>
              <a:off x="2381400" y="3035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Oval 61"/>
            <p:cNvSpPr/>
            <p:nvPr/>
          </p:nvSpPr>
          <p:spPr>
            <a:xfrm>
              <a:off x="2863800" y="2859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Oval 62"/>
            <p:cNvSpPr/>
            <p:nvPr/>
          </p:nvSpPr>
          <p:spPr>
            <a:xfrm>
              <a:off x="3427560" y="302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Oval 63"/>
            <p:cNvSpPr/>
            <p:nvPr/>
          </p:nvSpPr>
          <p:spPr>
            <a:xfrm>
              <a:off x="3860640" y="28371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Oval 64"/>
            <p:cNvSpPr/>
            <p:nvPr/>
          </p:nvSpPr>
          <p:spPr>
            <a:xfrm>
              <a:off x="746280" y="322632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Oval 65"/>
            <p:cNvSpPr/>
            <p:nvPr/>
          </p:nvSpPr>
          <p:spPr>
            <a:xfrm>
              <a:off x="108000" y="3438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Oval 66"/>
            <p:cNvSpPr/>
            <p:nvPr/>
          </p:nvSpPr>
          <p:spPr>
            <a:xfrm>
              <a:off x="1266840" y="3042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Oval 67"/>
            <p:cNvSpPr/>
            <p:nvPr/>
          </p:nvSpPr>
          <p:spPr>
            <a:xfrm>
              <a:off x="722160" y="2853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Oval 68"/>
            <p:cNvSpPr/>
            <p:nvPr/>
          </p:nvSpPr>
          <p:spPr>
            <a:xfrm>
              <a:off x="179280" y="30182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Oval 69"/>
            <p:cNvSpPr/>
            <p:nvPr/>
          </p:nvSpPr>
          <p:spPr>
            <a:xfrm>
              <a:off x="685800" y="36885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Oval 70"/>
            <p:cNvSpPr/>
            <p:nvPr/>
          </p:nvSpPr>
          <p:spPr>
            <a:xfrm>
              <a:off x="1292400" y="34578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Oval 71"/>
            <p:cNvSpPr/>
            <p:nvPr/>
          </p:nvSpPr>
          <p:spPr>
            <a:xfrm>
              <a:off x="1252440" y="392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Oval 72"/>
            <p:cNvSpPr/>
            <p:nvPr/>
          </p:nvSpPr>
          <p:spPr>
            <a:xfrm>
              <a:off x="4038480" y="319932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Oval 73"/>
            <p:cNvSpPr/>
            <p:nvPr/>
          </p:nvSpPr>
          <p:spPr>
            <a:xfrm>
              <a:off x="2313000" y="26992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Oval 74"/>
            <p:cNvSpPr/>
            <p:nvPr/>
          </p:nvSpPr>
          <p:spPr>
            <a:xfrm>
              <a:off x="277344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Oval 75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Oval 76"/>
            <p:cNvSpPr/>
            <p:nvPr/>
          </p:nvSpPr>
          <p:spPr>
            <a:xfrm>
              <a:off x="1735200" y="25326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Oval 77"/>
            <p:cNvSpPr/>
            <p:nvPr/>
          </p:nvSpPr>
          <p:spPr>
            <a:xfrm>
              <a:off x="1257480" y="26830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Oval 78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Oval 79"/>
            <p:cNvSpPr/>
            <p:nvPr/>
          </p:nvSpPr>
          <p:spPr>
            <a:xfrm>
              <a:off x="3313080" y="26928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Oval 80"/>
            <p:cNvSpPr/>
            <p:nvPr/>
          </p:nvSpPr>
          <p:spPr>
            <a:xfrm>
              <a:off x="3722760" y="25419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Oval 81"/>
            <p:cNvSpPr/>
            <p:nvPr/>
          </p:nvSpPr>
          <p:spPr>
            <a:xfrm>
              <a:off x="4260960" y="267696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Oval 82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Oval 83"/>
            <p:cNvSpPr/>
            <p:nvPr/>
          </p:nvSpPr>
          <p:spPr>
            <a:xfrm>
              <a:off x="785880" y="25354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Oval 84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Oval 85"/>
            <p:cNvSpPr/>
            <p:nvPr/>
          </p:nvSpPr>
          <p:spPr>
            <a:xfrm>
              <a:off x="249120" y="269604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Oval 86"/>
            <p:cNvSpPr/>
            <p:nvPr/>
          </p:nvSpPr>
          <p:spPr>
            <a:xfrm>
              <a:off x="4583160" y="253260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Oval 87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Oval 88"/>
            <p:cNvSpPr/>
            <p:nvPr/>
          </p:nvSpPr>
          <p:spPr>
            <a:xfrm>
              <a:off x="5191200" y="26802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Oval 89"/>
            <p:cNvSpPr/>
            <p:nvPr/>
          </p:nvSpPr>
          <p:spPr>
            <a:xfrm>
              <a:off x="548172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Oval 90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Oval 91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Oval 92"/>
            <p:cNvSpPr/>
            <p:nvPr/>
          </p:nvSpPr>
          <p:spPr>
            <a:xfrm>
              <a:off x="6192720" y="27007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Oval 93"/>
            <p:cNvSpPr/>
            <p:nvPr/>
          </p:nvSpPr>
          <p:spPr>
            <a:xfrm>
              <a:off x="6486480" y="25531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Oval 94"/>
            <p:cNvSpPr/>
            <p:nvPr/>
          </p:nvSpPr>
          <p:spPr>
            <a:xfrm>
              <a:off x="2035080" y="58003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Oval 95"/>
            <p:cNvSpPr/>
            <p:nvPr/>
          </p:nvSpPr>
          <p:spPr>
            <a:xfrm>
              <a:off x="1122480" y="637380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Oval 96"/>
            <p:cNvSpPr/>
            <p:nvPr/>
          </p:nvSpPr>
          <p:spPr>
            <a:xfrm>
              <a:off x="3538440" y="49064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Oval 97"/>
            <p:cNvSpPr/>
            <p:nvPr/>
          </p:nvSpPr>
          <p:spPr>
            <a:xfrm>
              <a:off x="4133880" y="45522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Oval 98"/>
            <p:cNvSpPr/>
            <p:nvPr/>
          </p:nvSpPr>
          <p:spPr>
            <a:xfrm>
              <a:off x="4614840" y="4236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Oval 99"/>
            <p:cNvSpPr/>
            <p:nvPr/>
          </p:nvSpPr>
          <p:spPr>
            <a:xfrm>
              <a:off x="5156280" y="389628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Oval 100"/>
            <p:cNvSpPr/>
            <p:nvPr/>
          </p:nvSpPr>
          <p:spPr>
            <a:xfrm>
              <a:off x="2859120" y="5335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Oval 101"/>
            <p:cNvSpPr/>
            <p:nvPr/>
          </p:nvSpPr>
          <p:spPr>
            <a:xfrm>
              <a:off x="5575320" y="3654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Oval 102"/>
            <p:cNvSpPr/>
            <p:nvPr/>
          </p:nvSpPr>
          <p:spPr>
            <a:xfrm>
              <a:off x="6318360" y="31975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Oval 103"/>
            <p:cNvSpPr/>
            <p:nvPr/>
          </p:nvSpPr>
          <p:spPr>
            <a:xfrm>
              <a:off x="5958000" y="34261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Oval 104"/>
            <p:cNvSpPr/>
            <p:nvPr/>
          </p:nvSpPr>
          <p:spPr>
            <a:xfrm>
              <a:off x="6629400" y="30135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Oval 105"/>
            <p:cNvSpPr/>
            <p:nvPr/>
          </p:nvSpPr>
          <p:spPr>
            <a:xfrm>
              <a:off x="6886440" y="28530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Oval 106"/>
            <p:cNvSpPr/>
            <p:nvPr/>
          </p:nvSpPr>
          <p:spPr>
            <a:xfrm>
              <a:off x="7151760" y="269928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Oval 107"/>
            <p:cNvSpPr/>
            <p:nvPr/>
          </p:nvSpPr>
          <p:spPr>
            <a:xfrm>
              <a:off x="7399440" y="25452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Oval 108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Oval 109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Oval 110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Oval 111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Oval 112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Oval 113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Oval 114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Oval 115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Oval 116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Oval 117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Oval 118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Oval 119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Oval 120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Oval 121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Oval 122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Oval 123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Oval 124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Oval 125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Oval 126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Oval 127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Oval 128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Oval 129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Oval 130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Oval 131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Oval 132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Oval 133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Oval 134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Oval 135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Oval 136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Oval 137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Oval 138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Oval 139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Oval 140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Oval 141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Oval 142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Oval 143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Oval 144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Oval 145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Oval 146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Oval 147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Oval 148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Oval 149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Oval 150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Oval 151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Oval 152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Oval 153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Oval 154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Oval 155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Oval 156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Oval 157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Oval 158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Oval 159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Oval 160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Oval 161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Oval 162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Oval 163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Oval 164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Oval 165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Oval 166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Oval 167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Oval 168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Oval 169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Oval 170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Oval 171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Oval 172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Oval 173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Oval 174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Oval 175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Oval 176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Oval 177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Oval 178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Oval 179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Oval 180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Oval 181"/>
            <p:cNvSpPr/>
            <p:nvPr/>
          </p:nvSpPr>
          <p:spPr>
            <a:xfrm>
              <a:off x="3147840" y="639432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Oval 182"/>
            <p:cNvSpPr/>
            <p:nvPr/>
          </p:nvSpPr>
          <p:spPr>
            <a:xfrm>
              <a:off x="3905280" y="58287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Oval 183"/>
            <p:cNvSpPr/>
            <p:nvPr/>
          </p:nvSpPr>
          <p:spPr>
            <a:xfrm>
              <a:off x="5140440" y="4955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Oval 184"/>
            <p:cNvSpPr/>
            <p:nvPr/>
          </p:nvSpPr>
          <p:spPr>
            <a:xfrm>
              <a:off x="5635800" y="457272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Oval 185"/>
            <p:cNvSpPr/>
            <p:nvPr/>
          </p:nvSpPr>
          <p:spPr>
            <a:xfrm>
              <a:off x="4591080" y="5362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Oval 186"/>
            <p:cNvSpPr/>
            <p:nvPr/>
          </p:nvSpPr>
          <p:spPr>
            <a:xfrm>
              <a:off x="6141960" y="421884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Oval 187"/>
            <p:cNvSpPr/>
            <p:nvPr/>
          </p:nvSpPr>
          <p:spPr>
            <a:xfrm>
              <a:off x="6492960" y="392976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Oval 188"/>
            <p:cNvSpPr/>
            <p:nvPr/>
          </p:nvSpPr>
          <p:spPr>
            <a:xfrm>
              <a:off x="6869160" y="3674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Oval 189"/>
            <p:cNvSpPr/>
            <p:nvPr/>
          </p:nvSpPr>
          <p:spPr>
            <a:xfrm>
              <a:off x="7480440" y="32101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Oval 190"/>
            <p:cNvSpPr/>
            <p:nvPr/>
          </p:nvSpPr>
          <p:spPr>
            <a:xfrm>
              <a:off x="7196040" y="34326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Oval 191"/>
            <p:cNvSpPr/>
            <p:nvPr/>
          </p:nvSpPr>
          <p:spPr>
            <a:xfrm>
              <a:off x="7719840" y="304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Oval 192"/>
            <p:cNvSpPr/>
            <p:nvPr/>
          </p:nvSpPr>
          <p:spPr>
            <a:xfrm>
              <a:off x="7951680" y="28688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Oval 193"/>
            <p:cNvSpPr/>
            <p:nvPr/>
          </p:nvSpPr>
          <p:spPr>
            <a:xfrm>
              <a:off x="8193240" y="27021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Oval 194"/>
            <p:cNvSpPr/>
            <p:nvPr/>
          </p:nvSpPr>
          <p:spPr>
            <a:xfrm>
              <a:off x="8377200" y="25624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Oval 195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Oval 196"/>
            <p:cNvSpPr/>
            <p:nvPr/>
          </p:nvSpPr>
          <p:spPr>
            <a:xfrm>
              <a:off x="5167440" y="646416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Oval 197"/>
            <p:cNvSpPr/>
            <p:nvPr/>
          </p:nvSpPr>
          <p:spPr>
            <a:xfrm>
              <a:off x="5796000" y="58636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Oval 198"/>
            <p:cNvSpPr/>
            <p:nvPr/>
          </p:nvSpPr>
          <p:spPr>
            <a:xfrm>
              <a:off x="7577280" y="58827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Oval 199"/>
            <p:cNvSpPr/>
            <p:nvPr/>
          </p:nvSpPr>
          <p:spPr>
            <a:xfrm>
              <a:off x="7129440" y="642924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Oval 200"/>
            <p:cNvSpPr/>
            <p:nvPr/>
          </p:nvSpPr>
          <p:spPr>
            <a:xfrm>
              <a:off x="6332400" y="53920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Oval 201"/>
            <p:cNvSpPr/>
            <p:nvPr/>
          </p:nvSpPr>
          <p:spPr>
            <a:xfrm>
              <a:off x="6767640" y="49874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Oval 202"/>
            <p:cNvSpPr/>
            <p:nvPr/>
          </p:nvSpPr>
          <p:spPr>
            <a:xfrm>
              <a:off x="8007480" y="54270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Oval 203"/>
            <p:cNvSpPr/>
            <p:nvPr/>
          </p:nvSpPr>
          <p:spPr>
            <a:xfrm>
              <a:off x="7227720" y="45615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Oval 204"/>
            <p:cNvSpPr/>
            <p:nvPr/>
          </p:nvSpPr>
          <p:spPr>
            <a:xfrm>
              <a:off x="8402760" y="49478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Oval 205"/>
            <p:cNvSpPr/>
            <p:nvPr/>
          </p:nvSpPr>
          <p:spPr>
            <a:xfrm>
              <a:off x="8726400" y="4571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Oval 206"/>
            <p:cNvSpPr/>
            <p:nvPr/>
          </p:nvSpPr>
          <p:spPr>
            <a:xfrm>
              <a:off x="7575480" y="42440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Oval 207"/>
            <p:cNvSpPr/>
            <p:nvPr/>
          </p:nvSpPr>
          <p:spPr>
            <a:xfrm>
              <a:off x="7883640" y="3950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Oval 208"/>
            <p:cNvSpPr/>
            <p:nvPr/>
          </p:nvSpPr>
          <p:spPr>
            <a:xfrm>
              <a:off x="8642520" y="325800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Oval 209"/>
            <p:cNvSpPr/>
            <p:nvPr/>
          </p:nvSpPr>
          <p:spPr>
            <a:xfrm>
              <a:off x="8193240" y="367416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Oval 210"/>
            <p:cNvSpPr/>
            <p:nvPr/>
          </p:nvSpPr>
          <p:spPr>
            <a:xfrm>
              <a:off x="8442360" y="34549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Oval 211"/>
            <p:cNvSpPr/>
            <p:nvPr/>
          </p:nvSpPr>
          <p:spPr>
            <a:xfrm>
              <a:off x="8859960" y="3069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Oval 212"/>
            <p:cNvSpPr/>
            <p:nvPr/>
          </p:nvSpPr>
          <p:spPr>
            <a:xfrm>
              <a:off x="9031320" y="2875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Oval 213"/>
            <p:cNvSpPr/>
            <p:nvPr/>
          </p:nvSpPr>
          <p:spPr>
            <a:xfrm>
              <a:off x="8989920" y="4255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Oval 214"/>
            <p:cNvSpPr/>
            <p:nvPr/>
          </p:nvSpPr>
          <p:spPr>
            <a:xfrm>
              <a:off x="-103320" y="454896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Oval 215"/>
            <p:cNvSpPr/>
            <p:nvPr/>
          </p:nvSpPr>
          <p:spPr>
            <a:xfrm>
              <a:off x="3240" y="39330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Oval 216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Oval 217"/>
            <p:cNvSpPr/>
            <p:nvPr/>
          </p:nvSpPr>
          <p:spPr>
            <a:xfrm>
              <a:off x="8928000" y="636732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7" name="PlaceHolder 1"/>
          <p:cNvSpPr>
            <a:spLocks noGrp="1"/>
          </p:cNvSpPr>
          <p:nvPr>
            <p:ph type="sldNum" idx="2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A124F-5F7A-40D9-9676-CBFD683CF8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dt" idx="2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 type="ftr" idx="30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1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7"/>
    <p:sldLayoutId id="2147483767" r:id="rId8"/>
    <p:sldLayoutId id="2147483768" r:id="rId9"/>
    <p:sldLayoutId id="2147483769" r:id="rId10"/>
    <p:sldLayoutId id="2147483770" r:id="rId11"/>
    <p:sldLayoutId id="2147483771" r:id="rId12"/>
    <p:sldLayoutId id="2147483772" r:id="rId13"/>
    <p:sldLayoutId id="2147483773" r:id="rId14"/>
    <p:sldLayoutId id="2147483774" r:id="rId15"/>
    <p:sldLayoutId id="2147483775" r:id="rId16"/>
    <p:sldLayoutId id="2147483776" r:id="rId17"/>
    <p:sldLayoutId id="2147483777" r:id="rId18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7A1D5-DF37-4F2B-8487-CE2FED1BDE7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9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910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 type="dt" idx="3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 type="ftr" idx="3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 type="sldNum" idx="3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88C61-EDF8-43B1-9ACA-F8B25969FFC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 type="dt" idx="3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09C9F-EEC7-4DDA-A24E-C5A8AF4DDA56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8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029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030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1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2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3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4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5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6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7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8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9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0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1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2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3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044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5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6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7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8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9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0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1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2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3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4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5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6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7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8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9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0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1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2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3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4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5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6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7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8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9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0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1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2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3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4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5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6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7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8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9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0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1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5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6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7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8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0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1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2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3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4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5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6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7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8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9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0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1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2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3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4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5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6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7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8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9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0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1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2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3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4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5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6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7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8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9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0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1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2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3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4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5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6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7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8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9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0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1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2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3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4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5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6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7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8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9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0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1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2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3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4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5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6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7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8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9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0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1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2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3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4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5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6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7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8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9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0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1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2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3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4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5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6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7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8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9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0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1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2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3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4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5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6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7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8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80" name="PlaceHolder 2"/>
          <p:cNvSpPr>
            <a:spLocks noGrp="1"/>
          </p:cNvSpPr>
          <p:nvPr>
            <p:ph type="dt" idx="40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PlaceHolder 3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PlaceHolder 4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2DA2A-AC9C-46BF-9CDC-D5964B5E4BC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22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2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22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PlaceHolder 3"/>
          <p:cNvSpPr>
            <a:spLocks noGrp="1"/>
          </p:cNvSpPr>
          <p:nvPr>
            <p:ph type="dt" idx="4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PlaceHolder 4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96A63-5C79-4698-A8B6-CCCEAAA14FC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5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276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7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8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9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0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1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2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3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4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5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6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7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8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9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0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1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2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3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4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5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6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9" name="PlaceHolder 3"/>
          <p:cNvSpPr>
            <a:spLocks noGrp="1"/>
          </p:cNvSpPr>
          <p:nvPr>
            <p:ph type="dt" idx="4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PlaceHolder 4"/>
          <p:cNvSpPr>
            <a:spLocks noGrp="1"/>
          </p:cNvSpPr>
          <p:nvPr>
            <p:ph type="ftr" idx="4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EF95A-B1E0-4EC1-A887-AFDB91A533B8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38" name="Group 2"/>
          <p:cNvGrpSpPr/>
          <p:nvPr/>
        </p:nvGrpSpPr>
        <p:grpSpPr>
          <a:xfrm>
            <a:off x="2010960" y="245520"/>
            <a:ext cx="6896160" cy="5452200"/>
            <a:chOff x="2010960" y="245520"/>
            <a:chExt cx="6896160" cy="5452200"/>
          </a:xfrm>
        </p:grpSpPr>
        <p:grpSp>
          <p:nvGrpSpPr>
            <p:cNvPr id="1339" name="Group 3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340" name="Oval 4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1" name="Oval 5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2" name="Group 6"/>
            <p:cNvGrpSpPr/>
            <p:nvPr/>
          </p:nvGrpSpPr>
          <p:grpSpPr>
            <a:xfrm>
              <a:off x="2010960" y="245520"/>
              <a:ext cx="6896160" cy="5452200"/>
              <a:chOff x="2010960" y="245520"/>
              <a:chExt cx="6896160" cy="5452200"/>
            </a:xfrm>
          </p:grpSpPr>
          <p:grpSp>
            <p:nvGrpSpPr>
              <p:cNvPr id="1343" name="Group 7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344" name="Group 8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345" name="Oval 9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6" name="Oval 10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47" name="Group 11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348" name="Group 12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349" name="Freeform 13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50" name="Freeform 14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51" name="Group 15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352" name="Freeform 16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53" name="Freeform 17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54" name="Group 18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355" name="Freeform 19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56" name="Freeform 20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57" name="Group 21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358" name="Freeform 22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59" name="Freeform 23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60" name="Group 24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361" name="Freeform 25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62" name="Freeform 26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63" name="Group 27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1364" name="Freeform 28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65" name="Freeform 29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66" name="Group 30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1367" name="Freeform 31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68" name="Freeform 32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69" name="Group 33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1370" name="Freeform 34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71" name="Freeform 35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72" name="Group 36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1373" name="Freeform 37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74" name="Freeform 38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75" name="Group 39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1376" name="Freeform 40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77" name="Freeform 41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78" name="Group 42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1379" name="Freeform 43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80" name="Freeform 44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81" name="Group 45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1382" name="Freeform 46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83" name="Freeform 47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84" name="Group 48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1385" name="Freeform 49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86" name="Freeform 50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87" name="Group 51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1388" name="Freeform 52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89" name="Freeform 53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90" name="Group 54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1391" name="Freeform 55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92" name="Freeform 56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93" name="Group 57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1394" name="Freeform 58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95" name="Freeform 59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96" name="Group 60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1397" name="Freeform 61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98" name="Freeform 62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99" name="Group 63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1400" name="Freeform 64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01" name="Freeform 65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02" name="Group 66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1403" name="Freeform 67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04" name="Freeform 68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05" name="Group 69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1406" name="Freeform 70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07" name="Freeform 71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08" name="Group 72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1409" name="Freeform 73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10" name="Freeform 74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11" name="Freeform 75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2" name="Freeform 76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413" name="Group 77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1414" name="Freeform 78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15" name="Freeform 79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16" name="Group 80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1417" name="Freeform 81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18" name="Freeform 82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19" name="Group 83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1420" name="Freeform 84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21" name="Freeform 85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22" name="Group 86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1423" name="Freeform 87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24" name="Freeform 88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25" name="Group 89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1426" name="Freeform 90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27" name="Freeform 91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28" name="Group 92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1429" name="Freeform 93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30" name="Freeform 94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31" name="Group 95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1432" name="Freeform 96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33" name="Freeform 97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34" name="Group 98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1435" name="Freeform 99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36" name="Freeform 100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37" name="Group 101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1438" name="Freeform 102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39" name="Freeform 103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40" name="Group 104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1441" name="Freeform 105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42" name="Freeform 106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43" name="Group 107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1444" name="Freeform 108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45" name="Freeform 109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1446" name="Group 110"/>
              <p:cNvGrpSpPr/>
              <p:nvPr/>
            </p:nvGrpSpPr>
            <p:grpSpPr>
              <a:xfrm>
                <a:off x="2175480" y="682560"/>
                <a:ext cx="6731640" cy="4521240"/>
                <a:chOff x="2175480" y="682560"/>
                <a:chExt cx="6731640" cy="4521240"/>
              </a:xfrm>
            </p:grpSpPr>
            <p:grpSp>
              <p:nvGrpSpPr>
                <p:cNvPr id="1447" name="Group 111"/>
                <p:cNvGrpSpPr/>
                <p:nvPr/>
              </p:nvGrpSpPr>
              <p:grpSpPr>
                <a:xfrm>
                  <a:off x="2175480" y="682560"/>
                  <a:ext cx="6731640" cy="4521240"/>
                  <a:chOff x="2175480" y="682560"/>
                  <a:chExt cx="6731640" cy="4521240"/>
                </a:xfrm>
              </p:grpSpPr>
              <p:sp>
                <p:nvSpPr>
                  <p:cNvPr id="1448" name="Arc 112"/>
                  <p:cNvSpPr/>
                  <p:nvPr/>
                </p:nvSpPr>
                <p:spPr>
                  <a:xfrm flipV="1">
                    <a:off x="5741640" y="857880"/>
                    <a:ext cx="3165480" cy="25225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</a:path>
                      <a:path stroke="0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  <a:lnTo>
                          <a:pt x="17826" y="0"/>
                        </a:lnTo>
                        <a:lnTo>
                          <a:pt x="36729" y="1045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9" name="Arc 113"/>
                  <p:cNvSpPr/>
                  <p:nvPr/>
                </p:nvSpPr>
                <p:spPr>
                  <a:xfrm flipH="1">
                    <a:off x="2561760" y="2270520"/>
                    <a:ext cx="248580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</a:path>
                      <a:path stroke="0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  <a:lnTo>
                          <a:pt x="8873" y="21600"/>
                        </a:lnTo>
                        <a:lnTo>
                          <a:pt x="-1" y="1906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0" name="Arc 114"/>
                  <p:cNvSpPr/>
                  <p:nvPr/>
                </p:nvSpPr>
                <p:spPr>
                  <a:xfrm>
                    <a:off x="5819400" y="1752840"/>
                    <a:ext cx="175824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</a:path>
                      <a:path stroke="0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1" name="Arc 115"/>
                  <p:cNvSpPr/>
                  <p:nvPr/>
                </p:nvSpPr>
                <p:spPr>
                  <a:xfrm flipH="1">
                    <a:off x="2175480" y="1298880"/>
                    <a:ext cx="313200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</a:path>
                      <a:path stroke="0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  <a:lnTo>
                          <a:pt x="15230" y="21600"/>
                        </a:lnTo>
                        <a:lnTo>
                          <a:pt x="0" y="6283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2" name="Arc 116"/>
                  <p:cNvSpPr/>
                  <p:nvPr/>
                </p:nvSpPr>
                <p:spPr>
                  <a:xfrm flipH="1">
                    <a:off x="3058560" y="682560"/>
                    <a:ext cx="2280960" cy="2840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</a:path>
                      <a:path stroke="0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  <a:lnTo>
                          <a:pt x="18231" y="21600"/>
                        </a:lnTo>
                        <a:lnTo>
                          <a:pt x="-1" y="10015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3" name="Arc 117"/>
                  <p:cNvSpPr/>
                  <p:nvPr/>
                </p:nvSpPr>
                <p:spPr>
                  <a:xfrm>
                    <a:off x="5491080" y="1875960"/>
                    <a:ext cx="941760" cy="2840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</a:path>
                      <a:path stroke="0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4" name="Freeform 118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55" name="Freeform 119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56" name="Group 120"/>
            <p:cNvGrpSpPr/>
            <p:nvPr/>
          </p:nvGrpSpPr>
          <p:grpSpPr>
            <a:xfrm>
              <a:off x="2342880" y="712800"/>
              <a:ext cx="6410160" cy="4708080"/>
              <a:chOff x="2342880" y="712800"/>
              <a:chExt cx="6410160" cy="4708080"/>
            </a:xfrm>
          </p:grpSpPr>
          <p:sp>
            <p:nvSpPr>
              <p:cNvPr id="1457" name="Freeform 121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8" name="Arc 122"/>
              <p:cNvSpPr/>
              <p:nvPr/>
            </p:nvSpPr>
            <p:spPr>
              <a:xfrm flipH="1">
                <a:off x="3384000" y="2579760"/>
                <a:ext cx="2616480" cy="284112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9" name="Arc 123"/>
              <p:cNvSpPr/>
              <p:nvPr/>
            </p:nvSpPr>
            <p:spPr>
              <a:xfrm flipH="1">
                <a:off x="3645360" y="2122200"/>
                <a:ext cx="1533600" cy="293400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0" name="Arc 124"/>
              <p:cNvSpPr/>
              <p:nvPr/>
            </p:nvSpPr>
            <p:spPr>
              <a:xfrm flipH="1">
                <a:off x="2342520" y="1737720"/>
                <a:ext cx="2930040" cy="293364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1" name="Arc 125"/>
              <p:cNvSpPr/>
              <p:nvPr/>
            </p:nvSpPr>
            <p:spPr>
              <a:xfrm>
                <a:off x="5586480" y="2150640"/>
                <a:ext cx="469800" cy="29340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2" name="Arc 126"/>
              <p:cNvSpPr/>
              <p:nvPr/>
            </p:nvSpPr>
            <p:spPr>
              <a:xfrm>
                <a:off x="5709960" y="2136960"/>
                <a:ext cx="1237680" cy="29340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3" name="Freeform 127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4" name="Freeform 128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5" name="Freeform 129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6" name="Freeform 130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7" name="Freeform 131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8" name="Freeform 132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9" name="Freeform 133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0" name="Freeform 134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7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7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73" name="PlaceHolder 3"/>
          <p:cNvSpPr>
            <a:spLocks noGrp="1"/>
          </p:cNvSpPr>
          <p:nvPr>
            <p:ph type="dt" idx="4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PlaceHolder 4"/>
          <p:cNvSpPr>
            <a:spLocks noGrp="1"/>
          </p:cNvSpPr>
          <p:nvPr>
            <p:ph type="ftr" idx="5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PlaceHolder 5"/>
          <p:cNvSpPr>
            <a:spLocks noGrp="1"/>
          </p:cNvSpPr>
          <p:nvPr>
            <p:ph type="sldNum" idx="5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F1483-BEB5-42E7-8F8D-05C437088B06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2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1513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4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5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16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1517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8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9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0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1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2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3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4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5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6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7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8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9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30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1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2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3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4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5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6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7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8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9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0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41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542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3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4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5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6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47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8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1" name="PlaceHolder 3"/>
          <p:cNvSpPr>
            <a:spLocks noGrp="1"/>
          </p:cNvSpPr>
          <p:nvPr>
            <p:ph type="dt" idx="5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PlaceHolder 4"/>
          <p:cNvSpPr>
            <a:spLocks noGrp="1"/>
          </p:cNvSpPr>
          <p:nvPr>
            <p:ph type="ftr" idx="5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D8726-5F49-46B1-B1DE-1901BB800DF8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9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59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9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59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5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6" name="PlaceHolder 3"/>
          <p:cNvSpPr>
            <a:spLocks noGrp="1"/>
          </p:cNvSpPr>
          <p:nvPr>
            <p:ph type="dt" idx="5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7" name="PlaceHolder 4"/>
          <p:cNvSpPr>
            <a:spLocks noGrp="1"/>
          </p:cNvSpPr>
          <p:nvPr>
            <p:ph type="ftr" idx="5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8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A35EF-2488-44CA-8F0B-76AB83300ED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52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B806D-3CB0-4AA1-A556-33E463673D08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dt" idx="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45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1646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7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8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9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0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1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53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4" name="PlaceHolder 3"/>
          <p:cNvSpPr>
            <a:spLocks noGrp="1"/>
          </p:cNvSpPr>
          <p:nvPr>
            <p:ph type="dt" idx="58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5" name="PlaceHolder 4"/>
          <p:cNvSpPr>
            <a:spLocks noGrp="1"/>
          </p:cNvSpPr>
          <p:nvPr>
            <p:ph type="ftr" idx="59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6" name="PlaceHolder 5"/>
          <p:cNvSpPr>
            <a:spLocks noGrp="1"/>
          </p:cNvSpPr>
          <p:nvPr>
            <p:ph type="sldNum" idx="60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6EB4F-6435-4B62-81C2-557C7D071C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93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1694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5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8" name="PlaceHolder 3"/>
          <p:cNvSpPr>
            <a:spLocks noGrp="1"/>
          </p:cNvSpPr>
          <p:nvPr>
            <p:ph type="dt" idx="6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PlaceHolder 4"/>
          <p:cNvSpPr>
            <a:spLocks noGrp="1"/>
          </p:cNvSpPr>
          <p:nvPr>
            <p:ph type="ftr" idx="6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0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B56D7-AB51-4354-A31C-B1FB75F8447B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7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738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739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0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1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2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3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44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5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48" name="PlaceHolder 3"/>
          <p:cNvSpPr>
            <a:spLocks noGrp="1"/>
          </p:cNvSpPr>
          <p:nvPr>
            <p:ph type="dt" idx="6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9" name="PlaceHolder 4"/>
          <p:cNvSpPr>
            <a:spLocks noGrp="1"/>
          </p:cNvSpPr>
          <p:nvPr>
            <p:ph type="ftr" idx="6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0" name="PlaceHolder 5"/>
          <p:cNvSpPr>
            <a:spLocks noGrp="1"/>
          </p:cNvSpPr>
          <p:nvPr>
            <p:ph type="sldNum" idx="6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6DB87-347A-488E-A709-D5762EF896E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87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1788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1789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0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91" name="Group 6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1792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3" name="Rectangle 8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94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5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6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9" name="PlaceHolder 3"/>
          <p:cNvSpPr>
            <a:spLocks noGrp="1"/>
          </p:cNvSpPr>
          <p:nvPr>
            <p:ph type="dt" idx="67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0" name="PlaceHolder 4"/>
          <p:cNvSpPr>
            <a:spLocks noGrp="1"/>
          </p:cNvSpPr>
          <p:nvPr>
            <p:ph type="ftr" idx="68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1" name="PlaceHolder 5"/>
          <p:cNvSpPr>
            <a:spLocks noGrp="1"/>
          </p:cNvSpPr>
          <p:nvPr>
            <p:ph type="sldNum" idx="69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9672E-EC7E-46E2-A898-87EDC720A84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32324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38" name="Group 2"/>
          <p:cNvGrpSpPr/>
          <p:nvPr/>
        </p:nvGrpSpPr>
        <p:grpSpPr>
          <a:xfrm>
            <a:off x="-105120" y="1311120"/>
            <a:ext cx="9350640" cy="5634000"/>
            <a:chOff x="-105120" y="1311120"/>
            <a:chExt cx="9350640" cy="5634000"/>
          </a:xfrm>
        </p:grpSpPr>
        <p:sp>
          <p:nvSpPr>
            <p:cNvPr id="1839" name="Rectangle 3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0" name="Rectangle 4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1" name="Rectangle 5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2" name="Rectangle 6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3" name="Rectangle 7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4" name="Rectangle 8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5" name="Rectangle 9"/>
            <p:cNvSpPr/>
            <p:nvPr/>
          </p:nvSpPr>
          <p:spPr>
            <a:xfrm flipV="1" rot="20466600">
              <a:off x="-149400" y="269244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6" name="Rectangle 10"/>
            <p:cNvSpPr/>
            <p:nvPr/>
          </p:nvSpPr>
          <p:spPr>
            <a:xfrm flipV="1" rot="20343600">
              <a:off x="-158760" y="296064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7" name="Rectangle 11"/>
            <p:cNvSpPr/>
            <p:nvPr/>
          </p:nvSpPr>
          <p:spPr>
            <a:xfrm flipV="1" rot="20211600">
              <a:off x="-263520" y="326124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8" name="Rectangle 12"/>
            <p:cNvSpPr/>
            <p:nvPr/>
          </p:nvSpPr>
          <p:spPr>
            <a:xfrm flipV="1" rot="20103000">
              <a:off x="-341640" y="363636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9" name="Rectangle 13"/>
            <p:cNvSpPr/>
            <p:nvPr/>
          </p:nvSpPr>
          <p:spPr>
            <a:xfrm flipV="1" rot="19923600">
              <a:off x="-498600" y="41580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0" name="Rectangle 14"/>
            <p:cNvSpPr/>
            <p:nvPr/>
          </p:nvSpPr>
          <p:spPr>
            <a:xfrm flipV="1" rot="19686600">
              <a:off x="12240" y="45763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1" name="Rectangle 15"/>
            <p:cNvSpPr/>
            <p:nvPr/>
          </p:nvSpPr>
          <p:spPr>
            <a:xfrm flipV="1" rot="19383600">
              <a:off x="2091960" y="46508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2" name="Rectangle 16"/>
            <p:cNvSpPr/>
            <p:nvPr/>
          </p:nvSpPr>
          <p:spPr>
            <a:xfrm flipV="1" rot="18994200">
              <a:off x="4254120" y="487800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3" name="Rectangle 17"/>
            <p:cNvSpPr/>
            <p:nvPr/>
          </p:nvSpPr>
          <p:spPr>
            <a:xfrm flipV="1" rot="18603600">
              <a:off x="6432120" y="5563800"/>
              <a:ext cx="330120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4" name="Rectangle 18"/>
            <p:cNvSpPr/>
            <p:nvPr/>
          </p:nvSpPr>
          <p:spPr>
            <a:xfrm flipH="1" flipV="1" rot="18391200">
              <a:off x="8522280" y="6617520"/>
              <a:ext cx="7952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5" name="Rectangle 19"/>
            <p:cNvSpPr/>
            <p:nvPr/>
          </p:nvSpPr>
          <p:spPr>
            <a:xfrm rot="1058400">
              <a:off x="-233280" y="37501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6" name="Rectangle 20"/>
            <p:cNvSpPr/>
            <p:nvPr/>
          </p:nvSpPr>
          <p:spPr>
            <a:xfrm rot="1563600">
              <a:off x="-316080" y="539496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7" name="Rectangle 21"/>
            <p:cNvSpPr/>
            <p:nvPr/>
          </p:nvSpPr>
          <p:spPr>
            <a:xfrm rot="1732800">
              <a:off x="-263880" y="575712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8" name="Rectangle 22"/>
            <p:cNvSpPr/>
            <p:nvPr/>
          </p:nvSpPr>
          <p:spPr>
            <a:xfrm rot="1968600">
              <a:off x="-176040" y="623016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9" name="Rectangle 23"/>
            <p:cNvSpPr/>
            <p:nvPr/>
          </p:nvSpPr>
          <p:spPr>
            <a:xfrm rot="1386000">
              <a:off x="-344880" y="511740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0" name="Rectangle 24"/>
            <p:cNvSpPr/>
            <p:nvPr/>
          </p:nvSpPr>
          <p:spPr>
            <a:xfrm rot="983400">
              <a:off x="-183960" y="338292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1" name="Rectangle 25"/>
            <p:cNvSpPr/>
            <p:nvPr/>
          </p:nvSpPr>
          <p:spPr>
            <a:xfrm flipV="1" rot="930600">
              <a:off x="125280" y="309132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2" name="Rectangle 26"/>
            <p:cNvSpPr/>
            <p:nvPr/>
          </p:nvSpPr>
          <p:spPr>
            <a:xfrm rot="867600">
              <a:off x="591840" y="286344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3" name="Rectangle 27"/>
            <p:cNvSpPr/>
            <p:nvPr/>
          </p:nvSpPr>
          <p:spPr>
            <a:xfrm rot="775200">
              <a:off x="1344240" y="251424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4" name="Rectangle 28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5" name="Rectangle 29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6" name="Rectangle 30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7" name="Rectangle 31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8" name="Rectangle 32"/>
            <p:cNvSpPr/>
            <p:nvPr/>
          </p:nvSpPr>
          <p:spPr>
            <a:xfrm flipV="1" rot="804000">
              <a:off x="967680" y="267552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9" name="Rectangle 33"/>
            <p:cNvSpPr/>
            <p:nvPr/>
          </p:nvSpPr>
          <p:spPr>
            <a:xfrm flipV="1" rot="1273800">
              <a:off x="-325440" y="47271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0" name="Rectangle 34"/>
            <p:cNvSpPr/>
            <p:nvPr/>
          </p:nvSpPr>
          <p:spPr>
            <a:xfrm flipV="1" rot="1170000">
              <a:off x="-277560" y="42300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1" name="Oval 35"/>
            <p:cNvSpPr/>
            <p:nvPr/>
          </p:nvSpPr>
          <p:spPr>
            <a:xfrm>
              <a:off x="1172880" y="53362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2" name="Oval 36"/>
            <p:cNvSpPr/>
            <p:nvPr/>
          </p:nvSpPr>
          <p:spPr>
            <a:xfrm>
              <a:off x="372960" y="4883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3" name="Oval 37"/>
            <p:cNvSpPr/>
            <p:nvPr/>
          </p:nvSpPr>
          <p:spPr>
            <a:xfrm>
              <a:off x="250560" y="580140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4" name="Oval 38"/>
            <p:cNvSpPr/>
            <p:nvPr/>
          </p:nvSpPr>
          <p:spPr>
            <a:xfrm>
              <a:off x="3295440" y="42278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5" name="Oval 39"/>
            <p:cNvSpPr/>
            <p:nvPr/>
          </p:nvSpPr>
          <p:spPr>
            <a:xfrm>
              <a:off x="1939680" y="488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6" name="Oval 40"/>
            <p:cNvSpPr/>
            <p:nvPr/>
          </p:nvSpPr>
          <p:spPr>
            <a:xfrm>
              <a:off x="2674800" y="45392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7" name="Oval 41"/>
            <p:cNvSpPr/>
            <p:nvPr/>
          </p:nvSpPr>
          <p:spPr>
            <a:xfrm>
              <a:off x="1188720" y="45104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8" name="Oval 42"/>
            <p:cNvSpPr/>
            <p:nvPr/>
          </p:nvSpPr>
          <p:spPr>
            <a:xfrm>
              <a:off x="580680" y="42199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9" name="Oval 43"/>
            <p:cNvSpPr/>
            <p:nvPr/>
          </p:nvSpPr>
          <p:spPr>
            <a:xfrm>
              <a:off x="1858680" y="4197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0" name="Oval 44"/>
            <p:cNvSpPr/>
            <p:nvPr/>
          </p:nvSpPr>
          <p:spPr>
            <a:xfrm>
              <a:off x="3809880" y="3948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1" name="Oval 45"/>
            <p:cNvSpPr/>
            <p:nvPr/>
          </p:nvSpPr>
          <p:spPr>
            <a:xfrm>
              <a:off x="3030480" y="36770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2" name="Oval 46"/>
            <p:cNvSpPr/>
            <p:nvPr/>
          </p:nvSpPr>
          <p:spPr>
            <a:xfrm>
              <a:off x="3576600" y="34228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3" name="Oval 47"/>
            <p:cNvSpPr/>
            <p:nvPr/>
          </p:nvSpPr>
          <p:spPr>
            <a:xfrm>
              <a:off x="4350960" y="366228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4" name="Oval 48"/>
            <p:cNvSpPr/>
            <p:nvPr/>
          </p:nvSpPr>
          <p:spPr>
            <a:xfrm>
              <a:off x="4462200" y="30164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5" name="Oval 49"/>
            <p:cNvSpPr/>
            <p:nvPr/>
          </p:nvSpPr>
          <p:spPr>
            <a:xfrm>
              <a:off x="5905440" y="2847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6" name="Oval 50"/>
            <p:cNvSpPr/>
            <p:nvPr/>
          </p:nvSpPr>
          <p:spPr>
            <a:xfrm>
              <a:off x="559908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7" name="Oval 51"/>
            <p:cNvSpPr/>
            <p:nvPr/>
          </p:nvSpPr>
          <p:spPr>
            <a:xfrm>
              <a:off x="4862160" y="282564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8" name="Oval 52"/>
            <p:cNvSpPr/>
            <p:nvPr/>
          </p:nvSpPr>
          <p:spPr>
            <a:xfrm>
              <a:off x="5200560" y="3216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9" name="Oval 53"/>
            <p:cNvSpPr/>
            <p:nvPr/>
          </p:nvSpPr>
          <p:spPr>
            <a:xfrm>
              <a:off x="4803480" y="343224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0" name="Oval 54"/>
            <p:cNvSpPr/>
            <p:nvPr/>
          </p:nvSpPr>
          <p:spPr>
            <a:xfrm>
              <a:off x="2489040" y="38977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1" name="Oval 55"/>
            <p:cNvSpPr/>
            <p:nvPr/>
          </p:nvSpPr>
          <p:spPr>
            <a:xfrm>
              <a:off x="2955600" y="3222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2" name="Oval 56"/>
            <p:cNvSpPr/>
            <p:nvPr/>
          </p:nvSpPr>
          <p:spPr>
            <a:xfrm>
              <a:off x="2400120" y="34560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3" name="Oval 57"/>
            <p:cNvSpPr/>
            <p:nvPr/>
          </p:nvSpPr>
          <p:spPr>
            <a:xfrm>
              <a:off x="1888920" y="367200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4" name="Oval 58"/>
            <p:cNvSpPr/>
            <p:nvPr/>
          </p:nvSpPr>
          <p:spPr>
            <a:xfrm>
              <a:off x="1830240" y="32529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5" name="Oval 59"/>
            <p:cNvSpPr/>
            <p:nvPr/>
          </p:nvSpPr>
          <p:spPr>
            <a:xfrm>
              <a:off x="1811160" y="2865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6" name="Oval 60"/>
            <p:cNvSpPr/>
            <p:nvPr/>
          </p:nvSpPr>
          <p:spPr>
            <a:xfrm>
              <a:off x="2379600" y="30384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7" name="Oval 61"/>
            <p:cNvSpPr/>
            <p:nvPr/>
          </p:nvSpPr>
          <p:spPr>
            <a:xfrm>
              <a:off x="2862000" y="2862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8" name="Oval 62"/>
            <p:cNvSpPr/>
            <p:nvPr/>
          </p:nvSpPr>
          <p:spPr>
            <a:xfrm>
              <a:off x="3425760" y="302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9" name="Oval 63"/>
            <p:cNvSpPr/>
            <p:nvPr/>
          </p:nvSpPr>
          <p:spPr>
            <a:xfrm>
              <a:off x="3858840" y="28400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0" name="Oval 64"/>
            <p:cNvSpPr/>
            <p:nvPr/>
          </p:nvSpPr>
          <p:spPr>
            <a:xfrm>
              <a:off x="744480" y="322920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1" name="Oval 65"/>
            <p:cNvSpPr/>
            <p:nvPr/>
          </p:nvSpPr>
          <p:spPr>
            <a:xfrm>
              <a:off x="106200" y="3441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2" name="Oval 66"/>
            <p:cNvSpPr/>
            <p:nvPr/>
          </p:nvSpPr>
          <p:spPr>
            <a:xfrm>
              <a:off x="1265040" y="3044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3" name="Oval 67"/>
            <p:cNvSpPr/>
            <p:nvPr/>
          </p:nvSpPr>
          <p:spPr>
            <a:xfrm>
              <a:off x="720360" y="2855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4" name="Oval 68"/>
            <p:cNvSpPr/>
            <p:nvPr/>
          </p:nvSpPr>
          <p:spPr>
            <a:xfrm>
              <a:off x="177480" y="3021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5" name="Oval 69"/>
            <p:cNvSpPr/>
            <p:nvPr/>
          </p:nvSpPr>
          <p:spPr>
            <a:xfrm>
              <a:off x="684000" y="36914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6" name="Oval 70"/>
            <p:cNvSpPr/>
            <p:nvPr/>
          </p:nvSpPr>
          <p:spPr>
            <a:xfrm>
              <a:off x="1290600" y="34606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7" name="Oval 71"/>
            <p:cNvSpPr/>
            <p:nvPr/>
          </p:nvSpPr>
          <p:spPr>
            <a:xfrm>
              <a:off x="1250640" y="39279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8" name="Oval 72"/>
            <p:cNvSpPr/>
            <p:nvPr/>
          </p:nvSpPr>
          <p:spPr>
            <a:xfrm>
              <a:off x="4036680" y="320220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9" name="Oval 73"/>
            <p:cNvSpPr/>
            <p:nvPr/>
          </p:nvSpPr>
          <p:spPr>
            <a:xfrm>
              <a:off x="2311200" y="270216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0" name="Oval 74"/>
            <p:cNvSpPr/>
            <p:nvPr/>
          </p:nvSpPr>
          <p:spPr>
            <a:xfrm>
              <a:off x="277164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1" name="Oval 75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2" name="Oval 76"/>
            <p:cNvSpPr/>
            <p:nvPr/>
          </p:nvSpPr>
          <p:spPr>
            <a:xfrm>
              <a:off x="1733400" y="25354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3" name="Oval 77"/>
            <p:cNvSpPr/>
            <p:nvPr/>
          </p:nvSpPr>
          <p:spPr>
            <a:xfrm>
              <a:off x="1255680" y="26859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4" name="Oval 78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5" name="Oval 79"/>
            <p:cNvSpPr/>
            <p:nvPr/>
          </p:nvSpPr>
          <p:spPr>
            <a:xfrm>
              <a:off x="3311280" y="26956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6" name="Oval 80"/>
            <p:cNvSpPr/>
            <p:nvPr/>
          </p:nvSpPr>
          <p:spPr>
            <a:xfrm>
              <a:off x="372096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7" name="Oval 81"/>
            <p:cNvSpPr/>
            <p:nvPr/>
          </p:nvSpPr>
          <p:spPr>
            <a:xfrm>
              <a:off x="4259160" y="267984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8" name="Oval 82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9" name="Oval 83"/>
            <p:cNvSpPr/>
            <p:nvPr/>
          </p:nvSpPr>
          <p:spPr>
            <a:xfrm>
              <a:off x="78408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0" name="Oval 84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1" name="Oval 85"/>
            <p:cNvSpPr/>
            <p:nvPr/>
          </p:nvSpPr>
          <p:spPr>
            <a:xfrm>
              <a:off x="247320" y="269892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2" name="Oval 86"/>
            <p:cNvSpPr/>
            <p:nvPr/>
          </p:nvSpPr>
          <p:spPr>
            <a:xfrm>
              <a:off x="4581360" y="253548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3" name="Oval 87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4" name="Oval 88"/>
            <p:cNvSpPr/>
            <p:nvPr/>
          </p:nvSpPr>
          <p:spPr>
            <a:xfrm>
              <a:off x="5189400" y="26830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5" name="Oval 89"/>
            <p:cNvSpPr/>
            <p:nvPr/>
          </p:nvSpPr>
          <p:spPr>
            <a:xfrm>
              <a:off x="547992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6" name="Oval 90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7" name="Oval 91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8" name="Oval 92"/>
            <p:cNvSpPr/>
            <p:nvPr/>
          </p:nvSpPr>
          <p:spPr>
            <a:xfrm>
              <a:off x="6190920" y="27036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9" name="Oval 93"/>
            <p:cNvSpPr/>
            <p:nvPr/>
          </p:nvSpPr>
          <p:spPr>
            <a:xfrm>
              <a:off x="6484680" y="25560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0" name="Oval 94"/>
            <p:cNvSpPr/>
            <p:nvPr/>
          </p:nvSpPr>
          <p:spPr>
            <a:xfrm>
              <a:off x="2033280" y="580320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1" name="Oval 95"/>
            <p:cNvSpPr/>
            <p:nvPr/>
          </p:nvSpPr>
          <p:spPr>
            <a:xfrm>
              <a:off x="1120680" y="637668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2" name="Oval 96"/>
            <p:cNvSpPr/>
            <p:nvPr/>
          </p:nvSpPr>
          <p:spPr>
            <a:xfrm>
              <a:off x="3536640" y="49093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3" name="Oval 97"/>
            <p:cNvSpPr/>
            <p:nvPr/>
          </p:nvSpPr>
          <p:spPr>
            <a:xfrm>
              <a:off x="4132080" y="455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4" name="Oval 98"/>
            <p:cNvSpPr/>
            <p:nvPr/>
          </p:nvSpPr>
          <p:spPr>
            <a:xfrm>
              <a:off x="4613040" y="42390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5" name="Oval 99"/>
            <p:cNvSpPr/>
            <p:nvPr/>
          </p:nvSpPr>
          <p:spPr>
            <a:xfrm>
              <a:off x="5154480" y="38991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6" name="Oval 100"/>
            <p:cNvSpPr/>
            <p:nvPr/>
          </p:nvSpPr>
          <p:spPr>
            <a:xfrm>
              <a:off x="2857320" y="5338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7" name="Oval 101"/>
            <p:cNvSpPr/>
            <p:nvPr/>
          </p:nvSpPr>
          <p:spPr>
            <a:xfrm>
              <a:off x="5573520" y="3657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8" name="Oval 102"/>
            <p:cNvSpPr/>
            <p:nvPr/>
          </p:nvSpPr>
          <p:spPr>
            <a:xfrm>
              <a:off x="6316560" y="320040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9" name="Oval 103"/>
            <p:cNvSpPr/>
            <p:nvPr/>
          </p:nvSpPr>
          <p:spPr>
            <a:xfrm>
              <a:off x="5956200" y="34290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0" name="Oval 104"/>
            <p:cNvSpPr/>
            <p:nvPr/>
          </p:nvSpPr>
          <p:spPr>
            <a:xfrm>
              <a:off x="6627600" y="30164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1" name="Oval 105"/>
            <p:cNvSpPr/>
            <p:nvPr/>
          </p:nvSpPr>
          <p:spPr>
            <a:xfrm>
              <a:off x="6884640" y="28558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2" name="Oval 106"/>
            <p:cNvSpPr/>
            <p:nvPr/>
          </p:nvSpPr>
          <p:spPr>
            <a:xfrm>
              <a:off x="7149960" y="270216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3" name="Oval 107"/>
            <p:cNvSpPr/>
            <p:nvPr/>
          </p:nvSpPr>
          <p:spPr>
            <a:xfrm>
              <a:off x="7397640" y="25480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4" name="Oval 108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5" name="Oval 109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6" name="Oval 110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7" name="Oval 111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8" name="Oval 112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9" name="Oval 113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0" name="Oval 114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1" name="Oval 115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2" name="Oval 116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3" name="Oval 117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4" name="Oval 118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5" name="Oval 119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6" name="Oval 120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7" name="Oval 121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8" name="Oval 122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9" name="Oval 123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0" name="Oval 124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1" name="Oval 125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2" name="Oval 126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3" name="Oval 127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4" name="Oval 128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5" name="Oval 129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6" name="Oval 130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7" name="Oval 131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8" name="Oval 132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9" name="Oval 133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0" name="Oval 134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1" name="Oval 135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2" name="Oval 136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3" name="Oval 137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4" name="Oval 138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5" name="Oval 139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6" name="Oval 140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7" name="Oval 141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8" name="Oval 142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9" name="Oval 143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0" name="Oval 144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1" name="Oval 145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2" name="Oval 146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3" name="Oval 147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4" name="Oval 148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5" name="Oval 149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6" name="Oval 150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7" name="Oval 151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8" name="Oval 152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9" name="Oval 153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0" name="Oval 154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1" name="Oval 155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2" name="Oval 156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3" name="Oval 157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4" name="Oval 158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5" name="Oval 159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6" name="Oval 160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7" name="Oval 161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8" name="Oval 162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9" name="Oval 163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0" name="Oval 164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1" name="Oval 165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2" name="Oval 166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3" name="Oval 167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4" name="Oval 168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5" name="Oval 169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6" name="Oval 170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7" name="Oval 171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8" name="Oval 172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9" name="Oval 173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0" name="Oval 174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1" name="Oval 175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2" name="Oval 176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3" name="Oval 177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4" name="Oval 178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5" name="Oval 179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6" name="Oval 180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7" name="Oval 181"/>
            <p:cNvSpPr/>
            <p:nvPr/>
          </p:nvSpPr>
          <p:spPr>
            <a:xfrm>
              <a:off x="3146040" y="639720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8" name="Oval 182"/>
            <p:cNvSpPr/>
            <p:nvPr/>
          </p:nvSpPr>
          <p:spPr>
            <a:xfrm>
              <a:off x="3903480" y="583164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9" name="Oval 183"/>
            <p:cNvSpPr/>
            <p:nvPr/>
          </p:nvSpPr>
          <p:spPr>
            <a:xfrm>
              <a:off x="5138640" y="49586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0" name="Oval 184"/>
            <p:cNvSpPr/>
            <p:nvPr/>
          </p:nvSpPr>
          <p:spPr>
            <a:xfrm>
              <a:off x="5634000" y="45756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1" name="Oval 185"/>
            <p:cNvSpPr/>
            <p:nvPr/>
          </p:nvSpPr>
          <p:spPr>
            <a:xfrm>
              <a:off x="4589280" y="5365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2" name="Oval 186"/>
            <p:cNvSpPr/>
            <p:nvPr/>
          </p:nvSpPr>
          <p:spPr>
            <a:xfrm>
              <a:off x="6140160" y="42217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3" name="Oval 187"/>
            <p:cNvSpPr/>
            <p:nvPr/>
          </p:nvSpPr>
          <p:spPr>
            <a:xfrm>
              <a:off x="6491160" y="39326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4" name="Oval 188"/>
            <p:cNvSpPr/>
            <p:nvPr/>
          </p:nvSpPr>
          <p:spPr>
            <a:xfrm>
              <a:off x="6867360" y="3677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5" name="Oval 189"/>
            <p:cNvSpPr/>
            <p:nvPr/>
          </p:nvSpPr>
          <p:spPr>
            <a:xfrm>
              <a:off x="747864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6" name="Oval 190"/>
            <p:cNvSpPr/>
            <p:nvPr/>
          </p:nvSpPr>
          <p:spPr>
            <a:xfrm>
              <a:off x="7194240" y="3435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7" name="Oval 191"/>
            <p:cNvSpPr/>
            <p:nvPr/>
          </p:nvSpPr>
          <p:spPr>
            <a:xfrm>
              <a:off x="7718040" y="305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8" name="Oval 192"/>
            <p:cNvSpPr/>
            <p:nvPr/>
          </p:nvSpPr>
          <p:spPr>
            <a:xfrm>
              <a:off x="7949880" y="28717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9" name="Oval 193"/>
            <p:cNvSpPr/>
            <p:nvPr/>
          </p:nvSpPr>
          <p:spPr>
            <a:xfrm>
              <a:off x="8191440" y="27050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0" name="Oval 194"/>
            <p:cNvSpPr/>
            <p:nvPr/>
          </p:nvSpPr>
          <p:spPr>
            <a:xfrm>
              <a:off x="8375400" y="256536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1" name="Oval 195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2" name="Oval 196"/>
            <p:cNvSpPr/>
            <p:nvPr/>
          </p:nvSpPr>
          <p:spPr>
            <a:xfrm>
              <a:off x="5165640" y="646704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3" name="Oval 197"/>
            <p:cNvSpPr/>
            <p:nvPr/>
          </p:nvSpPr>
          <p:spPr>
            <a:xfrm>
              <a:off x="5794200" y="586656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4" name="Oval 198"/>
            <p:cNvSpPr/>
            <p:nvPr/>
          </p:nvSpPr>
          <p:spPr>
            <a:xfrm>
              <a:off x="7575480" y="588564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5" name="Oval 199"/>
            <p:cNvSpPr/>
            <p:nvPr/>
          </p:nvSpPr>
          <p:spPr>
            <a:xfrm>
              <a:off x="7127640" y="643212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6" name="Oval 200"/>
            <p:cNvSpPr/>
            <p:nvPr/>
          </p:nvSpPr>
          <p:spPr>
            <a:xfrm>
              <a:off x="6330600" y="539496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7" name="Oval 201"/>
            <p:cNvSpPr/>
            <p:nvPr/>
          </p:nvSpPr>
          <p:spPr>
            <a:xfrm>
              <a:off x="6765840" y="49903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8" name="Oval 202"/>
            <p:cNvSpPr/>
            <p:nvPr/>
          </p:nvSpPr>
          <p:spPr>
            <a:xfrm>
              <a:off x="8005680" y="542988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9" name="Oval 203"/>
            <p:cNvSpPr/>
            <p:nvPr/>
          </p:nvSpPr>
          <p:spPr>
            <a:xfrm>
              <a:off x="7225920" y="45644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0" name="Oval 204"/>
            <p:cNvSpPr/>
            <p:nvPr/>
          </p:nvSpPr>
          <p:spPr>
            <a:xfrm>
              <a:off x="8400960" y="495072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1" name="Oval 205"/>
            <p:cNvSpPr/>
            <p:nvPr/>
          </p:nvSpPr>
          <p:spPr>
            <a:xfrm>
              <a:off x="8724600" y="4574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2" name="Oval 206"/>
            <p:cNvSpPr/>
            <p:nvPr/>
          </p:nvSpPr>
          <p:spPr>
            <a:xfrm>
              <a:off x="7573680" y="42469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3" name="Oval 207"/>
            <p:cNvSpPr/>
            <p:nvPr/>
          </p:nvSpPr>
          <p:spPr>
            <a:xfrm>
              <a:off x="7881840" y="39531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4" name="Oval 208"/>
            <p:cNvSpPr/>
            <p:nvPr/>
          </p:nvSpPr>
          <p:spPr>
            <a:xfrm>
              <a:off x="8640720" y="326088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5" name="Oval 209"/>
            <p:cNvSpPr/>
            <p:nvPr/>
          </p:nvSpPr>
          <p:spPr>
            <a:xfrm>
              <a:off x="8191440" y="36770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6" name="Oval 210"/>
            <p:cNvSpPr/>
            <p:nvPr/>
          </p:nvSpPr>
          <p:spPr>
            <a:xfrm>
              <a:off x="8440560" y="34578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7" name="Oval 211"/>
            <p:cNvSpPr/>
            <p:nvPr/>
          </p:nvSpPr>
          <p:spPr>
            <a:xfrm>
              <a:off x="8858160" y="3071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8" name="Oval 212"/>
            <p:cNvSpPr/>
            <p:nvPr/>
          </p:nvSpPr>
          <p:spPr>
            <a:xfrm>
              <a:off x="9029520" y="2878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9" name="Oval 213"/>
            <p:cNvSpPr/>
            <p:nvPr/>
          </p:nvSpPr>
          <p:spPr>
            <a:xfrm>
              <a:off x="8988120" y="42580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0" name="Oval 214"/>
            <p:cNvSpPr/>
            <p:nvPr/>
          </p:nvSpPr>
          <p:spPr>
            <a:xfrm>
              <a:off x="-105120" y="45518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1" name="Oval 215"/>
            <p:cNvSpPr/>
            <p:nvPr/>
          </p:nvSpPr>
          <p:spPr>
            <a:xfrm>
              <a:off x="1440" y="39358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2" name="Oval 216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3" name="Oval 217"/>
            <p:cNvSpPr/>
            <p:nvPr/>
          </p:nvSpPr>
          <p:spPr>
            <a:xfrm>
              <a:off x="8926200" y="637020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54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056" name="PlaceHolder 3"/>
          <p:cNvSpPr>
            <a:spLocks noGrp="1"/>
          </p:cNvSpPr>
          <p:nvPr>
            <p:ph type="dt" idx="7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7" name="PlaceHolder 4"/>
          <p:cNvSpPr>
            <a:spLocks noGrp="1"/>
          </p:cNvSpPr>
          <p:nvPr>
            <p:ph type="ftr" idx="7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PlaceHolder 5"/>
          <p:cNvSpPr>
            <a:spLocks noGrp="1"/>
          </p:cNvSpPr>
          <p:nvPr>
            <p:ph type="sldNum" idx="7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8B5E5-98B4-466A-B549-3F3828C7F9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7"/>
    <p:sldLayoutId id="2147483949" r:id="rId8"/>
    <p:sldLayoutId id="2147483950" r:id="rId9"/>
    <p:sldLayoutId id="2147483951" r:id="rId10"/>
    <p:sldLayoutId id="2147483952" r:id="rId11"/>
    <p:sldLayoutId id="2147483953" r:id="rId12"/>
    <p:sldLayoutId id="2147483954" r:id="rId13"/>
    <p:sldLayoutId id="2147483955" r:id="rId14"/>
    <p:sldLayoutId id="2147483956" r:id="rId15"/>
    <p:sldLayoutId id="2147483957" r:id="rId16"/>
    <p:sldLayoutId id="2147483958" r:id="rId17"/>
    <p:sldLayoutId id="2147483959" r:id="rId18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96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7" name="PlaceHolder 3"/>
          <p:cNvSpPr>
            <a:spLocks noGrp="1"/>
          </p:cNvSpPr>
          <p:nvPr>
            <p:ph type="dt" idx="7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8" name="PlaceHolder 4"/>
          <p:cNvSpPr>
            <a:spLocks noGrp="1"/>
          </p:cNvSpPr>
          <p:nvPr>
            <p:ph type="ftr" idx="7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9" name="PlaceHolder 5"/>
          <p:cNvSpPr>
            <a:spLocks noGrp="1"/>
          </p:cNvSpPr>
          <p:nvPr>
            <p:ph type="sldNum" idx="7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80F99-7194-4CB3-9591-14792AAF24D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3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213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0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6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7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8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9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0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1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2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3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4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5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6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7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8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9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0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4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5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9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0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7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3" name="PlaceHolder 3"/>
          <p:cNvSpPr>
            <a:spLocks noGrp="1"/>
          </p:cNvSpPr>
          <p:nvPr>
            <p:ph type="dt" idx="76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4" name="PlaceHolder 4"/>
          <p:cNvSpPr>
            <a:spLocks noGrp="1"/>
          </p:cNvSpPr>
          <p:nvPr>
            <p:ph type="ftr" idx="77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5" name="PlaceHolder 5"/>
          <p:cNvSpPr>
            <a:spLocks noGrp="1"/>
          </p:cNvSpPr>
          <p:nvPr>
            <p:ph type="sldNum" idx="78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EF00A-E500-4D33-8ECF-C8C1A42EF3A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2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3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1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6" name="PlaceHolder 3"/>
          <p:cNvSpPr>
            <a:spLocks noGrp="1"/>
          </p:cNvSpPr>
          <p:nvPr>
            <p:ph type="dt" idx="7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7" name="PlaceHolder 4"/>
          <p:cNvSpPr>
            <a:spLocks noGrp="1"/>
          </p:cNvSpPr>
          <p:nvPr>
            <p:ph type="ftr" idx="80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8" name="PlaceHolder 5"/>
          <p:cNvSpPr>
            <a:spLocks noGrp="1"/>
          </p:cNvSpPr>
          <p:nvPr>
            <p:ph type="sldNum" idx="8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50ECC-6E6F-414B-907A-5CDE82192410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55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2256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257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8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9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0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1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2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3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4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5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6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7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8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9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70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271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2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3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4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5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6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7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8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9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0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1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2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3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4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5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6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7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8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9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0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1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2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3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4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5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6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7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8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9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0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1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2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3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4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5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6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7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8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9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0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1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2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3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4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5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6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7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8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9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0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1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2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3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4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5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6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7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8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9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0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1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2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3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4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5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6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7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8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9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0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1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2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3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4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5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6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7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8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9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0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1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2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3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4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5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6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7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8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9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0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1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2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3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4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5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6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7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8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9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0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1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2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3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4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5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6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7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8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9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0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1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2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3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4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5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6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7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8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9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0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1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2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3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4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5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6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7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8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9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0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1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2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3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4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5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0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07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8" name="PlaceHolder 3"/>
          <p:cNvSpPr>
            <a:spLocks noGrp="1"/>
          </p:cNvSpPr>
          <p:nvPr>
            <p:ph type="dt" idx="82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9" name="PlaceHolder 4"/>
          <p:cNvSpPr>
            <a:spLocks noGrp="1"/>
          </p:cNvSpPr>
          <p:nvPr>
            <p:ph type="ftr" idx="8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0" name="PlaceHolder 5"/>
          <p:cNvSpPr>
            <a:spLocks noGrp="1"/>
          </p:cNvSpPr>
          <p:nvPr>
            <p:ph type="sldNum" idx="84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96C81-1398-4FF5-B868-BCDA38D2982A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Group 2"/>
          <p:cNvGrpSpPr/>
          <p:nvPr/>
        </p:nvGrpSpPr>
        <p:grpSpPr>
          <a:xfrm>
            <a:off x="6273360" y="-21240"/>
            <a:ext cx="2870280" cy="3275280"/>
            <a:chOff x="6273360" y="-21240"/>
            <a:chExt cx="2870280" cy="3275280"/>
          </a:xfrm>
        </p:grpSpPr>
        <p:grpSp>
          <p:nvGrpSpPr>
            <p:cNvPr id="115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116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Oval 5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119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Oval 8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122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Oval 11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Group 12"/>
            <p:cNvGrpSpPr/>
            <p:nvPr/>
          </p:nvGrpSpPr>
          <p:grpSpPr>
            <a:xfrm>
              <a:off x="6273360" y="-21240"/>
              <a:ext cx="2870280" cy="2268360"/>
              <a:chOff x="6273360" y="-21240"/>
              <a:chExt cx="2870280" cy="2268360"/>
            </a:xfrm>
          </p:grpSpPr>
          <p:grpSp>
            <p:nvGrpSpPr>
              <p:cNvPr id="125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6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" name="Oval 15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8" name="Group 16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29" name="Group 17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30" name="Freeform 18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9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2" name="Group 20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33" name="Freeform 21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Freeform 22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5" name="Group 23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136" name="Freeform 24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Freeform 25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26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139" name="Freeform 27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Freeform 28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1" name="Group 29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142" name="Freeform 30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Freeform 31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4" name="Group 32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145" name="Freeform 33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Freeform 34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7" name="Group 35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148" name="Freeform 36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" name="Freeform 37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0" name="Group 38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151" name="Freeform 39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" name="Freeform 40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3" name="Group 41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154" name="Freeform 42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6" name="Group 44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157" name="Freeform 45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" name="Freeform 46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9" name="Group 47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160" name="Freeform 48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" name="Freeform 49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2" name="Group 50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163" name="Freeform 51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Freeform 52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5" name="Group 53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166" name="Freeform 54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7" name="Freeform 55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8" name="Group 56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169" name="Freeform 57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" name="Freeform 58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1" name="Group 59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172" name="Freeform 60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" name="Freeform 61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4" name="Group 62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175" name="Freeform 63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" name="Freeform 64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7" name="Group 65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178" name="Freeform 66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9" name="Freeform 67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0" name="Group 68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181" name="Freeform 69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2" name="Freeform 70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3" name="Group 71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184" name="Freeform 72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5" name="Freeform 73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6" name="Group 74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187" name="Freeform 75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" name="Freeform 76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9" name="Group 77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190" name="Freeform 78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" name="Freeform 79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92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" name="Freeform 81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94" name="Group 82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195" name="Freeform 83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" name="Freeform 84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7" name="Group 85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198" name="Freeform 86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9" name="Freeform 87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0" name="Group 88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201" name="Freeform 89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80" bIns="-28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2" name="Freeform 90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3" name="Group 91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204" name="Freeform 92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" name="Freeform 93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6" name="Group 94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207" name="Freeform 95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" name="Freeform 96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9" name="Group 97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210" name="Freeform 98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1" name="Freeform 99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2" name="Group 100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213" name="Freeform 101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102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5" name="Group 103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216" name="Freeform 104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7" name="Freeform 105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8" name="Group 106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219" name="Freeform 107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0" name="Freeform 108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1" name="Group 109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222" name="Freeform 110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11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4" name="Group 112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225" name="Freeform 113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6" name="Freeform 114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27" name="Freeform 115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Arc 116"/>
              <p:cNvSpPr/>
              <p:nvPr/>
            </p:nvSpPr>
            <p:spPr>
              <a:xfrm flipH="1">
                <a:off x="6844680" y="950040"/>
                <a:ext cx="1090080" cy="118188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/>
                <a:ahLst/>
                <a:rect l="l" t="t" r="r" b="b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lnTo>
                      <a:pt x="36729" y="1045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Arc 118"/>
              <p:cNvSpPr/>
              <p:nvPr/>
            </p:nvSpPr>
            <p:spPr>
              <a:xfrm flipH="1">
                <a:off x="6954480" y="759240"/>
                <a:ext cx="637200" cy="122112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Arc 119"/>
              <p:cNvSpPr/>
              <p:nvPr/>
            </p:nvSpPr>
            <p:spPr>
              <a:xfrm flipH="1">
                <a:off x="6502320" y="821880"/>
                <a:ext cx="1035000" cy="1219680"/>
              </a:xfrm>
              <a:custGeom>
                <a:avLst/>
                <a:gdLst/>
                <a:ahLst/>
                <a:rect l="l" t="t" r="r" b="b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lnTo>
                      <a:pt x="-1" y="1906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Arc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Arc 122"/>
              <p:cNvSpPr/>
              <p:nvPr/>
            </p:nvSpPr>
            <p:spPr>
              <a:xfrm>
                <a:off x="7813080" y="765720"/>
                <a:ext cx="515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Arc 123"/>
              <p:cNvSpPr/>
              <p:nvPr/>
            </p:nvSpPr>
            <p:spPr>
              <a:xfrm>
                <a:off x="7858800" y="605880"/>
                <a:ext cx="731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Freeform 124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Freeform 125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/>
                <a:ahLst/>
                <a:rect l="l" t="t" r="r" b="b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lnTo>
                      <a:pt x="0" y="6283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Arc 127"/>
              <p:cNvSpPr/>
              <p:nvPr/>
            </p:nvSpPr>
            <p:spPr>
              <a:xfrm flipH="1">
                <a:off x="6708960" y="160560"/>
                <a:ext cx="948600" cy="1181880"/>
              </a:xfrm>
              <a:custGeom>
                <a:avLst/>
                <a:gdLst/>
                <a:ahLst/>
                <a:rect l="l" t="t" r="r" b="b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lnTo>
                      <a:pt x="-1" y="1001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Arc 128"/>
              <p:cNvSpPr/>
              <p:nvPr/>
            </p:nvSpPr>
            <p:spPr>
              <a:xfrm>
                <a:off x="7722360" y="657000"/>
                <a:ext cx="391320" cy="1182960"/>
              </a:xfrm>
              <a:custGeom>
                <a:avLst/>
                <a:gdLst/>
                <a:ahLst/>
                <a:rect l="l" t="t" r="r" b="b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Freeform 129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Freeform 130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Freeform 133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Freeform 134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Freeform 135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Freeform 136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0EE0A-DA23-45DA-80F2-B9C7F490213F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291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295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8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2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07786-E1DF-4B47-ACCF-B073161B3BBA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sldNum" idx="1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FB9B8-E52E-4751-B5B1-F77C6A31901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0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71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0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 type="dt" idx="1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9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420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8" name="PlaceHolder 1"/>
          <p:cNvSpPr>
            <a:spLocks noGrp="1"/>
          </p:cNvSpPr>
          <p:nvPr>
            <p:ph type="dt" idx="16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ftr" idx="17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 type="sldNum" idx="18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ED839-97CF-486B-9561-C3884A006A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9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470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C051F-4042-4BF7-B860-EFFC9497AACE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dt" idx="22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sldNum" idx="23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7114A-4B7E-40E7-B74C-B7511A7CF16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15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6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17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2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4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 type="ftr" idx="24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 type="dt" idx="25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 type="ftr" idx="26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 type="sldNum" idx="27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B1C01-010C-43F0-B61E-3479EE462AA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8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97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09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2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8.jpeg"/><Relationship Id="rId5" Type="http://schemas.openxmlformats.org/officeDocument/2006/relationships/image" Target="../media/image29.jpeg"/><Relationship Id="rId6" Type="http://schemas.openxmlformats.org/officeDocument/2006/relationships/slideLayout" Target="../slideLayouts/slideLayout109.xml"/><Relationship Id="rId7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2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09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09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<Relationship Id="rId2" Type="http://schemas.openxmlformats.org/officeDocument/2006/relationships/notesSlide" Target="../notesSlides/notesSlide3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4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gif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253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300" spc="-1" strike="noStrike">
                <a:solidFill>
                  <a:srgbClr val="ffffcc"/>
                </a:solidFill>
                <a:latin typeface="Monotype Corsiva"/>
              </a:rPr>
              <a:t>Viruses &amp; Bacteria</a:t>
            </a:r>
            <a:endParaRPr b="0" lang="en-US" sz="63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5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otype Corsiva"/>
              </a:rPr>
              <a:t>Chapter 17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otype Corsiva"/>
              </a:rPr>
              <a:t>Biology 1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otype Corsiva"/>
              </a:rPr>
              <a:t>Presentation put together by Mandie Lynn Wall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56" name="Picture 4" descr=""/>
          <p:cNvPicPr/>
          <p:nvPr/>
        </p:nvPicPr>
        <p:blipFill>
          <a:blip r:embed="rId1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24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1" name="Picture 5" descr="Retrovirus_life_cycle"/>
          <p:cNvPicPr/>
          <p:nvPr/>
        </p:nvPicPr>
        <p:blipFill>
          <a:blip r:embed="rId1"/>
          <a:stretch/>
        </p:blipFill>
        <p:spPr>
          <a:xfrm>
            <a:off x="3505320" y="685800"/>
            <a:ext cx="5408640" cy="5638680"/>
          </a:xfrm>
          <a:prstGeom prst="rect">
            <a:avLst/>
          </a:prstGeom>
          <a:ln w="0">
            <a:noFill/>
          </a:ln>
        </p:spPr>
      </p:pic>
      <p:sp>
        <p:nvSpPr>
          <p:cNvPr id="2482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38862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trovir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3" name="PlaceHolder 2"/>
          <p:cNvSpPr>
            <a:spLocks noGrp="1"/>
          </p:cNvSpPr>
          <p:nvPr>
            <p:ph/>
          </p:nvPr>
        </p:nvSpPr>
        <p:spPr>
          <a:xfrm>
            <a:off x="457200" y="2362320"/>
            <a:ext cx="281952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hange DNA into RN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ample of a Retrovirus is HIV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l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4" name="Picture 5" descr="Retrovirus"/>
          <p:cNvPicPr/>
          <p:nvPr/>
        </p:nvPicPr>
        <p:blipFill>
          <a:blip r:embed="rId1"/>
          <a:stretch/>
        </p:blipFill>
        <p:spPr>
          <a:xfrm>
            <a:off x="4495680" y="1547640"/>
            <a:ext cx="4496040" cy="3549960"/>
          </a:xfrm>
          <a:prstGeom prst="rect">
            <a:avLst/>
          </a:prstGeom>
          <a:ln w="0">
            <a:noFill/>
          </a:ln>
        </p:spPr>
      </p:pic>
      <p:sp>
        <p:nvSpPr>
          <p:cNvPr id="2485" name="Rectangle 6"/>
          <p:cNvSpPr/>
          <p:nvPr/>
        </p:nvSpPr>
        <p:spPr>
          <a:xfrm>
            <a:off x="304920" y="771840"/>
            <a:ext cx="419076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typical, "minimal" retrovirus consists of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outer envelope which was derived from the plasma membrane of its hos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y copies of an envelope protein embedded in the lipid bilayer of its envelop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apsid; a protein shell contai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molecules of RNA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lecules of the enzyme reverse transcript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6" name="Picture 7" descr="BacterialCell150"/>
          <p:cNvPicPr/>
          <p:nvPr/>
        </p:nvPicPr>
        <p:blipFill>
          <a:blip r:embed="rId1"/>
          <a:stretch/>
        </p:blipFill>
        <p:spPr>
          <a:xfrm>
            <a:off x="380880" y="2286000"/>
            <a:ext cx="1428840" cy="2571840"/>
          </a:xfrm>
          <a:prstGeom prst="rect">
            <a:avLst/>
          </a:prstGeom>
          <a:ln w="0">
            <a:noFill/>
          </a:ln>
        </p:spPr>
      </p:pic>
      <p:sp>
        <p:nvSpPr>
          <p:cNvPr id="24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cteria Cel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488" name="Picture 17" descr="bacteria"/>
          <p:cNvPicPr/>
          <p:nvPr/>
        </p:nvPicPr>
        <p:blipFill>
          <a:blip r:embed="rId2"/>
          <a:stretch/>
        </p:blipFill>
        <p:spPr>
          <a:xfrm>
            <a:off x="5105520" y="228600"/>
            <a:ext cx="3886200" cy="2855880"/>
          </a:xfrm>
          <a:prstGeom prst="rect">
            <a:avLst/>
          </a:prstGeom>
          <a:ln w="0">
            <a:noFill/>
          </a:ln>
        </p:spPr>
      </p:pic>
      <p:pic>
        <p:nvPicPr>
          <p:cNvPr id="2489" name="Picture 20" descr="imageT9V"/>
          <p:cNvPicPr/>
          <p:nvPr/>
        </p:nvPicPr>
        <p:blipFill>
          <a:blip r:embed="rId3"/>
          <a:stretch/>
        </p:blipFill>
        <p:spPr>
          <a:xfrm>
            <a:off x="2057400" y="2514600"/>
            <a:ext cx="4572000" cy="4081320"/>
          </a:xfrm>
          <a:prstGeom prst="rect">
            <a:avLst/>
          </a:prstGeom>
          <a:ln w="0">
            <a:noFill/>
          </a:ln>
        </p:spPr>
      </p:pic>
      <p:pic>
        <p:nvPicPr>
          <p:cNvPr id="2490" name="Picture 23" descr="Bacteria"/>
          <p:cNvPicPr/>
          <p:nvPr/>
        </p:nvPicPr>
        <p:blipFill>
          <a:blip r:embed="rId4"/>
          <a:stretch/>
        </p:blipFill>
        <p:spPr>
          <a:xfrm>
            <a:off x="6400800" y="4467240"/>
            <a:ext cx="2514600" cy="1733400"/>
          </a:xfrm>
          <a:prstGeom prst="rect">
            <a:avLst/>
          </a:prstGeom>
          <a:ln w="0">
            <a:noFill/>
          </a:ln>
        </p:spPr>
      </p:pic>
    </p:spTree>
  </p:cSld>
  <p:transition spd="slow">
    <p:push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karyo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lls that do not have a nucle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ist almost every where on ear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ow in numbers so great you can see them with the unaided e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 placed in either the Eubacteria or the Archebacteria Kingdo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ke up the smaller of the two kingdo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3" name="Picture 6" descr="so23_09"/>
          <p:cNvPicPr/>
          <p:nvPr/>
        </p:nvPicPr>
        <p:blipFill>
          <a:blip r:embed="rId1"/>
          <a:stretch/>
        </p:blipFill>
        <p:spPr>
          <a:xfrm>
            <a:off x="4530600" y="533520"/>
            <a:ext cx="4591080" cy="59436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4" name="Picture 5" descr="prokaryot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push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Comic Sans MS"/>
              </a:rPr>
              <a:t>Eubacteria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ke up the larger of the two prokaryote kingdo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nerally are surrounded by a cell wall composed of complex carbohydra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97" name="Picture 13" descr="Eubacteria"/>
          <p:cNvPicPr/>
          <p:nvPr/>
        </p:nvPicPr>
        <p:blipFill>
          <a:blip r:embed="rId3"/>
          <a:stretch/>
        </p:blipFill>
        <p:spPr>
          <a:xfrm>
            <a:off x="4876920" y="1998720"/>
            <a:ext cx="3733560" cy="3591000"/>
          </a:xfrm>
          <a:prstGeom prst="rect">
            <a:avLst/>
          </a:prstGeom>
          <a:ln w="0">
            <a:noFill/>
          </a:ln>
        </p:spPr>
      </p:pic>
      <p:sp>
        <p:nvSpPr>
          <p:cNvPr id="2498" name="AutoShape 9"/>
          <p:cNvSpPr/>
          <p:nvPr/>
        </p:nvSpPr>
        <p:spPr>
          <a:xfrm>
            <a:off x="3757680" y="2757600"/>
            <a:ext cx="1628640" cy="13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9" name="AutoShape 11"/>
          <p:cNvSpPr/>
          <p:nvPr/>
        </p:nvSpPr>
        <p:spPr>
          <a:xfrm>
            <a:off x="3757680" y="2757600"/>
            <a:ext cx="1628640" cy="13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Comic Sans MS"/>
              </a:rPr>
              <a:t>Cyanobacteri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501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2895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hotosynthetic bacterium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luish-greenish colo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ontain membranes that carry out the process of photosynthesi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o not contain the same type of chloroplasts as plants d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his bluish-greenish algae can be found nearly everywhere on earth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an survive in extremely hot environments and even extremely cold environmen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02" name="Picture 5" descr="Cyanobacteria"/>
          <p:cNvPicPr/>
          <p:nvPr/>
        </p:nvPicPr>
        <p:blipFill>
          <a:blip r:embed="rId1"/>
          <a:stretch/>
        </p:blipFill>
        <p:spPr>
          <a:xfrm>
            <a:off x="3314880" y="1600200"/>
            <a:ext cx="5829120" cy="464832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3" name="Picture 5" descr="archaebacteria"/>
          <p:cNvPicPr/>
          <p:nvPr/>
        </p:nvPicPr>
        <p:blipFill>
          <a:blip r:embed="rId1"/>
          <a:stretch/>
        </p:blipFill>
        <p:spPr>
          <a:xfrm>
            <a:off x="3352680" y="1600200"/>
            <a:ext cx="5562720" cy="5056200"/>
          </a:xfrm>
          <a:prstGeom prst="rect">
            <a:avLst/>
          </a:prstGeom>
          <a:ln w="0">
            <a:noFill/>
          </a:ln>
        </p:spPr>
      </p:pic>
      <p:sp>
        <p:nvSpPr>
          <p:cNvPr id="25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Comic Sans MS"/>
              </a:rPr>
              <a:t>Archaebacteria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05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28195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Lack important carbohydrate found in cell walls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Have different lipids in their cell membrane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Different types of ribosomes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Very different gene sequences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Archaebacteria can live in extremely harsh environments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They do not require oxygen and can live in extremely salty environments as well as extremely hot environments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Comic Sans MS"/>
              </a:rPr>
              <a:t>Identifying Prokaryote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ell Shap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ell Wa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08" name="Picture 5" descr="Prokaryote2"/>
          <p:cNvPicPr/>
          <p:nvPr/>
        </p:nvPicPr>
        <p:blipFill>
          <a:blip r:embed="rId4"/>
          <a:stretch/>
        </p:blipFill>
        <p:spPr>
          <a:xfrm>
            <a:off x="4724280" y="1905120"/>
            <a:ext cx="3262320" cy="2792160"/>
          </a:xfrm>
          <a:prstGeom prst="rect">
            <a:avLst/>
          </a:prstGeom>
          <a:ln w="0">
            <a:noFill/>
          </a:ln>
        </p:spPr>
      </p:pic>
      <p:pic>
        <p:nvPicPr>
          <p:cNvPr id="2509" name="Picture 8" descr="Prokaryote7"/>
          <p:cNvPicPr/>
          <p:nvPr/>
        </p:nvPicPr>
        <p:blipFill>
          <a:blip r:embed="rId5"/>
          <a:stretch/>
        </p:blipFill>
        <p:spPr>
          <a:xfrm>
            <a:off x="1143000" y="3886200"/>
            <a:ext cx="3048120" cy="24112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0" name="Picture 5" descr="BACTERIA"/>
          <p:cNvPicPr/>
          <p:nvPr/>
        </p:nvPicPr>
        <p:blipFill>
          <a:blip r:embed="rId1"/>
          <a:stretch/>
        </p:blipFill>
        <p:spPr>
          <a:xfrm>
            <a:off x="5872320" y="457200"/>
            <a:ext cx="3271680" cy="6248520"/>
          </a:xfrm>
          <a:prstGeom prst="rect">
            <a:avLst/>
          </a:prstGeom>
          <a:ln w="0">
            <a:noFill/>
          </a:ln>
        </p:spPr>
      </p:pic>
      <p:sp>
        <p:nvSpPr>
          <p:cNvPr id="25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541008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terium Sha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54100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cci~ Sphere shaped bact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illus~ Rod shaped bact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irrillium ~ Spiral shaped bact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agella~ Leg-like structures that help to propel the bacteriu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l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7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What are Viruse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58" name="PlaceHolder 2"/>
          <p:cNvSpPr>
            <a:spLocks noGrp="1"/>
          </p:cNvSpPr>
          <p:nvPr>
            <p:ph/>
          </p:nvPr>
        </p:nvSpPr>
        <p:spPr>
          <a:xfrm>
            <a:off x="685800" y="3505320"/>
            <a:ext cx="7772400" cy="25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omic Sans MS"/>
              </a:rPr>
              <a:t>A virus is a non-cellular particle made up of genetic material and protein that can invade living cells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spd="slow">
    <p:wedg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3" name="Picture 5" descr="cwprofile"/>
          <p:cNvPicPr/>
          <p:nvPr/>
        </p:nvPicPr>
        <p:blipFill>
          <a:blip r:embed="rId1"/>
          <a:stretch/>
        </p:blipFill>
        <p:spPr>
          <a:xfrm>
            <a:off x="228600" y="3733920"/>
            <a:ext cx="8610480" cy="1976400"/>
          </a:xfrm>
          <a:prstGeom prst="rect">
            <a:avLst/>
          </a:prstGeom>
          <a:ln w="0">
            <a:noFill/>
          </a:ln>
        </p:spPr>
      </p:pic>
      <p:sp>
        <p:nvSpPr>
          <p:cNvPr id="25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Comic Sans MS"/>
              </a:rPr>
              <a:t>Gram + and Gram – Bacterium Cell Wall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Comic Sans MS"/>
              </a:rPr>
              <a:t>Cellular Wall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516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38188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hemical nature of a cell wall can be determined by Gram Stain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y finding out what color the cell produces when it is gram stained you can figure out the type of carbohydrates in the cell wal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17" name="Picture 5" descr="Prokaryotes4"/>
          <p:cNvPicPr/>
          <p:nvPr/>
        </p:nvPicPr>
        <p:blipFill>
          <a:blip r:embed="rId1"/>
          <a:stretch/>
        </p:blipFill>
        <p:spPr>
          <a:xfrm>
            <a:off x="1371600" y="3471840"/>
            <a:ext cx="6400800" cy="338616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Movemen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55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lagella ~ Tail like structure the whips around to propel the bacterium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35880" indent="-3358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illia ~ Miniature flagella surround the cell that help to “swim”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35880" indent="-3358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Non motile ~ Sticky cillia like structures that keep the bacterium from moving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spd="slow">
    <p:wedg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ecff"/>
                </a:solidFill>
                <a:latin typeface="Comic Sans MS"/>
              </a:rPr>
              <a:t>Flagella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521" name="Picture 5" descr="fladist"/>
          <p:cNvPicPr/>
          <p:nvPr/>
        </p:nvPicPr>
        <p:blipFill>
          <a:blip r:embed="rId1"/>
          <a:stretch/>
        </p:blipFill>
        <p:spPr>
          <a:xfrm>
            <a:off x="304920" y="2743200"/>
            <a:ext cx="8610480" cy="20876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2" name="PlaceHolder 1"/>
          <p:cNvSpPr>
            <a:spLocks noGrp="1"/>
          </p:cNvSpPr>
          <p:nvPr>
            <p:ph type="title"/>
          </p:nvPr>
        </p:nvSpPr>
        <p:spPr>
          <a:xfrm>
            <a:off x="-360" y="-4936680"/>
            <a:ext cx="30492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dfdef6"/>
              </a:solidFill>
              <a:latin typeface="Comic Sans MS"/>
            </a:endParaRPr>
          </a:p>
        </p:txBody>
      </p:sp>
      <p:pic>
        <p:nvPicPr>
          <p:cNvPr id="2523" name="Picture 5" descr="img0102"/>
          <p:cNvPicPr/>
          <p:nvPr/>
        </p:nvPicPr>
        <p:blipFill>
          <a:blip r:embed="rId1"/>
          <a:stretch/>
        </p:blipFill>
        <p:spPr>
          <a:xfrm>
            <a:off x="533520" y="1295280"/>
            <a:ext cx="3368520" cy="4572000"/>
          </a:xfrm>
          <a:prstGeom prst="rect">
            <a:avLst/>
          </a:prstGeom>
          <a:ln w="0">
            <a:noFill/>
          </a:ln>
        </p:spPr>
      </p:pic>
      <p:pic>
        <p:nvPicPr>
          <p:cNvPr id="2524" name="Picture 8" descr="CB"/>
          <p:cNvPicPr/>
          <p:nvPr/>
        </p:nvPicPr>
        <p:blipFill>
          <a:blip r:embed="rId2"/>
          <a:stretch/>
        </p:blipFill>
        <p:spPr>
          <a:xfrm>
            <a:off x="4267080" y="1295280"/>
            <a:ext cx="4191120" cy="419112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Bacteria and their energy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2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90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utotrop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emotrop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terotrop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27" name="Picture 9" descr="lin-bacteria-w"/>
          <p:cNvPicPr/>
          <p:nvPr/>
        </p:nvPicPr>
        <p:blipFill>
          <a:blip r:embed="rId1"/>
          <a:stretch/>
        </p:blipFill>
        <p:spPr>
          <a:xfrm>
            <a:off x="3581280" y="1676520"/>
            <a:ext cx="5410440" cy="351000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Autotroph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ke their own energ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sing Solar energ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g. Cyanobacteri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30" name="Picture 5" descr="cyanobacteria"/>
          <p:cNvPicPr/>
          <p:nvPr/>
        </p:nvPicPr>
        <p:blipFill>
          <a:blip r:embed="rId1"/>
          <a:stretch/>
        </p:blipFill>
        <p:spPr>
          <a:xfrm>
            <a:off x="4572000" y="2212920"/>
            <a:ext cx="4114800" cy="333072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hemotroph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ake own Energ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Using Chemical energ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g. Archaebacteri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533" name="Picture 5" descr="archaebacteria"/>
          <p:cNvPicPr/>
          <p:nvPr/>
        </p:nvPicPr>
        <p:blipFill>
          <a:blip r:embed="rId1"/>
          <a:stretch/>
        </p:blipFill>
        <p:spPr>
          <a:xfrm>
            <a:off x="4572000" y="1881360"/>
            <a:ext cx="4343400" cy="394812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horz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Heterotroph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5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btain f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y eat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g. E-col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36" name="Picture 5" descr="x_e"/>
          <p:cNvPicPr/>
          <p:nvPr/>
        </p:nvPicPr>
        <p:blipFill>
          <a:blip r:embed="rId1"/>
          <a:stretch/>
        </p:blipFill>
        <p:spPr>
          <a:xfrm>
            <a:off x="4191120" y="2114640"/>
            <a:ext cx="4647960" cy="3873240"/>
          </a:xfrm>
          <a:prstGeom prst="rect">
            <a:avLst/>
          </a:prstGeom>
          <a:ln w="0">
            <a:noFill/>
          </a:ln>
        </p:spPr>
      </p:pic>
    </p:spTree>
  </p:cSld>
  <p:transition spd="slow">
    <p:comb dir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Bacteria Respiratio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538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384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bligate Anaerob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acultative Anaerob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bligate Aerob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9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ive without Oxyg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an live with or without oxyg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annot live without oxygen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pull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9" name="Picture 17" descr="viruses"/>
          <p:cNvPicPr/>
          <p:nvPr/>
        </p:nvPicPr>
        <p:blipFill>
          <a:blip r:embed="rId1"/>
          <a:stretch/>
        </p:blipFill>
        <p:spPr>
          <a:xfrm>
            <a:off x="1165320" y="1523880"/>
            <a:ext cx="2868480" cy="3886200"/>
          </a:xfrm>
          <a:prstGeom prst="rect">
            <a:avLst/>
          </a:prstGeom>
          <a:ln w="0">
            <a:noFill/>
          </a:ln>
        </p:spPr>
      </p:pic>
      <p:pic>
        <p:nvPicPr>
          <p:cNvPr id="2460" name="Picture 22" descr="viruses2"/>
          <p:cNvPicPr/>
          <p:nvPr/>
        </p:nvPicPr>
        <p:blipFill>
          <a:blip r:embed="rId2"/>
          <a:stretch/>
        </p:blipFill>
        <p:spPr>
          <a:xfrm>
            <a:off x="4637160" y="1676520"/>
            <a:ext cx="2703600" cy="3809880"/>
          </a:xfrm>
          <a:prstGeom prst="rect">
            <a:avLst/>
          </a:prstGeom>
          <a:ln w="0">
            <a:noFill/>
          </a:ln>
        </p:spPr>
      </p:pic>
      <p:sp>
        <p:nvSpPr>
          <p:cNvPr id="24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ccecff"/>
                </a:solidFill>
                <a:latin typeface="Antique Olive"/>
              </a:rPr>
              <a:t>T4 Bacteriophage</a:t>
            </a:r>
            <a:endParaRPr b="0" lang="en-US" sz="55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acteria Reproduc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inary Fi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njug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ore Form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blinds dir="horz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2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4" name="Picture 5" descr="img003"/>
          <p:cNvPicPr/>
          <p:nvPr/>
        </p:nvPicPr>
        <p:blipFill>
          <a:blip r:embed="rId1"/>
          <a:stretch/>
        </p:blipFill>
        <p:spPr>
          <a:xfrm>
            <a:off x="0" y="-3816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2545" name="Rectangle 7"/>
          <p:cNvSpPr/>
          <p:nvPr/>
        </p:nvSpPr>
        <p:spPr>
          <a:xfrm>
            <a:off x="0" y="54100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Cellular organism copies it’s genetic information then splits into two identical daughter ce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u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jug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type of Bacteria S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o organism swap genetic information, that contains the information such as a resistance to penicil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8" name="Picture 5" descr="conjugation"/>
          <p:cNvPicPr/>
          <p:nvPr/>
        </p:nvPicPr>
        <p:blipFill>
          <a:blip r:embed="rId1"/>
          <a:stretch/>
        </p:blipFill>
        <p:spPr>
          <a:xfrm>
            <a:off x="4495680" y="457200"/>
            <a:ext cx="4338720" cy="6400800"/>
          </a:xfrm>
          <a:prstGeom prst="rect">
            <a:avLst/>
          </a:prstGeom>
          <a:ln w="0">
            <a:noFill/>
          </a:ln>
        </p:spPr>
      </p:pic>
    </p:spTree>
  </p:cSld>
  <p:transition>
    <p:push dir="u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79963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Comic Sans MS"/>
              </a:rPr>
              <a:t>Spore Formation: Endospor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A type of dormant cell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xhibit no signs of lif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Highly resistant to environmental stresses such a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-High temperatur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-Irradi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-Strong aci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-Disinfecta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ndospores are formed by vegetative cells in response to environmental signals that indicate a limiting factor for vegetative growth, such as exhaustion of an essential nutrient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51" name="Picture 5" descr="endospore"/>
          <p:cNvPicPr/>
          <p:nvPr/>
        </p:nvPicPr>
        <p:blipFill>
          <a:blip r:embed="rId1"/>
          <a:stretch/>
        </p:blipFill>
        <p:spPr>
          <a:xfrm>
            <a:off x="5029200" y="1447920"/>
            <a:ext cx="3821040" cy="510516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ymbiosi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55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ose relationship between to species in which at least one species benefits from the oth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ive together for LIF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pull dir="ru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asit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teria exploit the host cell, injuring th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g. Mychobacterium tuberculo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6" name="Picture 5" descr="Mycobacterium-tuberculosis"/>
          <p:cNvPicPr/>
          <p:nvPr/>
        </p:nvPicPr>
        <p:blipFill>
          <a:blip r:embed="rId1"/>
          <a:stretch/>
        </p:blipFill>
        <p:spPr>
          <a:xfrm>
            <a:off x="4282920" y="990720"/>
            <a:ext cx="4083120" cy="4876560"/>
          </a:xfrm>
          <a:prstGeom prst="rect">
            <a:avLst/>
          </a:prstGeom>
          <a:ln w="0">
            <a:noFill/>
          </a:ln>
        </p:spPr>
      </p:pic>
    </p:spTree>
  </p:cSld>
  <p:transition>
    <p:push dir="u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Mutualism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ymbiosis in which two of the species live together in such a way that both benefit from the relationshi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g. E-coli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9" name="Picture 4" descr="_394740_ecoli300"/>
          <p:cNvPicPr/>
          <p:nvPr/>
        </p:nvPicPr>
        <p:blipFill>
          <a:blip r:embed="rId1"/>
          <a:stretch/>
        </p:blipFill>
        <p:spPr>
          <a:xfrm>
            <a:off x="4572000" y="2400480"/>
            <a:ext cx="4114800" cy="287640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Nitrogen Fixations 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cess by which nitrogen in the atmosphere is converted into a form that can be used by living thing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2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3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2" name="Picture 6" descr="em_herps"/>
          <p:cNvPicPr/>
          <p:nvPr/>
        </p:nvPicPr>
        <p:blipFill>
          <a:blip r:embed="rId1"/>
          <a:stretch/>
        </p:blipFill>
        <p:spPr>
          <a:xfrm>
            <a:off x="1523880" y="1828800"/>
            <a:ext cx="6096240" cy="4067280"/>
          </a:xfrm>
          <a:prstGeom prst="rect">
            <a:avLst/>
          </a:prstGeom>
          <a:ln w="0">
            <a:noFill/>
          </a:ln>
        </p:spPr>
      </p:pic>
      <p:sp>
        <p:nvSpPr>
          <p:cNvPr id="24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b7"/>
                </a:solidFill>
                <a:latin typeface="Comic Sans MS"/>
              </a:rPr>
              <a:t>Herpes Virus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p:transition spd="slow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4" name="Picture 5" descr="_394740_ecoli300"/>
          <p:cNvPicPr/>
          <p:nvPr/>
        </p:nvPicPr>
        <p:blipFill>
          <a:blip r:embed="rId1"/>
          <a:stretch/>
        </p:blipFill>
        <p:spPr>
          <a:xfrm>
            <a:off x="1523880" y="1447920"/>
            <a:ext cx="6019920" cy="3611520"/>
          </a:xfrm>
          <a:prstGeom prst="rect">
            <a:avLst/>
          </a:prstGeom>
          <a:ln w="0">
            <a:noFill/>
          </a:ln>
        </p:spPr>
      </p:pic>
      <p:sp>
        <p:nvSpPr>
          <p:cNvPr id="246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Escherichia Coli Bacterium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66" name="PlaceHolder 2"/>
          <p:cNvSpPr>
            <a:spLocks noGrp="1"/>
          </p:cNvSpPr>
          <p:nvPr>
            <p:ph type="subTitle"/>
          </p:nvPr>
        </p:nvSpPr>
        <p:spPr>
          <a:xfrm>
            <a:off x="228240" y="5105160"/>
            <a:ext cx="85345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. coli is a bacterium.  That is a crude cell, it is not a virus because viruses are protein containers with DNA cores or RNA cor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push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7" name="Picture 5" descr="tphage1"/>
          <p:cNvPicPr/>
          <p:nvPr/>
        </p:nvPicPr>
        <p:blipFill>
          <a:blip r:embed="rId1"/>
          <a:stretch/>
        </p:blipFill>
        <p:spPr>
          <a:xfrm>
            <a:off x="457200" y="380880"/>
            <a:ext cx="2571840" cy="1714680"/>
          </a:xfrm>
          <a:prstGeom prst="rect">
            <a:avLst/>
          </a:prstGeom>
          <a:ln w="0">
            <a:noFill/>
          </a:ln>
        </p:spPr>
      </p:pic>
      <p:pic>
        <p:nvPicPr>
          <p:cNvPr id="2468" name="Picture 7" descr="attaching phage"/>
          <p:cNvPicPr/>
          <p:nvPr/>
        </p:nvPicPr>
        <p:blipFill>
          <a:blip r:embed="rId2"/>
          <a:stretch/>
        </p:blipFill>
        <p:spPr>
          <a:xfrm>
            <a:off x="3124080" y="2286000"/>
            <a:ext cx="2248200" cy="1343160"/>
          </a:xfrm>
          <a:prstGeom prst="rect">
            <a:avLst/>
          </a:prstGeom>
          <a:ln w="0">
            <a:noFill/>
          </a:ln>
        </p:spPr>
      </p:pic>
      <p:pic>
        <p:nvPicPr>
          <p:cNvPr id="2469" name="Picture 9" descr="phagedna"/>
          <p:cNvPicPr/>
          <p:nvPr/>
        </p:nvPicPr>
        <p:blipFill>
          <a:blip r:embed="rId3"/>
          <a:stretch/>
        </p:blipFill>
        <p:spPr>
          <a:xfrm>
            <a:off x="6629400" y="2666880"/>
            <a:ext cx="961920" cy="1276560"/>
          </a:xfrm>
          <a:prstGeom prst="rect">
            <a:avLst/>
          </a:prstGeom>
          <a:ln w="0">
            <a:noFill/>
          </a:ln>
        </p:spPr>
      </p:pic>
      <p:pic>
        <p:nvPicPr>
          <p:cNvPr id="2470" name="Picture 13" descr="tphage2"/>
          <p:cNvPicPr/>
          <p:nvPr/>
        </p:nvPicPr>
        <p:blipFill>
          <a:blip r:embed="rId4"/>
          <a:stretch/>
        </p:blipFill>
        <p:spPr>
          <a:xfrm>
            <a:off x="2819520" y="4038480"/>
            <a:ext cx="4762440" cy="1114560"/>
          </a:xfrm>
          <a:prstGeom prst="rect">
            <a:avLst/>
          </a:prstGeom>
          <a:ln w="0">
            <a:noFill/>
          </a:ln>
        </p:spPr>
      </p:pic>
      <p:pic>
        <p:nvPicPr>
          <p:cNvPr id="2471" name="Picture 15" descr="t4movie"/>
          <p:cNvPicPr/>
          <p:nvPr/>
        </p:nvPicPr>
        <p:blipFill>
          <a:blip r:embed="rId5"/>
          <a:stretch/>
        </p:blipFill>
        <p:spPr>
          <a:xfrm>
            <a:off x="2438280" y="5791320"/>
            <a:ext cx="4896000" cy="857160"/>
          </a:xfrm>
          <a:prstGeom prst="rect">
            <a:avLst/>
          </a:prstGeom>
          <a:ln w="0">
            <a:noFill/>
          </a:ln>
        </p:spPr>
      </p:pic>
      <p:sp>
        <p:nvSpPr>
          <p:cNvPr id="2472" name="PlaceHolder 1"/>
          <p:cNvSpPr>
            <a:spLocks noGrp="1"/>
          </p:cNvSpPr>
          <p:nvPr>
            <p:ph type="title"/>
          </p:nvPr>
        </p:nvSpPr>
        <p:spPr>
          <a:xfrm>
            <a:off x="2742840" y="228240"/>
            <a:ext cx="609588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. Coli and the Bacteriophag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73" name="PlaceHolder 2"/>
          <p:cNvSpPr>
            <a:spLocks noGrp="1"/>
          </p:cNvSpPr>
          <p:nvPr>
            <p:ph type="subTitle"/>
          </p:nvPr>
        </p:nvSpPr>
        <p:spPr>
          <a:xfrm>
            <a:off x="2521080" y="5028840"/>
            <a:ext cx="510696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hat it looks like in real lif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omic Sans MS"/>
              </a:rPr>
              <a:t>The Structure Of a Viru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iruses are composed of a core of nucleic aci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Nucleic acid core is surrounded by a protein coat called a capsi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Nucleic core is either made up of DNA or RNA but never bot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76" name="Picture 8" descr="bacteriophage"/>
          <p:cNvPicPr/>
          <p:nvPr/>
        </p:nvPicPr>
        <p:blipFill>
          <a:blip r:embed="rId1"/>
          <a:stretch/>
        </p:blipFill>
        <p:spPr>
          <a:xfrm>
            <a:off x="4495680" y="1523880"/>
            <a:ext cx="4199040" cy="472464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7" name="Picture 8" descr="image012"/>
          <p:cNvPicPr/>
          <p:nvPr/>
        </p:nvPicPr>
        <p:blipFill>
          <a:blip r:embed="rId1"/>
          <a:stretch/>
        </p:blipFill>
        <p:spPr>
          <a:xfrm>
            <a:off x="0" y="895320"/>
            <a:ext cx="9144000" cy="5962680"/>
          </a:xfrm>
          <a:prstGeom prst="rect">
            <a:avLst/>
          </a:prstGeom>
          <a:ln w="0">
            <a:noFill/>
          </a:ln>
        </p:spPr>
      </p:pic>
      <p:sp>
        <p:nvSpPr>
          <p:cNvPr id="247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8240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Comic Sans MS"/>
              </a:rPr>
              <a:t>Cycle of Lytic and Lysogenic</a:t>
            </a: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Vaccines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8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iruses grown on chicken embryos are attenuated vaccin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other type of vaccine is made by heat killing the virus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05T23:14:57Z</dcterms:created>
  <dc:creator>Jeddy</dc:creator>
  <dc:description/>
  <dc:language>en-US</dc:language>
  <cp:lastModifiedBy>RomaK</cp:lastModifiedBy>
  <dcterms:modified xsi:type="dcterms:W3CDTF">2015-09-04T10:53:29Z</dcterms:modified>
  <cp:revision>24</cp:revision>
  <dc:subject/>
  <dc:title>Viruses &amp; Bacteria</dc:title>
</cp:coreProperties>
</file>