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567F-22A7-4E8B-922F-D1BFAF9258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carbon acetyl CoA joins with a 4-carbon compound to form a 6- carbon compound called C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ady to start the cycle onc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rbons removed are released as C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is process called decarbox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 controlling the release of hydrogen are called dehydrogen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coenzyme NADH2 transfers hydrogen to a chain of hydrogen carriers called cytochrom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fer of hydrogen from each NADH2 alo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cess called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 oxidation of glucose yields 38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ed by enzyme cytochrome oxid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016-5D78-4A6C-8C96-DA4C5DF7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B96D-850A-46E5-9E90-C1DFB8E5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8CA-52EF-4DA5-811E-5F3338B4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3F5-8EF1-47D8-8181-27E22C03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A8D-3F4B-48FA-A374-5A814BD8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5EB-749C-40A4-B9F4-9EE604CA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68B-5741-4230-ADDE-B8BADEC4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D02-2F65-4B5C-A9F8-C76190F1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627-169A-471A-9B05-1EA9CA85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DCA-A1DC-44C6-BEDA-8061F752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C7A-F310-4360-9F50-9BAD40F1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3CD-DF94-4151-9236-605A8E67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61C1-2140-4DAB-A151-8B3930886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Kreb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ccurs in the matrix of the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erobic phase (requires oxy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-carbon acetyl C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s wit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carbon 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orm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- carbon compou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it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ric acid (6C) is gradually converted back to the 4-carbon compou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start the cycle once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ns removed are released as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is process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arboxy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drogens, which are removed, join with NAD to form NADH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nzymes controlling the release of hydrogen are called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hydroge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rebs cycle"/>
          <p:cNvPicPr/>
          <p:nvPr/>
        </p:nvPicPr>
        <p:blipFill>
          <a:blip r:embed="rId1"/>
          <a:stretch/>
        </p:blipFill>
        <p:spPr>
          <a:xfrm>
            <a:off x="826920" y="189000"/>
            <a:ext cx="741708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Cytochrom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6 points along pathway where hydrogen is released and temporarily bound to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d coenzyme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ransfers hydrogen to a chain of hydrogen carrier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ytochrom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systems are attached to the cristate of every mitochondr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of hydrogen from each NAD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o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duces 3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oces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lete oxidation of glucose yield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2 during glyco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36 during oxidative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The cytochrome system"/>
          <p:cNvPicPr/>
          <p:nvPr/>
        </p:nvPicPr>
        <p:blipFill>
          <a:blip r:embed="rId1"/>
          <a:stretch/>
        </p:blipFill>
        <p:spPr>
          <a:xfrm>
            <a:off x="179280" y="1628640"/>
            <a:ext cx="882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ole of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hydrogen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bines to form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olled by enzy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ytochrome oxid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ce of oxygen also essential for hydrogen to pass along the cytochrom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1:39:20Z</dcterms:created>
  <dc:creator>hhashmi</dc:creator>
  <dc:description/>
  <dc:language>en-US</dc:language>
  <cp:lastModifiedBy>RomaK</cp:lastModifiedBy>
  <dcterms:modified xsi:type="dcterms:W3CDTF">2015-09-04T11:07:14Z</dcterms:modified>
  <cp:revision>7</cp:revision>
  <dc:subject/>
  <dc:title>The Krebs Cycle</dc:title>
</cp:coreProperties>
</file>