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.png" ContentType="image/pn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5.jpeg" ContentType="image/jpeg"/>
  <Override PartName="/ppt/media/image10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8264-A7CC-4DD2-814A-341772BA2A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emperature Regul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By the end of the lesson you should know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ow the body corrects overheat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ow the body corrects overcool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hat thermocreceptors do?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hat volutary responses are carried out to control temperatur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 Reg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k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e body corrects overh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e body corrects overcoo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rmocreceptors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volutary responses are carried out to control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Vasoconstriction and Vasodilat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soconstriction and Vasodila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orrection of overheat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Detected by thermoreceptors in the hypothalamus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auses vasodilation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weat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ion of overh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cted by thermoreceptors in the hypothalam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vasodi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ooling dow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hen it's hot and you need to cool down, muscles at each hair  relax.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airs lie close to the skin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Air does not act as an insulating layer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ing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t's hot and you need to cool down, muscles at each hair  rela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rs lie close to the sk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does not act as an insulating lay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weat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eat energy in the body is used to convert the water in sweat to vapour cooling down the body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energy in the body is used to convert the water in sweat to vapour cooling down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orrection of overcool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Detected by thermoreceptors in the hypothalamus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auses vasoconstriction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Decreased sweat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hiver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ion of overcoo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cted by thermoreceptors in the hypothalam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vasoconstri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d sw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Keeping warm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hen it's cold, the muscle contracts pulls the hair up.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A layer of warm air accumulates around the hair and insulates the organism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eat retained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w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t's cold, the muscle contracts pulls the hair u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ayer of warm air accumulates around the hair and insulates the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re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hiver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Voluntary response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In humans the cerebrum “makes” people feel cold or hot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hey can then e.g. put on more clothes, eat a hot meal, exercise etc as appropriate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ntary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humans the cerebrum “makes” people feel cold or h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then e.g. put on more clothes, eat a hot meal, exercise etc as appropri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o provide the optimum conditions for enzyme-catalysed reactions to be carried out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hy do we need to regulate:</a:t>
            </a:r>
            <a:br>
              <a:rPr sz="1200"/>
            </a:b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Internal body temperatur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ovide the optimum conditions for enzyme-catalysed reactions to be carrie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need to regulat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body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Body Temperatur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Normal internal body temperature is 370C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emperatures above this: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denature enzymes and block metabolic pathway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emperatures below this: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low down metabolism and affect the brain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internal body temperature is 370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s above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ature enzymes and block metabolic path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s below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down metabolism and affect the br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ater Bath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emperature set on thermostat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oo cool? Heater kicks on and temperature goes up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oo warm? Heater stays off until bath cools dow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onstant checking and turning on and off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B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 set on thermos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cool? Heater kicks on and temperature goes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warm? Heater stays off until bath cool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 checking and turning on and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ontrol of homeostasis through feedback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Feedback system- cycle of events in which the status of a body condition is continually monitored, evaluated, changed, re-monitored, re-evaluated, etc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of homeostasis through feedb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back system- cycle of events in which the status of a body condition is continually monitored, evaluated, changed, re-monitored, re-evaluated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1) receptor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ensor that responds to changes (stimuli)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2) control centr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ets range of values, evaluates input and sends output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3) effector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receives output from control centre and produces a respons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3 basic components of a feedback system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re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 that responds to changes (stimu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control cen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 range of values, evaluates input and sends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eff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s output from control centre and produces a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basic components of a feedback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Body Temperature Contro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he hypothalamus acts as a thermostat and receives nerve impulses from heat and cold thermoreceptors in the skin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here are also receptors in the hypothalamus- called central thermoreceptors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hese detect changes in blood temperature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emperature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pothalamus acts as a thermostat and receives nerve impulses from heat and cold thermoreceptors in the sk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also receptors in the hypothalamus- called central thermorecep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detect changes in blood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282B-A055-4440-875B-BA2ADBE28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BCCF-C2C8-428D-8706-A7579CD5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EA3C-6E8A-495F-A272-CDB529F37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E2E5-B73A-43E6-B4D2-D51237207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248D-E66C-41A3-B506-CA191849F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F323-D6FF-451F-BDB7-2525F060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898A-76C9-4874-BB58-47F6E652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D94B-BE47-43C7-A770-27FC8A9E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034D-F1B9-44DA-8024-974D2E8B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A3D7-993D-4484-B831-13D2F906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41C8-FBAB-4947-A4D9-43C0D3F5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2125-4602-4F0A-9CC0-3F511703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DECE-82FC-4FAA-9394-95BC8A5F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373D-0866-4941-AECD-8B93B37C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E2FE-C5D6-4D48-83E3-170A3572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4641-C9BA-4D0F-8839-ADFBC2D4B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FA2B-CD15-43BF-8048-AA9CB624C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1DEA-FDC6-4E55-8722-71A04801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D287-CA6B-4DBF-A434-6EFD4C1F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6C19-FD96-4733-9C38-039C2EDA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0E76-335F-49DC-BEAB-C920FCA1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D046-FED6-4CAE-B37D-E0760AC5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F648-0198-4094-A79F-13CDCC87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26BC-7046-4DC5-A2EF-47D2744F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6EBD-B2C1-421F-8D99-F7B35E757AC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3C50-A804-4A5D-AE56-1BC661C4346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eakman.com/beakman/haircurl/haircurl.html" TargetMode="External"/><Relationship Id="rId2" Type="http://schemas.openxmlformats.org/officeDocument/2006/relationships/hyperlink" Target="http://www.beakman.com/beakman/haircurl/haircurl.html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eakman.com/beakman/haircurl/haircurl.html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Temperature Regulation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By the end of the lesson you should know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How the body corrects overheat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How the body corrects overcool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What thermocreceptors do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What volutary responses are carried out to control temperatu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708840" y="834120"/>
            <a:ext cx="83628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Vasoconstriction and Vasodilatation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24" name="Picture 3" descr="Skin_tws_41_02"/>
          <p:cNvPicPr/>
          <p:nvPr/>
        </p:nvPicPr>
        <p:blipFill>
          <a:blip r:embed="rId1"/>
          <a:stretch/>
        </p:blipFill>
        <p:spPr>
          <a:xfrm>
            <a:off x="1763640" y="1693800"/>
            <a:ext cx="6121440" cy="47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5292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  <a:ea typeface="Arial"/>
              </a:rPr>
              <a:t>Correction of overheating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6554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Detected by thermoreceptors in the hypothalamu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Causes vasodilatio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Sweat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7" name="Picture 4" descr="Vasodilation"/>
          <p:cNvPicPr/>
          <p:nvPr/>
        </p:nvPicPr>
        <p:blipFill>
          <a:blip r:embed="rId1"/>
          <a:stretch/>
        </p:blipFill>
        <p:spPr>
          <a:xfrm>
            <a:off x="3733920" y="2984400"/>
            <a:ext cx="5410080" cy="3873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sweating 2"/>
          <p:cNvPicPr/>
          <p:nvPr/>
        </p:nvPicPr>
        <p:blipFill>
          <a:blip r:embed="rId2"/>
          <a:stretch/>
        </p:blipFill>
        <p:spPr>
          <a:xfrm>
            <a:off x="228600" y="3581280"/>
            <a:ext cx="308628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Cooling down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When it's hot and you need to cool down, muscles at each </a:t>
            </a:r>
            <a:r>
              <a:rPr b="0" lang="en-GB" sz="2400" spc="-1" strike="noStrike" u="sng">
                <a:solidFill>
                  <a:srgbClr val="0099ff"/>
                </a:solidFill>
                <a:uFillTx/>
                <a:latin typeface="Comic Sans MS"/>
                <a:hlinkClick r:id="rId1"/>
              </a:rPr>
              <a:t>hair</a:t>
            </a: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  relax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Hairs lie close to the ski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Air does not act as an insulating layer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1" name="Picture 4" descr="coo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2349360"/>
            <a:ext cx="431928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540720" y="7200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Sweating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3" name="Picture 3" descr="sweating_it_out"/>
          <p:cNvPicPr/>
          <p:nvPr/>
        </p:nvPicPr>
        <p:blipFill>
          <a:blip r:embed="rId1"/>
          <a:stretch/>
        </p:blipFill>
        <p:spPr>
          <a:xfrm>
            <a:off x="539640" y="981000"/>
            <a:ext cx="4176720" cy="5616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5292720" y="3500280"/>
            <a:ext cx="360036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How does it work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Heat energy in the body is used to convert the water in sweat to vapour cooling down the body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986400" y="7578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  <a:ea typeface="Arial"/>
              </a:rPr>
              <a:t>Correction of overcooling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560" y="1676520"/>
            <a:ext cx="655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Detected by thermoreceptors in the hypothalamu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Causes vasoconstrictio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Decreased sweat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Shiver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7" name="Picture 4" descr="Vasoconstriction"/>
          <p:cNvPicPr/>
          <p:nvPr/>
        </p:nvPicPr>
        <p:blipFill>
          <a:blip r:embed="rId1"/>
          <a:stretch/>
        </p:blipFill>
        <p:spPr>
          <a:xfrm>
            <a:off x="4114800" y="2971800"/>
            <a:ext cx="5029200" cy="3554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shivering"/>
          <p:cNvPicPr/>
          <p:nvPr/>
        </p:nvPicPr>
        <p:blipFill>
          <a:blip r:embed="rId2"/>
          <a:stretch/>
        </p:blipFill>
        <p:spPr>
          <a:xfrm>
            <a:off x="965160" y="4038480"/>
            <a:ext cx="2171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Keeping warm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Comic Sans MS"/>
              </a:rPr>
              <a:t>When it's cold, the muscle contracts pulls the hair up.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Comic Sans MS"/>
              </a:rPr>
              <a:t>A layer of warm air accumulates around the hair and insulates the organism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Comic Sans MS"/>
              </a:rPr>
              <a:t>Heat retain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1" name="Picture 4" descr="war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2880" y="1628640"/>
            <a:ext cx="43340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00cc"/>
                </a:solidFill>
                <a:uFillTx/>
                <a:latin typeface="Arial"/>
              </a:rPr>
              <a:t>Shivering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43" name="Picture 3" descr="shivering-at-the-gap"/>
          <p:cNvPicPr/>
          <p:nvPr/>
        </p:nvPicPr>
        <p:blipFill>
          <a:blip r:embed="rId1"/>
          <a:stretch/>
        </p:blipFill>
        <p:spPr>
          <a:xfrm>
            <a:off x="395280" y="1268280"/>
            <a:ext cx="5905440" cy="49024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4"/>
          <p:cNvSpPr/>
          <p:nvPr/>
        </p:nvSpPr>
        <p:spPr>
          <a:xfrm>
            <a:off x="6300720" y="2637000"/>
            <a:ext cx="28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How does it work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  <a:ea typeface="Arial"/>
              </a:rPr>
              <a:t>Voluntary responses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091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In humans the cerebrum “makes” people feel cold or hot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They can then e.g. put on more clothes, eat a hot meal, exercise etc as appropriate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476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'cutaway' skin diagram view showing sweat ducts, epidermis, dermis, hair shafts, rete pegs, sebaceous glands, dermal nerve fiber, muscle, subcutaneous fat, and hair follicles"/>
          <p:cNvPicPr/>
          <p:nvPr/>
        </p:nvPicPr>
        <p:blipFill>
          <a:blip r:embed="rId1"/>
          <a:stretch/>
        </p:blipFill>
        <p:spPr>
          <a:xfrm>
            <a:off x="611280" y="260280"/>
            <a:ext cx="85327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LP102_Pic1"/>
          <p:cNvPicPr/>
          <p:nvPr/>
        </p:nvPicPr>
        <p:blipFill>
          <a:blip r:embed="rId1"/>
          <a:stretch/>
        </p:blipFill>
        <p:spPr>
          <a:xfrm>
            <a:off x="250920" y="476280"/>
            <a:ext cx="864216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2743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552600" indent="-55260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To provide the optimum conditions for enzyme-catalysed reactions to be carried out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4120" y="83412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Why do we need to regulate:</a:t>
            </a:r>
            <a:br>
              <a:rPr sz="4400"/>
            </a:b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Internal body temperature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910440" y="452880"/>
            <a:ext cx="71690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  <a:ea typeface="Arial"/>
              </a:rPr>
              <a:t>Body Temperature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62120" y="17524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Normal internal body temperature is 37</a:t>
            </a:r>
            <a:r>
              <a:rPr b="0" lang="en-US" sz="3100" spc="-1" strike="noStrike" baseline="30000">
                <a:solidFill>
                  <a:srgbClr val="000066"/>
                </a:solidFill>
                <a:latin typeface="Comic Sans MS"/>
                <a:ea typeface="Times New Roman"/>
              </a:rPr>
              <a:t>0</a:t>
            </a: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C.</a:t>
            </a: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Temperatures </a:t>
            </a:r>
            <a:r>
              <a:rPr b="0" lang="en-US" sz="31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above</a:t>
            </a: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this:</a:t>
            </a: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denature enzymes and block metabolic pathways</a:t>
            </a: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Temperatures </a:t>
            </a:r>
            <a:r>
              <a:rPr b="0" lang="en-US" sz="31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below</a:t>
            </a: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this:</a:t>
            </a: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low down metabolism and affect the brain.</a:t>
            </a: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748440" y="62640"/>
            <a:ext cx="7647120" cy="8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Water Bath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812880" y="4805280"/>
            <a:ext cx="756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emperature set on thermost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oo cool? Heater kicks on and temperature goes u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oo warm? Heater stays off until bath cools dow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Constant checking and turning on and off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2" name="Picture 4" descr="S-2058-1"/>
          <p:cNvPicPr/>
          <p:nvPr/>
        </p:nvPicPr>
        <p:blipFill>
          <a:blip r:embed="rId1"/>
          <a:stretch/>
        </p:blipFill>
        <p:spPr>
          <a:xfrm>
            <a:off x="2590920" y="838080"/>
            <a:ext cx="39243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06400" y="1265040"/>
            <a:ext cx="7838280" cy="59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omic Sans MS"/>
                <a:ea typeface="Times New Roman"/>
              </a:rPr>
              <a:t>Control of homeostasis through feedback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2514240"/>
            <a:ext cx="85341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Feedback system- cycle of events in which the status of a body condition is continually monitored, evaluated, changed, re-monitored, re-evaluated, etc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5" name="Picture 4" descr="j0254474"/>
          <p:cNvPicPr/>
          <p:nvPr/>
        </p:nvPicPr>
        <p:blipFill>
          <a:blip r:embed="rId1"/>
          <a:stretch/>
        </p:blipFill>
        <p:spPr>
          <a:xfrm>
            <a:off x="7238880" y="1295280"/>
            <a:ext cx="141768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1) recepto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sensor that responds to changes (stimuli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2) control cent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sets range of values, evaluates input and sends outpu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3) effecto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receives output from control centre and produces a respon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3 basic components of a feedback system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062720" y="3006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  <a:ea typeface="Arial"/>
              </a:rPr>
              <a:t>Body Temperature Control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3579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he hypothalamus acts as a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hermostat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and receives nerve impulses from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heat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ld 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hermoreceptors in the ski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here are also receptors in the hypothalamus- called central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hermoreceptors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0" name="Picture 4" descr="glakgar_pit_hypothalamus"/>
          <p:cNvPicPr/>
          <p:nvPr/>
        </p:nvPicPr>
        <p:blipFill>
          <a:blip r:embed="rId1"/>
          <a:stretch/>
        </p:blipFill>
        <p:spPr>
          <a:xfrm>
            <a:off x="4495680" y="1447920"/>
            <a:ext cx="4648320" cy="40910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4343400" y="586728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These detect changes in blood temperatur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3809880" y="6172200"/>
            <a:ext cx="5335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4T10:48:30Z</dcterms:modified>
  <cp:revision>5</cp:revision>
  <dc:subject/>
  <dc:title>temperature regul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