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8EF1-A641-4F41-81E2-498E9EE9F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5FB-C2F9-4407-A7F9-0B225950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3B0-29FB-41DA-BB4C-F705647F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252E-12ED-43B8-89ED-6787E97A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E9F-654E-4D96-B568-E83B2564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CD23-CB94-4293-9171-075A4CBC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59C9-DB9C-4EAA-88E8-917FDD13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06AA-7CED-472F-87E6-92FED2B0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378D-CF42-4BD9-8C17-1A17C33A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023D-4013-480F-8E9A-1020BF7F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7D15-4532-495E-B66A-107054FF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AFBA-49FC-4502-9E06-AEDD3C2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40D-B2E6-47A2-966C-6526E6C7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6F78-2DB1-4CEB-9793-5F577F67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208B-964A-4343-830C-DBCDE2F0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3ED9-BB99-48B5-A98D-9678C04A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17B5-BDFF-40D0-B6C6-CD33D75E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45B9-BB69-4DF9-B95C-2C0F0B9B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02F-4F99-4424-AD02-F1301E52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6CB-C6F5-4B6B-9D93-74EE4103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5955-88F7-436C-B715-8296307A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791-FB72-42AA-8895-8A6DA779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0B3-8DDC-499D-8DF7-7CB0C733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414-1B2F-4798-8654-AFDF1ADF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890-A47B-4679-99EE-FE644D3B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2DB3-5098-4111-A3FC-46317A5FB2C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BC91-ECCE-4AAD-BC60-ED47182DA9D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hyperlink" Target="http://www.beakman.com/beakman/haircurl/haircurl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Temperature Regul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By the end of the lesson you should kn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hea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coo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thermocreceptors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volutary responses are carried out to control tempera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08840" y="834120"/>
            <a:ext cx="836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Vasoconstriction and Vasodilat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Skin_tws_41_02"/>
          <p:cNvPicPr/>
          <p:nvPr/>
        </p:nvPicPr>
        <p:blipFill>
          <a:blip r:embed="rId1"/>
          <a:stretch/>
        </p:blipFill>
        <p:spPr>
          <a:xfrm>
            <a:off x="1763640" y="1693800"/>
            <a:ext cx="6121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h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dil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4" descr="Vasodilation"/>
          <p:cNvPicPr/>
          <p:nvPr/>
        </p:nvPicPr>
        <p:blipFill>
          <a:blip r:embed="rId1"/>
          <a:stretch/>
        </p:blipFill>
        <p:spPr>
          <a:xfrm>
            <a:off x="3733920" y="2984400"/>
            <a:ext cx="5410080" cy="387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weating 2"/>
          <p:cNvPicPr/>
          <p:nvPr/>
        </p:nvPicPr>
        <p:blipFill>
          <a:blip r:embed="rId2"/>
          <a:stretch/>
        </p:blipFill>
        <p:spPr>
          <a:xfrm>
            <a:off x="228600" y="3581280"/>
            <a:ext cx="30862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Cooling dow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When it's hot and you need to cool down, muscles at each </a:t>
            </a:r>
            <a:r>
              <a:rPr b="0" lang="en-GB" sz="2400" spc="-1" strike="noStrike" u="sng">
                <a:solidFill>
                  <a:srgbClr val="0099ff"/>
                </a:solidFill>
                <a:uFillTx/>
                <a:latin typeface="Comic Sans MS"/>
                <a:hlinkClick r:id="rId1"/>
              </a:rPr>
              <a:t>hair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 rela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Hairs lie close to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Air does not act as an insulating lay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4" descr="c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0720" y="72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w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sweating_it_out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292720" y="3500280"/>
            <a:ext cx="360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eat energy in the body is used to convert the water in sweat to vapour cooling down the bo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8640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cool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65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constri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creased 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hiv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4" descr="Vasoconstriction"/>
          <p:cNvPicPr/>
          <p:nvPr/>
        </p:nvPicPr>
        <p:blipFill>
          <a:blip r:embed="rId1"/>
          <a:stretch/>
        </p:blipFill>
        <p:spPr>
          <a:xfrm>
            <a:off x="4114800" y="2971800"/>
            <a:ext cx="5029200" cy="35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hivering"/>
          <p:cNvPicPr/>
          <p:nvPr/>
        </p:nvPicPr>
        <p:blipFill>
          <a:blip r:embed="rId2"/>
          <a:stretch/>
        </p:blipFill>
        <p:spPr>
          <a:xfrm>
            <a:off x="965160" y="40384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Keeping warm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When it's cold, the muscle contracts pulls the hair up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A layer of warm air accumulates around the hair and insulates the organis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Heat reta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4" descr="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2880" y="1628640"/>
            <a:ext cx="433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Shive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Picture 3" descr="shivering-at-the-gap"/>
          <p:cNvPicPr/>
          <p:nvPr/>
        </p:nvPicPr>
        <p:blipFill>
          <a:blip r:embed="rId1"/>
          <a:stretch/>
        </p:blipFill>
        <p:spPr>
          <a:xfrm>
            <a:off x="395280" y="1268280"/>
            <a:ext cx="5905440" cy="490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6300720" y="2637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Voluntary responses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 humans the cerebrum “makes” people feel cold or h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ey can then e.g. put on more clothes, eat a hot meal, exercise etc as appropria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'cutaway' skin diagram view showing sweat ducts, epidermis, dermis, hair shafts, rete pegs, sebaceous glands, dermal nerve fiber, muscle, subcutaneous fat, and hair follicles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LP102_Pic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o provide the optimum conditions for enzyme-catalysed reactions to be carried ou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hy do we need to regulate: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nternal 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0440" y="452880"/>
            <a:ext cx="7169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Normal internal body temperature is 37</a:t>
            </a:r>
            <a:r>
              <a:rPr b="0" lang="en-US" sz="31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bove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enature enzymes and block metabolic pathways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low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low down metabolism and affect the brain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8440" y="62640"/>
            <a:ext cx="76471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ater Bath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2880" y="48052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emperature set on thermost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cool? Heater kicks on and temperature goes 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warm? Heater stays off until bath cools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nstant checking and turning on an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4" descr="S-2058-1"/>
          <p:cNvPicPr/>
          <p:nvPr/>
        </p:nvPicPr>
        <p:blipFill>
          <a:blip r:embed="rId1"/>
          <a:stretch/>
        </p:blipFill>
        <p:spPr>
          <a:xfrm>
            <a:off x="2590920" y="8380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06400" y="12650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Control of homeostasis through feedback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eedback system- cycle of events in which the status of a body condition is continually monitored, evaluated, changed, re-monitored, re-evaluated,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Picture 4" descr="j0254474"/>
          <p:cNvPicPr/>
          <p:nvPr/>
        </p:nvPicPr>
        <p:blipFill>
          <a:blip r:embed="rId1"/>
          <a:stretch/>
        </p:blipFill>
        <p:spPr>
          <a:xfrm>
            <a:off x="7238880" y="1295280"/>
            <a:ext cx="141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1) recep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nsor that responds to changes (stimuli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2) control cent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ts range of values, evaluates input and sends out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3) eff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ceives output from control centre and produces a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3 basic components of a feedback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27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 Contr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7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hypothalamus acts as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st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receives nerve impulses fro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moreceptors in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e are also receptors in the hypothalamus- called central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receptor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4" descr="glakgar_pit_hypothalamus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091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4340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These detect changes in blood tempera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809880" y="617220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48:30Z</dcterms:modified>
  <cp:revision>5</cp:revision>
  <dc:subject/>
  <dc:title>temperature 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