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.png" ContentType="image/pn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5.jpeg" ContentType="image/jpeg"/>
  <Override PartName="/ppt/media/image10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B1A2-C93A-4BC3-A974-E04BFE8EE7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 Regul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y the end of the lesson you should know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the body corrects overh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the body corrects overcool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at thermocreceptors do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at volutary responses are carried out to control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 Reg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k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 body corrects overh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 body corrects overcoo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ermocreceptors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volutary responses are carried out to control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Vasoconstriction and Vasodilat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soconstriction and Vasodila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rrection of overh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auses vasodilatio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ion of overh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vasodi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oling dow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en it's hot and you need to cool down, muscles at each hair  relax.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airs lie close to the sk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Air does not act as an insulating layer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ling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's hot and you need to cool down, muscles at each hair  relax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rs lie close to the 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does not act as an insulating lay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eat energy in the body is used to convert the water in sweat to vapour cooling down the body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energy in the body is used to convert the water in sweat to vapour cooling down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rrection of overcool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auses vasoconstrictio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creased sweat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ion of overcoo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ed by thermoreceptors in the hypothalam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vasoconstri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d sw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Keeping war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en it's cold, the muscle contracts pulls the hair up.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A layer of warm air accumulates around the hair and insulates the organism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eat retained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w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's cold, the muscle contracts pulls the hair u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yer of warm air accumulates around the hair and insulates the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re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Voluntary response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 humans the cerebrum “makes” people feel cold or hot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y can then e.g. put on more clothes, eat a hot meal, exercise etc as appropriate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ntary 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humans the cerebrum “makes” people feel cold or h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n then e.g. put on more clothes, eat a hot meal, exercise etc as appropri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 provide the optimum conditions for enzyme-catalysed reactions to be carried out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hy do we need to regulate:</a:t>
            </a:r>
            <a:br>
              <a:rPr sz="1200"/>
            </a:b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nternal body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rovide the optimum conditions for enzyme-catalysed reactions to be carri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to regul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ody Temperatu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Normal internal body temperature is 370C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s above this: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denature enzymes and block metabolic pathways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s below this: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low down metabolism and affect the bra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emper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internal body temperature is 37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s above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ature enzymes and block metabolic path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s bel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 metabolism and affect the br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Water Bath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emperature set on thermosta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o cool? Heater kicks on and temperature goes up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oo warm? Heater stays off until bath cools dow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nstant checking and turning on and off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 set on thermos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cool? Heater kicks on and temperature goes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warm? Heater stays off until bath cools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checking and turning on and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Control of homeostasis through feedback 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eedback system- cycle of events in which the status of a body condition is continually monitored, evaluated, changed, re-monitored, re-evaluated, etc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homeostasis through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system- cycle of events in which the status of a body condition is continually monitored, evaluated, changed, re-monitored, re-evaluated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) receptor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nsor that responds to changes (stimuli)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2) control centr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ets range of values, evaluates input and sends output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) effector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receives output from control centre and produces a response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3 basic components of a feedback system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ecep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 that responds to changes (stimu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control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 range of values, evaluates input and sends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eff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s output from control centre and produces a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basic components of a feedback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Body Temperature Control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 hypothalamus acts as a thermostat and receives nerve impulses from heat and cold thermoreceptors in the skin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re are also receptors in the hypothalamus- called central thermoreceptors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se detect changes in blood temperature.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emperatur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pothalamus acts as a thermostat and receives nerve impulses from heat and cold thermoreceptors in the 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lso receptors in the hypothalamus- called central thermorecep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detect changes in blood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E49F-E540-4BCA-8FD2-F0BBC61AF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B6EF-8251-4150-9D3A-58CA6BB2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9CE8-3A4E-4E52-8AAC-444FB23E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0F8C-FA91-40C4-BA2F-C41C9D9E2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1391-4055-482B-ACA2-BF5F016B8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EAB4-73B2-43CA-9B30-79B54A4B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7E39-23B8-4F89-8ADB-114F1EE6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392D-4716-4653-9A08-50437224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EBE7-BAEC-4693-8326-B09B9C69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B448-90E8-489D-B163-95F16B65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CA603-1CA9-4B50-812B-CAE54EF6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A45B-6FDA-40CD-8CF1-12CA24E7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1A51-3EF1-459A-BBDE-4E60056A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942E-D895-415B-A53B-B52E98EC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3537-493C-49DA-BED1-0212F756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1F81-C4B6-444F-AE13-BD959F32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FA23-DD56-49FD-9FD0-9F4D6AA6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2125-C506-41A1-A053-C7318A3F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EC60-E9D5-4250-B4B3-10CE24D6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41BE-2696-470C-9B69-8F09313A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632A-0074-4AB2-AED4-2AF211BA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50B1-639A-4961-BEC6-2F00A6DA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1443-EAEC-4091-B91C-84C88123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E862-4D7C-4F16-B2A6-09C9DEE0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60DA-0364-467D-A424-58079F95B78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6641-1D1B-4ACD-BC77-C841517FE0F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eakman.com/beakman/haircurl/haircurl.html" TargetMode="External"/><Relationship Id="rId2" Type="http://schemas.openxmlformats.org/officeDocument/2006/relationships/hyperlink" Target="http://www.beakman.com/beakman/haircurl/haircurl.html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beakman.com/beakman/haircurl/haircurl.html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Temperature Regulatio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By the end of the lesson you should kno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the body corrects overheat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the body corrects overcool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What thermocreceptors do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What volutary responses are carried out to control temperat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08840" y="834120"/>
            <a:ext cx="83628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Vasoconstriction and Vasodilatatio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4" name="Picture 3" descr="Skin_tws_41_02"/>
          <p:cNvPicPr/>
          <p:nvPr/>
        </p:nvPicPr>
        <p:blipFill>
          <a:blip r:embed="rId1"/>
          <a:stretch/>
        </p:blipFill>
        <p:spPr>
          <a:xfrm>
            <a:off x="1763640" y="1693800"/>
            <a:ext cx="612144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5292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Correction of overheat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655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tected by thermoreceptors in the hypothalamu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auses vasodila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wea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7" name="Picture 4" descr="Vasodilation"/>
          <p:cNvPicPr/>
          <p:nvPr/>
        </p:nvPicPr>
        <p:blipFill>
          <a:blip r:embed="rId1"/>
          <a:stretch/>
        </p:blipFill>
        <p:spPr>
          <a:xfrm>
            <a:off x="3733920" y="2984400"/>
            <a:ext cx="5410080" cy="3873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sweating 2"/>
          <p:cNvPicPr/>
          <p:nvPr/>
        </p:nvPicPr>
        <p:blipFill>
          <a:blip r:embed="rId2"/>
          <a:stretch/>
        </p:blipFill>
        <p:spPr>
          <a:xfrm>
            <a:off x="228600" y="3581280"/>
            <a:ext cx="308628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Cooling down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When it's hot and you need to cool down, muscles at each </a:t>
            </a:r>
            <a:r>
              <a:rPr b="0" lang="en-GB" sz="2400" spc="-1" strike="noStrike" u="sng">
                <a:solidFill>
                  <a:srgbClr val="0099ff"/>
                </a:solidFill>
                <a:uFillTx/>
                <a:latin typeface="Comic Sans MS"/>
                <a:hlinkClick r:id="rId1"/>
              </a:rPr>
              <a:t>hair</a:t>
            </a: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  relax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Hairs lie close to the ski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Air does not act as an insulating layer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1" name="Picture 4" descr="coo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2349360"/>
            <a:ext cx="431928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540720" y="7200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Sweat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3" name="Picture 3" descr="sweating_it_out"/>
          <p:cNvPicPr/>
          <p:nvPr/>
        </p:nvPicPr>
        <p:blipFill>
          <a:blip r:embed="rId1"/>
          <a:stretch/>
        </p:blipFill>
        <p:spPr>
          <a:xfrm>
            <a:off x="539640" y="981000"/>
            <a:ext cx="4176720" cy="5616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5292720" y="3500280"/>
            <a:ext cx="3600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ow does it work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Comic Sans MS"/>
              </a:rPr>
              <a:t>Heat energy in the body is used to convert the water in sweat to vapour cooling down the bod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986400" y="757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Correction of overcooling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655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tected by thermoreceptors in the hypothalamu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auses vasoconstric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Decreased swea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hiver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Picture 4" descr="Vasoconstriction"/>
          <p:cNvPicPr/>
          <p:nvPr/>
        </p:nvPicPr>
        <p:blipFill>
          <a:blip r:embed="rId1"/>
          <a:stretch/>
        </p:blipFill>
        <p:spPr>
          <a:xfrm>
            <a:off x="4114800" y="2971800"/>
            <a:ext cx="5029200" cy="3554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shivering"/>
          <p:cNvPicPr/>
          <p:nvPr/>
        </p:nvPicPr>
        <p:blipFill>
          <a:blip r:embed="rId2"/>
          <a:stretch/>
        </p:blipFill>
        <p:spPr>
          <a:xfrm>
            <a:off x="965160" y="4038480"/>
            <a:ext cx="2171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Keeping warm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When it's cold, the muscle contracts pulls the hair up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A layer of warm air accumulates around the hair and insulates the organism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Comic Sans MS"/>
              </a:rPr>
              <a:t>Heat retain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1" name="Picture 4" descr="war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2880" y="1628640"/>
            <a:ext cx="43340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cc"/>
                </a:solidFill>
                <a:uFillTx/>
                <a:latin typeface="Arial"/>
              </a:rPr>
              <a:t>Shivering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3" name="Picture 3" descr="shivering-at-the-gap"/>
          <p:cNvPicPr/>
          <p:nvPr/>
        </p:nvPicPr>
        <p:blipFill>
          <a:blip r:embed="rId1"/>
          <a:stretch/>
        </p:blipFill>
        <p:spPr>
          <a:xfrm>
            <a:off x="395280" y="1268280"/>
            <a:ext cx="5905440" cy="49024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4"/>
          <p:cNvSpPr/>
          <p:nvPr/>
        </p:nvSpPr>
        <p:spPr>
          <a:xfrm>
            <a:off x="6300720" y="2637000"/>
            <a:ext cx="28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How does it work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Voluntary responses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12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-476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In humans the cerebrum “makes” people feel cold or hot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They can then e.g. put on more clothes, eat a hot meal, exercise etc as appropriate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476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'cutaway' skin diagram view showing sweat ducts, epidermis, dermis, hair shafts, rete pegs, sebaceous glands, dermal nerve fiber, muscle, subcutaneous fat, and hair follicles"/>
          <p:cNvPicPr/>
          <p:nvPr/>
        </p:nvPicPr>
        <p:blipFill>
          <a:blip r:embed="rId1"/>
          <a:stretch/>
        </p:blipFill>
        <p:spPr>
          <a:xfrm>
            <a:off x="611280" y="260280"/>
            <a:ext cx="8532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LP102_Pic1"/>
          <p:cNvPicPr/>
          <p:nvPr/>
        </p:nvPicPr>
        <p:blipFill>
          <a:blip r:embed="rId1"/>
          <a:stretch/>
        </p:blipFill>
        <p:spPr>
          <a:xfrm>
            <a:off x="250920" y="476280"/>
            <a:ext cx="864216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743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To provide the optimum conditions for enzyme-catalysed reactions to be carried out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Why do we need to regulate:</a:t>
            </a:r>
            <a:br>
              <a:rPr sz="4400"/>
            </a:b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Internal body temperature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10440" y="452880"/>
            <a:ext cx="71690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  <a:ea typeface="Arial"/>
              </a:rPr>
              <a:t>Body Temperature</a:t>
            </a:r>
            <a:endParaRPr b="1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Normal internal body temperature is 37</a:t>
            </a:r>
            <a:r>
              <a:rPr b="0" lang="en-US" sz="3100" spc="-1" strike="noStrike" baseline="30000">
                <a:solidFill>
                  <a:srgbClr val="000066"/>
                </a:solidFill>
                <a:latin typeface="Comic Sans MS"/>
                <a:ea typeface="Times New Roman"/>
              </a:rPr>
              <a:t>0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.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emperatures </a:t>
            </a:r>
            <a:r>
              <a:rPr b="0" lang="en-US" sz="31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above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this: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enature enzymes and block metabolic pathways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emperatures </a:t>
            </a:r>
            <a:r>
              <a:rPr b="0" lang="en-US" sz="3100" spc="-1" strike="noStrike">
                <a:solidFill>
                  <a:srgbClr val="ff3300"/>
                </a:solidFill>
                <a:latin typeface="Comic Sans MS"/>
                <a:ea typeface="Times New Roman"/>
              </a:rPr>
              <a:t>below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this: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n-US" sz="31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low down metabolism and affect the brain.</a:t>
            </a: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748440" y="62640"/>
            <a:ext cx="7647120" cy="8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</a:rPr>
              <a:t>Water Bath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12880" y="4805280"/>
            <a:ext cx="75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emperature set on thermost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oo cool? Heater kicks on and temperature goes up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oo warm? Heater stays off until bath cools dow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Constant checking and turning on and of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2" name="Picture 4" descr="S-2058-1"/>
          <p:cNvPicPr/>
          <p:nvPr/>
        </p:nvPicPr>
        <p:blipFill>
          <a:blip r:embed="rId1"/>
          <a:stretch/>
        </p:blipFill>
        <p:spPr>
          <a:xfrm>
            <a:off x="2590920" y="838080"/>
            <a:ext cx="39243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06400" y="1265040"/>
            <a:ext cx="7838280" cy="59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  <a:ea typeface="Times New Roman"/>
              </a:rPr>
              <a:t>Control of homeostasis through feedback</a:t>
            </a: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2514240"/>
            <a:ext cx="8534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Feedback system- cycle of events in which the status of a body condition is continually monitored, evaluated, changed, re-monitored, re-evaluated, etc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5" name="Picture 4" descr="j0254474"/>
          <p:cNvPicPr/>
          <p:nvPr/>
        </p:nvPicPr>
        <p:blipFill>
          <a:blip r:embed="rId1"/>
          <a:stretch/>
        </p:blipFill>
        <p:spPr>
          <a:xfrm>
            <a:off x="7238880" y="1295280"/>
            <a:ext cx="141768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1) recept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ensor that responds to changes (stimuli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2) control cent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sets range of values, evaluates input and sends outpu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3) effect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receives output from control centre and produces a respon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mic Sans MS"/>
              </a:rPr>
              <a:t>3 basic components of a feedback system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062720" y="3006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omic Sans MS"/>
                <a:ea typeface="Arial"/>
              </a:rPr>
              <a:t>Body Temperature Control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3579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 hypothalamus acts as a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hermostat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nd receives nerve impulses from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heat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ld 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rmoreceptors in the ski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There are also receptors in the hypothalamus- called central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hermoreceptors</a:t>
            </a:r>
            <a:r>
              <a:rPr b="0" lang="en-US" sz="24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0" name="Picture 4" descr="glakgar_pit_hypothalamus"/>
          <p:cNvPicPr/>
          <p:nvPr/>
        </p:nvPicPr>
        <p:blipFill>
          <a:blip r:embed="rId1"/>
          <a:stretch/>
        </p:blipFill>
        <p:spPr>
          <a:xfrm>
            <a:off x="4495680" y="1447920"/>
            <a:ext cx="4648320" cy="40910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4343400" y="586728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Comic Sans MS"/>
              </a:rPr>
              <a:t>These detect changes in blood temperatur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>
            <a:off x="3809880" y="6172200"/>
            <a:ext cx="5335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4T10:48:30Z</dcterms:modified>
  <cp:revision>5</cp:revision>
  <dc:subject/>
  <dc:title>temperature regul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