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4.png" ContentType="image/png"/>
  <Override PartName="/ppt/media/image5.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B8FF9-ED3F-4587-9890-A47603712B2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nit 2: Bon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reochemistry – The Structures of Molecular Compou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far we have seen molecules represented in 2-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molecules are actually 3 dimensio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predict 3 dimensional molecular shapes we use VSEPR theory (Valence-Shell Electron-Pair Repul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d on the electrostatic repulsion of electron pai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that the repulsion force is strongest between two lone pairs and the weakest between two bonded pairs, and the repulsion between a lone pair and a bonded pair is intermedi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pply the VSEPR theory to a central atom that has an octet of electrons in its valence shell, and there are three categories of shapes; linear, trigonal planar, and tetrahedr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VSEPR, an electron group is a bond (single or multiple) or a lone pai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n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s when a central atom has two electron grou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hape is linear because the electron groups try to arrange themselves as far apart as poss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nd angle between the electron groups is 18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ntral atom is bonded to two other atoms by two double bonds or a combination of a single bond and a triple bo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gonal Plan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entral atom with three electron groups has a trigonal planar sha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nding angle between the electron groups is 120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ntral atom is either bonded to three atoms(trigonal planar), or two atoms and a lone pair(bent or V-shap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trahedr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entral atom with four electron groups has a tetrahedral sha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nding angles between the electron groups is 109.5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ntral atom can be bonded to four atoms (tetrahedral), three atoms and a lone pair (trigonal pyramidal), or two atoms and two lone pairs (bent or V-shap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formation 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ps to Predicting Molecular Sha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a primary LDD of the molec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ermine the total number of electron groups around the central at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ermine the types of electron groups (bonding pairs or lone pai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ermine which shape will accommodate the combination of electron grou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egati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egativity is a measure of the relative ability of an element’s atoms to attract the shared electrons in a chemical bo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er electronegativities mean a greater attraction for the electr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uorine is the highest with a value of 4.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vie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valent Bon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ic and Metallic Bon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egati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ecular Sha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ic Cryst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twork Sol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molecular Fo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egativity</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ain group elements, electronegativity tends to increase with the group number (left to right on the periodic t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e noble gases do not have electronegativities, why is th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egativities also increase as you move vertically up a group numb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 Siz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ny period in the periodic table, as you move right the size of the atom decre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oes this trend ex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 siz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number of protons increases, the force attracting the electrons incre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lectrons are pulled closer to the nucleus of the at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fference of electronegativity between two bonding atoms can be measured by subtracting the smaller number from the larger numb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fference in the two electronegativities determines the nature of the bo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nds that are sharing electrons UNEQUALLY between two atoms are called POLAR COVALENT BO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atoms are identical (equal electronegativity), the bond will not be polar. This is called NON-POLAR COVALENT BO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covalent bonds have a positive “pole” and a negative “pole” so they are also referred to as “bond dipo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covalent bonds have an electronegativity difference between 0 and 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ic bonds have an electronegativity difference between 1.7 and 3.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Molecu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molecules that contain polar bonds necessarily pol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of H2O and CO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etermine if a molecule is polar we need to look at the overall direction of po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in polarity arrows on your molecule and determine if the molecules are polar or n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ic Bo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ic bonds form from the electrostatic attraction between oppositely charged 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become ionic by losing or gaining electrons from the atom it is bonding wi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at an atom will lose its electrons to fill its outer level if its valence level is less than half full, as it is with met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 Exchange and Ionic Bond 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valent Bon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nds between atoms are formed through the sharing of electr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valent bonds form between two non-metal atoms through sharing of pairs of electr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have a “desire” to have their outer energy levels filled (Octet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valent bonding can be represented with Lewis Dot Diagr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allic Bon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als can form bonds with other metals, but it is neither covalent or ion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als cannot share electrons to form an octet of electrons around each at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ine 8 sodium atoms all trying to share the same 8 electr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metal atoms do not form covalent or ionic bonds with each other, there must be relatively strong attractive forces holding the atoms together or else the metals would be in a gaseous st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etallic bonding, the valence electrons are delocalized, which means they are free to move from one atom to the n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the electrons are free to move, all of the atoms share all of the valence electr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electrostatic force between the positively charged metal ions and the negative electrons that make the metallic bo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ic Cryst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her than one metal bonding to one non-metal, ionic substances have their ions packed together in a crystal latt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rystals can also be represented in a ball and stick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icks represent the attractive forces between the 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all the attractions are equal, there are no pairs of ions to be identified as molecu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fore the formula only represents the ratio of the ions in the cryst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mallest ratio of ions in the crystal is called a formula unit, not a molec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pe of the macroscopic crystals is determined by the way their ions pack toge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mallest set of ions in a crystal needed to make the pattern is called a unit ce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able Salt              Sucrose        Uncut Diamond</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ize of each ion influences the pattern of 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influence is the relative charge of the ions, and therefore the ratio of ions in the cryst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ystal 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beautiful crystal formations can be found in nature as well as in the labora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Dot Diagrams</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Dot Diagrams show the sharing of electrons between atoms and where the bonds f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share electrons to fill their outer energy levels (8 electrons in their outer she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xception is hydrogen (2 electrons in its outer she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twork Sol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ionic crystals, but they are held together with covalent bo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gle elements can form an array of different network sol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g. Carbon forms graphite, diamond, nanotubes (pg. 6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different network solid of the same element just has different arrangement of the ato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network solids contain two different el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g. Silicon Dioxide (sand, quart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Ques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molecular Fo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valent bonds exist between atoms within a molecular comp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covalent bonds are called intramolecular fo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ces holding entire molecules together are called intermolecular fo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pole-Dipole Fo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ccurs between polar molecu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molecules have a positive pole and a negative pole so they are called dipo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wo dipoles come close to each other, the positive pole of one is attracted to the negative pole of the 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pole-Dipole Attra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molecule can be attracted to four or more other polar molecules at the same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called Dipole-Dipole Att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as strong as ionic attraction, but can be strong enough to stabilize a solid cryst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g. Table sug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Bon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 dipole-dipole attraction that occurs between hydrogen and highly electronegative atoms such as oxygen, nitrogen, or fluor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sitive nucleus of the hydrogen atom is attracted to the slightly negative charge on the other at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ch stronger than other dipole-dipole attra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Dot Diagrams for Hydrogen and Chlorine G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row shows the atoms before they are bon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row shows the sharing of electrons to fill the outer energy le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row has circles around the electrons  to show those that belong to each atom. Where the circles overlap  represents a covalent bo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Bonding in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bonding is an important factor that influences the structure and properties of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xygen atom can be hydrogen bonded to as many as 6 other hydrogen atoms in other water molecu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Bonds in 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water molecule is hydrogen bonded to four other water molecu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ter molecules in ice are farther apart than in liquid water, therefore ice is less dense than liquid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bonds are the strongest in the form shown in the next diag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que Properties Rea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the handout on the unique properties of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don Dispersion Fo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persion forces act between all molecules, but in non-polar molecules they are the only for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 though there are no permanent dipoles in non-polar molecules, it is possible to induce dipo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n-polar molecules also spontaneously form temporary dipo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 are in constant, rapid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 brief moment the electron distribution can be unev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n form a positive pole and a negative pole in the molec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mporary dipole in the molecule can induce a temporary dipole in the next molecule, like the balloon and the wa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cess disperses through the subst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tors Affecting Magnitu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factors affect LD fo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reased electrons = increased probability of a temporary dipole form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near shapes have greater London dispersion fo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s and Properties of Compou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te of a substance (solid, liquid or gas) depends on the strength of the intermolecular fo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particles gain kinetic energy (heat) they break their intermolecular bonds and change st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ltiple Bo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uble and triple bonds can form between atoms in order to fill the outer energy le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ccurs when two atoms share more than one pair of electr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e of Hydrogen Bon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YI – hydrogen bonds in liquid water break and reform 100 000 000 000 (1011) times every seco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lting and Boiling Poi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lting and boiling points of ionic substances and metals are about the same magnitu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lting and boiling points of molecular substances are much l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that tell us about the fo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ic bonds are much stronger if the ions have a large char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onic compounds that have ions with large charges will have higher melting/boiling poi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ecular Fo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the molecular compounds,  dipoles that form hydrogen bonds are the strong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pole-dipole forces are weaker than hydrogen bo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n-polar molecules that have London dispersion forces are the weak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fore, hydrogen bonded substances have the highest melting/boiling points, dipole-dipole have lower melting/boiling points, and non-polar substances have the lowest melting/boiling poi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chanical Properties of Sol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als are malleable because of the nature of metallic bonds (positive ions in a sea of electr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ic substances are brittle because if a layer of the crystal is shifted down one position,  like ions will be aligned and rep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n-polar molecular substances are usually soft and easily bro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i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ility of a substance to transfer electrical cur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is to occur, charged particles (ions or electrons) must be able to move free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als are good conductors because their electrons are free to move throughout the metallic stru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ic solids do not conduct electric current because the ions are held together in a rigid stru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ic substances that are dissolved in water are good conductors because the charged ions are free to move in the s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network solids can conduct electricity because of delocalized electrons (graphi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ecular compounds cannot conduct electricity in pure form or dissolved in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view Ques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g. 13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4,6-14, 16, 19, 21, 22, 25-29, 31, 34-39, 41, 43, 47, 48, 51, 57, 6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rdebenham@cbe.ab.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ltiple Lewis Struc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olecules can have more than one possible Lewis structure, usually when one single bond and one double bond can be exchanged within the rules of drawing Lewis struc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of SO2 (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al Diagr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Diagrams can be converted to structural diagrams for conveni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al diagrams use lines to represent a bond, or a pair of electrons, but it does not show lone electron pai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Chlorine G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Dot Diagram Workshe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 rules for drawing Lewis dot diagrams, complete the worksheet (LDD and structur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tra practice, try the Lewis Structures Thought La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DCDB1A-BBB9-472A-ADC3-71DCC153EE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76769E-35D2-421F-BB18-1C9E2D661A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91F57F-E1C9-46BA-926F-FAA43F0C0D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3D9B5D-6A25-4CF5-97E1-C7A4B20CDF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E9B118-C382-4383-A5E9-E1284AE5A9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0FFAED-1801-4AD1-8765-34C4252FCF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17EF9B-3589-46CC-ADD8-C9499B1D9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D3380B-215E-4BA3-A0A9-112CD2C7E6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770F6E-FDF9-4E86-B13B-E5D1E6B207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D9C50-EFEA-4A79-BA5D-881885C84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A0DA9-11E7-480C-8EAF-682A4956F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30D2C-D175-4974-8CDD-67CA1FCC2B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8E1EA-0839-4CC1-8A68-E4DA820FD8D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Unit 2: Bonding</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Stereochemistry – The Structures of Molecular Compounds</a:t>
            </a:r>
            <a:endParaRPr b="0" lang="en-US" sz="40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o far we have seen molecules represented in 2-D</a:t>
            </a: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owever, molecules are actually 3 dimensional</a:t>
            </a: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o predict 3 dimensional molecular shapes we use VSEPR theory (Valence-Shell Electron-Pair Repulsion)</a:t>
            </a: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ased on the electrostatic repulsion of electron pai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40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 name=""/>
          <p:cNvSpPr txBox="1"/>
          <p:nvPr/>
        </p:nvSpPr>
        <p:spPr>
          <a:xfrm>
            <a:off x="457200" y="456840"/>
            <a:ext cx="8229600" cy="5668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ote that the repulsion force is strongest between two lone pairs and the weakest between two bonded pairs, and the repulsion between a lone pair and a bonded pair is intermediat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e apply the VSEPR theory to a central atom that has an octet of electrons in its valence shell, and there are three categories of shapes; linear, trigonal planar, and tetrahedral</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 VSEPR, an electron group is a bond (single or multiple) or a lone pai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Linear</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Forms when a central atom has two electron groups</a:t>
            </a:r>
            <a:endParaRPr b="0" lang="en-US" sz="3000" spc="-1" strike="noStrike">
              <a:solidFill>
                <a:srgbClr val="000000"/>
              </a:solidFill>
              <a:latin typeface="Calibri"/>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The shape is linear because the electron groups try to arrange themselves as far apart as possible</a:t>
            </a:r>
            <a:endParaRPr b="0" lang="en-US" sz="3000" spc="-1" strike="noStrike">
              <a:solidFill>
                <a:srgbClr val="000000"/>
              </a:solidFill>
              <a:latin typeface="Calibri"/>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The bond angle between the electron groups is 180</a:t>
            </a:r>
            <a:r>
              <a:rPr b="0" lang="en-US" sz="3000" spc="-1" strike="noStrike" baseline="30000">
                <a:solidFill>
                  <a:srgbClr val="ffffff"/>
                </a:solidFill>
                <a:latin typeface="Calibri"/>
              </a:rPr>
              <a:t>0</a:t>
            </a:r>
            <a:endParaRPr b="0" lang="en-US" sz="3000" spc="-1" strike="noStrike">
              <a:solidFill>
                <a:srgbClr val="000000"/>
              </a:solidFill>
              <a:latin typeface="Calibri"/>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The central atom is bonded to two other atoms by two double bonds or a combination of a single bond and a triple bond</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rigonal Planar</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 central atom with three electron groups has a trigonal planar shap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bonding angle between the electron groups is 120</a:t>
            </a:r>
            <a:r>
              <a:rPr b="0" lang="en-US" sz="3200" spc="-1" strike="noStrike" baseline="30000">
                <a:solidFill>
                  <a:srgbClr val="ffffff"/>
                </a:solidFill>
                <a:latin typeface="Calibri"/>
              </a:rPr>
              <a:t>o</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central atom is either bonded to three atoms(trigonal planar), or two atoms and a lone pair(bent or V-shap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etrahedral</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 central atom with four electron groups has a tetrahedral shap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bonding angles between the electron groups is 109.5</a:t>
            </a:r>
            <a:r>
              <a:rPr b="0" lang="en-US" sz="3200" spc="-1" strike="noStrike" baseline="30000">
                <a:solidFill>
                  <a:srgbClr val="ffffff"/>
                </a:solidFill>
                <a:latin typeface="Calibri"/>
              </a:rPr>
              <a:t>o</a:t>
            </a:r>
            <a:r>
              <a:rPr b="0" lang="en-US" sz="3200" spc="-1" strike="noStrike">
                <a:solidFill>
                  <a:srgbClr val="ffffff"/>
                </a:solidFill>
                <a:latin typeface="Calibri"/>
              </a:rPr>
              <a:t> </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central atom can be bonded to four atoms (tetrahedral), three atoms and a lone pair (trigonal pyramidal), or two atoms and two lone pairs (bent or V-shap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nformation Summary</a:t>
            </a:r>
            <a:endParaRPr b="0" lang="en-US" sz="4400" spc="-1" strike="noStrike">
              <a:solidFill>
                <a:srgbClr val="000000"/>
              </a:solidFill>
              <a:latin typeface="Calibri"/>
            </a:endParaRPr>
          </a:p>
        </p:txBody>
      </p:sp>
      <p:graphicFrame>
        <p:nvGraphicFramePr>
          <p:cNvPr id="84" name=""/>
          <p:cNvGraphicFramePr/>
          <p:nvPr/>
        </p:nvGraphicFramePr>
        <p:xfrm>
          <a:off x="457200" y="1600200"/>
          <a:ext cx="8229600" cy="3139920"/>
        </p:xfrm>
        <a:graphic>
          <a:graphicData uri="http://schemas.openxmlformats.org/drawingml/2006/table">
            <a:tbl>
              <a:tblPr/>
              <a:tblGrid>
                <a:gridCol w="2057400"/>
                <a:gridCol w="2057400"/>
                <a:gridCol w="2057400"/>
                <a:gridCol w="2057400"/>
              </a:tblGrid>
              <a:tr h="914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of lone electron pairs around the central ato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of bonds around the central ato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hape of the molecu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ond angles around the central ato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trahedr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9.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97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igonal Plan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ne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8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yramid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7.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shaped or b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4.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1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shaped or b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9.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Steps to Predicting Molecular Shapes</a:t>
            </a:r>
            <a:endParaRPr b="0" lang="en-US" sz="40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raw a primary LDD of the molecule</a:t>
            </a:r>
            <a:endParaRPr b="0" lang="en-US" sz="3200" spc="-1" strike="noStrike">
              <a:solidFill>
                <a:srgbClr val="000000"/>
              </a:solidFill>
              <a:latin typeface="Calibri"/>
            </a:endParaRPr>
          </a:p>
          <a:p>
            <a:pPr marL="514440" indent="-514440">
              <a:spcBef>
                <a:spcPts val="79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etermine the total number of electron groups around the central atom</a:t>
            </a:r>
            <a:endParaRPr b="0" lang="en-US" sz="3200" spc="-1" strike="noStrike">
              <a:solidFill>
                <a:srgbClr val="000000"/>
              </a:solidFill>
              <a:latin typeface="Calibri"/>
            </a:endParaRPr>
          </a:p>
          <a:p>
            <a:pPr marL="514440" indent="-514440">
              <a:spcBef>
                <a:spcPts val="79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etermine the types of electron groups (bonding pairs or lone pairs)</a:t>
            </a:r>
            <a:endParaRPr b="0" lang="en-US" sz="3200" spc="-1" strike="noStrike">
              <a:solidFill>
                <a:srgbClr val="000000"/>
              </a:solidFill>
              <a:latin typeface="Calibri"/>
            </a:endParaRPr>
          </a:p>
          <a:p>
            <a:pPr marL="514440" indent="-514440">
              <a:spcBef>
                <a:spcPts val="79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etermine which shape will accommodate the combination of electron group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ectronegativity</a:t>
            </a:r>
            <a:endParaRPr b="0" lang="en-US" sz="4400" spc="-1" strike="noStrike">
              <a:solidFill>
                <a:srgbClr val="000000"/>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lectronegativity is a measure of the relative ability of an element’s atoms to attract the shared electrons in a chemical bond.</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igher electronegativities mean a greater attraction for the electron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luorine is the highest with a value of 4.0</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90" name="Picture 4" descr=""/>
          <p:cNvPicPr/>
          <p:nvPr/>
        </p:nvPicPr>
        <p:blipFill>
          <a:blip r:embed="rId1"/>
          <a:stretch/>
        </p:blipFill>
        <p:spPr>
          <a:xfrm>
            <a:off x="0" y="380880"/>
            <a:ext cx="9144000" cy="6248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92" name="Picture 4" descr=""/>
          <p:cNvPicPr/>
          <p:nvPr/>
        </p:nvPicPr>
        <p:blipFill>
          <a:blip r:embed="rId1"/>
          <a:stretch/>
        </p:blipFill>
        <p:spPr>
          <a:xfrm>
            <a:off x="304920" y="304920"/>
            <a:ext cx="8458200" cy="6324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verview</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valent Bonding</a:t>
            </a: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onic and Metallic Bonding</a:t>
            </a: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lectronegativity</a:t>
            </a: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olecular Shape</a:t>
            </a: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olarity</a:t>
            </a: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onic Crystals</a:t>
            </a: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etwork Solids</a:t>
            </a: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termolecular For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Electronegativity</a:t>
            </a:r>
            <a:br>
              <a:rPr sz="4000"/>
            </a:br>
            <a:endParaRPr b="0" lang="en-US" sz="4000" spc="-1" strike="noStrike">
              <a:solidFill>
                <a:srgbClr val="000000"/>
              </a:solidFill>
              <a:latin typeface="Calibri"/>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r main group elements, electronegativity tends to increase with the group number (left to right on the periodic tabl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otice the noble gases do not have electronegativities, why is that?</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lectronegativities also increase as you move vertically up a group number.</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tom Size</a:t>
            </a: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For any period in the periodic table, as you move right the size of the atom decrease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Why does this trend exist?</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tom</a:t>
            </a:r>
            <a:r>
              <a:rPr b="0" lang="en-US" sz="4400" spc="-1" strike="noStrike">
                <a:solidFill>
                  <a:srgbClr val="000000"/>
                </a:solidFill>
                <a:latin typeface="Calibri"/>
              </a:rPr>
              <a:t> </a:t>
            </a:r>
            <a:r>
              <a:rPr b="0" lang="en-US" sz="4400" spc="-1" strike="noStrike">
                <a:solidFill>
                  <a:srgbClr val="ffffff"/>
                </a:solidFill>
                <a:latin typeface="Calibri"/>
              </a:rPr>
              <a:t>size</a:t>
            </a: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As the number of protons increases, the force attracting the electrons increase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The electrons are pulled closer to the nucleus of the at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olarity</a:t>
            </a:r>
            <a:endParaRPr b="0" lang="en-US" sz="4400" spc="-1" strike="noStrike">
              <a:solidFill>
                <a:srgbClr val="000000"/>
              </a:solidFill>
              <a:latin typeface="Arial"/>
            </a:endParaRPr>
          </a:p>
        </p:txBody>
      </p:sp>
      <p:sp>
        <p:nvSpPr>
          <p:cNvPr id="102" name="Content Placeholder 2"/>
          <p:cNvSpPr/>
          <p:nvPr/>
        </p:nvSpPr>
        <p:spPr>
          <a:xfrm>
            <a:off x="609480" y="175248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difference of electronegativity between two bonding atoms can be measured by subtracting the </a:t>
            </a:r>
            <a:r>
              <a:rPr b="0" lang="en-US" sz="3200" spc="-1" strike="noStrike" u="sng">
                <a:solidFill>
                  <a:srgbClr val="ffffff"/>
                </a:solidFill>
                <a:uFillTx/>
                <a:latin typeface="Calibri"/>
              </a:rPr>
              <a:t>smaller</a:t>
            </a:r>
            <a:r>
              <a:rPr b="0" lang="en-US" sz="3200" spc="-1" strike="noStrike">
                <a:solidFill>
                  <a:srgbClr val="ffffff"/>
                </a:solidFill>
                <a:latin typeface="Calibri"/>
              </a:rPr>
              <a:t> number from the </a:t>
            </a:r>
            <a:r>
              <a:rPr b="0" lang="en-US" sz="3200" spc="-1" strike="noStrike" u="sng">
                <a:solidFill>
                  <a:srgbClr val="ffffff"/>
                </a:solidFill>
                <a:uFillTx/>
                <a:latin typeface="Calibri"/>
              </a:rPr>
              <a:t>larger</a:t>
            </a:r>
            <a:r>
              <a:rPr b="0" lang="en-US" sz="3200" spc="-1" strike="noStrike">
                <a:solidFill>
                  <a:srgbClr val="ffffff"/>
                </a:solidFill>
                <a:latin typeface="Calibri"/>
              </a:rPr>
              <a:t> number.</a:t>
            </a:r>
            <a:endParaRPr b="0" lang="en-US" sz="3200" spc="-1" strike="noStrike">
              <a:solidFill>
                <a:srgbClr val="000000"/>
              </a:solidFill>
              <a:latin typeface="Arial"/>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difference in the two electronegativities determines the nature of the bond</a:t>
            </a:r>
            <a:endParaRPr b="0" lang="en-US" sz="3200" spc="-1" strike="noStrike">
              <a:solidFill>
                <a:srgbClr val="000000"/>
              </a:solidFill>
              <a:latin typeface="Arial"/>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Rectangle 2"/>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olarity</a:t>
            </a:r>
            <a:endParaRPr b="0" lang="en-US" sz="4400" spc="-1" strike="noStrike">
              <a:solidFill>
                <a:srgbClr val="000000"/>
              </a:solidFill>
              <a:latin typeface="Arial"/>
            </a:endParaRPr>
          </a:p>
        </p:txBody>
      </p:sp>
      <p:sp>
        <p:nvSpPr>
          <p:cNvPr id="106" name="Rectangle 3"/>
          <p:cNvSpPr/>
          <p:nvPr/>
        </p:nvSpPr>
        <p:spPr>
          <a:xfrm>
            <a:off x="609480" y="175248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onds that are sharing electrons </a:t>
            </a:r>
            <a:r>
              <a:rPr b="0" lang="en-US" sz="3200" spc="-1" strike="noStrike">
                <a:solidFill>
                  <a:srgbClr val="ffff00"/>
                </a:solidFill>
                <a:latin typeface="Calibri"/>
              </a:rPr>
              <a:t>UNEQUALLY</a:t>
            </a:r>
            <a:r>
              <a:rPr b="0" lang="en-US" sz="3200" spc="-1" strike="noStrike">
                <a:solidFill>
                  <a:srgbClr val="ffffff"/>
                </a:solidFill>
                <a:latin typeface="Calibri"/>
              </a:rPr>
              <a:t> between two atoms are called </a:t>
            </a:r>
            <a:r>
              <a:rPr b="0" lang="en-US" sz="3200" spc="-1" strike="noStrike">
                <a:solidFill>
                  <a:srgbClr val="ffff00"/>
                </a:solidFill>
                <a:latin typeface="Calibri"/>
              </a:rPr>
              <a:t>POLAR COVALENT BONDS</a:t>
            </a:r>
            <a:endParaRPr b="0" lang="en-US" sz="3200" spc="-1" strike="noStrike">
              <a:solidFill>
                <a:srgbClr val="000000"/>
              </a:solidFill>
              <a:latin typeface="Arial"/>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f the atoms are identical (equal electronegativity), the bond will not be polar. This is called </a:t>
            </a:r>
            <a:r>
              <a:rPr b="0" lang="en-US" sz="3200" spc="-1" strike="noStrike">
                <a:solidFill>
                  <a:srgbClr val="ffff00"/>
                </a:solidFill>
                <a:latin typeface="Calibri"/>
              </a:rPr>
              <a:t>NON-POLAR COVALENT BON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837720"/>
            <a:ext cx="8229600" cy="52880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Polar covalent bonds have a positive “pole” and a negative “pole” so they are also referred to as “bond dipole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Polar covalent bonds have an electronegativity difference between 0 and 1.7</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Ionic bonds have an electronegativity difference between 1.7 and 3.3</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10" name="Picture 4" descr=""/>
          <p:cNvPicPr/>
          <p:nvPr/>
        </p:nvPicPr>
        <p:blipFill>
          <a:blip r:embed="rId1"/>
          <a:stretch/>
        </p:blipFill>
        <p:spPr>
          <a:xfrm>
            <a:off x="228600" y="1704960"/>
            <a:ext cx="8915400" cy="4206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olar Molecules</a:t>
            </a: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re molecules that contain polar bonds necessarily polar?</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xamples of H</a:t>
            </a:r>
            <a:r>
              <a:rPr b="0" lang="en-US" sz="3200" spc="-1" strike="noStrike" baseline="-25000">
                <a:solidFill>
                  <a:srgbClr val="ffffff"/>
                </a:solidFill>
                <a:latin typeface="Calibri"/>
              </a:rPr>
              <a:t>2</a:t>
            </a:r>
            <a:r>
              <a:rPr b="0" lang="en-US" sz="3200" spc="-1" strike="noStrike">
                <a:solidFill>
                  <a:srgbClr val="ffffff"/>
                </a:solidFill>
                <a:latin typeface="Calibri"/>
              </a:rPr>
              <a:t>O and CO</a:t>
            </a:r>
            <a:r>
              <a:rPr b="0" lang="en-US" sz="3200" spc="-1" strike="noStrike" baseline="-25000">
                <a:solidFill>
                  <a:srgbClr val="ffffff"/>
                </a:solidFill>
                <a:latin typeface="Calibri"/>
              </a:rPr>
              <a:t>2</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o determine if a molecule is polar we need to look at the overall direction of polarity</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raw in polarity arrows on your molecule and determine if the molecules are polar or no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onic Bonds</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onic bonds form from the electrostatic attraction between oppositely charged ion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toms become ionic by losing or gaining electrons from the atom it is bonding with</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emember that an atom will lose its electrons to fill its outer level if its valence level is less than half full, as it is with metal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lectron Exchange and Ionic Bond Formation</a:t>
            </a:r>
            <a:endParaRPr b="0" lang="en-US" sz="4000" spc="-1" strike="noStrike">
              <a:solidFill>
                <a:srgbClr val="000000"/>
              </a:solidFill>
              <a:latin typeface="Calibri"/>
            </a:endParaRPr>
          </a:p>
        </p:txBody>
      </p:sp>
      <p:pic>
        <p:nvPicPr>
          <p:cNvPr id="116" name="Picture 2" descr=""/>
          <p:cNvPicPr/>
          <p:nvPr/>
        </p:nvPicPr>
        <p:blipFill>
          <a:blip r:embed="rId1"/>
          <a:stretch/>
        </p:blipFill>
        <p:spPr>
          <a:xfrm>
            <a:off x="1600200" y="2281320"/>
            <a:ext cx="5943600" cy="3162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valent Bonding</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onds between atoms are formed through the sharing of electron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valent bonds form between two non-metal atoms through sharing of pairs of electron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toms have a “desire” to have their outer energy levels filled (Octet Rul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valent bonding can be represented with Lewis Dot Diagram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etallic Bonding</a:t>
            </a:r>
            <a:endParaRPr b="0" lang="en-US" sz="44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Metals can form bonds with other metals, but it is neither covalent or ionic</a:t>
            </a:r>
            <a:endParaRPr b="0" lang="en-US" sz="3600" spc="-1" strike="noStrike">
              <a:solidFill>
                <a:srgbClr val="000000"/>
              </a:solidFill>
              <a:latin typeface="Calibri"/>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Metals cannot share electrons to form an octet of electrons around each atom</a:t>
            </a:r>
            <a:endParaRPr b="0" lang="en-US" sz="3600" spc="-1" strike="noStrike">
              <a:solidFill>
                <a:srgbClr val="000000"/>
              </a:solidFill>
              <a:latin typeface="Calibri"/>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magine 8 sodium atoms all trying to share the same 8 electron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40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 name=""/>
          <p:cNvSpPr txBox="1"/>
          <p:nvPr/>
        </p:nvSpPr>
        <p:spPr>
          <a:xfrm>
            <a:off x="457200" y="1676520"/>
            <a:ext cx="8229600" cy="4449600"/>
          </a:xfrm>
          <a:prstGeom prst="rect">
            <a:avLst/>
          </a:prstGeom>
          <a:noFill/>
          <a:ln w="0">
            <a:noFill/>
          </a:ln>
        </p:spPr>
        <p:txBody>
          <a:bodyPr anchor="t">
            <a:normAutofit/>
          </a:bodyPr>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lthough metal atoms do not form covalent or ionic bonds with each other, there must be relatively strong attractive forces holding the atoms together or else the metals would be in a gaseous stat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 metallic bonding, the valence electrons are delocalized, which means they are free to move from one atom to the nex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the electrons are free to move, all of the atoms share all of the valence electron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t is the electrostatic force between the positively charged metal ions and the negative electrons that make the metallic bon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onic Crystals</a:t>
            </a:r>
            <a:endParaRPr b="0" lang="en-US" sz="4400" spc="-1" strike="noStrike">
              <a:solidFill>
                <a:srgbClr val="000000"/>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ather than one metal bonding to one non-metal, ionic substances have their ions packed together in a crystal lattic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crystals can also be represented in a ball and stick mode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26" name="" descr=""/>
          <p:cNvPicPr/>
          <p:nvPr/>
        </p:nvPicPr>
        <p:blipFill>
          <a:blip r:embed="rId1"/>
          <a:stretch/>
        </p:blipFill>
        <p:spPr>
          <a:xfrm>
            <a:off x="457200" y="1600200"/>
            <a:ext cx="8229600" cy="4525920"/>
          </a:xfrm>
          <a:prstGeom prst="rect">
            <a:avLst/>
          </a:prstGeom>
          <a:ln w="0">
            <a:noFill/>
          </a:ln>
        </p:spPr>
      </p:pic>
      <p:pic>
        <p:nvPicPr>
          <p:cNvPr id="127" name="Picture 2" descr=""/>
          <p:cNvPicPr/>
          <p:nvPr/>
        </p:nvPicPr>
        <p:blipFill>
          <a:blip r:embed="rId2"/>
          <a:stretch/>
        </p:blipFill>
        <p:spPr>
          <a:xfrm>
            <a:off x="609480" y="3124080"/>
            <a:ext cx="2009880" cy="676440"/>
          </a:xfrm>
          <a:prstGeom prst="rect">
            <a:avLst/>
          </a:prstGeom>
          <a:ln w="0">
            <a:noFill/>
          </a:ln>
        </p:spPr>
      </p:pic>
      <p:pic>
        <p:nvPicPr>
          <p:cNvPr id="128" name="Picture 3" descr=""/>
          <p:cNvPicPr/>
          <p:nvPr/>
        </p:nvPicPr>
        <p:blipFill>
          <a:blip r:embed="rId3"/>
          <a:stretch/>
        </p:blipFill>
        <p:spPr>
          <a:xfrm>
            <a:off x="3429000" y="2514600"/>
            <a:ext cx="2104920" cy="2162160"/>
          </a:xfrm>
          <a:prstGeom prst="rect">
            <a:avLst/>
          </a:prstGeom>
          <a:ln w="0">
            <a:noFill/>
          </a:ln>
        </p:spPr>
      </p:pic>
      <p:pic>
        <p:nvPicPr>
          <p:cNvPr id="129" name="Picture 4" descr=""/>
          <p:cNvPicPr/>
          <p:nvPr/>
        </p:nvPicPr>
        <p:blipFill>
          <a:blip r:embed="rId4"/>
          <a:stretch/>
        </p:blipFill>
        <p:spPr>
          <a:xfrm>
            <a:off x="6172200" y="2514600"/>
            <a:ext cx="2124000" cy="1943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sticks represent the attractive forces between the ion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nce all the attractions are equal, there are no pairs of ions to be identified as molecule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refore the formula only represents the </a:t>
            </a:r>
            <a:r>
              <a:rPr b="0" i="1" lang="en-US" sz="3200" spc="-1" strike="noStrike">
                <a:solidFill>
                  <a:srgbClr val="ffff00"/>
                </a:solidFill>
                <a:latin typeface="Calibri"/>
              </a:rPr>
              <a:t>ratio </a:t>
            </a:r>
            <a:r>
              <a:rPr b="0" lang="en-US" sz="3200" spc="-1" strike="noStrike">
                <a:solidFill>
                  <a:srgbClr val="ffffff"/>
                </a:solidFill>
                <a:latin typeface="Calibri"/>
              </a:rPr>
              <a:t>of the ions in the crysta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smallest ratio of ions in the crystal is called a formula unit, not a molecul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hape of the macroscopic crystals is determined by the way their ions pack together</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smallest set of ions in a crystal needed to make the pattern is called a </a:t>
            </a:r>
            <a:r>
              <a:rPr b="0" i="1" lang="en-US" sz="3200" spc="-1" strike="noStrike">
                <a:solidFill>
                  <a:srgbClr val="ffc000"/>
                </a:solidFill>
                <a:latin typeface="Calibri"/>
              </a:rPr>
              <a:t>unit cel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
          <p:cNvSpPr txBox="1"/>
          <p:nvPr/>
        </p:nvSpPr>
        <p:spPr>
          <a:xfrm>
            <a:off x="457200" y="1600200"/>
            <a:ext cx="86868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Table Salt              Sucrose        Uncut Diamond</a:t>
            </a:r>
            <a:endParaRPr b="0" lang="en-US" sz="3200" spc="-1" strike="noStrike">
              <a:solidFill>
                <a:srgbClr val="000000"/>
              </a:solidFill>
              <a:latin typeface="Calibri"/>
            </a:endParaRPr>
          </a:p>
        </p:txBody>
      </p:sp>
      <p:pic>
        <p:nvPicPr>
          <p:cNvPr id="136" name="Picture 2" descr=""/>
          <p:cNvPicPr/>
          <p:nvPr/>
        </p:nvPicPr>
        <p:blipFill>
          <a:blip r:embed="rId1"/>
          <a:stretch/>
        </p:blipFill>
        <p:spPr>
          <a:xfrm>
            <a:off x="838080" y="2057400"/>
            <a:ext cx="2592360" cy="2362320"/>
          </a:xfrm>
          <a:prstGeom prst="rect">
            <a:avLst/>
          </a:prstGeom>
          <a:ln w="0">
            <a:noFill/>
          </a:ln>
        </p:spPr>
      </p:pic>
      <p:pic>
        <p:nvPicPr>
          <p:cNvPr id="137" name="Picture 3" descr=""/>
          <p:cNvPicPr/>
          <p:nvPr/>
        </p:nvPicPr>
        <p:blipFill>
          <a:blip r:embed="rId2"/>
          <a:stretch/>
        </p:blipFill>
        <p:spPr>
          <a:xfrm>
            <a:off x="3657600" y="2133720"/>
            <a:ext cx="2362320" cy="2286000"/>
          </a:xfrm>
          <a:prstGeom prst="rect">
            <a:avLst/>
          </a:prstGeom>
          <a:ln w="0">
            <a:noFill/>
          </a:ln>
        </p:spPr>
      </p:pic>
      <p:pic>
        <p:nvPicPr>
          <p:cNvPr id="138" name="Picture 4" descr=""/>
          <p:cNvPicPr/>
          <p:nvPr/>
        </p:nvPicPr>
        <p:blipFill>
          <a:blip r:embed="rId3"/>
          <a:stretch/>
        </p:blipFill>
        <p:spPr>
          <a:xfrm>
            <a:off x="6172200" y="2057400"/>
            <a:ext cx="2343240" cy="2286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size of each ion influences the pattern of ion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nother influence is the relative charge of the ions, and therefore the ratio of ions in the cryst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rystal formation</a:t>
            </a:r>
            <a:endParaRPr b="0" lang="en-US" sz="4400" spc="-1" strike="noStrike">
              <a:solidFill>
                <a:srgbClr val="000000"/>
              </a:solidFill>
              <a:latin typeface="Calibri"/>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any beautiful crystal formations can be found in nature as well as in the laborator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Lewis Dot Diagrams</a:t>
            </a:r>
            <a:r>
              <a:rPr b="0" lang="en-US" sz="4400" spc="-1" strike="noStrike">
                <a:solidFill>
                  <a:srgbClr val="ffffff"/>
                </a:solidFill>
                <a:latin typeface="Calibri"/>
              </a:rPr>
              <a:t>	</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ewis Dot Diagrams show the sharing of electrons between atoms and where the bonds form</a:t>
            </a: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toms share electrons to fill their outer energy levels (8 electrons in their outer shell)</a:t>
            </a: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exception is hydrogen (2 electrons in its outer shel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44" name="Picture 2" descr=""/>
          <p:cNvPicPr/>
          <p:nvPr/>
        </p:nvPicPr>
        <p:blipFill>
          <a:blip r:embed="rId1"/>
          <a:stretch/>
        </p:blipFill>
        <p:spPr>
          <a:xfrm>
            <a:off x="304920" y="380880"/>
            <a:ext cx="3781440" cy="4705560"/>
          </a:xfrm>
          <a:prstGeom prst="rect">
            <a:avLst/>
          </a:prstGeom>
          <a:ln w="0">
            <a:noFill/>
          </a:ln>
        </p:spPr>
      </p:pic>
      <p:pic>
        <p:nvPicPr>
          <p:cNvPr id="145" name="Picture 3" descr=""/>
          <p:cNvPicPr/>
          <p:nvPr/>
        </p:nvPicPr>
        <p:blipFill>
          <a:blip r:embed="rId2"/>
          <a:stretch/>
        </p:blipFill>
        <p:spPr>
          <a:xfrm>
            <a:off x="4419720" y="380880"/>
            <a:ext cx="3963960" cy="2971800"/>
          </a:xfrm>
          <a:prstGeom prst="rect">
            <a:avLst/>
          </a:prstGeom>
          <a:ln w="0">
            <a:noFill/>
          </a:ln>
        </p:spPr>
      </p:pic>
      <p:pic>
        <p:nvPicPr>
          <p:cNvPr id="146" name="Picture 4" descr=""/>
          <p:cNvPicPr/>
          <p:nvPr/>
        </p:nvPicPr>
        <p:blipFill>
          <a:blip r:embed="rId3"/>
          <a:stretch/>
        </p:blipFill>
        <p:spPr>
          <a:xfrm>
            <a:off x="4572000" y="3429000"/>
            <a:ext cx="3198960" cy="32781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twork Solids</a:t>
            </a:r>
            <a:endParaRPr b="0" lang="en-US" sz="4400" spc="-1" strike="noStrike">
              <a:solidFill>
                <a:srgbClr val="000000"/>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ike ionic crystals, but they are held together with covalent bond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ngle elements can form an array of different network solid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g. Carbon forms graphite, diamond, nanotubes (pg. 6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ach different network solid of the same element just has different arrangement of the atom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ome network solids contain two different element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g. Silicon Dioxide (sand, quartz)</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Questions</a:t>
            </a:r>
            <a:endParaRPr b="0" lang="en-US" sz="4400" spc="-1" strike="noStrike">
              <a:solidFill>
                <a:srgbClr val="000000"/>
              </a:solidFill>
              <a:latin typeface="Calibri"/>
            </a:endParaRPr>
          </a:p>
        </p:txBody>
      </p:sp>
      <p:sp>
        <p:nvSpPr>
          <p:cNvPr id="1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ntermolecular Forces</a:t>
            </a:r>
            <a:endParaRPr b="0" lang="en-US" sz="4400" spc="-1" strike="noStrike">
              <a:solidFill>
                <a:srgbClr val="000000"/>
              </a:solidFill>
              <a:latin typeface="Calibri"/>
            </a:endParaRPr>
          </a:p>
        </p:txBody>
      </p:sp>
      <p:sp>
        <p:nvSpPr>
          <p:cNvPr id="1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valent bonds exist between atoms within a molecular compound</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se covalent bonds are called </a:t>
            </a:r>
            <a:r>
              <a:rPr b="0" lang="en-US" sz="3200" spc="-1" strike="noStrike">
                <a:solidFill>
                  <a:srgbClr val="ffff00"/>
                </a:solidFill>
                <a:latin typeface="Calibri"/>
              </a:rPr>
              <a:t>intra</a:t>
            </a:r>
            <a:r>
              <a:rPr b="0" lang="en-US" sz="3200" spc="-1" strike="noStrike">
                <a:solidFill>
                  <a:srgbClr val="ffffff"/>
                </a:solidFill>
                <a:latin typeface="Calibri"/>
              </a:rPr>
              <a:t>molecular force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rces holding entire molecules together are called </a:t>
            </a:r>
            <a:r>
              <a:rPr b="0" lang="en-US" sz="3200" spc="-1" strike="noStrike">
                <a:solidFill>
                  <a:srgbClr val="ffff00"/>
                </a:solidFill>
                <a:latin typeface="Calibri"/>
              </a:rPr>
              <a:t>inter</a:t>
            </a:r>
            <a:r>
              <a:rPr b="0" lang="en-US" sz="3200" spc="-1" strike="noStrike">
                <a:solidFill>
                  <a:srgbClr val="ffffff"/>
                </a:solidFill>
                <a:latin typeface="Calibri"/>
              </a:rPr>
              <a:t>molecular for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Dipole-Dipole Forces</a:t>
            </a:r>
            <a:endParaRPr b="0" lang="en-US" sz="44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Occurs between polar molecule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olar molecules have a positive pole and a negative pole so they are called </a:t>
            </a:r>
            <a:r>
              <a:rPr b="0" i="1" lang="en-US" sz="3200" spc="-1" strike="noStrike">
                <a:solidFill>
                  <a:srgbClr val="ffff00"/>
                </a:solidFill>
                <a:latin typeface="Calibri"/>
              </a:rPr>
              <a:t>dipole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en two dipoles come close to each other, the positive pole of one is attracted to the negative pole of the oth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Dipole-Dipole Attractions</a:t>
            </a:r>
            <a:endParaRPr b="0" lang="en-US" sz="4400" spc="-1" strike="noStrike">
              <a:solidFill>
                <a:srgbClr val="000000"/>
              </a:solidFill>
              <a:latin typeface="Calibri"/>
            </a:endParaRPr>
          </a:p>
        </p:txBody>
      </p:sp>
      <p:pic>
        <p:nvPicPr>
          <p:cNvPr id="158" name="Picture 2" descr=""/>
          <p:cNvPicPr/>
          <p:nvPr/>
        </p:nvPicPr>
        <p:blipFill>
          <a:blip r:embed="rId1"/>
          <a:stretch/>
        </p:blipFill>
        <p:spPr>
          <a:xfrm>
            <a:off x="2743200" y="1600200"/>
            <a:ext cx="3686040" cy="45259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ach molecule can be attracted to four or more other polar molecules at the same tim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s is called </a:t>
            </a:r>
            <a:r>
              <a:rPr b="0" i="1" lang="en-US" sz="3200" spc="-1" strike="noStrike">
                <a:solidFill>
                  <a:srgbClr val="ffff00"/>
                </a:solidFill>
                <a:latin typeface="Calibri"/>
              </a:rPr>
              <a:t>Dipole-Dipole Attraction</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ot as strong as ionic attraction, but can be strong enough to stabilize a solid crystal </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g. Table suga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ydrogen Bonding</a:t>
            </a:r>
            <a:endParaRPr b="0" lang="en-US" sz="44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pecial dipole-dipole attraction that occurs between hydrogen and highly electronegative atoms such as oxygen, nitrogen, or fluorin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positive nucleus of the hydrogen atom is attracted to the slightly negative charge on the other atom</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uch stronger than other dipole-dipole attrac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64" name="Picture 2" descr=""/>
          <p:cNvPicPr/>
          <p:nvPr/>
        </p:nvPicPr>
        <p:blipFill>
          <a:blip r:embed="rId1"/>
          <a:stretch/>
        </p:blipFill>
        <p:spPr>
          <a:xfrm>
            <a:off x="2495520" y="2021040"/>
            <a:ext cx="4152960" cy="3686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752480" y="41148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ewis Dot Diagrams for Hydrogen and Chlorine Gas</a:t>
            </a:r>
            <a:endParaRPr b="0" lang="en-US" sz="1800" spc="-1" strike="noStrike">
              <a:solidFill>
                <a:srgbClr val="000000"/>
              </a:solidFill>
              <a:latin typeface="Calibri"/>
            </a:endParaRPr>
          </a:p>
        </p:txBody>
      </p:sp>
      <p:pic>
        <p:nvPicPr>
          <p:cNvPr id="57" name="" descr=""/>
          <p:cNvPicPr/>
          <p:nvPr/>
        </p:nvPicPr>
        <p:blipFill>
          <a:blip r:embed="rId1"/>
          <a:stretch/>
        </p:blipFill>
        <p:spPr>
          <a:xfrm>
            <a:off x="1792440" y="612720"/>
            <a:ext cx="5486400" cy="4114800"/>
          </a:xfrm>
          <a:prstGeom prst="rect">
            <a:avLst/>
          </a:prstGeom>
          <a:ln w="0">
            <a:noFill/>
          </a:ln>
        </p:spPr>
      </p:pic>
      <p:sp>
        <p:nvSpPr>
          <p:cNvPr id="58" name="PlaceHolder 2"/>
          <p:cNvSpPr>
            <a:spLocks noGrp="1"/>
          </p:cNvSpPr>
          <p:nvPr>
            <p:ph/>
          </p:nvPr>
        </p:nvSpPr>
        <p:spPr>
          <a:xfrm>
            <a:off x="1792440" y="4876920"/>
            <a:ext cx="5486400" cy="129528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first row shows the atoms before they are bonded</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second row shows the sharing of electrons to fill the outer energy level</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third row has circles around the electrons  to show those that belong to each atom. Where the circles overlap  represents a covalent bond</a:t>
            </a:r>
            <a:endParaRPr b="0" lang="en-US" sz="1400" spc="-1" strike="noStrike">
              <a:solidFill>
                <a:srgbClr val="000000"/>
              </a:solidFill>
              <a:latin typeface="Calibri"/>
            </a:endParaRPr>
          </a:p>
        </p:txBody>
      </p:sp>
      <p:sp>
        <p:nvSpPr>
          <p:cNvPr id="5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 name="Group 1"/>
          <p:cNvGrpSpPr/>
          <p:nvPr/>
        </p:nvGrpSpPr>
        <p:grpSpPr>
          <a:xfrm>
            <a:off x="1371600" y="1447920"/>
            <a:ext cx="6058080" cy="2628720"/>
            <a:chOff x="1371600" y="1447920"/>
            <a:chExt cx="6058080" cy="2628720"/>
          </a:xfrm>
        </p:grpSpPr>
        <p:sp>
          <p:nvSpPr>
            <p:cNvPr id="61" name="AutoShape 4"/>
            <p:cNvSpPr/>
            <p:nvPr/>
          </p:nvSpPr>
          <p:spPr>
            <a:xfrm>
              <a:off x="1371600" y="1447920"/>
              <a:ext cx="6058080" cy="2628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2" name="Picture 3" descr="F1"/>
            <p:cNvPicPr/>
            <p:nvPr/>
          </p:nvPicPr>
          <p:blipFill>
            <a:blip r:embed="rId2">
              <a:grayscl/>
            </a:blip>
            <a:stretch/>
          </p:blipFill>
          <p:spPr>
            <a:xfrm>
              <a:off x="1371600" y="1447920"/>
              <a:ext cx="5900400" cy="2379600"/>
            </a:xfrm>
            <a:prstGeom prst="rect">
              <a:avLst/>
            </a:prstGeom>
            <a:ln w="0">
              <a:noFill/>
            </a:ln>
          </p:spPr>
        </p:pic>
        <p:sp>
          <p:nvSpPr>
            <p:cNvPr id="63" name="Oval 2"/>
            <p:cNvSpPr/>
            <p:nvPr/>
          </p:nvSpPr>
          <p:spPr>
            <a:xfrm>
              <a:off x="2262240" y="3087000"/>
              <a:ext cx="685800" cy="685440"/>
            </a:xfrm>
            <a:prstGeom prst="ellipse">
              <a:avLst/>
            </a:prstGeom>
            <a:noFill/>
            <a:ln w="158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ydrogen Bonding in Water</a:t>
            </a:r>
            <a:endParaRPr b="0" lang="en-US" sz="44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ydrogen bonding is an important factor that influences the structure and properties of water</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One oxygen atom can be hydrogen bonded to as many as 6 other hydrogen atoms in other water molecul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ydrogen Bonds in Ice</a:t>
            </a:r>
            <a:endParaRPr b="0" lang="en-US" sz="44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ach water molecule is hydrogen bonded to four other water molecule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water molecules in ice are farther apart than in liquid water, therefore ice is </a:t>
            </a:r>
            <a:r>
              <a:rPr b="0" i="1" lang="en-US" sz="3200" spc="-1" strike="noStrike">
                <a:solidFill>
                  <a:srgbClr val="ffff00"/>
                </a:solidFill>
                <a:latin typeface="Calibri"/>
              </a:rPr>
              <a:t>less dense</a:t>
            </a:r>
            <a:r>
              <a:rPr b="0" lang="en-US" sz="3200" spc="-1" strike="noStrike">
                <a:solidFill>
                  <a:srgbClr val="ffff00"/>
                </a:solidFill>
                <a:latin typeface="Calibri"/>
              </a:rPr>
              <a:t> </a:t>
            </a:r>
            <a:r>
              <a:rPr b="0" lang="en-US" sz="3200" spc="-1" strike="noStrike">
                <a:solidFill>
                  <a:srgbClr val="ffffff"/>
                </a:solidFill>
                <a:latin typeface="Calibri"/>
              </a:rPr>
              <a:t>than liquid water**</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ydrogen bonds are the strongest in the form shown in the next diagra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70" name="Picture 2" descr=""/>
          <p:cNvPicPr/>
          <p:nvPr/>
        </p:nvPicPr>
        <p:blipFill>
          <a:blip r:embed="rId1"/>
          <a:stretch/>
        </p:blipFill>
        <p:spPr>
          <a:xfrm>
            <a:off x="457200" y="1771560"/>
            <a:ext cx="8229600" cy="41832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Unique Properties Reading</a:t>
            </a:r>
            <a:endParaRPr b="0" lang="en-US" sz="4400" spc="-1" strike="noStrike">
              <a:solidFill>
                <a:srgbClr val="000000"/>
              </a:solidFill>
              <a:latin typeface="Calibri"/>
            </a:endParaRPr>
          </a:p>
        </p:txBody>
      </p:sp>
      <p:sp>
        <p:nvSpPr>
          <p:cNvPr id="1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ead the handout on the unique properties of wat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London Dispersion Forces</a:t>
            </a:r>
            <a:endParaRPr b="0" lang="en-US" sz="4400" spc="-1" strike="noStrike">
              <a:solidFill>
                <a:srgbClr val="000000"/>
              </a:solidFill>
              <a:latin typeface="Calibri"/>
            </a:endParaRPr>
          </a:p>
        </p:txBody>
      </p:sp>
      <p:sp>
        <p:nvSpPr>
          <p:cNvPr id="1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ispersion forces act between all molecules, but in non-polar molecules they are the only forc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ven though there are no permanent dipoles in non-polar molecules, it is possible to </a:t>
            </a:r>
            <a:r>
              <a:rPr b="0" i="1" lang="en-US" sz="3200" spc="-1" strike="noStrike">
                <a:solidFill>
                  <a:srgbClr val="ffff00"/>
                </a:solidFill>
                <a:latin typeface="Calibri"/>
              </a:rPr>
              <a:t>induce</a:t>
            </a:r>
            <a:r>
              <a:rPr b="0" lang="en-US" sz="3200" spc="-1" strike="noStrike">
                <a:solidFill>
                  <a:srgbClr val="ffffff"/>
                </a:solidFill>
                <a:latin typeface="Calibri"/>
              </a:rPr>
              <a:t> dipol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76" name="Picture 2" descr=""/>
          <p:cNvPicPr/>
          <p:nvPr/>
        </p:nvPicPr>
        <p:blipFill>
          <a:blip r:embed="rId1"/>
          <a:stretch/>
        </p:blipFill>
        <p:spPr>
          <a:xfrm>
            <a:off x="1351080" y="1600200"/>
            <a:ext cx="6441840" cy="45259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on-polar molecules also spontaneously form temporary dipole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lectrons are in constant, rapid motion</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r a brief moment the electron distribution can be uneven</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s can form a positive pole and a negative pole in the molecu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temporary dipole in the molecule can induce a temporary dipole in the next molecule, like the balloon and the wall</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process disperses through the substa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actors Affecting Magnitude</a:t>
            </a:r>
            <a:endParaRPr b="0" lang="en-US" sz="4400" spc="-1" strike="noStrike">
              <a:solidFill>
                <a:srgbClr val="000000"/>
              </a:solidFill>
              <a:latin typeface="Calibri"/>
            </a:endParaRPr>
          </a:p>
        </p:txBody>
      </p:sp>
      <p:sp>
        <p:nvSpPr>
          <p:cNvPr id="1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wo factors affect LD forces:</a:t>
            </a:r>
            <a:endParaRPr b="0" lang="en-US" sz="3200" spc="-1" strike="noStrike">
              <a:solidFill>
                <a:srgbClr val="000000"/>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creased electrons = increased probability of a temporary dipole forming</a:t>
            </a:r>
            <a:endParaRPr b="0" lang="en-US" sz="2800" spc="-1" strike="noStrike">
              <a:solidFill>
                <a:srgbClr val="000000"/>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inear shapes have greater London dispersion forc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tructures and Properties of Compounds</a:t>
            </a:r>
            <a:endParaRPr b="0" lang="en-US" sz="44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state of a substance (solid, liquid or gas) depends on the strength of the intermolecular force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s particles gain kinetic energy (heat) they break their intermolecular bonds and change sta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ultiple Bonds</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ouble and triple bonds can form between atoms in order to fill the outer energy level</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s occurs when two atoms share more than one pair of electron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6" name="Picture 2" descr=""/>
          <p:cNvPicPr/>
          <p:nvPr/>
        </p:nvPicPr>
        <p:blipFill>
          <a:blip r:embed="rId1"/>
          <a:stretch/>
        </p:blipFill>
        <p:spPr>
          <a:xfrm>
            <a:off x="2362320" y="4038480"/>
            <a:ext cx="4114800" cy="24685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ime of Hydrogen Bonding</a:t>
            </a:r>
            <a:endParaRPr b="0" lang="en-US" sz="4400" spc="-1" strike="noStrike">
              <a:solidFill>
                <a:srgbClr val="000000"/>
              </a:solidFill>
              <a:latin typeface="Calibri"/>
            </a:endParaRPr>
          </a:p>
        </p:txBody>
      </p:sp>
      <p:sp>
        <p:nvSpPr>
          <p:cNvPr id="1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YI – hydrogen bonds in liquid water break and reform 100 000 000 000 (10</a:t>
            </a:r>
            <a:r>
              <a:rPr b="0" lang="en-US" sz="3200" spc="-1" strike="noStrike" baseline="30000">
                <a:solidFill>
                  <a:srgbClr val="ffffff"/>
                </a:solidFill>
                <a:latin typeface="Calibri"/>
              </a:rPr>
              <a:t>11</a:t>
            </a:r>
            <a:r>
              <a:rPr b="0" lang="en-US" sz="3200" spc="-1" strike="noStrike">
                <a:solidFill>
                  <a:srgbClr val="ffffff"/>
                </a:solidFill>
                <a:latin typeface="Calibri"/>
              </a:rPr>
              <a:t>) times every secon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elting and Boiling Points</a:t>
            </a:r>
            <a:endParaRPr b="0" lang="en-US" sz="4400" spc="-1" strike="noStrike">
              <a:solidFill>
                <a:srgbClr val="000000"/>
              </a:solidFill>
              <a:latin typeface="Calibri"/>
            </a:endParaRPr>
          </a:p>
        </p:txBody>
      </p:sp>
      <p:sp>
        <p:nvSpPr>
          <p:cNvPr id="1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elting and boiling points of ionic substances and metals are about the same magnitud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elting and boiling points of molecular substances are much lower</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at does that tell us about the for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ffffff"/>
              </a:solidFill>
              <a:latin typeface="Calibri"/>
            </a:endParaRPr>
          </a:p>
        </p:txBody>
      </p:sp>
      <p:sp>
        <p:nvSpPr>
          <p:cNvPr id="1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onic bonds are much stronger if the ions have a large charg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o ionic compounds that have ions with large charges will have higher melting/boiling poi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lecular Forces</a:t>
            </a:r>
            <a:endParaRPr b="0" lang="en-US" sz="4400" spc="-1" strike="noStrike">
              <a:solidFill>
                <a:srgbClr val="000000"/>
              </a:solidFill>
              <a:latin typeface="Calibri"/>
            </a:endParaRPr>
          </a:p>
        </p:txBody>
      </p:sp>
      <p:sp>
        <p:nvSpPr>
          <p:cNvPr id="1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Of the molecular compounds,  dipoles that form hydrogen bonds are the strongest</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ipole-dipole forces are weaker than hydrogen bond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on-polar molecules that have London dispersion forces are the weake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refore, hydrogen bonded substances have the highest melting/boiling points, dipole-dipole have lower melting/boiling points, and non-polar substances have the lowest melting/boiling poi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echanical Properties of Solids</a:t>
            </a:r>
            <a:endParaRPr b="0" lang="en-US" sz="44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etals are malleable because of the nature of metallic bonds (positive ions in a sea of electron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onic substances are brittle because if a layer of the crystal is shifted down one position,  like ions will be aligned and repel</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on-polar molecular substances are usually soft and easily brok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nductivity</a:t>
            </a:r>
            <a:endParaRPr b="0" lang="en-US" sz="4400" spc="-1" strike="noStrike">
              <a:solidFill>
                <a:srgbClr val="000000"/>
              </a:solidFill>
              <a:latin typeface="Calibri"/>
            </a:endParaRPr>
          </a:p>
        </p:txBody>
      </p:sp>
      <p:sp>
        <p:nvSpPr>
          <p:cNvPr id="1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ability of a substance to transfer electrical current</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r this to occur, charged particles (ions or electrons) must be able to move freel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etals are good conductors because their electrons are free to move throughout the metallic structur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onic solids do not conduct electric current because the ions are held together in a rigid structu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onic substances that are dissolved in water are good conductors because the charged ions are free to move in the solution</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ome network solids can conduct electricity because of delocalized electrons (graphit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olecular compounds cannot conduct electricity in pure form or dissolved in wat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Calibri"/>
              </a:rPr>
              <a:t>Review Questions</a:t>
            </a: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Pg. 137</a:t>
            </a:r>
            <a:endParaRPr b="0" lang="en-US" sz="3200" spc="-1" strike="noStrike">
              <a:solidFill>
                <a:srgbClr val="000000"/>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3,4,6-14, 16, 19, 21, 22, 25-29, 31, 34-39, 41, 43, 47, 48, 51, 57, 60</a:t>
            </a:r>
            <a:endParaRPr b="0" lang="en-US" sz="28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brdebenham@cbe.ab.c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ultiple Lewis Structures</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ome molecules can have more than one possible Lewis structure, usually when one single bond and one double bond can be exchanged within the rules of drawing Lewis structure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xample of SO</a:t>
            </a:r>
            <a:r>
              <a:rPr b="0" lang="en-US" sz="3200" spc="-1" strike="noStrike" baseline="-25000">
                <a:solidFill>
                  <a:srgbClr val="ffffff"/>
                </a:solidFill>
                <a:latin typeface="Calibri"/>
              </a:rPr>
              <a:t>2</a:t>
            </a:r>
            <a:r>
              <a:rPr b="0" lang="en-US" sz="3200" spc="-1" strike="noStrike">
                <a:solidFill>
                  <a:srgbClr val="ffffff"/>
                </a:solidFill>
                <a:latin typeface="Calibri"/>
              </a:rPr>
              <a:t> (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tructural Diagrams</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ewis Diagrams can be converted to structural diagrams for convenienc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tructural diagrams use lines to represent a bond, or a pair of electrons, but it does not show lone electron pair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xample: Chlorine Ga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Lewis Dot Diagram Worksheet</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Using the rules for drawing Lewis dot diagrams, complete the worksheet (LDD and structural)</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r extra practice, try the Lewis Structures Thought Lab</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4T22:22:48Z</dcterms:created>
  <dc:creator>Brian Dedenham</dc:creator>
  <dc:description/>
  <dc:language>en-US</dc:language>
  <cp:lastModifiedBy>RomaK</cp:lastModifiedBy>
  <dcterms:modified xsi:type="dcterms:W3CDTF">2015-09-01T16:20:38Z</dcterms:modified>
  <cp:revision>97</cp:revision>
  <dc:subject/>
  <dc:title>Chemical Bonding</dc:title>
</cp:coreProperties>
</file>