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camera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98BD-59C6-42BA-B572-7C76B65F70B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nd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esson for Kindergar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nd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esson for Kindergar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have two body parts, the head and the abdom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do not have antenna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have two body parts, the head and the abdome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do not have antenn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re not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y are small, spiders are not insect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fly, and spiders can’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re not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y are small, spiders are not inse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fly, and spiders ca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kinds of ins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kinds of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one of the most common ins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one of the most common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 have three body parts and six le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do have antenna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 have three body parts and six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do have antenn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F3A-4500-40AB-92BD-8D7C807E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B5D7-F941-4DAE-8127-45F4F29C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CC28-34F5-4419-8455-957E42C5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A4E-2220-494F-9FEC-384D908D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D562-5D8F-47FD-9ED3-C86274C0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116B-2F99-4B18-BBE8-F1B93733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6935-5086-4766-9BE4-C9FAC18A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C5B2-E350-4272-9A0F-FA7C7601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DB56-8BD9-42C0-BF96-A5A157B7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D9F6-6E3C-48DD-ABF3-80EAFDD6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D666-287B-4511-8B7D-5596D491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F905-B4F3-4394-8669-3D78251B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52BE-3BB8-4CC1-AE29-C32833F7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6D01-B779-4CF6-AF94-D8EFC86B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6EE7-C6E4-4E08-BC5C-9223A70F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BFB6-A9D1-4DC8-A312-12D6A3B4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DA04-8D04-4DFF-B8DB-38C7AAB5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D96A-53AA-4C9B-929C-FB777BD7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5B52-BE2E-481E-B421-A0D05AA4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AFE9-7854-4A6E-9178-C446A63E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5815-A577-44B6-9FA8-5043B41E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8BB-2911-450F-9E42-DE3FBE7D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240-2EEF-4BD1-A033-10AF9C19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ED5-D773-4AE3-A0B7-C8FB998E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D2AB-5E96-4367-B6A4-20746819038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EA28-61D0-4D8F-AAF3-C1127DE3699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523800" y="1359000"/>
            <a:ext cx="8315280" cy="2334960"/>
          </a:xfrm>
          <a:prstGeom prst="rect">
            <a:avLst/>
          </a:prstGeom>
          <a:ln w="0">
            <a:noFill/>
          </a:ln>
        </p:spPr>
      </p:pic>
      <p:pic>
        <p:nvPicPr>
          <p:cNvPr id="103" name="Subtitle 2" descr=""/>
          <p:cNvPicPr/>
          <p:nvPr/>
        </p:nvPicPr>
        <p:blipFill>
          <a:blip r:embed="rId2"/>
          <a:stretch/>
        </p:blipFill>
        <p:spPr>
          <a:xfrm>
            <a:off x="463680" y="3139920"/>
            <a:ext cx="813744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Spiders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have two body parts,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hea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abdom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do not have antenna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Placeholder 4" descr="spider 2.jpg"/>
          <p:cNvPicPr/>
          <p:nvPr/>
        </p:nvPicPr>
        <p:blipFill>
          <a:blip r:embed="rId1"/>
          <a:srcRect l="0" t="7442" r="0" b="7442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Spiders are not Insec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though they are small, spiders are not insects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insects fly, and spiders can’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Picture Placeholder 5" descr="spider 3.jpg"/>
          <p:cNvPicPr/>
          <p:nvPr/>
        </p:nvPicPr>
        <p:blipFill>
          <a:blip r:embed="rId1"/>
          <a:srcRect l="0" t="18096" r="0" b="18096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Insect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are many different kinds of insec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2" name="Picture Placeholder 6" descr="insects2.jpg"/>
          <p:cNvPicPr/>
          <p:nvPr/>
        </p:nvPicPr>
        <p:blipFill>
          <a:blip r:embed="rId1"/>
          <a:srcRect l="20629" t="0" r="20629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8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ts are one of the most common insec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Placeholder 4" descr="ant 3.jpg"/>
          <p:cNvPicPr/>
          <p:nvPr/>
        </p:nvPicPr>
        <p:blipFill>
          <a:blip r:embed="rId1"/>
          <a:srcRect l="0" t="3050" r="0" b="305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Ants are insec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cts have three body parts and six leg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insects do have antenna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Placeholder 4" descr="ants 2.jpg"/>
          <p:cNvPicPr/>
          <p:nvPr/>
        </p:nvPicPr>
        <p:blipFill>
          <a:blip r:embed="rId1"/>
          <a:stretch/>
        </p:blipFill>
        <p:spPr>
          <a:xfrm>
            <a:off x="2975040" y="633240"/>
            <a:ext cx="5638680" cy="506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54:27Z</dcterms:created>
  <dc:creator>Ector County ISD Employee</dc:creator>
  <dc:description/>
  <dc:language>en-US</dc:language>
  <cp:lastModifiedBy>RomaK</cp:lastModifiedBy>
  <dcterms:modified xsi:type="dcterms:W3CDTF">2015-09-04T10:53:17Z</dcterms:modified>
  <cp:revision>7</cp:revision>
  <dc:subject/>
  <dc:title>Spiders and Insects</dc:title>
</cp:coreProperties>
</file>