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4491-539B-4885-830F-BE7F313E3F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350-20BE-4443-87E4-FE2DC9AA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41A-C08F-4035-B284-F1A0BA34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C67-0FF7-4EB9-BF22-35B045BE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79A-48CB-4A23-8C45-FDB2092C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2047-24B7-4A9D-928C-ED06BBB1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F2F6-DC44-40CB-8431-A31C7834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CE92-0E0E-4DEB-932C-AB1D06AA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DBEC-E625-46EC-B745-DC15283D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DDAB-3154-4275-8110-2C48AFD3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0C26-5527-4489-AEDD-43B9F9C3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3DA0-2705-4F0C-ABA7-8C2CF3A6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4CE-4AA2-4CA9-99EB-D8AEC7DC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630B-E65E-4C7A-9762-4AE937A5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900D-F2E8-40FD-B134-FB01F4AB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0A36-84A7-4C55-A728-B8D594A8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508C-66E3-48A2-B4E1-E8149F70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A0E4-A31B-4066-B2BA-1536D593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6B5-E93B-417E-A3CE-21E9B725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522-4894-4AC8-A0FE-0B891B53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DF8-A430-476E-91F2-2B8DE519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4A2-993F-4B4F-9C66-D7E176E8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9BA1-91A2-4D8E-986F-1030F976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865-AABD-4A15-965F-4030AB3B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134-E5A1-4978-9096-88887FCA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11B3-33F4-427E-A6AF-DDF1B1BA54E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1958-5B6E-46BA-9DDC-3623133C8DA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523800" y="1359000"/>
            <a:ext cx="8315280" cy="2334960"/>
          </a:xfrm>
          <a:prstGeom prst="rect">
            <a:avLst/>
          </a:prstGeom>
          <a:ln w="0">
            <a:noFill/>
          </a:ln>
        </p:spPr>
      </p:pic>
      <p:pic>
        <p:nvPicPr>
          <p:cNvPr id="103" name="Subtitle 2" descr=""/>
          <p:cNvPicPr/>
          <p:nvPr/>
        </p:nvPicPr>
        <p:blipFill>
          <a:blip r:embed="rId2"/>
          <a:stretch/>
        </p:blipFill>
        <p:spPr>
          <a:xfrm>
            <a:off x="463680" y="3139920"/>
            <a:ext cx="813744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Spiders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have two body parts,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bdom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do not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Placeholder 4" descr="spider 2.jpg"/>
          <p:cNvPicPr/>
          <p:nvPr/>
        </p:nvPicPr>
        <p:blipFill>
          <a:blip r:embed="rId1"/>
          <a:srcRect l="0" t="7442" r="0" b="744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Spiders are not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though they are small, spiders are not insects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fly, and spiders can’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Picture Placeholder 5" descr="spider 3.jpg"/>
          <p:cNvPicPr/>
          <p:nvPr/>
        </p:nvPicPr>
        <p:blipFill>
          <a:blip r:embed="rId1"/>
          <a:srcRect l="0" t="18096" r="0" b="1809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Insect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are many different kinds of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Placeholder 6" descr="insects2.jpg"/>
          <p:cNvPicPr/>
          <p:nvPr/>
        </p:nvPicPr>
        <p:blipFill>
          <a:blip r:embed="rId1"/>
          <a:srcRect l="20629" t="0" r="20629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8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ts are one of the most common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Placeholder 4" descr="ant 3.jpg"/>
          <p:cNvPicPr/>
          <p:nvPr/>
        </p:nvPicPr>
        <p:blipFill>
          <a:blip r:embed="rId1"/>
          <a:srcRect l="0" t="3050" r="0" b="305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Ants are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have three body parts and six le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do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Placeholder 4" descr="ants 2.jpg"/>
          <p:cNvPicPr/>
          <p:nvPr/>
        </p:nvPicPr>
        <p:blipFill>
          <a:blip r:embed="rId1"/>
          <a:stretch/>
        </p:blipFill>
        <p:spPr>
          <a:xfrm>
            <a:off x="2975040" y="633240"/>
            <a:ext cx="5638680" cy="506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54:27Z</dcterms:created>
  <dc:creator>Ector County ISD Employee</dc:creator>
  <dc:description/>
  <dc:language>en-US</dc:language>
  <cp:lastModifiedBy>RomaK</cp:lastModifiedBy>
  <dcterms:modified xsi:type="dcterms:W3CDTF">2015-09-04T10:53:17Z</dcterms:modified>
  <cp:revision>7</cp:revision>
  <dc:subject/>
  <dc:title>Spiders and Insects</dc:title>
</cp:coreProperties>
</file>