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C7AB-739F-41DB-B73B-25ECF89EA2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81A-94B7-469E-888D-DE0753D1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258-DEB6-4925-B871-1BB90B4F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830-7383-41E2-9933-2EE4DD98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1FE-9872-49ED-9765-CD8E993C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3903-A5D7-46A2-BEF6-5DD7131B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E92F-33AA-4ECF-8D0E-7A066393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37CB-BE92-49AB-84A3-B93F454A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1986-6E1F-41AD-A43A-DA9EA745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E9D7-3858-48E0-8FB6-3A72DBAE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8EF8-68A7-4ADA-A67E-BB473C18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BA66-15A4-4A3A-B964-A1ED0E55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779-0B71-454B-9A87-4CFC6033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665B-E085-45C9-99C2-2300E7FF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9939-52CF-4462-9816-8A2A9558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68DB-FC27-44B8-B479-ACBDE36B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E9FB-86F3-4F89-B8C8-09A53428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3E70-7C42-41FF-BF2A-05D1F7C0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66F-13A5-4A73-80A0-5DB8D2F0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EAB-744B-41CD-9987-E46213A9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849-E4E9-417E-A9FB-2DA06C61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73A-4824-4FFC-905F-6A68726E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EDF-4C55-48DB-A28F-F5D908B0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8B8-3300-4007-8321-EA5C8ADA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133-A90F-4059-A50D-B5327435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9D2C-400A-47DA-B179-DD682D911A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4509-AC5E-4C6D-B6C8-C639894B022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23800" y="1359000"/>
            <a:ext cx="8315280" cy="2334960"/>
          </a:xfrm>
          <a:prstGeom prst="rect">
            <a:avLst/>
          </a:prstGeom>
          <a:ln w="0">
            <a:noFill/>
          </a:ln>
        </p:spPr>
      </p:pic>
      <p:pic>
        <p:nvPicPr>
          <p:cNvPr id="103" name="Subtitle 2" descr=""/>
          <p:cNvPicPr/>
          <p:nvPr/>
        </p:nvPicPr>
        <p:blipFill>
          <a:blip r:embed="rId2"/>
          <a:stretch/>
        </p:blipFill>
        <p:spPr>
          <a:xfrm>
            <a:off x="463680" y="3139920"/>
            <a:ext cx="813744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Spiders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have two body parts,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bdom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do not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Placeholder 4" descr="spider 2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Spiders are not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though they are small, spiders are not insect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fly, and spiders can’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Placeholder 5" descr="spider 3.jpg"/>
          <p:cNvPicPr/>
          <p:nvPr/>
        </p:nvPicPr>
        <p:blipFill>
          <a:blip r:embed="rId1"/>
          <a:srcRect l="0" t="18096" r="0" b="1809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ns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are many different kinds of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Placeholder 6" descr="insects2.jpg"/>
          <p:cNvPicPr/>
          <p:nvPr/>
        </p:nvPicPr>
        <p:blipFill>
          <a:blip r:embed="rId1"/>
          <a:srcRect l="20629" t="0" r="20629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ts are one of the most common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Placeholder 4" descr="ant 3.jpg"/>
          <p:cNvPicPr/>
          <p:nvPr/>
        </p:nvPicPr>
        <p:blipFill>
          <a:blip r:embed="rId1"/>
          <a:srcRect l="0" t="3050" r="0" b="305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Ants are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have three body parts and six le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do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Placeholder 4" descr="ants 2.jpg"/>
          <p:cNvPicPr/>
          <p:nvPr/>
        </p:nvPicPr>
        <p:blipFill>
          <a:blip r:embed="rId1"/>
          <a:stretch/>
        </p:blipFill>
        <p:spPr>
          <a:xfrm>
            <a:off x="2975040" y="63324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54:27Z</dcterms:created>
  <dc:creator>Ector County ISD Employee</dc:creator>
  <dc:description/>
  <dc:language>en-US</dc:language>
  <cp:lastModifiedBy>RomaK</cp:lastModifiedBy>
  <dcterms:modified xsi:type="dcterms:W3CDTF">2015-09-04T10:53:17Z</dcterms:modified>
  <cp:revision>7</cp:revision>
  <dc:subject/>
  <dc:title>Spiders and Insects</dc:title>
</cp:coreProperties>
</file>