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7.jpeg" ContentType="image/jpeg"/>
  <Override PartName="/ppt/media/image5.jpeg" ContentType="image/jpeg"/>
  <Override PartName="/ppt/media/image6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F9E-A4AB-4AC4-A256-5F4C74FA7F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nd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esson for Kindergar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have two body parts, the head and the abdom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do not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ders are not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hough they are small, spiders are not inse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fly, and spiders can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different kinds of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one of the most common ins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s are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ects have three body parts and six le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sects do have antenna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9D77-8627-4FF3-AA55-6201BC5A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6B6-08CC-42DC-8E14-DDF83916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18A-A7F7-4891-A24D-94DB59D0F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C24-E548-4E88-BBEA-F43E36907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AA0F-5F3A-42C5-BA38-5C13259D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C58E-8A5E-4B23-AEFC-72D5FA3E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39F1-427C-4AE4-8976-6FB61C75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89F8-11E5-47B6-ABBF-76A031DF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A198-839C-4C69-A492-940AF6D5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CF5B-B7E9-4F90-8D6C-7A9580A0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24C-610B-45D0-8054-3389D73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7C98-D1F4-401D-AAFA-D491F66DA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BF1F-CC1E-443D-A258-561BA53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4689-63FB-4DD1-85A0-09CBEC6E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F242-9570-4183-BF2C-36E0C456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5C2-901B-450C-BD82-A9D582D1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FA22F-ED80-4ECA-9CA5-3746349F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B30-6BB2-420A-94EF-9B2ABCD3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8CB-F14D-44A3-A8EF-C24A397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E39-478E-411E-8EA1-2F49D141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84F-A4CD-4F9C-A969-020A701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737-DD3A-4AF1-B275-D53A4697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80B-78DA-4C9F-9A1F-E634E427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AC5-39FB-47A2-A366-246F1F76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FCE0-AEEA-44DE-9807-8B428AE9832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706E-B345-4BF8-B70E-D6AA483900F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23800" y="1359000"/>
            <a:ext cx="8315280" cy="2334960"/>
          </a:xfrm>
          <a:prstGeom prst="rect">
            <a:avLst/>
          </a:prstGeom>
          <a:ln w="0">
            <a:noFill/>
          </a:ln>
        </p:spPr>
      </p:pic>
      <p:pic>
        <p:nvPicPr>
          <p:cNvPr id="103" name="Subtitle 2" descr=""/>
          <p:cNvPicPr/>
          <p:nvPr/>
        </p:nvPicPr>
        <p:blipFill>
          <a:blip r:embed="rId2"/>
          <a:stretch/>
        </p:blipFill>
        <p:spPr>
          <a:xfrm>
            <a:off x="463680" y="3139920"/>
            <a:ext cx="813744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Spiders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have two body parts,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he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and the </a:t>
            </a:r>
            <a:r>
              <a:rPr b="0" i="1" lang="en-US" sz="2000" spc="-1" strike="noStrike">
                <a:solidFill>
                  <a:srgbClr val="000000"/>
                </a:solidFill>
                <a:latin typeface="Constantia"/>
              </a:rPr>
              <a:t>abdomen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piders do not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6" name="Picture Placeholder 4" descr="spider 2.jpg"/>
          <p:cNvPicPr/>
          <p:nvPr/>
        </p:nvPicPr>
        <p:blipFill>
          <a:blip r:embed="rId1"/>
          <a:srcRect l="0" t="7442" r="0" b="7442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Spiders are not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lthough they are small, spiders are not insects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fly, and spiders can’t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9" name="Picture Placeholder 5" descr="spider 3.jpg"/>
          <p:cNvPicPr/>
          <p:nvPr/>
        </p:nvPicPr>
        <p:blipFill>
          <a:blip r:embed="rId1"/>
          <a:srcRect l="0" t="18096" r="0" b="18096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4617b"/>
                </a:solidFill>
                <a:latin typeface="Calibri"/>
              </a:rPr>
              <a:t>Insects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here are many different kinds of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2" name="Picture Placeholder 6" descr="insects2.jpg"/>
          <p:cNvPicPr/>
          <p:nvPr/>
        </p:nvPicPr>
        <p:blipFill>
          <a:blip r:embed="rId1"/>
          <a:srcRect l="20629" t="0" r="20629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617b"/>
                </a:solidFill>
                <a:latin typeface="Calibri"/>
              </a:rPr>
              <a:t>Ants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8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nts are one of the most common insect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Placeholder 4" descr="ant 3.jpg"/>
          <p:cNvPicPr/>
          <p:nvPr/>
        </p:nvPicPr>
        <p:blipFill>
          <a:blip r:embed="rId1"/>
          <a:srcRect l="0" t="3050" r="0" b="305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Ants are insec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sects have three body parts and six leg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st insects do have antenna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Placeholder 4" descr="ants 2.jpg"/>
          <p:cNvPicPr/>
          <p:nvPr/>
        </p:nvPicPr>
        <p:blipFill>
          <a:blip r:embed="rId1"/>
          <a:stretch/>
        </p:blipFill>
        <p:spPr>
          <a:xfrm>
            <a:off x="2975040" y="633240"/>
            <a:ext cx="5638680" cy="50612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7:54:27Z</dcterms:created>
  <dc:creator>Ector County ISD Employee</dc:creator>
  <dc:description/>
  <dc:language>en-US</dc:language>
  <cp:lastModifiedBy>RomaK</cp:lastModifiedBy>
  <dcterms:modified xsi:type="dcterms:W3CDTF">2015-09-04T10:53:17Z</dcterms:modified>
  <cp:revision>7</cp:revision>
  <dc:subject/>
  <dc:title>Spiders and Insects</dc:title>
</cp:coreProperties>
</file>