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2.wmf" ContentType="image/x-wmf"/>
  <Override PartName="/ppt/media/image19.jpeg" ContentType="image/jpeg"/>
  <Override PartName="/ppt/media/image18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1.gif" ContentType="image/gif"/>
  <Override PartName="/ppt/media/image4.jpeg" ContentType="image/jpeg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36DD-FE1E-4660-86EC-1BB18E8B7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- division of cells which results in the product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 - also known as sex cells, germ cells, or spores; cells of sexual reproduction, which contain only half the chromosomes of a normal cell highered.mcgraw-hill.com/sites/007254923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_view0/glossary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Threadlike bodies found in the nucleus, or center part, of a cell that carry the information of hered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haredexperience.org/Glossary.las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- division of cells which results in the product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 - also known as sex cells, germ cells, or spores; cells of sexual reproduction, which contain only half the chromosomes of a normal cell highered.mcgraw-hill.com/sites/007254923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_view0/glossary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Threadlike bodies found in the nucleus, or center part, of a cell that carry the information of hered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haredexperience.org/Glossary.las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genetic diversity - variation among and within species that is attributable to differences in hereditary materia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or.gov.bc.ca/hfd/library/documents/glossary/G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genetic diversity - variation among and within species that is attributable to differences in hereditary materia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or.gov.bc.ca/hfd/library/documents/glossary/G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Rea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Rea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ION!!!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my sister does have a big nose.  So the human species is saved.  Kinda makes big noses pretty attractive now, doesn’t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ION!!!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my sister does have a big nose.  So the human species is saved.  Kinda makes big noses pretty attractive now, doesn’t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can we conclude about 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roduces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ity ensures survival of a species in an environment that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can we conclude about 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roduces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ity ensures survival of a species in an environment that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n which two cells, termed gametes, come together to form one fertilized cell that contains genetic information from both parental cells.   ucbiotech.org/glossary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offspring whose genetic constitution is a mixture of that of two potentially genetically different gamet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.unibe.ch/teaching/Glossar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n which two cells, termed gametes, come together to form one fertilized cell that contains genetic information from both parental cells.   ucbiotech.org/glossary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offspring whose genetic constitution is a mixture of that of two potentially genetically different gamet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.unibe.ch/teaching/Glossar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How many of you have mo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one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everyone in this room is a prod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Facto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How many of you have mo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one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everyone in this room is a prod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Facto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(i.e. it takes two to tan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(i.e. it takes two to tan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Why do we need more than 1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                  +      ½                 =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Why do we need more than 1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                  +      ½                 =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y what we’ve discussed, in sexual reproduction “mom” donates half, and “dad” donates half.  How does this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y what we’ve discussed, in sexual reproduction “mom” donates half, and “dad” donates half.  How does this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 moment to write down one trait that is different and in what way it is differ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ancing baby graphics and music courtesy of MegaBaby.com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 moment to write down one trait that is different and in what way it is differ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ancing baby graphics and music courtesy of MegaBaby.com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C0B9-2499-427F-A6F1-3947A42C3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64EF-6BAC-4C95-AD8E-65287C8D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7AA717-F24E-45D2-ABA5-5844B972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2B32A-C171-4892-92CF-296405C4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B6D18-7A0A-4997-862E-E221533D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3B2537-98B1-4080-9CA4-2CABA04E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2695FE-2711-4793-BEBC-E3FBC816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8F36B-61EE-42FF-84CC-C5AD27DF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AD381-65BE-4B8C-9F62-C4ABF18B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7964E6-68C4-4887-80CE-3DFD90767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08276-4E4C-4584-B861-7D17D7FF4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5FB408-900C-415C-B8FB-499D69DC3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DE91-71F8-469F-8FF8-69B82B45E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F6A72-5098-42F2-A038-D95BC334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4D93DE-26E4-414A-995B-6660A4B5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79EC0-3D46-4473-A986-9D7DAD7D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DF2FCB-2698-45B8-92CA-8CAAB822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E82CB5-A3A2-480E-8849-0FD8256B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2903CA-6393-49E1-B558-B8B03FFE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B1E932-564C-4C01-9E02-19BA50E3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7E5A0-6636-4375-AA31-946E56CE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49697C-9EF8-418F-8316-BF190EC3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C6031F-D917-4147-A0DD-53767728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315F-9D6E-46CA-9302-524A71EC7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99194B-60EC-4C06-915B-533E425D3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3E119-08E4-424D-BEA3-7ACCCB277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7EE5E-FE5A-4F89-85E6-A4420BD7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008C6-2036-4656-9324-14DB1BE1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08E39-971D-48BB-98A1-10CD137A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2E101-ADD8-4B58-A9C6-D577C5DD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66BE1-A54C-44A0-93D0-E6F4210C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A589E-7AD6-4C42-BEC5-104BE630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C9914-D39C-41FF-A1BB-DB8BACD1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A97DD-462B-47B2-9D38-6AC44659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F25F-DD43-4731-9B8D-7B662E93B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3DAC7A-B2EE-4CA6-A5EF-20CDFF0A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CD630-C456-4FE7-A024-1ACB34FF0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2818A3-8169-41C2-9B3E-E556B1A75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CCA889-849C-4E7E-AF5A-7334DCB84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46B884-BA96-44F4-91CA-37A3A72B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6A043E-4534-423B-BFE3-E626C1BC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0556D-3403-4B9D-91A4-42276198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C5AC60-131D-4192-B96D-26FC84F7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694F44-8899-4DDE-AEDA-E7DD0327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C78440-CEEC-48A8-A870-6401A10A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3405-D421-48FD-B582-1B54BBC1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27B12D-7A9F-4ECD-B921-1433DA24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5E48CE-6962-477F-B0E3-BABE07CF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29DDD6-80EF-42F4-9F1A-B61C61F9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69EA9E-8C48-4FAF-9272-A58E6A112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C13C57-5206-43F2-A0F9-04BF37130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7A719D-317D-46BB-A1F9-D7A5CB924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5ED07C-3C10-4136-8634-320942FF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B900BC-52D4-487E-A4E2-C2991036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68A767-308F-4F58-9378-DAB72EF6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67BC4D-8B07-4BE1-A918-4AD70322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EAF5-F1F6-4488-84FD-63FA1F51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0E1C6E-D74A-453E-B840-ED179449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68F0B9-7FCA-47A7-8B3A-4E5C7E54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EB6C71-1E69-4383-9A87-9A05F20F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C12999-CBC0-433B-9F3B-CD46DB9A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8E6A5A-7299-4242-B77D-337B6201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BDFFB0-F2B5-4869-91F7-F2E6B5A7C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0FF67B-8249-46FA-9566-A45B06F6A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1FB9-0A80-4750-96D5-1C0D2DCE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2F02-E07C-4F02-A17A-090582BE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6261-E0B1-439A-8CE5-D3CF4F61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ACD4-584D-470C-AA5B-91B129F0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6FF1-9C83-4056-9DE6-4D3EDE25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02AD-8409-4AFC-835E-013DDFAD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B201-E13C-4F4B-B23E-B15812D5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7F22-3ED3-4B7E-9F3E-1A388B9E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8122-66B7-4637-AB01-E12249EE4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D1D2-F56B-493B-81A6-9AA5F0464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B4494-3B3E-4E1E-AC8D-2662C98B3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D7856-BFF9-4A5D-8E86-20E636E0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59C26-6BA1-4453-A92A-DB8ED689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C37F8-3B83-4288-9D22-7BD9D733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3DF6A-25C4-415A-A4D0-C5227820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5685-10DE-4F86-9DED-BB51FE1B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432BE-5857-4881-83A9-F7362CD1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D83D7-2CE9-412E-BDF1-85CA2DC1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2422D-73E9-4702-9231-30AFB28B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3D070-808A-428E-983E-D5EC5B95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3DE6D-43A0-4190-92C7-7AF13560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3B64F-B00A-484F-B6A1-C18BC4DE1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6D106-662A-48A3-9770-711169D51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7CB83-EAAB-4A36-AF58-D4D0FC56E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4CDF4-EB5A-4C2B-B2CD-A84DFEA1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8BE7E-5092-414D-89D6-F92E4E42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8CE6-829A-414B-8B92-8E0628EF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CBE26-01AD-4FC7-9AAC-EE293128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368B0-B80D-4DF8-B5B0-D20F817C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7E9DF-73B0-477A-AE0F-D0D72C14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6CFED-F37B-49D8-A754-95360FA4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DD427-BBA3-491B-9B3F-257CDFC4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5A128-B55B-44E8-86AE-3041B541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17D3E-756F-4580-8530-5A4DE115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7C416-126B-4001-A1EB-9203AA02B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B393F-F934-4EFB-8D70-38FC44A2A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7312B-3ABA-42A5-9468-7F661A55A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2BD2-28FF-4EC4-B9FC-779E70C9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BE4AE-6797-4C32-9E52-372EAD80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B0CC2-F205-4457-88B1-317DA202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E9D0D-4E3D-449A-8419-14328619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554DC-FB44-4D3F-9DFB-EE13EB59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785AD-F806-4D49-844F-B6F58F6C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6E334-AB51-4AA9-933D-2C61CE01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360FB-FB54-4887-A667-1A34AAFA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98913-923B-4888-8C23-3E607777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C865C-F834-4E6C-AED7-176626C9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3609D-C002-4A90-A521-D2C59EA7E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0A30-ED35-48CD-A023-7CABC703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07562-6034-421A-AC75-D76AEC5D5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3037F-DE98-44EA-BB63-753FEF8F8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D8464-F375-400D-9844-81B91B26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3101B-90C2-4DF3-93CD-5E4AC729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0556A-C4CF-4243-841C-54708451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A40EB-500B-4D5D-8B8F-B9EA5FB5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269C1-0EA7-4A1C-B54C-94F28510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B38A8-BE4E-4754-824D-BD153EC7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A5AD8-DCAB-4EBE-971B-F3CD8DCE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632A4-77D1-4ED2-BD0A-079040B2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AA4C-E154-4829-9B4C-BEC69317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079A0-D6D9-42A4-9902-165EFF7A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A2718-4E3F-4429-9A30-5B185095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120E8-D480-4DC6-8FB6-228536FC5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2B60D-8248-4DC8-AFEA-200DF4B8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915FA-FFDC-44CE-B1C0-C118D06F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54689-F673-4ED1-B15E-66EBE2F7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D3022-76A0-407F-B3EC-05C6DFBF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260E2-7AAE-4458-A1DE-14EE08FE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C39D3-ABC3-44A3-8660-6742521E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9EE33-FF50-4370-B3B2-40749A6C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CCF1-D5CB-4F86-ADB1-0C70767B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DB42D-483E-4DCC-A3DC-4E833A9B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F9749-1EFE-4C8A-AAAC-2C4C6CD9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1CE8D-1CE6-4B83-8F2F-06B015A9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18BA9-382D-40BB-A0D1-022064125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8245B-DA5E-4A25-B24C-79D7A7717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79F53-8894-4065-9BC3-CD8BED874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81C6D-484F-4B0C-A238-37850EAB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24B52-1657-4D9B-A302-947929FF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2380F-98A7-4871-B035-56F6F4D4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D2F85-8783-4706-8698-C0391869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6661-8D78-4A40-8DB4-FFC89DEA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0AEF7-C65B-4F03-B859-68986AF1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6C5BB-F767-4B9E-9D88-0AD4105A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9BCA6-8855-478B-A245-D51C68A3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4BF49-1261-4962-B643-62FFF865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003E9-92C4-42B6-B1C0-179D6F58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40536-D604-41EF-B8F1-2C97F34D6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0E34A-F50B-4165-8AF6-70ED1D318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74645-97A5-45D8-83BD-A4CE3FE3D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C6F0A-4605-406A-BB2B-8792112A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1218B-DA47-4973-9F7D-6DF04FEB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AA92-3A0D-44C1-A32A-8D0A5646EDF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B641-EB3B-42D9-B0E1-91FE9A213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13C1-74DC-493C-8029-E3A13CB5B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5A47-077F-43A4-B41B-44ED8DA2945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7DD8-BB8B-4C74-8625-37BB0842190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B5F8-8952-429E-9153-612DE46734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A851-0C58-4844-A1CA-1E63391ED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0A47-6595-4BCB-939F-DF24A2B88EA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DDE8-C119-4D6A-A168-964670743C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21BB-946F-4D1D-9DFE-DEF9F2B819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40EA-09E3-4189-8843-A6080C90CD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621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2485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5EAA-FD26-48E4-8FA5-2ADCD46D8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3C60-B943-4F08-895A-23E9C3E63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Quick Review -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Meiosis -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division of cells which results in the production of gamet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Gametes -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also known as sex cells, germ cells, or spores; cells of sexual reproduction, which contain only half the chromosomes of a normal cell highered.mcgraw-hill.com/sites/0072549238/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student_view0/glossary.html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Chromosomes -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 Threadlike bodies found in the nucleus, or center part, of a cell that carry the information of heredit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www.sharedexperience.org/Glossary.lasso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Requires a female and male par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Each parent donates ½ of the Chromosomes/Genes/D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Requires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Broadway"/>
              </a:rPr>
              <a:t>fertilization</a:t>
            </a: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 - the combining of game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Broadway"/>
              </a:rPr>
              <a:t>Produces </a:t>
            </a:r>
            <a:r>
              <a:rPr b="0" i="1" lang="en-US" sz="3000" spc="-1" strike="noStrike" u="sng">
                <a:solidFill>
                  <a:srgbClr val="0066ff"/>
                </a:solidFill>
                <a:uFillTx/>
                <a:latin typeface="Broadway"/>
              </a:rPr>
              <a:t>genetic diversity</a:t>
            </a:r>
            <a:r>
              <a:rPr b="0" lang="en-US" sz="3000" spc="-1" strike="noStrike">
                <a:solidFill>
                  <a:srgbClr val="0066ff"/>
                </a:solidFill>
                <a:latin typeface="Broadway"/>
              </a:rPr>
              <a:t> - variation among and within species that is attributable to differences in hereditary material.</a:t>
            </a:r>
            <a:br>
              <a:rPr sz="3000"/>
            </a:br>
            <a:r>
              <a:rPr b="0" lang="en-US" sz="3000" spc="-1" strike="noStrike" u="sng">
                <a:solidFill>
                  <a:srgbClr val="0066ff"/>
                </a:solidFill>
                <a:uFillTx/>
                <a:latin typeface="Broadway"/>
              </a:rPr>
              <a:t>www.for.gov.bc.ca/hfd/library/documents/glossary/G.htm</a:t>
            </a: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9" name="Picture 4" descr="big_nose"/>
          <p:cNvPicPr/>
          <p:nvPr/>
        </p:nvPicPr>
        <p:blipFill>
          <a:blip r:embed="rId1"/>
          <a:stretch/>
        </p:blipFill>
        <p:spPr>
          <a:xfrm>
            <a:off x="3429000" y="3276720"/>
            <a:ext cx="1066680" cy="10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4" descr="bleak landscape"/>
          <p:cNvPicPr/>
          <p:nvPr/>
        </p:nvPicPr>
        <p:blipFill>
          <a:blip r:embed="rId1">
            <a:lum contrast="18000"/>
            <a:alphaModFix am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Possible Reas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Broadway"/>
              </a:rPr>
              <a:t>EXTINCTION!!!!</a:t>
            </a:r>
            <a:r>
              <a:rPr b="0" lang="en-US" sz="4400" spc="-1" strike="noStrike">
                <a:solidFill>
                  <a:srgbClr val="1c1c1c"/>
                </a:solidFill>
                <a:latin typeface="Broadway"/>
              </a:rPr>
              <a:t>	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But, my sister does have a big nose.  So the human species is saved.  Kinda makes big noses pretty attractive now, doesn’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4" descr="big nose girl"/>
          <p:cNvPicPr/>
          <p:nvPr/>
        </p:nvPicPr>
        <p:blipFill>
          <a:blip r:embed="rId1"/>
          <a:stretch/>
        </p:blipFill>
        <p:spPr>
          <a:xfrm>
            <a:off x="2286000" y="3657600"/>
            <a:ext cx="39625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5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Broadway"/>
              </a:rPr>
              <a:t>So what can we conclude about Sexual Reproduction?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43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it produces 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diversity ensures survival of a species in an environment that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10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roadway"/>
              </a:rPr>
              <a:t>Sexual Reproduct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Definition:</a:t>
            </a:r>
            <a:r>
              <a:rPr b="0" lang="en-US" sz="1400" spc="-1" strike="noStrike">
                <a:solidFill>
                  <a:srgbClr val="ffffff"/>
                </a:solidFill>
                <a:latin typeface="Broadway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roadw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Process in which two cells, termed gametes, come together to form one </a:t>
            </a:r>
            <a:r>
              <a:rPr b="0" lang="en-US" sz="1800" spc="-1" strike="noStrike">
                <a:solidFill>
                  <a:srgbClr val="0066ff"/>
                </a:solidFill>
                <a:latin typeface="Broadway"/>
              </a:rPr>
              <a:t>fertilized</a:t>
            </a: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 cell that contains genetic information from both parental cells.   ucbiotech.org/glossary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roadw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Production of offspring whose genetic constitution is a mixture of that of two potentially genetically different gametes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evolution.unibe.ch/teaching/GlossarE.ht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914400" y="8380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Q:  How many of you have more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than one par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4" descr="man_woman_walking_holding_hands_lg_wm"/>
          <p:cNvPicPr/>
          <p:nvPr/>
        </p:nvPicPr>
        <p:blipFill>
          <a:blip r:embed="rId1"/>
          <a:stretch/>
        </p:blipFill>
        <p:spPr>
          <a:xfrm>
            <a:off x="2895480" y="411480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5"/>
          <p:cNvSpPr/>
          <p:nvPr/>
        </p:nvSpPr>
        <p:spPr>
          <a:xfrm>
            <a:off x="457200" y="22860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then, everyone in this room is a product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of sexual 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6242760" y="636264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AnimationFactor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Requires a female and male parent (i.e. it takes two to tan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Q:  Why do we need more than 1 par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Picture 6" descr="MCj03981910000[1]"/>
          <p:cNvPicPr/>
          <p:nvPr/>
        </p:nvPicPr>
        <p:blipFill>
          <a:blip r:embed="rId1"/>
          <a:stretch/>
        </p:blipFill>
        <p:spPr>
          <a:xfrm>
            <a:off x="1143000" y="3809880"/>
            <a:ext cx="1558800" cy="18147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8" descr="MCj03981910000[1]"/>
          <p:cNvPicPr/>
          <p:nvPr/>
        </p:nvPicPr>
        <p:blipFill>
          <a:blip r:embed="rId2"/>
          <a:stretch/>
        </p:blipFill>
        <p:spPr>
          <a:xfrm>
            <a:off x="4724280" y="3809880"/>
            <a:ext cx="1559160" cy="181476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9"/>
          <p:cNvSpPr/>
          <p:nvPr/>
        </p:nvSpPr>
        <p:spPr>
          <a:xfrm>
            <a:off x="533520" y="44197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½                   +      ½                 </a:t>
            </a:r>
            <a:r>
              <a:rPr b="1" lang="en-US" sz="3600" spc="-1" strike="noStrike">
                <a:solidFill>
                  <a:srgbClr val="000000"/>
                </a:solidFill>
                <a:latin typeface="Broadway"/>
              </a:rPr>
              <a:t>= 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Requires a female and male par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Each parent donates ½ of the Chromosomes/Genes/D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So, by what we’ve discussed, in sexual reproduction “mom” donates half, and “dad” donates half.  How does this happ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Picture 4" descr="Fertilization"/>
          <p:cNvPicPr/>
          <p:nvPr/>
        </p:nvPicPr>
        <p:blipFill>
          <a:blip r:embed="rId1"/>
          <a:stretch/>
        </p:blipFill>
        <p:spPr>
          <a:xfrm>
            <a:off x="2666880" y="2590920"/>
            <a:ext cx="3276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Requires a female and male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Each parent donates ½ of the Chromosomes/Genes/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Requires </a:t>
            </a:r>
            <a:r>
              <a:rPr b="0" i="1" lang="en-US" sz="3200" spc="-1" strike="noStrike" u="sng">
                <a:solidFill>
                  <a:srgbClr val="0066ff"/>
                </a:solidFill>
                <a:uFillTx/>
                <a:latin typeface="Broadway"/>
              </a:rPr>
              <a:t>fertilization</a:t>
            </a: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 - the combining of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7" descr="dancing baby 2"/>
          <p:cNvPicPr/>
          <p:nvPr/>
        </p:nvPicPr>
        <p:blipFill>
          <a:blip r:embed="rId1"/>
          <a:stretch/>
        </p:blipFill>
        <p:spPr>
          <a:xfrm>
            <a:off x="685800" y="2666880"/>
            <a:ext cx="2095560" cy="1905120"/>
          </a:xfrm>
          <a:prstGeom prst="rect">
            <a:avLst/>
          </a:prstGeom>
          <a:ln w="0">
            <a:noFill/>
          </a:ln>
        </p:spPr>
      </p:pic>
      <p:pic>
        <p:nvPicPr>
          <p:cNvPr id="562" name="disco baby music.mid" descr=""/>
          <p:cNvPicPr/>
          <p:nvPr/>
        </p:nvPicPr>
        <p:blipFill>
          <a:blip r:embed="rId2"/>
          <a:stretch/>
        </p:blipFill>
        <p:spPr>
          <a:xfrm>
            <a:off x="81532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9" descr="disco baby"/>
          <p:cNvPicPr/>
          <p:nvPr/>
        </p:nvPicPr>
        <p:blipFill>
          <a:blip r:embed="rId3"/>
          <a:stretch/>
        </p:blipFill>
        <p:spPr>
          <a:xfrm>
            <a:off x="6019920" y="2514600"/>
            <a:ext cx="2133360" cy="170640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10"/>
          <p:cNvSpPr/>
          <p:nvPr/>
        </p:nvSpPr>
        <p:spPr>
          <a:xfrm>
            <a:off x="898560" y="4305240"/>
            <a:ext cx="75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Take a moment to write down one trait that is different and in what way 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is differ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1"/>
          <p:cNvSpPr/>
          <p:nvPr/>
        </p:nvSpPr>
        <p:spPr>
          <a:xfrm>
            <a:off x="228600" y="636264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*Dancing baby graphics and music courtesy of MegaBaby.com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5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8:07:54Z</dcterms:created>
  <dc:creator>John Bojnowski</dc:creator>
  <dc:description/>
  <dc:language>en-US</dc:language>
  <cp:lastModifiedBy>RomaK</cp:lastModifiedBy>
  <dcterms:modified xsi:type="dcterms:W3CDTF">2015-09-04T11:08:30Z</dcterms:modified>
  <cp:revision>14</cp:revision>
  <dc:subject/>
  <dc:title>Sexual Reproduction</dc:title>
</cp:coreProperties>
</file>