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13.png" ContentType="image/png"/>
  <Override PartName="/ppt/media/image12.wmf" ContentType="image/x-wmf"/>
  <Override PartName="/ppt/media/image19.jpeg" ContentType="image/jpeg"/>
  <Override PartName="/ppt/media/image18.jpeg" ContentType="image/jpeg"/>
  <Override PartName="/ppt/media/image17.gif" ContentType="image/gif"/>
  <Override PartName="/ppt/media/image2.jpeg" ContentType="image/jpeg"/>
  <Override PartName="/ppt/media/image16.gif" ContentType="image/gif"/>
  <Override PartName="/ppt/media/image14.gif" ContentType="image/gif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11.gif" ContentType="image/gif"/>
  <Override PartName="/ppt/media/image4.jpeg" ContentType="image/jpeg"/>
  <Override PartName="/ppt/media/image6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6"/>
          <p:cNvSpPr>
            <a:spLocks noGrp="1"/>
          </p:cNvSpPr>
          <p:nvPr>
            <p:ph type="sldNum" idx="4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19AC1-CD70-4082-99AF-8D7EF0F23A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ick Review 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iosis - division of cells which results in the production of game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metes - also known as sex cells, germ cells, or spores; cells of sexual reproduction, which contain only half the chromosomes of a normal cell highered.mcgraw-hill.com/sites/0072549238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_view0/glossary.htm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omosomes - Threadlike bodies found in the nucleus, or center part, of a cell that carry the information of heredity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haredexperience.org/Glossary.lass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ick Review 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iosis - division of cells which results in the production of game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metes - also known as sex cells, germ cells, or spores; cells of sexual reproduction, which contain only half the chromosomes of a normal cell highered.mcgraw-hill.com/sites/0072549238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_view0/glossary.htm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omosomes - Threadlike bodies found in the nucleus, or center part, of a cell that carry the information of heredity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haredexperience.org/Glossary.lass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stics of 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quires a female and male par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parent donates ½ of the Chromosomes/Genes/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quires fertilization - the combining of game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es genetic diversity - variation among and within species that is attributable to differences in hereditary material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for.gov.bc.ca/hfd/library/documents/glossary/G.ht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stics of 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quires a female and male par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parent donates ½ of the Chromosomes/Genes/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quires fertilization - the combining of game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es genetic diversity - variation among and within species that is attributable to differences in hereditary material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for.gov.bc.ca/hfd/library/documents/glossary/G.ht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, lets talk about this diversity.  My sister has a big nose.  She’s not too thrilled with having this big nose.  So let’s try to convince her it’s a good thing.  Write down a reason it might be good to have a big nose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, lets talk about this diversity.  My sister has a big nose.  She’s not too thrilled with having this big nose.  So let’s try to convince her it’s a good thing.  Write down a reason it might be good to have a big nose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sible Reas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run with the answer that she would have a better ability to pick up the scent of food.  What would happen if the food supply suddenly decreased and no one, including my sister, had a big nose that could sense this food suppl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sible Reas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run with the answer that she would have a better ability to pick up the scent of food.  What would happen if the food supply suddenly decreased and no one, including my sister, had a big nose that could sense this food suppl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INCTION!!!!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, my sister does have a big nose.  So the human species is saved.  Kinda makes big noses pretty attractive now, doesn’t i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INCTION!!!!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, my sister does have a big nose.  So the human species is saved.  Kinda makes big noses pretty attractive now, doesn’t i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what can we conclude about Sexual Reproduc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produces d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versity ensures survival of a species in an environment that chan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what can we conclude about Sexual Reproduc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produces d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versity ensures survival of a species in an environment that chan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: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in which two cells, termed gametes, come together to form one fertilized cell that contains genetic information from both parental cells.   ucbiotech.org/glossary/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tion of offspring whose genetic constitution is a mixture of that of two potentially genetically different gametes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olution.unibe.ch/teaching/GlossarE.ht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: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in which two cells, termed gametes, come together to form one fertilized cell that contains genetic information from both parental cells.   ucbiotech.org/glossary/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tion of offspring whose genetic constitution is a mixture of that of two potentially genetically different gametes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olution.unibe.ch/teaching/GlossarE.ht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:  How many of you have mor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han one paren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, everyone in this room is a product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imationFactor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:  How many of you have mor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han one paren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, everyone in this room is a product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imationFactor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stics of 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quires a female and male parent (i.e. it takes two to tang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stics of 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quires a female and male parent (i.e. it takes two to tang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:  Why do we need more than 1 paren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½                   +      ½                 =  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:  Why do we need more than 1 paren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½                   +      ½                 =  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stics of 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quires a female and male par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parent donates ½ of the Chromosomes/Genes/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stics of 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quires a female and male par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parent donates ½ of the Chromosomes/Genes/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, by what we’ve discussed, in sexual reproduction “mom” donates half, and “dad” donates half.  How does this happe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, by what we’ve discussed, in sexual reproduction “mom” donates half, and “dad” donates half.  How does this happe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stics of 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quires a female and male par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parent donates ½ of the Chromosomes/Genes/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quires fertilization - the combining of game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stics of 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quires a female and male par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parent donates ½ of the Chromosomes/Genes/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quires fertilization - the combining of game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, nine months later, you come out kicking and screaming (and dancing).  To which parent do you look exactly alike?  How about your siblings?  Do you look exactly alike the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a moment to write down one trait that is different and in what way it is different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ancing baby graphics and music courtesy of MegaBaby.com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, nine months later, you come out kicking and screaming (and dancing).  To which parent do you look exactly alike?  How about your siblings?  Do you look exactly alike the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a moment to write down one trait that is different and in what way it is different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ancing baby graphics and music courtesy of MegaBaby.com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45B9A-BAD4-4BBD-AD74-991640572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94712-4874-4A5B-B411-F08EBD7EC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B0FEBB-9BAF-49F8-8F42-A7643B7CE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6CEB01-D640-449C-B12A-88EBBCEE6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7A63E7-DBD7-45C0-BA19-16A940AD4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4FD16E-C150-4CC4-8308-B167F732E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B00D48-F471-4097-A171-E5B555813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A4AD83-17D0-439E-9DA5-D956EEEC0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E5F27C-59CC-4E9B-857D-B9DAF20A4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0777ED-ED46-4E9D-8608-5E82BFF64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70B58C-12AA-4F34-854F-28CAA224E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23E6D7-C575-4ACC-ACAE-D2EAAE7F6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18AD5-09DB-4CFB-B2B5-E7BE497BC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B56B62-7B4F-4066-8084-7101A3C1A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E4B747-EBAD-4EB9-8A90-C4297BBCA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B33126-113B-4C7E-B1E4-092751C86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A8D458-6867-4344-8FE1-F6687E39D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9B7251-0241-4928-82D0-E67C9EDE4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5FB6DD-33C4-47B7-BDF1-52C4DBD90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C45C66-F26C-4FF6-BDF1-A459DB466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0C6ED1-8537-4520-9012-B72C348FF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122E7D-925D-479C-A84A-3BB8BA64C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3090C1-4B28-406C-BE44-D4E1B82AA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95218-A920-4A49-B86F-DCCA31B76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2E436A-1896-4E9E-AD14-A687E5CDC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5BF05E-EBE3-4563-B921-B32313972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1E91DE-AE29-4D52-9E50-67298851B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B0ABDD-2232-4221-9117-896463FD5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9B0EEE-DC16-4ECF-BB56-E25465BD3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7BE57D-592E-490D-B11D-9891375F9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E128F7-8D70-4A8A-92CD-B3595A881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35EB1A-1EA4-4F96-8100-0E79DA4BD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53754E-B60B-4038-AAB2-3E0F84419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C1A0A8-8C69-4AEB-9175-39FE7879D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A818F-9BDA-4A3B-B9B1-D194E57B3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2A8170-30EC-4A46-AD68-E74671AA0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CBFCBF-08B7-4293-A401-D78CAE097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0DD16A-5419-4C20-991E-74171C56C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6051ED-DF84-4A17-A156-DAB6DE4C5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12D4C3-5E59-4AEE-BCAA-768D2E901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F1CAB6-F642-4264-92A7-33A865004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2E3839-559D-4B9A-85D7-ACD7DEC18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E0BF05-4F10-4C5E-9080-F21599459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85CBC8-8E13-4BD0-9971-BD74E6B8C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F11D4A-4A2F-440C-9A54-90B094514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1567A-7E45-4C57-ACF8-62578B667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29A94E-493F-46A3-AB65-3A5DD599C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2FD96F-9716-4780-A8B3-35EFB11AF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6443FE-0142-43F5-BA6E-FD6660773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9D0493-F7D9-48A5-BBC7-84B95D2C5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DC8DCF-9053-4572-9D6C-3D562D38F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745920E-DF0A-4CEF-82C9-2F9041178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AFD0EFB-67C0-4640-83EB-AB81B3A6F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0D74FE3-5335-4009-9E81-0C7A455C6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B9CE402-5E83-4603-8523-EC1EE4193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DEF6C06-2CF7-48E1-8516-634E6F4F6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CFCD2-7E66-42CE-B117-63366302D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84F1C45-0BCF-4B7E-892C-6517492DB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FAF556E-BDAE-4014-BDD1-73F6D8256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7EEB58E-372D-4B8F-B1BD-A032FA54B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44BD955-E679-4D1D-A0DC-D18DF1662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A5F40D3-C1DD-4A78-BB6B-1D146576A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05F542E-8F1D-43DF-A426-590DAF803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3830E2A-EBBB-4ED4-904E-4C92DB1C8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FFC73-FAFC-4A7F-B0DD-847AEA027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30F0B-F416-4CD2-9870-D05A97E15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87533-BA3A-4639-8F9C-6D3987C9C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39916-5EE4-4462-8079-AB6534D94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9244A-790E-4206-823A-86E096780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9EE58-BD86-44BD-9FC9-548674173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0E437-15FE-4382-8098-DADFD636E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CE8F4-26D4-4BE6-97AC-5344CC4D8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871C1-3FE6-4C14-84E3-633FB44B4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79D26-B09F-4B0E-9560-FC85B6319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488D6F-CDA5-45C7-A636-0B8DE862C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FB00CE-122C-42D1-866A-0C278E1DF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3B693C-0F3F-4540-AAD5-165827B99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2B151E-2B53-4F63-B406-AD118FFD2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B795D5-2F56-4CCE-A1E9-B36D0E561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78C61-2447-4330-8F90-77DAACEC6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405BA7-A2C0-43C4-9709-1585674B6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C7C83B-0527-4CB0-B440-107BF8499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D9008C-81AA-4C7E-9133-2AB3F9994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0F3D75-96FF-41F6-BCA3-B0916DBCF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B3053B-7FE7-4113-8497-5EA2A69D7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6062AC-914F-417C-B91B-F40D00177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951794-70FE-408C-AA48-E10CCDD75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5D339F-F2D7-4064-8037-BEB3DC24C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D11222-0ED2-4F8B-8885-33CF91C4E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3FB3EE-218E-48E9-9A4C-F08D2770F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54875-A1C0-4403-8D2E-797310DC1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413BCB-237A-4E7A-9266-6C4A31169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B74B34-BFA2-4E41-A0BA-4934C8B6F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6F4066-CDA4-46EE-BEC4-F96C9381A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C68DBC-4585-4F82-930B-F7188BE6D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A323B7-2627-4AAC-A2D7-4EE8A3C77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4A957F-C17E-4D2D-9341-695D9D34A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EA3314-2EB9-4A79-B2DF-CF1E778FB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670546-4647-4093-8720-B23ABA8F4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E9CD35-817C-4903-9A6D-03788723B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CD5CB2-D591-412A-AA92-E983BD1B5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2EC58-F91E-4AD0-AE47-C95549CBF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85059F-E897-4D98-8B76-820725515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0EA6EE-C273-419A-8305-386E89179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EE2E56-D246-464F-AF49-CC5657112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D6751E-1AEE-4AF6-BACE-C38969641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EB9D83-05D4-46E6-BF4C-230F8A8F2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5DC4E4-835A-44B1-BED0-8F079C83D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6162C9-0934-4819-B798-6E6FB46EF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389DC4-25FD-45A3-A370-C85CD74F4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60FA84-FD86-453E-B0E1-4E0CCC637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DD2A5C-EC41-488E-93B5-8673ABFE5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F872C-9E52-4520-A131-5D5C7BC66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721C84-39D7-4FFC-A66D-BD7892A7E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1AFDED-7A2B-42BD-A78E-3AFB2D59D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83EA86-EE73-4DFF-A1C4-EEBE6E5EC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DC4013-5E30-4976-B9AE-7409DFF1B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FEAFB1-CBE5-4FB8-B97D-6B15F8771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CBF2A4-34EA-4A48-BC50-D5F4A079E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B1DC6E-7126-407C-8F84-F3F0CDAB7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BD153F-81A0-4A44-BE49-6A2260462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8C1B60-FA0F-4685-8E4B-11ECEFD0F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261FBB-DF10-44D3-92F1-12F24E19F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539B6-F596-4080-9CC9-BF4010A20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0637F2-9A8B-4F94-9C81-FAD4416A7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05A5E9-0D5F-42C7-8CEF-7A42CD388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6505CB-1E3A-43DD-973E-76B04DB6A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29A220-7D60-4A43-83D6-C300AF247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02B59E-7567-439D-944D-E136F0BB1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E2937A-A5DB-491F-86BB-DAFE3FF86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0DE071-D289-432A-921E-3665E4F8D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C03024-B481-44C4-B059-C2F70796D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E7E988-43DC-4FFE-ACFE-F276EDFFB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1841AD-0058-4118-82B7-DD8610C0D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81805-9486-4384-987E-8674436A9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B91ADC-4FFC-4AE5-A9D9-1F7FF8165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1D2564-47D4-4053-8B22-8A33ED2D6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671612-2561-488D-9E0B-EAE8E3897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7F3D68-0EAC-41EF-9C89-2C54EF79E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FB7B36-EC99-4CA4-85AC-EC89D6CAC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3713BB-B9CF-495D-B038-44D1CF942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435749-D1F6-4FC8-9CDD-31F1BBA2D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2BFCA7-1B17-4036-9ECD-1151FB72B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1622BC-A08D-4B46-900A-BFE45D41E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208AFB-7164-4881-951A-937D0E79F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8ED88-993D-490C-B770-B88505913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9CE422-A76E-4296-AEAF-69957B517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858F19-17AD-4F49-928D-350C0CB1E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1DA2D3-598E-4222-B97F-798A32FF5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3C0E41-DD27-4717-B032-B21DEF17E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FC0A50-03DF-45C8-BF66-1FED17E0F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A21E0F-929D-47B7-A5CC-0EDC9AF65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CEEBC2-A5F0-41D4-BE3E-4D52B674B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134529-141B-4280-A245-AF81008AD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3F62F1-54E7-4E5E-A234-13BA90203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44D366-9810-4F91-90AD-FC5C26BBC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63EFD-D2DF-48CD-BE15-D5D7F79FC98E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48DAD-CB9B-4827-BBDD-569DBFD781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C30AA-AE93-4532-BDC4-65A13ABE6F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2DCFD-0ABF-4947-B95E-DA10A926E6CB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80DA5-F470-4D00-8BA4-2D6F88F9D612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54636-662D-4BBD-A3DA-0CA24D613F0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73E5C-E2E9-44F9-A934-E7BBFE4C5F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F571E-29B8-4D3D-B735-4F5E6DA0FE1B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9778E-DF11-4AF8-833F-7BD9DFFED4A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AD1A5-4367-4BFE-8A7A-EC9A8CD50B3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474E9-235D-468C-98C1-FA0631B107D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837720" y="1600200"/>
            <a:ext cx="7620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762120" y="62449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248520" y="62449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3A59D-5BB5-4E02-A43A-6D5DFF4DC9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3F40A-6C89-4BA1-AB42-CFD5B84565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png"/><Relationship Id="rId3" Type="http://schemas.openxmlformats.org/officeDocument/2006/relationships/image" Target="../media/image16.gif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roadway"/>
              </a:rPr>
              <a:t>Quick Review -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oadway"/>
              </a:rPr>
              <a:t>Meiosis - </a:t>
            </a:r>
            <a:r>
              <a:rPr b="0" lang="en-US" sz="1800" spc="-1" strike="noStrike">
                <a:solidFill>
                  <a:srgbClr val="000000"/>
                </a:solidFill>
                <a:latin typeface="Broadway"/>
              </a:rPr>
              <a:t>division of cells which results in the production of gametes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oadway"/>
              </a:rPr>
              <a:t>Gametes - </a:t>
            </a:r>
            <a:r>
              <a:rPr b="0" lang="en-US" sz="1800" spc="-1" strike="noStrike">
                <a:solidFill>
                  <a:srgbClr val="000000"/>
                </a:solidFill>
                <a:latin typeface="Broadway"/>
              </a:rPr>
              <a:t>also known as sex cells, germ cells, or spores; cells of sexual reproduction, which contain only half the chromosomes of a normal cell highered.mcgraw-hill.com/sites/0072549238/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roadway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roadway"/>
              </a:rPr>
              <a:t>student_view0/glossary.html 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oadway"/>
              </a:rPr>
              <a:t>Chromosomes -</a:t>
            </a:r>
            <a:r>
              <a:rPr b="0" lang="en-US" sz="1800" spc="-1" strike="noStrike">
                <a:solidFill>
                  <a:srgbClr val="000000"/>
                </a:solidFill>
                <a:latin typeface="Broadway"/>
              </a:rPr>
              <a:t> Threadlike bodies found in the nucleus, or center part, of a cell that carry the information of heredity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Broadway"/>
              </a:rPr>
              <a:t>www.sharedexperience.org/Glossary.lasso 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1c1c1c"/>
                </a:solidFill>
                <a:uFillTx/>
                <a:latin typeface="Broadway"/>
              </a:rPr>
              <a:t>Characteristics of Sexual Reproduction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roadway"/>
              </a:rPr>
              <a:t>Requires a female and male paren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roadway"/>
              </a:rPr>
              <a:t>Each parent donates ½ of the Chromosomes/Genes/DN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roadway"/>
              </a:rPr>
              <a:t>Requires </a:t>
            </a:r>
            <a:r>
              <a:rPr b="0" i="1" lang="en-US" sz="3000" spc="-1" strike="noStrike" u="sng">
                <a:solidFill>
                  <a:srgbClr val="000000"/>
                </a:solidFill>
                <a:uFillTx/>
                <a:latin typeface="Broadway"/>
              </a:rPr>
              <a:t>fertilization</a:t>
            </a:r>
            <a:r>
              <a:rPr b="0" lang="en-US" sz="3000" spc="-1" strike="noStrike">
                <a:solidFill>
                  <a:srgbClr val="000000"/>
                </a:solidFill>
                <a:latin typeface="Broadway"/>
              </a:rPr>
              <a:t> - the combining of game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66ff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ff"/>
                </a:solidFill>
                <a:latin typeface="Broadway"/>
              </a:rPr>
              <a:t>Produces </a:t>
            </a:r>
            <a:r>
              <a:rPr b="0" i="1" lang="en-US" sz="3000" spc="-1" strike="noStrike" u="sng">
                <a:solidFill>
                  <a:srgbClr val="0066ff"/>
                </a:solidFill>
                <a:uFillTx/>
                <a:latin typeface="Broadway"/>
              </a:rPr>
              <a:t>genetic diversity</a:t>
            </a:r>
            <a:r>
              <a:rPr b="0" lang="en-US" sz="3000" spc="-1" strike="noStrike">
                <a:solidFill>
                  <a:srgbClr val="0066ff"/>
                </a:solidFill>
                <a:latin typeface="Broadway"/>
              </a:rPr>
              <a:t> - variation among and within species that is attributable to differences in hereditary material.</a:t>
            </a:r>
            <a:br>
              <a:rPr sz="3000"/>
            </a:br>
            <a:r>
              <a:rPr b="0" lang="en-US" sz="3000" spc="-1" strike="noStrike" u="sng">
                <a:solidFill>
                  <a:srgbClr val="0066ff"/>
                </a:solidFill>
                <a:uFillTx/>
                <a:latin typeface="Broadway"/>
              </a:rPr>
              <a:t>www.for.gov.bc.ca/hfd/library/documents/glossary/G.htm</a:t>
            </a:r>
            <a:r>
              <a:rPr b="0" lang="en-US" sz="3000" spc="-1" strike="noStrike">
                <a:solidFill>
                  <a:srgbClr val="000000"/>
                </a:solidFill>
                <a:latin typeface="Broadway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0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5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roadway"/>
              </a:rPr>
              <a:t>Now, lets talk about this diversity.  My sister has a big nose.  She’s not too thrilled with having this big nose.  So let’s try to convince her it’s a good thing.  Write down a reason it might be good to have a big nose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9" name="Picture 4" descr="big_nose"/>
          <p:cNvPicPr/>
          <p:nvPr/>
        </p:nvPicPr>
        <p:blipFill>
          <a:blip r:embed="rId1"/>
          <a:stretch/>
        </p:blipFill>
        <p:spPr>
          <a:xfrm>
            <a:off x="3429000" y="3276720"/>
            <a:ext cx="1066680" cy="103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0" name="Picture 4" descr="bleak landscape"/>
          <p:cNvPicPr/>
          <p:nvPr/>
        </p:nvPicPr>
        <p:blipFill>
          <a:blip r:embed="rId1">
            <a:lum contrast="18000"/>
            <a:alphaModFix amt="24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1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oadway"/>
              </a:rPr>
              <a:t>Possible Reaso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oadway"/>
              </a:rPr>
              <a:t>Let’s run with the answer that she would have a better ability to pick up the scent of food.  What would happen if the food supply suddenly decreased and no one, including my sister, had a big nose that could sense this food supply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Broadway"/>
              </a:rPr>
              <a:t>EXTINCTION!!!!</a:t>
            </a:r>
            <a:r>
              <a:rPr b="0" lang="en-US" sz="4400" spc="-1" strike="noStrike">
                <a:solidFill>
                  <a:srgbClr val="1c1c1c"/>
                </a:solidFill>
                <a:latin typeface="Broadway"/>
              </a:rPr>
              <a:t>	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oadway"/>
              </a:rPr>
              <a:t>But, my sister does have a big nose.  So the human species is saved.  Kinda makes big noses pretty attractive now, doesn’t 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4" name="Picture 4" descr="big nose girl"/>
          <p:cNvPicPr/>
          <p:nvPr/>
        </p:nvPicPr>
        <p:blipFill>
          <a:blip r:embed="rId1"/>
          <a:stretch/>
        </p:blipFill>
        <p:spPr>
          <a:xfrm>
            <a:off x="2286000" y="3657600"/>
            <a:ext cx="3962520" cy="29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0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45">
                                  <p:stCondLst>
                                    <p:cond delay="1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5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914400" y="762120"/>
            <a:ext cx="8229600" cy="178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c1c1c"/>
                </a:solidFill>
                <a:latin typeface="Broadway"/>
              </a:rPr>
              <a:t>So what can we conclude about Sexual Reproduction?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114300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oadway"/>
              </a:rPr>
              <a:t>it produces d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oadway"/>
              </a:rPr>
              <a:t>diversity ensures survival of a species in an environment that chan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" dur="1000"/>
                                        <p:tgtEl>
                                          <p:spTgt spid="5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7" dur="500"/>
                                        <p:tgtEl>
                                          <p:spTgt spid="5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Broadway"/>
              </a:rPr>
              <a:t>Sexual Reproduction</a:t>
            </a: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subTitle"/>
          </p:nvPr>
        </p:nvSpPr>
        <p:spPr>
          <a:xfrm>
            <a:off x="0" y="167652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roadway"/>
              </a:rPr>
              <a:t>Definition:</a:t>
            </a:r>
            <a:r>
              <a:rPr b="0" lang="en-US" sz="1400" spc="-1" strike="noStrike">
                <a:solidFill>
                  <a:srgbClr val="ffffff"/>
                </a:solidFill>
                <a:latin typeface="Broadway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Broadwa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roadway"/>
              </a:rPr>
              <a:t>Process in which two cells, termed gametes, come together to form one </a:t>
            </a:r>
            <a:r>
              <a:rPr b="0" lang="en-US" sz="1800" spc="-1" strike="noStrike">
                <a:solidFill>
                  <a:srgbClr val="0066ff"/>
                </a:solidFill>
                <a:latin typeface="Broadway"/>
              </a:rPr>
              <a:t>fertilized</a:t>
            </a:r>
            <a:r>
              <a:rPr b="0" lang="en-US" sz="1800" spc="-1" strike="noStrike">
                <a:solidFill>
                  <a:srgbClr val="ffffff"/>
                </a:solidFill>
                <a:latin typeface="Broadway"/>
              </a:rPr>
              <a:t> cell that contains genetic information from both parental cells.   ucbiotech.org/glossary/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Broadwa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roadway"/>
              </a:rPr>
              <a:t>Production of offspring whose genetic constitution is a mixture of that of two potentially genetically different gametes.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Broadway"/>
              </a:rPr>
              <a:t>evolution.unibe.ch/teaching/GlossarE.ht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/>
          </p:nvPr>
        </p:nvSpPr>
        <p:spPr>
          <a:xfrm>
            <a:off x="914400" y="83808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oadway"/>
              </a:rPr>
              <a:t>Q:  How many of you have more </a:t>
            </a:r>
            <a:r>
              <a:rPr b="0" lang="en-US" sz="3200" spc="-1" strike="noStrike">
                <a:solidFill>
                  <a:srgbClr val="000000"/>
                </a:solidFill>
                <a:latin typeface="Broadway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Broadway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Broadway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Broadway"/>
              </a:rPr>
              <a:t> than one par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5" name="Picture 4" descr="man_woman_walking_holding_hands_lg_wm"/>
          <p:cNvPicPr/>
          <p:nvPr/>
        </p:nvPicPr>
        <p:blipFill>
          <a:blip r:embed="rId1"/>
          <a:stretch/>
        </p:blipFill>
        <p:spPr>
          <a:xfrm>
            <a:off x="2895480" y="4114800"/>
            <a:ext cx="3200400" cy="3200400"/>
          </a:xfrm>
          <a:prstGeom prst="rect">
            <a:avLst/>
          </a:prstGeom>
          <a:ln w="0">
            <a:noFill/>
          </a:ln>
        </p:spPr>
      </p:pic>
      <p:sp>
        <p:nvSpPr>
          <p:cNvPr id="546" name="Text Box 5"/>
          <p:cNvSpPr/>
          <p:nvPr/>
        </p:nvSpPr>
        <p:spPr>
          <a:xfrm>
            <a:off x="457200" y="2286000"/>
            <a:ext cx="770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roadway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oadwa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roadway"/>
              </a:rPr>
              <a:t>then, everyone in this room is a product </a:t>
            </a:r>
            <a:r>
              <a:rPr b="0" lang="en-US" sz="2400" spc="-1" strike="noStrike">
                <a:solidFill>
                  <a:srgbClr val="000000"/>
                </a:solidFill>
                <a:latin typeface="Broadwa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roadway"/>
              </a:rPr>
              <a:t>of sexual rep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 Box 6"/>
          <p:cNvSpPr/>
          <p:nvPr/>
        </p:nvSpPr>
        <p:spPr>
          <a:xfrm>
            <a:off x="6242760" y="6362640"/>
            <a:ext cx="260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roadway"/>
              </a:rPr>
              <a:t>AnimationFactory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7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7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3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3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7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3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3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1c1c1c"/>
                </a:solidFill>
                <a:uFillTx/>
                <a:latin typeface="Broadway"/>
              </a:rPr>
              <a:t>Characteristics of Sexual Reproduction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ff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Broadway"/>
              </a:rPr>
              <a:t>Requires a female and male parent (i.e. it takes two to tang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roadway"/>
              </a:rPr>
              <a:t>Q:  Why do we need more than 1 paren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1" name="Picture 6" descr="MCj03981910000[1]"/>
          <p:cNvPicPr/>
          <p:nvPr/>
        </p:nvPicPr>
        <p:blipFill>
          <a:blip r:embed="rId1"/>
          <a:stretch/>
        </p:blipFill>
        <p:spPr>
          <a:xfrm>
            <a:off x="1143000" y="3809880"/>
            <a:ext cx="1558800" cy="1814760"/>
          </a:xfrm>
          <a:prstGeom prst="rect">
            <a:avLst/>
          </a:prstGeom>
          <a:ln w="0">
            <a:noFill/>
          </a:ln>
        </p:spPr>
      </p:pic>
      <p:pic>
        <p:nvPicPr>
          <p:cNvPr id="552" name="Picture 8" descr="MCj03981910000[1]"/>
          <p:cNvPicPr/>
          <p:nvPr/>
        </p:nvPicPr>
        <p:blipFill>
          <a:blip r:embed="rId2"/>
          <a:stretch/>
        </p:blipFill>
        <p:spPr>
          <a:xfrm>
            <a:off x="4724280" y="3809880"/>
            <a:ext cx="1559160" cy="1814760"/>
          </a:xfrm>
          <a:prstGeom prst="rect">
            <a:avLst/>
          </a:prstGeom>
          <a:ln w="0">
            <a:noFill/>
          </a:ln>
        </p:spPr>
      </p:pic>
      <p:sp>
        <p:nvSpPr>
          <p:cNvPr id="553" name="Text Box 9"/>
          <p:cNvSpPr/>
          <p:nvPr/>
        </p:nvSpPr>
        <p:spPr>
          <a:xfrm>
            <a:off x="533520" y="441972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roadway"/>
              </a:rPr>
              <a:t>½                   +      ½                 </a:t>
            </a:r>
            <a:r>
              <a:rPr b="1" lang="en-US" sz="3600" spc="-1" strike="noStrike">
                <a:solidFill>
                  <a:srgbClr val="000000"/>
                </a:solidFill>
                <a:latin typeface="Broadway"/>
              </a:rPr>
              <a:t>=  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eaeaea"/>
                </a:solidFill>
                <a:uFillTx/>
                <a:latin typeface="Broadway"/>
              </a:rPr>
              <a:t>Characteristics of Sexual Reproduction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roadway"/>
              </a:rPr>
              <a:t>Requires a female and male paren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ff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Broadway"/>
              </a:rPr>
              <a:t>Each parent donates ½ of the Chromosomes/Genes/D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/>
          </p:nvPr>
        </p:nvSpPr>
        <p:spPr>
          <a:xfrm>
            <a:off x="304920" y="228240"/>
            <a:ext cx="82296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roadway"/>
              </a:rPr>
              <a:t>So, by what we’ve discussed, in sexual reproduction “mom” donates half, and “dad” donates half.  How does this happe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7" name="Picture 4" descr="Fertilization"/>
          <p:cNvPicPr/>
          <p:nvPr/>
        </p:nvPicPr>
        <p:blipFill>
          <a:blip r:embed="rId1"/>
          <a:stretch/>
        </p:blipFill>
        <p:spPr>
          <a:xfrm>
            <a:off x="2666880" y="2590920"/>
            <a:ext cx="327672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1c1c1c"/>
                </a:solidFill>
                <a:uFillTx/>
                <a:latin typeface="Broadway"/>
              </a:rPr>
              <a:t>Characteristics of Sexual Reproduction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oadway"/>
              </a:rPr>
              <a:t>Requires a female and male par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oadway"/>
              </a:rPr>
              <a:t>Each parent donates ½ of the Chromosomes/Genes/D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ff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Broadway"/>
              </a:rPr>
              <a:t>Requires </a:t>
            </a:r>
            <a:r>
              <a:rPr b="0" i="1" lang="en-US" sz="3200" spc="-1" strike="noStrike" u="sng">
                <a:solidFill>
                  <a:srgbClr val="0066ff"/>
                </a:solidFill>
                <a:uFillTx/>
                <a:latin typeface="Broadway"/>
              </a:rPr>
              <a:t>fertilization</a:t>
            </a:r>
            <a:r>
              <a:rPr b="0" lang="en-US" sz="3200" spc="-1" strike="noStrike">
                <a:solidFill>
                  <a:srgbClr val="0066ff"/>
                </a:solidFill>
                <a:latin typeface="Broadway"/>
              </a:rPr>
              <a:t> - the combining of game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0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5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oadway"/>
              </a:rPr>
              <a:t>Now, nine months later, you come out kicking and screaming (and dancing).  To which parent do you look exactly alike?  How about your siblings?  Do you look exactly alike the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Picture 7" descr="dancing baby 2"/>
          <p:cNvPicPr/>
          <p:nvPr/>
        </p:nvPicPr>
        <p:blipFill>
          <a:blip r:embed="rId1"/>
          <a:stretch/>
        </p:blipFill>
        <p:spPr>
          <a:xfrm>
            <a:off x="685800" y="2666880"/>
            <a:ext cx="2095560" cy="1905120"/>
          </a:xfrm>
          <a:prstGeom prst="rect">
            <a:avLst/>
          </a:prstGeom>
          <a:ln w="0">
            <a:noFill/>
          </a:ln>
        </p:spPr>
      </p:pic>
      <p:pic>
        <p:nvPicPr>
          <p:cNvPr id="562" name="disco baby music.mid" descr=""/>
          <p:cNvPicPr/>
          <p:nvPr/>
        </p:nvPicPr>
        <p:blipFill>
          <a:blip r:embed="rId2"/>
          <a:stretch/>
        </p:blipFill>
        <p:spPr>
          <a:xfrm>
            <a:off x="81532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63" name="Picture 9" descr="disco baby"/>
          <p:cNvPicPr/>
          <p:nvPr/>
        </p:nvPicPr>
        <p:blipFill>
          <a:blip r:embed="rId3"/>
          <a:stretch/>
        </p:blipFill>
        <p:spPr>
          <a:xfrm>
            <a:off x="6019920" y="2514600"/>
            <a:ext cx="2133360" cy="1706400"/>
          </a:xfrm>
          <a:prstGeom prst="rect">
            <a:avLst/>
          </a:prstGeom>
          <a:ln w="0">
            <a:noFill/>
          </a:ln>
        </p:spPr>
      </p:pic>
      <p:sp>
        <p:nvSpPr>
          <p:cNvPr id="564" name="Text Box 10"/>
          <p:cNvSpPr/>
          <p:nvPr/>
        </p:nvSpPr>
        <p:spPr>
          <a:xfrm>
            <a:off x="898560" y="4305240"/>
            <a:ext cx="7599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oadway"/>
              </a:rPr>
              <a:t>Take a moment to write down one trait that is different and in what way i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roadway"/>
              </a:rPr>
              <a:t>is differen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 Box 11"/>
          <p:cNvSpPr/>
          <p:nvPr/>
        </p:nvSpPr>
        <p:spPr>
          <a:xfrm>
            <a:off x="228600" y="6362640"/>
            <a:ext cx="80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roadway"/>
              </a:rPr>
              <a:t>*Dancing baby graphics and music courtesy of MegaBaby.com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4" dur="1" fill="hold"/>
                                        <p:tgtEl>
                                          <p:spTgt spid="5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9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4T18:07:54Z</dcterms:created>
  <dc:creator>John Bojnowski</dc:creator>
  <dc:description/>
  <dc:language>en-US</dc:language>
  <cp:lastModifiedBy>RomaK</cp:lastModifiedBy>
  <dcterms:modified xsi:type="dcterms:W3CDTF">2015-09-04T11:08:30Z</dcterms:modified>
  <cp:revision>14</cp:revision>
  <dc:subject/>
  <dc:title>Sexual Reproduction</dc:title>
</cp:coreProperties>
</file>