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2.wmf" ContentType="image/x-wmf"/>
  <Override PartName="/ppt/media/image19.jpeg" ContentType="image/jpeg"/>
  <Override PartName="/ppt/media/image18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1.gif" ContentType="image/gif"/>
  <Override PartName="/ppt/media/image4.jpeg" ContentType="image/jpeg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E128-D468-4163-AA4B-A7AE7B2C5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- division of cells which results in the product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 - also known as sex cells, germ cells, or spores; cells of sexual reproduction, which contain only half the chromosomes of a normal cell highered.mcgraw-hill.com/sites/007254923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_view0/glossary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Threadlike bodies found in the nucleus, or center part, of a cell that carry the information of hered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haredexperience.org/Glossary.las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- division of cells which results in the product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 - also known as sex cells, germ cells, or spores; cells of sexual reproduction, which contain only half the chromosomes of a normal cell highered.mcgraw-hill.com/sites/007254923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_view0/glossary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Threadlike bodies found in the nucleus, or center part, of a cell that carry the information of hered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haredexperience.org/Glossary.las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genetic diversity - variation among and within species that is attributable to differences in hereditary materia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or.gov.bc.ca/hfd/library/documents/glossary/G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genetic diversity - variation among and within species that is attributable to differences in hereditary materia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or.gov.bc.ca/hfd/library/documents/glossary/G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Rea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Rea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ION!!!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my sister does have a big nose.  So the human species is saved.  Kinda makes big noses pretty attractive now, doesn’t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ION!!!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my sister does have a big nose.  So the human species is saved.  Kinda makes big noses pretty attractive now, doesn’t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can we conclude about 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roduces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ity ensures survival of a species in an environment that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can we conclude about 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roduces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ity ensures survival of a species in an environment that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n which two cells, termed gametes, come together to form one fertilized cell that contains genetic information from both parental cells.   ucbiotech.org/glossary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offspring whose genetic constitution is a mixture of that of two potentially genetically different gamet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.unibe.ch/teaching/Glossar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n which two cells, termed gametes, come together to form one fertilized cell that contains genetic information from both parental cells.   ucbiotech.org/glossary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offspring whose genetic constitution is a mixture of that of two potentially genetically different gamet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.unibe.ch/teaching/Glossar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How many of you have mo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one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everyone in this room is a prod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Facto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How many of you have mo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one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everyone in this room is a prod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Facto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(i.e. it takes two to tan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(i.e. it takes two to tan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Why do we need more than 1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                  +      ½                 =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Why do we need more than 1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                  +      ½                 =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y what we’ve discussed, in sexual reproduction “mom” donates half, and “dad” donates half.  How does this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y what we’ve discussed, in sexual reproduction “mom” donates half, and “dad” donates half.  How does this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 moment to write down one trait that is different and in what way it is differ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ancing baby graphics and music courtesy of MegaBaby.com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 moment to write down one trait that is different and in what way it is differ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ancing baby graphics and music courtesy of MegaBaby.com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B266-5345-4FA9-8240-172899FC6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986C-268A-423A-9868-F7921C55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E9F773-D3D3-4B96-B55E-E33EB45A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4EC8B-A267-469E-BE59-7763352E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82F35-F065-4467-B42F-D1EDCB4A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A5041-896A-4EE4-B1A9-D0CCF5FB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2BC18-C0D9-4054-B471-7B8788AD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1F1440-3608-4640-92CC-904B979D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CC43B-072A-4DC6-9ECC-6EB4AFAB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B9ECC-60DC-428D-8B62-514DF53AA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4784CE-600F-4CE1-B19B-14EA22BF6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B13A79-10E9-4210-BA95-267C08C9D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A8DC-596A-43AA-88BB-E3D93EDC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87C4AD-1061-4141-A14E-B3B833EB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72F37-30F0-4E8C-8BA8-49F238AA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129781-1698-4678-BF6D-EC3CD796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18C57-6203-467B-8DA1-B59813BA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3AD4CE-48AB-4019-9F10-84B8B2A5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76B37C-7D21-4FAB-AA6B-8D6F8C65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E288A5-EA71-471D-83A4-13386D89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DF7741-44CA-4107-96D7-F77816E4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2210CA-F663-4660-86FD-7D918003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BD8E03-44B5-4B8F-AB3F-5B5685645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D4E3-51C1-411E-B7C8-86170EFC4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C7B5F8-FB22-4964-AD09-D2DBE53F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B2F56-7DA7-46E8-86AE-E8E2F4254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83831-FAE5-4066-8344-BCABB7ED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81D15-63A4-4E55-8BE6-E69B4C61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3611F-C57A-4A01-8B25-65C01681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5D190F-A690-4342-90B8-C0515867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C0742-F294-4C2D-AA32-44E34061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2803E-F458-403F-B9A6-1BCDDEE4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13EB7-A773-4EA4-B9EA-03FF38D1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DF3EA-DC0B-4F8D-86FC-5C032581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B9DD-3430-4797-8A5C-6CC36D0C2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746153-6F89-4E75-9E22-17514200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47284-4630-4179-A515-BF6BAD09C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74034-5386-4E99-B482-BAEFD3531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BABE2E-748D-421F-BA4F-3CE8A765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315506-324E-4425-B1C7-46E11D6B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977B33-95A6-48D0-A156-9EA0DDB4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378DB6-55D1-4054-A25F-D689A7FC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99210A-2EBE-497D-A6AC-B32FA5D9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036EA9-3517-4900-B61E-A575110B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4764EE-2FF5-487D-82C0-13D45BBA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BF90-F933-4F37-B392-52101165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CE7889-B1C8-463E-8DD3-C9F40E7C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C88E37-3CA8-432F-86EE-E782E60E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BBF059-9844-4EC3-8286-B0A2F5BB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767B7B-BBD8-4F69-BF7F-056BC0C52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14AC1C-DD64-4A5F-8FDA-8F683F423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F7E85B-F9F5-4876-94A5-779B8A60D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98B43C-1FDA-4398-8EDB-7EFD0E42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CF53EB-2139-45CF-BC16-35741FB3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A03781-BEB6-4248-9459-F3FBBE57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32199F-E0DA-4D17-9C81-BB1F39FD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1DB6-EABE-46EB-B3AA-1ED166C1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8B3529-656F-4E3A-A5A7-251BBB82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01A35E-CD5E-4C9B-95BD-9450D994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669397-0BA2-4AEE-AD4A-5A1350C1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7F77F0-0597-4C8B-A51E-AA9265A9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58B8D7-B6B9-4999-A5EE-A244A0B1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1CE0CC-A7C0-4721-8916-E101ABE94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975E0C-79B9-4EEF-B42A-D2706BBF1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10AE-FE56-4023-8DBC-DF2B9084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1DB4-E865-47A7-8430-2E82511C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E5AA-391C-4CF1-8069-ECDC4C04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1C3AA-63EB-4F6D-9639-9900CF16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7543-3C6C-46F7-A3F2-FD5AE337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C91C-3846-4EF8-ABC0-8344B4FD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9516-B0AD-4B69-9694-95AE50DD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A6DE-C0A2-4FCA-89B0-DBB088D3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1B1B-E863-4AAB-AF92-6C3BBCA4E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43E1-F108-465A-95DF-BEE95BCAC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1EF9F-46B2-46C6-8DD4-5CEC44C2B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BE679-81BF-4198-8E1A-8FA994F7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5420E-6635-4D5E-95D1-0632298E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FB5EB-C284-4C0B-B1B0-638F7EBB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255AA-4F8D-4FAB-BB13-3986AF56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EBF8-148F-42B5-AE59-89E740AA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90062-791C-433F-98C6-C73CAE90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37D04-1D6D-4B96-B414-3FFDAF2A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28037-30BE-4472-A7A1-3A693280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8EBA0-47F2-41AF-8B15-4FE7F0EF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DDB4B-8B7E-46CA-9146-B3B07475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F20FB-F7AD-4418-B476-83920BA62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9D58C-677F-444B-809A-C253BC537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F97D5-15FD-496A-BDD3-5E3AA8DB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97216-5F45-4B26-AB5A-22FB6F7D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5280F-9118-4170-87CE-6CC38DDD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60A5-EFCB-4C1B-9300-677D5457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F0EC4-4405-4B3B-9490-53345371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8533C-0D95-4BD2-B6EF-56ABF7FD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D15B0-CF41-48EE-A3EE-16CAC8D2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47501-5DA7-469E-9038-0FB034CF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153E7-3C12-47DB-A6DC-C42BDA11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72AD9-CA56-4EEA-AFEF-3B3B3C71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6A560-9B71-42BE-A0D5-7298A75E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43A5F-B241-40D3-A8C2-46A525067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55D6F-0220-48DB-9F31-B6C63838F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5CC65-99FF-4E8D-90E7-0517CF846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1DDC-42B3-48F4-AA9E-2AEE98A3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3563F-C2CA-4696-9ACC-B9CF9427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09B6F-C808-4953-B52D-631D0EE1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4F64C-4E86-4F26-B71C-50E21555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903CD-216F-4A32-8A66-30BD1F5D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08AA3-76F1-4E89-9ED6-6E09E65E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AC09B-0C0A-4EA3-9781-E3FD3E9B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AD949-0C24-47BD-90EF-FE4B629F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4772C-FA7B-436B-8C6F-FD0E5C1E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58354-E9D0-402F-8D22-96ACF518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BDE44-AAA9-4A2A-AA03-673616117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41B1-7EC2-44B4-9D1B-46757DB0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5C96B-3567-4EC5-99AA-098D08335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C1CE3-8491-43D6-A70F-F7F01F514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74C69-0925-48A1-913C-95DDECD8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7ABAD-5AA8-42E8-9624-18F4632E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4E268-7A03-4A8B-AF5D-E863B678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865E5-B7F1-4916-AD50-03D159DC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FC580-528A-4209-A765-FB6B9032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AC4F0-A626-47B2-8E9F-8DDF0FF7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EA771-20EA-4447-BDA2-DA789130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5F97F-3F10-4D8D-9BDB-DAD58150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4EFB-12F8-4549-9335-FD662E21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1285B-9231-4CC3-AC68-0A6EF464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89EC6-5E3C-4232-B256-133E98BA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045D0-D80A-476A-9DFC-C3A70F9AC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07ACA-00A9-437E-9E7E-C20709B1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97A0A-45A1-44C3-AB73-07CC6A6A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00F77-4A70-4E4C-9638-89561F0A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A42FF-53CD-489A-8D35-E474F37B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D3960-FD44-43B0-A89F-4502CC69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C82C9-88FC-488F-B2A3-36D31926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514F0-819E-4FF2-8942-6534B11E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4824-90C2-4C9B-A611-80DAE555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51EDF-C030-4368-B9B9-1019952F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16FE1-5A58-4210-8306-DA87B35F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9933E-89A3-4103-8F4D-7D9940BA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A63CC-8A3D-41EF-9195-4A91C5D02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D6394-CDA7-4647-8B12-1345AFACB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6F6D0-200E-4802-82D0-2CA8319B3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E6B54-E6F9-4030-8B5B-E147ADD5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6817F-AD9A-413A-88A4-09F3CD0B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54400-0396-4CF2-A4E1-8B0976A7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88A9C-5586-4B6B-9FEC-1698A138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6627-534D-417F-8492-871E6E5D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66DF9-46BF-42C4-866A-F42C58F8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5076B-3DFC-4444-8228-4DD21760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BC438-6B29-4B15-8AA8-797F5088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C88B9-739C-4436-8599-89A9DF71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46890-F6E5-4495-9C54-7C4DE653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388BD-43F8-4E97-94F5-C3705240C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FA8ED-A526-48E3-ABB0-123E639EB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9697E-B673-48C7-8408-CBD328FD4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10B76-A4B4-419E-A7A0-AE2CA911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1E189-D6F1-4BED-98DD-9B6BD2A2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8BB5-4734-4075-825C-663C2AF704E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8DC2-7CE3-4186-8E1C-F661844DD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4F05-B6B5-484D-9494-2768B6F45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8A67-9CF5-4C44-B0D4-D79E5FD3B95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73BF-3A39-4E7E-A55D-26D0FE4E4A8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BF5C-09C9-4D1B-B140-6358983F0A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8546-F455-4157-B42C-EEC806CB1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33DA-4839-4415-9B4E-980C602ACAA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B774-ED53-4643-B577-2A38E3E163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C61B-DBFA-4564-BF34-F020D56FED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3E56-554D-4266-AB20-B0AA13ACC3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621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2485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BEBA-133A-4F7D-BE96-B886BF43C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552A-F283-45CF-9A81-6CB1C3A29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Quick Review -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Meiosis -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division of cells which results in the production of gamet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Gametes -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also known as sex cells, germ cells, or spores; cells of sexual reproduction, which contain only half the chromosomes of a normal cell highered.mcgraw-hill.com/sites/0072549238/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student_view0/glossary.html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Chromosomes -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 Threadlike bodies found in the nucleus, or center part, of a cell that carry the information of heredit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www.sharedexperience.org/Glossary.lasso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Requires a female and male par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Each parent donates ½ of the Chromosomes/Genes/D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Requires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Broadway"/>
              </a:rPr>
              <a:t>fertilization</a:t>
            </a: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 - the combining of game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Broadway"/>
              </a:rPr>
              <a:t>Produces </a:t>
            </a:r>
            <a:r>
              <a:rPr b="0" i="1" lang="en-US" sz="3000" spc="-1" strike="noStrike" u="sng">
                <a:solidFill>
                  <a:srgbClr val="0066ff"/>
                </a:solidFill>
                <a:uFillTx/>
                <a:latin typeface="Broadway"/>
              </a:rPr>
              <a:t>genetic diversity</a:t>
            </a:r>
            <a:r>
              <a:rPr b="0" lang="en-US" sz="3000" spc="-1" strike="noStrike">
                <a:solidFill>
                  <a:srgbClr val="0066ff"/>
                </a:solidFill>
                <a:latin typeface="Broadway"/>
              </a:rPr>
              <a:t> - variation among and within species that is attributable to differences in hereditary material.</a:t>
            </a:r>
            <a:br>
              <a:rPr sz="3000"/>
            </a:br>
            <a:r>
              <a:rPr b="0" lang="en-US" sz="3000" spc="-1" strike="noStrike" u="sng">
                <a:solidFill>
                  <a:srgbClr val="0066ff"/>
                </a:solidFill>
                <a:uFillTx/>
                <a:latin typeface="Broadway"/>
              </a:rPr>
              <a:t>www.for.gov.bc.ca/hfd/library/documents/glossary/G.htm</a:t>
            </a: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9" name="Picture 4" descr="big_nose"/>
          <p:cNvPicPr/>
          <p:nvPr/>
        </p:nvPicPr>
        <p:blipFill>
          <a:blip r:embed="rId1"/>
          <a:stretch/>
        </p:blipFill>
        <p:spPr>
          <a:xfrm>
            <a:off x="3429000" y="3276720"/>
            <a:ext cx="1066680" cy="10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4" descr="bleak landscape"/>
          <p:cNvPicPr/>
          <p:nvPr/>
        </p:nvPicPr>
        <p:blipFill>
          <a:blip r:embed="rId1">
            <a:lum contrast="18000"/>
            <a:alphaModFix am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Possible Reas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Broadway"/>
              </a:rPr>
              <a:t>EXTINCTION!!!!</a:t>
            </a:r>
            <a:r>
              <a:rPr b="0" lang="en-US" sz="4400" spc="-1" strike="noStrike">
                <a:solidFill>
                  <a:srgbClr val="1c1c1c"/>
                </a:solidFill>
                <a:latin typeface="Broadway"/>
              </a:rPr>
              <a:t>	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But, my sister does have a big nose.  So the human species is saved.  Kinda makes big noses pretty attractive now, doesn’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4" descr="big nose girl"/>
          <p:cNvPicPr/>
          <p:nvPr/>
        </p:nvPicPr>
        <p:blipFill>
          <a:blip r:embed="rId1"/>
          <a:stretch/>
        </p:blipFill>
        <p:spPr>
          <a:xfrm>
            <a:off x="2286000" y="3657600"/>
            <a:ext cx="39625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5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Broadway"/>
              </a:rPr>
              <a:t>So what can we conclude about Sexual Reproduction?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43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it produces 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diversity ensures survival of a species in an environment that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10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roadway"/>
              </a:rPr>
              <a:t>Sexual Reproduct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Definition:</a:t>
            </a:r>
            <a:r>
              <a:rPr b="0" lang="en-US" sz="1400" spc="-1" strike="noStrike">
                <a:solidFill>
                  <a:srgbClr val="ffffff"/>
                </a:solidFill>
                <a:latin typeface="Broadway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roadw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Process in which two cells, termed gametes, come together to form one </a:t>
            </a:r>
            <a:r>
              <a:rPr b="0" lang="en-US" sz="1800" spc="-1" strike="noStrike">
                <a:solidFill>
                  <a:srgbClr val="0066ff"/>
                </a:solidFill>
                <a:latin typeface="Broadway"/>
              </a:rPr>
              <a:t>fertilized</a:t>
            </a: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 cell that contains genetic information from both parental cells.   ucbiotech.org/glossary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roadw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Production of offspring whose genetic constitution is a mixture of that of two potentially genetically different gametes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evolution.unibe.ch/teaching/GlossarE.ht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914400" y="8380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Q:  How many of you have more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than one par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4" descr="man_woman_walking_holding_hands_lg_wm"/>
          <p:cNvPicPr/>
          <p:nvPr/>
        </p:nvPicPr>
        <p:blipFill>
          <a:blip r:embed="rId1"/>
          <a:stretch/>
        </p:blipFill>
        <p:spPr>
          <a:xfrm>
            <a:off x="2895480" y="411480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5"/>
          <p:cNvSpPr/>
          <p:nvPr/>
        </p:nvSpPr>
        <p:spPr>
          <a:xfrm>
            <a:off x="457200" y="22860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then, everyone in this room is a product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of sexual 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6242760" y="636264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AnimationFactor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Requires a female and male parent (i.e. it takes two to tan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Q:  Why do we need more than 1 par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Picture 6" descr="MCj03981910000[1]"/>
          <p:cNvPicPr/>
          <p:nvPr/>
        </p:nvPicPr>
        <p:blipFill>
          <a:blip r:embed="rId1"/>
          <a:stretch/>
        </p:blipFill>
        <p:spPr>
          <a:xfrm>
            <a:off x="1143000" y="3809880"/>
            <a:ext cx="1558800" cy="18147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8" descr="MCj03981910000[1]"/>
          <p:cNvPicPr/>
          <p:nvPr/>
        </p:nvPicPr>
        <p:blipFill>
          <a:blip r:embed="rId2"/>
          <a:stretch/>
        </p:blipFill>
        <p:spPr>
          <a:xfrm>
            <a:off x="4724280" y="3809880"/>
            <a:ext cx="1559160" cy="181476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9"/>
          <p:cNvSpPr/>
          <p:nvPr/>
        </p:nvSpPr>
        <p:spPr>
          <a:xfrm>
            <a:off x="533520" y="44197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½                   +      ½                 </a:t>
            </a:r>
            <a:r>
              <a:rPr b="1" lang="en-US" sz="3600" spc="-1" strike="noStrike">
                <a:solidFill>
                  <a:srgbClr val="000000"/>
                </a:solidFill>
                <a:latin typeface="Broadway"/>
              </a:rPr>
              <a:t>= 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Requires a female and male par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Each parent donates ½ of the Chromosomes/Genes/D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So, by what we’ve discussed, in sexual reproduction “mom” donates half, and “dad” donates half.  How does this happ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Picture 4" descr="Fertilization"/>
          <p:cNvPicPr/>
          <p:nvPr/>
        </p:nvPicPr>
        <p:blipFill>
          <a:blip r:embed="rId1"/>
          <a:stretch/>
        </p:blipFill>
        <p:spPr>
          <a:xfrm>
            <a:off x="2666880" y="2590920"/>
            <a:ext cx="3276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Requires a female and male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Each parent donates ½ of the Chromosomes/Genes/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Requires </a:t>
            </a:r>
            <a:r>
              <a:rPr b="0" i="1" lang="en-US" sz="3200" spc="-1" strike="noStrike" u="sng">
                <a:solidFill>
                  <a:srgbClr val="0066ff"/>
                </a:solidFill>
                <a:uFillTx/>
                <a:latin typeface="Broadway"/>
              </a:rPr>
              <a:t>fertilization</a:t>
            </a: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 - the combining of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7" descr="dancing baby 2"/>
          <p:cNvPicPr/>
          <p:nvPr/>
        </p:nvPicPr>
        <p:blipFill>
          <a:blip r:embed="rId1"/>
          <a:stretch/>
        </p:blipFill>
        <p:spPr>
          <a:xfrm>
            <a:off x="685800" y="2666880"/>
            <a:ext cx="2095560" cy="1905120"/>
          </a:xfrm>
          <a:prstGeom prst="rect">
            <a:avLst/>
          </a:prstGeom>
          <a:ln w="0">
            <a:noFill/>
          </a:ln>
        </p:spPr>
      </p:pic>
      <p:pic>
        <p:nvPicPr>
          <p:cNvPr id="562" name="disco baby music.mid" descr=""/>
          <p:cNvPicPr/>
          <p:nvPr/>
        </p:nvPicPr>
        <p:blipFill>
          <a:blip r:embed="rId2"/>
          <a:stretch/>
        </p:blipFill>
        <p:spPr>
          <a:xfrm>
            <a:off x="81532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9" descr="disco baby"/>
          <p:cNvPicPr/>
          <p:nvPr/>
        </p:nvPicPr>
        <p:blipFill>
          <a:blip r:embed="rId3"/>
          <a:stretch/>
        </p:blipFill>
        <p:spPr>
          <a:xfrm>
            <a:off x="6019920" y="2514600"/>
            <a:ext cx="2133360" cy="170640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10"/>
          <p:cNvSpPr/>
          <p:nvPr/>
        </p:nvSpPr>
        <p:spPr>
          <a:xfrm>
            <a:off x="898560" y="4305240"/>
            <a:ext cx="75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Take a moment to write down one trait that is different and in what way 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is differ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1"/>
          <p:cNvSpPr/>
          <p:nvPr/>
        </p:nvSpPr>
        <p:spPr>
          <a:xfrm>
            <a:off x="228600" y="636264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*Dancing baby graphics and music courtesy of MegaBaby.com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5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8:07:54Z</dcterms:created>
  <dc:creator>John Bojnowski</dc:creator>
  <dc:description/>
  <dc:language>en-US</dc:language>
  <cp:lastModifiedBy>RomaK</cp:lastModifiedBy>
  <dcterms:modified xsi:type="dcterms:W3CDTF">2015-09-04T11:08:30Z</dcterms:modified>
  <cp:revision>14</cp:revision>
  <dc:subject/>
  <dc:title>Sexual Reproduction</dc:title>
</cp:coreProperties>
</file>