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5104-D3C3-4B9A-9A6C-17B8273006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nucleus enters the egg and moves to the egg nucleus. The 2 nuclei join together and then form a zyg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nucleus enters the egg and moves to the egg nucleus. The 2 nuclei join together and then form a zyg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breed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zards i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may not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or offspring may be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ie due to environ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breed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zards i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may not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or offspring may be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ie due to environ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mber of sperm and egg are released to overcome ha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control behavior to have sperm and egg released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mber of sperm and egg are released to overcome ha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control behavior to have sperm and egg released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egg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prote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chance of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 – development of unfertilized egg into an adult.- Bees &amp; Was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egg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prote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chance of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 – development of unfertilized egg into an adult.- Bees &amp; Was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6652-D331-4A92-93BF-1995D059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7EE4-E68E-4644-8465-4F53A4FE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147-CA9F-4F4A-A0EE-694D84D2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0C91-8FF7-4C8D-AF66-15A919BA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F74-49A7-48E1-BE3B-44CAB686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7C97-88ED-4F35-8A1E-1E566C04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E5A-32DE-4684-8D05-22D21032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51A-087B-4749-8B7F-C35125B5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808-2275-4E7E-A8E2-3FA66736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732D-F1CC-45F4-8EF7-09C5F236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434B-480E-4E8A-9EF2-FBF853CB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63FB-7350-464B-A903-BCE29A3A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E80D-D2C1-46AF-97EF-2117202F8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google.com/imgres?imgurl=http://comenius.susqu.edu/bi/202/DICTIONARY%2520OF%2520TERMS/ANIMALS/terms/figures/sperm%2Begg.jpg&amp;imgrefurl=http://comenius.susqu.edu/bi/202/DICTIONARY%2520OF%2520TERMS/O/oogamous.htm&amp;usg=__6_5EVVHfiqVHATJlArAvd_srYUQ=&amp;h=482&amp;w=501&amp;sz=43&amp;hl=en&amp;start=5&amp;tbnid=X3vFWaZLCnI3GM:&amp;tbnh=125&amp;tbnw=130&amp;prev=/images%3Fq%3Dsperm%2Band%2Begg%26gbv%3D2%26hl%3Den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desireestanley.files.wordpress.com/2009/03/blue-bird-missouri.jpg&amp;imgrefurl=http://desireestanley.wordpress.com/2009/03/&amp;usg=__J1H5bAiZmjp4GCOTc-WyhLk_WXU=&amp;h=385&amp;w=400&amp;sz=34&amp;hl=en&amp;start=2&amp;tbnid=CUCp-71F-MTkOM:&amp;tbnh=119&amp;tbnw=124&amp;prev=/images%3Fq%3Dbird%26gbv%3D2%26hl%3Den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Sexual Reproduction in 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397160"/>
          <a:ext cx="7696080" cy="42415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Enviro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s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ny sperm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3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spermatogene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erm cells are(n) haploid/mono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ov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Few to many eg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32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oogene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gg cells are (n) haploid/mono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57200" y="2503440"/>
          <a:ext cx="403848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03440"/>
                    <a:ext cx="403848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685800" y="228600"/>
          <a:ext cx="7848720" cy="640080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30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Smal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Swims through liqu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Head, middle, &amp; tail (flagellu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Larger than a body c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Cannot move on its 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Round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Picture 24" descr="_42574053_egg_cell_ap_203b"/>
          <p:cNvPicPr/>
          <p:nvPr/>
        </p:nvPicPr>
        <p:blipFill>
          <a:blip r:embed="rId3"/>
          <a:stretch/>
        </p:blipFill>
        <p:spPr>
          <a:xfrm>
            <a:off x="5105520" y="762120"/>
            <a:ext cx="3276360" cy="2452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sperm01"/>
          <p:cNvPicPr/>
          <p:nvPr/>
        </p:nvPicPr>
        <p:blipFill>
          <a:blip r:embed="rId4"/>
          <a:stretch/>
        </p:blipFill>
        <p:spPr>
          <a:xfrm>
            <a:off x="1371600" y="83808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perm nucleus enters the egg and moves to the egg nucleus. The 2 nuclei join together and then form a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zygot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uesc_05_img0247"/>
          <p:cNvPicPr/>
          <p:nvPr/>
        </p:nvPicPr>
        <p:blipFill>
          <a:blip r:embed="rId1"/>
          <a:stretch/>
        </p:blipFill>
        <p:spPr>
          <a:xfrm>
            <a:off x="838080" y="3200400"/>
            <a:ext cx="2492640" cy="323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sperm%2Beg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3429000"/>
            <a:ext cx="30481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imals that breed in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Many hazards i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perm and egg may not 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Eggs or offspring may be e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ay die due to environment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xyge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iamese-fighting-fish"/>
          <p:cNvPicPr/>
          <p:nvPr/>
        </p:nvPicPr>
        <p:blipFill>
          <a:blip r:embed="rId1"/>
          <a:stretch/>
        </p:blipFill>
        <p:spPr>
          <a:xfrm>
            <a:off x="6858000" y="1371600"/>
            <a:ext cx="16732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arge number of sperm and egg are released to overcom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rmones control behavior to have sperm and egg released at the sam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fish"/>
          <p:cNvPicPr/>
          <p:nvPr/>
        </p:nvPicPr>
        <p:blipFill>
          <a:blip r:embed="rId1"/>
          <a:stretch/>
        </p:blipFill>
        <p:spPr>
          <a:xfrm>
            <a:off x="2743200" y="3505320"/>
            <a:ext cx="365436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raft_lens1441580module8530159photo_Dog_Medicine_Side_Effects5"/>
          <p:cNvPicPr/>
          <p:nvPr/>
        </p:nvPicPr>
        <p:blipFill>
          <a:blip r:embed="rId1"/>
          <a:stretch/>
        </p:blipFill>
        <p:spPr>
          <a:xfrm>
            <a:off x="3581280" y="1523880"/>
            <a:ext cx="1371600" cy="125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Five dead sharks were found ..."/>
          <p:cNvPicPr/>
          <p:nvPr/>
        </p:nvPicPr>
        <p:blipFill>
          <a:blip r:embed="rId2"/>
          <a:stretch/>
        </p:blipFill>
        <p:spPr>
          <a:xfrm>
            <a:off x="5410080" y="37339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octopus"/>
          <p:cNvPicPr/>
          <p:nvPr/>
        </p:nvPicPr>
        <p:blipFill>
          <a:blip r:embed="rId3"/>
          <a:stretch/>
        </p:blipFill>
        <p:spPr>
          <a:xfrm>
            <a:off x="4572000" y="4952880"/>
            <a:ext cx="2476440" cy="162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blue-bird-missour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1523880"/>
            <a:ext cx="1333440" cy="1279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Two Headed Snake"/>
          <p:cNvPicPr/>
          <p:nvPr/>
        </p:nvPicPr>
        <p:blipFill>
          <a:blip r:embed="rId6"/>
          <a:stretch/>
        </p:blipFill>
        <p:spPr>
          <a:xfrm>
            <a:off x="6781680" y="1523880"/>
            <a:ext cx="137016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fertilization"/>
          <p:cNvPicPr/>
          <p:nvPr/>
        </p:nvPicPr>
        <p:blipFill>
          <a:blip r:embed="rId1"/>
          <a:stretch/>
        </p:blipFill>
        <p:spPr>
          <a:xfrm>
            <a:off x="3352680" y="3809880"/>
            <a:ext cx="251460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zygote"/>
          <p:cNvPicPr/>
          <p:nvPr/>
        </p:nvPicPr>
        <p:blipFill>
          <a:blip r:embed="rId1"/>
          <a:stretch/>
        </p:blipFill>
        <p:spPr>
          <a:xfrm>
            <a:off x="838080" y="27432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LOGGER-2"/>
          <p:cNvPicPr/>
          <p:nvPr/>
        </p:nvPicPr>
        <p:blipFill>
          <a:blip r:embed="rId2"/>
          <a:stretch/>
        </p:blipFill>
        <p:spPr>
          <a:xfrm>
            <a:off x="5943600" y="2362320"/>
            <a:ext cx="2079720" cy="3028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685800" y="5235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562720" y="5562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ternal Fer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ewer egg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ll protec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reased chance of 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Parthenogenesis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– development of unfertilized egg into an adult.- Bees &amp; Wa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bees"/>
          <p:cNvPicPr/>
          <p:nvPr/>
        </p:nvPicPr>
        <p:blipFill>
          <a:blip r:embed="rId1"/>
          <a:stretch/>
        </p:blipFill>
        <p:spPr>
          <a:xfrm>
            <a:off x="2209680" y="4114800"/>
            <a:ext cx="3753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13:21Z</dcterms:created>
  <dc:creator>bzemcik</dc:creator>
  <dc:description/>
  <dc:language>en-US</dc:language>
  <cp:lastModifiedBy>RomaK</cp:lastModifiedBy>
  <dcterms:modified xsi:type="dcterms:W3CDTF">2015-09-04T11:08:23Z</dcterms:modified>
  <cp:revision>8</cp:revision>
  <dc:subject/>
  <dc:title>Sexual Reproduction in Animals</dc:title>
</cp:coreProperties>
</file>