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64EC-A049-4C65-8EE2-DE1D0CA01E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sing Electrons is Oxid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de is where oxidation take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ing Electrons is 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 is where oxidation take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C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ining Electrons is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hode is where reduction take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ing Electrons is 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 is where reduction take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ly charged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ly charged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 the 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 the lion says GER or, for short, LEO 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o the 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O the lion says GER or, for short, LEO 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ly charged 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ly charged 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E91C-2A5F-4FE6-93AA-D3BCA926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49FF-C8F6-49FF-B5FC-4230EE18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A9F7-13EC-46C5-9776-F82595A7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2A58-6A68-45E7-9976-23F64A8EC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C4AE-C6FC-46AF-9793-1B5BF3A6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DBEA-BF20-4BAA-8B48-8A7B501A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4778-8E7A-47CD-B86C-15C6465D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1036-167B-40D3-8097-B7D6DC67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BDAF-670F-4011-890C-64D605DB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86CF-F322-4ADF-8E6F-F62E2258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9C35-2EF1-4583-8492-FC9C482E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D3BA-D8A3-48DD-9EC9-91C68594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2668-C5EF-47BE-BCEC-060C45CA0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search.yahoo.com/search/images/view?back=http%3A%2F%2Fimages.search.yahoo.com%2Fsearch%2Fimages%3Fp%3Dan%2Box%26fr%3Dyfp-t-304%26toggle%3D1%26cop%3Dmss%26ei%3DUTF-8%26vm%3Dr&amp;w=325&amp;h=396&amp;imgurl=www.paulnoll.com%2FChina%2FZodiac%2Fzodiac-ox-pic.gif&amp;rurl=http%3A%2F%2Fwww.paulnoll.com%2FChina%2FZodiac%2Fzodiac-ox-pic.html&amp;size=7kB&amp;name=zodiac-ox-pic.gif&amp;p=an+ox&amp;type=gif&amp;no=8&amp;tt=454,392&amp;oid=195425518ca19bf6&amp;ei=UTF-8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676520"/>
            <a:ext cx="4876560" cy="3725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990720" y="601992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5791320" y="6019920"/>
            <a:ext cx="2076480" cy="457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2895480" y="10666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e is w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ation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C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Go to fullsize image"/>
          <p:cNvPicPr/>
          <p:nvPr/>
        </p:nvPicPr>
        <p:blipFill>
          <a:blip r:embed="rId1"/>
          <a:stretch/>
        </p:blipFill>
        <p:spPr>
          <a:xfrm>
            <a:off x="1295280" y="1676520"/>
            <a:ext cx="6096240" cy="3886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8380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n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5715000" y="5867280"/>
            <a:ext cx="2362320" cy="476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3048120" y="10666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de is w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ction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141720" y="106200"/>
            <a:ext cx="6002280" cy="6751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7924680" y="4191120"/>
            <a:ext cx="628920" cy="552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4"/>
          <a:stretch/>
        </p:blipFill>
        <p:spPr>
          <a:xfrm>
            <a:off x="2971800" y="57150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5"/>
          <a:stretch/>
        </p:blipFill>
        <p:spPr>
          <a:xfrm>
            <a:off x="762120" y="28954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6"/>
          <a:stretch/>
        </p:blipFill>
        <p:spPr>
          <a:xfrm>
            <a:off x="1295280" y="472428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7"/>
          <a:stretch/>
        </p:blipFill>
        <p:spPr>
          <a:xfrm>
            <a:off x="3124080" y="45720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8"/>
          <a:stretch/>
        </p:blipFill>
        <p:spPr>
          <a:xfrm>
            <a:off x="2286000" y="16002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9"/>
          <a:stretch/>
        </p:blipFill>
        <p:spPr>
          <a:xfrm>
            <a:off x="2819520" y="22096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"/>
          <p:cNvPicPr/>
          <p:nvPr/>
        </p:nvPicPr>
        <p:blipFill>
          <a:blip r:embed="rId10"/>
          <a:stretch/>
        </p:blipFill>
        <p:spPr>
          <a:xfrm>
            <a:off x="2514600" y="43434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"/>
          <p:cNvPicPr/>
          <p:nvPr/>
        </p:nvPicPr>
        <p:blipFill>
          <a:blip r:embed="rId11"/>
          <a:stretch/>
        </p:blipFill>
        <p:spPr>
          <a:xfrm>
            <a:off x="8001000" y="5334120"/>
            <a:ext cx="628560" cy="552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"/>
          <p:cNvPicPr/>
          <p:nvPr/>
        </p:nvPicPr>
        <p:blipFill>
          <a:blip r:embed="rId12"/>
          <a:stretch/>
        </p:blipFill>
        <p:spPr>
          <a:xfrm>
            <a:off x="8153280" y="106668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"/>
          <p:cNvPicPr/>
          <p:nvPr/>
        </p:nvPicPr>
        <p:blipFill>
          <a:blip r:embed="rId13"/>
          <a:stretch/>
        </p:blipFill>
        <p:spPr>
          <a:xfrm>
            <a:off x="4038480" y="2362320"/>
            <a:ext cx="628920" cy="552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"/>
          <p:cNvPicPr/>
          <p:nvPr/>
        </p:nvPicPr>
        <p:blipFill>
          <a:blip r:embed="rId14"/>
          <a:stretch/>
        </p:blipFill>
        <p:spPr>
          <a:xfrm>
            <a:off x="3886200" y="4419720"/>
            <a:ext cx="628560" cy="552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"/>
          <p:cNvPicPr/>
          <p:nvPr/>
        </p:nvPicPr>
        <p:blipFill>
          <a:blip r:embed="rId15"/>
          <a:stretch/>
        </p:blipFill>
        <p:spPr>
          <a:xfrm>
            <a:off x="8229600" y="2286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"/>
          <p:cNvPicPr/>
          <p:nvPr/>
        </p:nvPicPr>
        <p:blipFill>
          <a:blip r:embed="rId16"/>
          <a:stretch/>
        </p:blipFill>
        <p:spPr>
          <a:xfrm>
            <a:off x="4800600" y="0"/>
            <a:ext cx="628560" cy="5526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8"/>
          <p:cNvSpPr/>
          <p:nvPr/>
        </p:nvSpPr>
        <p:spPr>
          <a:xfrm>
            <a:off x="1752480" y="297180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ly charged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304920" y="304920"/>
            <a:ext cx="373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 the 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0" y="27432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ion say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, for short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 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2362320" y="1324080"/>
            <a:ext cx="457200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3943080" cy="4191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1523880" y="16002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4"/>
          <a:stretch/>
        </p:blipFill>
        <p:spPr>
          <a:xfrm>
            <a:off x="6629400" y="36576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5"/>
          <a:stretch/>
        </p:blipFill>
        <p:spPr>
          <a:xfrm>
            <a:off x="1219320" y="41911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6"/>
          <a:stretch/>
        </p:blipFill>
        <p:spPr>
          <a:xfrm>
            <a:off x="685800" y="289548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7"/>
          <a:stretch/>
        </p:blipFill>
        <p:spPr>
          <a:xfrm>
            <a:off x="533520" y="5335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8"/>
          <a:stretch/>
        </p:blipFill>
        <p:spPr>
          <a:xfrm>
            <a:off x="7162920" y="46483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9"/>
          <a:stretch/>
        </p:blipFill>
        <p:spPr>
          <a:xfrm>
            <a:off x="6553080" y="27432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10"/>
          <a:stretch/>
        </p:blipFill>
        <p:spPr>
          <a:xfrm>
            <a:off x="4800600" y="990720"/>
            <a:ext cx="1619280" cy="8665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2"/>
          <p:cNvSpPr/>
          <p:nvPr/>
        </p:nvSpPr>
        <p:spPr>
          <a:xfrm>
            <a:off x="45720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cript MT Bold"/>
              </a:rPr>
              <a:t>a negatively charged 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3352680" y="22860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9:55:37Z</dcterms:created>
  <dc:creator>Student</dc:creator>
  <dc:description/>
  <dc:language>en-US</dc:language>
  <cp:lastModifiedBy>RomaK</cp:lastModifiedBy>
  <dcterms:modified xsi:type="dcterms:W3CDTF">2015-09-01T16:20:22Z</dcterms:modified>
  <cp:revision>12</cp:revision>
  <dc:subject/>
  <dc:title>Simple way to remember ions</dc:title>
</cp:coreProperties>
</file>