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76CB-7431-476F-A876-E88283E615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AE7-6493-4B3F-87FD-E67B809A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1EB-3BF4-49F2-A077-D0C9549D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74B-9D2F-42CC-8279-151B8EAB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438-4434-46F0-B5B4-1B7F3C56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A956-3909-4ED1-84EF-B3FAD65B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068B-4A5F-4FCE-B599-E11F1CFD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71E4-B2B6-4B7F-B4D2-6FAA34D7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CBD7-768D-45AA-B9A8-B70B678B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F114-16F1-4387-AD67-2B6B6D21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113E-CC8D-4407-88A1-C95E823C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17D4-98A7-4420-B8A5-3686F7BC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8B1-6F4D-4F59-A75E-8EAF5CC1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5A32-F090-4BDB-A5A1-370AFCD4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D1A1-E609-4F02-95F2-66471E63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F6A0-D31C-430E-9C14-398F0F7C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A00B-23CC-4851-8504-20B68DC3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E254-B9BE-4CA4-9056-960A4223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BB3-3E24-42DC-A636-32726445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7B5-9844-449E-8C3D-2D8DA4B6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761-5872-42FF-B1AD-76029956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E1E-A1C0-494C-AFE7-006BB59F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9C8-73C1-49C7-8169-A5366234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0E64-56A7-4666-8E1A-8D9C5B2D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823-A7D3-412B-9F4B-DC2A6AF7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6A04-6FE5-471C-83AA-368C61418D1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E8A4-976D-4C01-908A-644FD392374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Reproductive Syste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Fe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057400" y="2209680"/>
          <a:ext cx="5334120" cy="35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533412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the female sex orga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slowly moves down towards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(womb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sperms are present in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e egg will be fertilised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leads to a muscula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vagina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at opens to the outside of the bod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maleunlabelled"/>
          <p:cNvPicPr/>
          <p:nvPr/>
        </p:nvPicPr>
        <p:blipFill>
          <a:blip r:embed="rId1"/>
          <a:stretch/>
        </p:blipFill>
        <p:spPr>
          <a:xfrm>
            <a:off x="1763640" y="836640"/>
            <a:ext cx="669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female_reproductive_organs_front"/>
          <p:cNvPicPr/>
          <p:nvPr/>
        </p:nvPicPr>
        <p:blipFill>
          <a:blip r:embed="rId1"/>
          <a:srcRect l="18259" t="40659" r="12353" b="0"/>
          <a:stretch/>
        </p:blipFill>
        <p:spPr>
          <a:xfrm>
            <a:off x="1258920" y="0"/>
            <a:ext cx="67676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ncomfortable Word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648320" y="1523880"/>
          <a:ext cx="39621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9621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test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inside a sac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dd a fluid which keeps the sperms a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Pen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peni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must be erect for the semen to pass ou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500 million sperm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0:49:23Z</dcterms:created>
  <dc:creator>IBM_User</dc:creator>
  <dc:description/>
  <dc:language>en-US</dc:language>
  <cp:lastModifiedBy>RomaK</cp:lastModifiedBy>
  <dcterms:modified xsi:type="dcterms:W3CDTF">2015-09-04T11:08:17Z</dcterms:modified>
  <cp:revision>8</cp:revision>
  <dc:subject/>
  <dc:title>Reproductive Systems</dc:title>
</cp:coreProperties>
</file>