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F455-757B-4CE2-86FE-9671E3D821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and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aries are the female sex org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produce th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gg is released about every 28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passes out of the ovary and moves into the egg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ovulation and is when an egg may become fertil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gg slowly moves down towards the uterus (wom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perms are present in the egg tube the egg will be ferti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egg is not fertilised it will dies after about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wer end of the uterus has a ring of muscle called the cer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leads to a muscular tube called the vagina that opens to the outside of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mfortable Wor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g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e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v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g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o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stes are inside a sac called the scrot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ngs outside the body, keeping the sperm c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only develop properly in coo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s are produced all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stored in small tubes outside the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ually they pass along a much bigger tube called the sperm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s add a fluid which keeps the sperms al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rms and the fluid are called se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nis must be erect for the semen to pas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jaculation makes about a teaspoon of semen but this can contai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0 million sp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E0D-193D-48B7-B98F-E6E51974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84A-2B29-417B-9A89-E1E73543F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B07-61E5-4049-BA75-E89E5DC1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BA3-A7B6-4DC7-A72D-3C95121B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8CB1-FD0A-48D3-BF01-67FAF2E5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E479-41EE-46DF-B4E0-C2377F42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D302-FCA0-408F-9ACC-C4B5E8A8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3BC9-C687-42A0-9CE3-3D22CE9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1073-C0A6-4742-A0A4-A2B9EBE9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0D13-321A-4DED-81B4-1EEC4C82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DF30-AFF8-4F64-B006-C8266A04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028-680C-4065-93D4-A90FBDB2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58F1-D421-4F53-A06A-7C3B8995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0D81-0846-4E6E-AFFF-A78C7EB3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B8EF-8CB8-4FB7-8B12-B794793F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BDE4-74AC-4DA1-B5B3-31909395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CE42-48EE-43E6-B4C1-9F14BE9C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17A8-D1DD-41CE-9E67-674E56E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A15-0934-400E-87DF-F2753583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B75-B037-4A72-A52F-A7B6596D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CA5-6BB2-4E1D-BF0D-77FF7B3F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4ED-3E80-46A0-8903-3780A885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D14-5D21-4B9C-9294-7E041D1F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D57-0F22-4DB6-B3C7-06A31537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093A-F845-49FA-B9FF-6BBBB704A6C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EA54-9177-4CCC-B3C1-71094FB4BAB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Reproductive Syste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Male and Fema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Fe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2057400" y="2209680"/>
          <a:ext cx="5334120" cy="35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09680"/>
                    <a:ext cx="5334120" cy="35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ovari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the female sex orga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produce the egg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lso make the female hormones oestrogen and progesteron (between 10 and 15 years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n egg is released about every 28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passes out of the ovary and moves into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is is called ovulation and is when an egg may become fertiliz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egg slowly moves down towards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uteru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(womb)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sperms are present in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egg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e egg will be fertilised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f the egg is not fertilised it will dies after about a da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lower end of the uterus has a ring of muscl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cervi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leads to a muscula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vagina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that opens to the outside of the bod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maleunlabelled"/>
          <p:cNvPicPr/>
          <p:nvPr/>
        </p:nvPicPr>
        <p:blipFill>
          <a:blip r:embed="rId1"/>
          <a:stretch/>
        </p:blipFill>
        <p:spPr>
          <a:xfrm>
            <a:off x="1763640" y="836640"/>
            <a:ext cx="669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female_reproductive_organs_front"/>
          <p:cNvPicPr/>
          <p:nvPr/>
        </p:nvPicPr>
        <p:blipFill>
          <a:blip r:embed="rId1"/>
          <a:srcRect l="18259" t="40659" r="12353" b="0"/>
          <a:stretch/>
        </p:blipFill>
        <p:spPr>
          <a:xfrm>
            <a:off x="1258920" y="0"/>
            <a:ext cx="676764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Uncomfortable Word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Pen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esti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crotu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Sperm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Gla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Vagi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Ova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Uter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Cervi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gg tub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Male syste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4648320" y="1523880"/>
          <a:ext cx="396216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523880"/>
                    <a:ext cx="39621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teste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re inside a sac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crotum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t hangs outside the body, keeping the sperm cool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only develop properly in cool condition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perms are produced all the tim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y are stored in small tubes outside the test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Eventually they pass along a much bigger tube called 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sperm tube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Glands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add a fluid which keeps the sperms a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The sperms and the fluid are called seme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Pen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GB" sz="3200" spc="-1" strike="noStrike">
                <a:solidFill>
                  <a:srgbClr val="2a3d7a"/>
                </a:solidFill>
                <a:latin typeface="Times New Roman"/>
              </a:rPr>
              <a:t>peni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must be erect for the semen to pass ou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This happens when blood is pumped into special spongy tissue in the peni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per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During an ejaculation semen is pumped out of the penis – due to a  contraction of the muscles around the sperm tub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ach ejaculation makes about a teaspoon of semen but this can contain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2a3d7a"/>
                </a:solidFill>
                <a:latin typeface="Times New Roman"/>
              </a:rPr>
              <a:t>500 million sperms</a:t>
            </a: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0:49:23Z</dcterms:created>
  <dc:creator>IBM_User</dc:creator>
  <dc:description/>
  <dc:language>en-US</dc:language>
  <cp:lastModifiedBy>RomaK</cp:lastModifiedBy>
  <dcterms:modified xsi:type="dcterms:W3CDTF">2015-09-04T11:08:17Z</dcterms:modified>
  <cp:revision>8</cp:revision>
  <dc:subject/>
  <dc:title>Reproductive Systems</dc:title>
</cp:coreProperties>
</file>