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FC3B-83D4-45BC-9197-DEB65B5D47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productive Syst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le and Femal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and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Female Syst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Ovaries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ovaries are the female sex organ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produce the egg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aries are the female sex org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th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n egg is released about every 28 day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egg passes out of the ovary and moves into the egg tub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is called ovulation and is when an egg may become fertiliz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gg is released about every 28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gg passes out of the ovary and moves into the egg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ovulation and is when an egg may become ferti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egg slowly moves down towards the uterus (womb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f sperms are present in the egg tube the egg will be fertilised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f the egg is not fertilised it will dies after about a da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gg slowly moves down towards the uterus (wom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perms are present in the egg tube the egg will be fertili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egg is not fertilised it will dies after about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lower end of the uterus has a ring of muscle called the cervix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t leads to a muscular tube called the vagina that opens to the outside of the bod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wer end of the uterus has a ring of muscle called the cerv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leads to a muscular tube called the vagina that opens to the outside of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Uncomfortable Words?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est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Glan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Vagin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Ov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mfortable Wor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g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Male syst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testes are inside a sac called the scrotum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t hangs outside the body, keeping the sperm cool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s only develop properly in cool condition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stes are inside a sac called the scrot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ngs outside the body, keeping the sperm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s only develop properly in cool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s are produced all the tim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are stored in small tubes outside the test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ually they pass along a much bigger tube called the sperm tub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s are produced all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tored in small tubes outside the tes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ually they pass along a much bigger tube called the sperm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lands add a fluid which keeps the sperms aliv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sperms and the fluid are called semen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s add a fluid which keeps the sperms al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rms and the fluid are called se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enis must be erect for the semen to pass ou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nis must be erect for the semen to pass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ach ejaculation makes about a teaspoon of semen but this can contai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500 million sperm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jaculation makes about a teaspoon of semen but this can contai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00 million sp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AE6-605B-4130-A17C-ABEFC13A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C59-C007-4474-A738-6B2B24B4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115A-2267-4A61-AF06-53FA996B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C1E4-4288-4505-8279-A59BBF70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134C-42F1-4B15-A950-C4680F66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29EE-4C1C-4AFE-B956-7D777A07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3860-973A-48F7-A3B1-74938EF0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61ED-DE01-4A83-86BF-F1D534BD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2B37-5011-4FC9-BF2F-F560F465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E97F-2CCA-42A5-A261-AB68F004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5FC1-06E7-4885-A25F-9DADFB26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4980-7FF2-43E2-B9D5-FBE4D92B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0B34-F8DF-48DE-A479-141A7701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3F9A-93B9-4310-B6F9-3094362A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68C9-795B-4BB1-96B0-7BF51343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77D5-5249-4851-A4E7-86B78FE6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0F02-F085-4721-8A1E-D43B1820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947B-48E6-42FE-8F0B-DF23FFF1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07D-0597-4C53-ACE3-0606C067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E8E-C5E7-4093-ABBC-6AB59359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8D3B-51C7-422A-9A76-76BA7014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5AB-0FC5-4C69-971A-4AAC7037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C97-E9B2-47F7-B479-BD049A5B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6E3C-46D8-4C0E-BA14-358637A3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1FED-F9D4-46F1-AEAB-4E0A9F6E349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406B-3964-4635-B4C4-AC23E94D459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Reproductive Syste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Male and Fema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Female 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2057400" y="2209680"/>
          <a:ext cx="5334120" cy="35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09680"/>
                    <a:ext cx="5334120" cy="35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Ovaries</a:t>
            </a: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ovarie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re the female sex orga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produce the egg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An egg is released about every 28 day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egg passes out of the ovary and moves into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is is called ovulation and is when an egg may become fertiliz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Uter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egg slowly moves down towards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uteru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(womb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f sperms are present in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the egg will be fertilised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f the egg is not fertilised it will dies after about a d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Cervix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lower end of the uterus has a ring of muscl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cervi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t leads to a muscular tub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vagina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that opens to the outside of the bod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maleunlabelled"/>
          <p:cNvPicPr/>
          <p:nvPr/>
        </p:nvPicPr>
        <p:blipFill>
          <a:blip r:embed="rId1"/>
          <a:stretch/>
        </p:blipFill>
        <p:spPr>
          <a:xfrm>
            <a:off x="1763640" y="836640"/>
            <a:ext cx="66960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female_reproductive_organs_front"/>
          <p:cNvPicPr/>
          <p:nvPr/>
        </p:nvPicPr>
        <p:blipFill>
          <a:blip r:embed="rId1"/>
          <a:srcRect l="18259" t="40659" r="12353" b="0"/>
          <a:stretch/>
        </p:blipFill>
        <p:spPr>
          <a:xfrm>
            <a:off x="1258920" y="0"/>
            <a:ext cx="67676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Uncomfortable Word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est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Glan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Vagin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Ova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Male 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4648320" y="1523880"/>
          <a:ext cx="396216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523880"/>
                    <a:ext cx="39621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crot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teste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re inside a sac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scrotum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t hangs outside the body, keeping the sperm coo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perms only develop properly in cool conditio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perm tub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perms are produced all the tim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are stored in small tubes outside the test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Eventually they pass along a much bigger tub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sperm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Glan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Gland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dd a fluid which keeps the sperms ali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sperms and the fluid are called sem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Pen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peni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must be erect for the semen to pass ou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per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ach ejaculation makes about a teaspoon of semen but this can contain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2a3d7a"/>
                </a:solidFill>
                <a:latin typeface="Times New Roman"/>
              </a:rPr>
              <a:t>500 million sperm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0:49:23Z</dcterms:created>
  <dc:creator>IBM_User</dc:creator>
  <dc:description/>
  <dc:language>en-US</dc:language>
  <cp:lastModifiedBy>RomaK</cp:lastModifiedBy>
  <dcterms:modified xsi:type="dcterms:W3CDTF">2015-09-04T11:08:17Z</dcterms:modified>
  <cp:revision>8</cp:revision>
  <dc:subject/>
  <dc:title>Reproductive Systems</dc:title>
</cp:coreProperties>
</file>