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4759-37D1-4D08-AEA5-078552A0C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n Flowering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. Zemci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n Flowering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. Zemci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t embryo uses food stored in the cotyledon of the seed until it develops leaves for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t embryo uses food stored in the cotyledon of the seed until it develops leaves for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pyle –opening in ovule where pollen tube attached, sperm entered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um –scar where ovule attached to ovar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cle –embryonic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lin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cropyle –opening in ovule where pollen tube attached, sperm entered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lum –scar where ovule attached to ovary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dicle –embryonic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dlin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cotyl – grows above the cotyledons and gives rise to the le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otyl –below the point of attachment of the cotyledon, develops into the 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cotyl – grows above the cotyledons and gives rise to the le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otyl –below the point of attachment of the cotyledon, develops into the 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a s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a s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 G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d G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ve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egg and 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 takes place inside the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ve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egg and 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 takes place inside the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s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tigma –top of the pisti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cky surface for pollen to stick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tyle – connects the stigma to the 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Ovary –contains ov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eg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nther – produces sperm nuclei by meiosis. Sperm nuclei are enclosed by pollen gr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Filament – holds the anther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reproductive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reproductive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s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Stigma –top of the pisti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cky surface for pollen to stick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Style – connects the stigma to the 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Ovary –contains ov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 eg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Anther – produces sperm nuclei by meiosis. Sperm nuclei are enclosed by pollen gr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Filament – holds the anther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male reproductive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le reproductive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of mature pollen grains from the anther to the sti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irds &amp; other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of mature pollen grains from the anther to the sti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irds &amp; other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pollen grain lands on the stigma, it germinates and a pollen tube grows down through the style to an ovule (eg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pollen grain lands on the stigma, it germinates and a pollen tube grows down through the style to an ovule (eg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rm travels through the  pollen tube to the ovule. The sperm &amp; egg fuse forming the zygote (fertilized egg) –this grows into the plant embryo (cells grow by mito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rm travels through the  pollen tube to the ovule. The sperm &amp; egg fuse forming the zygote (fertilized egg) –this grows into the plant embryo (cells grow by mito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elf pollination –pollen from same flower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Cross pollination – pollen from a different flow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more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elf pollination –pollen from same flower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Cross pollination – pollen from a different flow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more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vary and zygote (fertilized ovule) develop and rip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The ovule forms the seed and the ovary forms the fr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ruit is a ripened 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vary and zygote (fertilized ovule) develop and rip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The ovule forms the seed and the ovary forms the fr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ruit is a ripened 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5DFF-7CD8-4558-A3D4-E69A7D379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DD53-6C34-4EF3-A5F8-E0B60217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9EF8-ED69-4DD5-9D7C-4436FB786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6521-CB31-4E2F-8A52-534B22588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2CE7-3B59-48F5-8B3C-79BACCDA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6D4F-B7E2-4E09-B9F2-D281FD01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E621-E0F6-4776-A152-1753205A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AC46-36D0-4F08-B974-EBCB115B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1D78-00D5-4F64-B41B-B8094F68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5B81-B06A-4476-ADA8-A3DBADD6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A1CB-1831-4EB7-909F-9CBFC8F3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D2D6-809F-48B9-83CC-38293CB1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9299-AD4B-401B-91AF-5CF62DC92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m100cmu.com/blogs/pattwanit/files/2009/08/dalia-flower-wallpaper.jpg&amp;imgrefurl=http://fm100cmu.com/blogs/pattwanit/&amp;usg=__IUA9sk80br0uqPMDOc45bpmFINk=&amp;h=768&amp;w=1024&amp;sz=183&amp;hl=en&amp;start=32&amp;um=1&amp;tbnid=AUDdBcJsbwxwJM:&amp;tbnh=113&amp;tbnw=150&amp;prev=/images%3Fq%3Dflower%26ndsp%3D20%26hl%3Den%26sa%3DN%26start%3D20%26um%3D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ction in Flowering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flowers-2-photos"/>
          <p:cNvPicPr/>
          <p:nvPr/>
        </p:nvPicPr>
        <p:blipFill>
          <a:blip r:embed="rId1"/>
          <a:stretch/>
        </p:blipFill>
        <p:spPr>
          <a:xfrm>
            <a:off x="2666880" y="2514600"/>
            <a:ext cx="3819600" cy="28576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6858000" y="601992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rs. Zemci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ving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lant embryo uses food stored in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tyle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seed until it develops leaves for phot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seeds"/>
          <p:cNvPicPr/>
          <p:nvPr/>
        </p:nvPicPr>
        <p:blipFill>
          <a:blip r:embed="rId1"/>
          <a:stretch/>
        </p:blipFill>
        <p:spPr>
          <a:xfrm>
            <a:off x="2133720" y="2209680"/>
            <a:ext cx="52578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micropyl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–opening in ovule where pollen tube attached, sperm entered</a:t>
            </a:r>
            <a:br>
              <a:rPr sz="2400"/>
            </a:br>
            <a:br>
              <a:rPr sz="2400"/>
            </a:b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hilu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scar where ovule attached to ovary</a:t>
            </a:r>
            <a:br>
              <a:rPr sz="2400"/>
            </a:br>
            <a:br>
              <a:rPr sz="2400"/>
            </a:b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radicl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embryonic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beanlabel"/>
          <p:cNvPicPr/>
          <p:nvPr/>
        </p:nvPicPr>
        <p:blipFill>
          <a:blip r:embed="rId1"/>
          <a:stretch/>
        </p:blipFill>
        <p:spPr>
          <a:xfrm>
            <a:off x="1523880" y="3200400"/>
            <a:ext cx="6096240" cy="29941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2286000" y="22860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Seedli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9" descr="Image119"/>
          <p:cNvPicPr/>
          <p:nvPr/>
        </p:nvPicPr>
        <p:blipFill>
          <a:blip r:embed="rId1"/>
          <a:stretch/>
        </p:blipFill>
        <p:spPr>
          <a:xfrm>
            <a:off x="2133720" y="2131920"/>
            <a:ext cx="5562360" cy="47260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0"/>
          <p:cNvSpPr/>
          <p:nvPr/>
        </p:nvSpPr>
        <p:spPr>
          <a:xfrm>
            <a:off x="838080" y="304920"/>
            <a:ext cx="7086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picotyl – grows above the cotyledons and gives rise to the le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ypocotyl –below the point of attachment of the cotyledon, develops into the 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ts of a s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79856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c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c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4"/>
          <p:cNvGrpSpPr/>
          <p:nvPr/>
        </p:nvGrpSpPr>
        <p:grpSpPr>
          <a:xfrm>
            <a:off x="3429000" y="1447920"/>
            <a:ext cx="4952520" cy="5257800"/>
            <a:chOff x="3429000" y="1447920"/>
            <a:chExt cx="4952520" cy="5257800"/>
          </a:xfrm>
        </p:grpSpPr>
        <p:pic>
          <p:nvPicPr>
            <p:cNvPr id="86" name="Picture 5" descr="seed parts"/>
            <p:cNvPicPr/>
            <p:nvPr/>
          </p:nvPicPr>
          <p:blipFill>
            <a:blip r:embed="rId1"/>
            <a:stretch/>
          </p:blipFill>
          <p:spPr>
            <a:xfrm>
              <a:off x="3657240" y="1447920"/>
              <a:ext cx="416844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6"/>
            <p:cNvSpPr/>
            <p:nvPr/>
          </p:nvSpPr>
          <p:spPr>
            <a:xfrm>
              <a:off x="6705360" y="1828800"/>
              <a:ext cx="144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ed co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7"/>
            <p:cNvSpPr/>
            <p:nvPr/>
          </p:nvSpPr>
          <p:spPr>
            <a:xfrm>
              <a:off x="3733560" y="3276720"/>
              <a:ext cx="129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picoty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8"/>
            <p:cNvSpPr/>
            <p:nvPr/>
          </p:nvSpPr>
          <p:spPr>
            <a:xfrm>
              <a:off x="4876560" y="3733920"/>
              <a:ext cx="152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tyled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9"/>
            <p:cNvSpPr/>
            <p:nvPr/>
          </p:nvSpPr>
          <p:spPr>
            <a:xfrm>
              <a:off x="6629040" y="251460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ypocoty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10"/>
            <p:cNvSpPr/>
            <p:nvPr/>
          </p:nvSpPr>
          <p:spPr>
            <a:xfrm>
              <a:off x="6324480" y="419112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ed co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1"/>
            <p:cNvSpPr/>
            <p:nvPr/>
          </p:nvSpPr>
          <p:spPr>
            <a:xfrm>
              <a:off x="3429000" y="419112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dospe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2"/>
            <p:cNvSpPr/>
            <p:nvPr/>
          </p:nvSpPr>
          <p:spPr>
            <a:xfrm>
              <a:off x="6400440" y="487692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picoty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6476760" y="5486400"/>
              <a:ext cx="190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ypocoty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4"/>
            <p:cNvSpPr/>
            <p:nvPr/>
          </p:nvSpPr>
          <p:spPr>
            <a:xfrm>
              <a:off x="6400440" y="594360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adi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5"/>
            <p:cNvSpPr/>
            <p:nvPr/>
          </p:nvSpPr>
          <p:spPr>
            <a:xfrm>
              <a:off x="3657240" y="586728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tyled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ed Germ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3"/>
          <p:cNvGrpSpPr/>
          <p:nvPr/>
        </p:nvGrpSpPr>
        <p:grpSpPr>
          <a:xfrm>
            <a:off x="76320" y="1905120"/>
            <a:ext cx="8991360" cy="3962160"/>
            <a:chOff x="76320" y="1905120"/>
            <a:chExt cx="8991360" cy="3962160"/>
          </a:xfrm>
        </p:grpSpPr>
        <p:grpSp>
          <p:nvGrpSpPr>
            <p:cNvPr id="99" name="Group 4"/>
            <p:cNvGrpSpPr/>
            <p:nvPr/>
          </p:nvGrpSpPr>
          <p:grpSpPr>
            <a:xfrm>
              <a:off x="76320" y="1905120"/>
              <a:ext cx="8991360" cy="3962160"/>
              <a:chOff x="76320" y="1905120"/>
              <a:chExt cx="8991360" cy="3962160"/>
            </a:xfrm>
          </p:grpSpPr>
          <p:pic>
            <p:nvPicPr>
              <p:cNvPr id="100" name="Picture 5" descr="germination"/>
              <p:cNvPicPr/>
              <p:nvPr/>
            </p:nvPicPr>
            <p:blipFill>
              <a:blip r:embed="rId1"/>
              <a:srcRect l="0" t="3514" r="0" b="51177"/>
              <a:stretch/>
            </p:blipFill>
            <p:spPr>
              <a:xfrm>
                <a:off x="76320" y="1905120"/>
                <a:ext cx="4495680" cy="393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Picture 6" descr="germination"/>
              <p:cNvPicPr/>
              <p:nvPr/>
            </p:nvPicPr>
            <p:blipFill>
              <a:blip r:embed="rId2"/>
              <a:srcRect l="3127" t="54693" r="0" b="3237"/>
              <a:stretch/>
            </p:blipFill>
            <p:spPr>
              <a:xfrm>
                <a:off x="4343400" y="1906560"/>
                <a:ext cx="4724280" cy="396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Rectangle 7"/>
              <p:cNvSpPr/>
              <p:nvPr/>
            </p:nvSpPr>
            <p:spPr>
              <a:xfrm>
                <a:off x="762120" y="1905120"/>
                <a:ext cx="1218960" cy="30456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onoco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8"/>
              <p:cNvSpPr/>
              <p:nvPr/>
            </p:nvSpPr>
            <p:spPr>
              <a:xfrm>
                <a:off x="5029200" y="1905120"/>
                <a:ext cx="1219320" cy="30456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ico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9"/>
              <p:cNvSpPr/>
              <p:nvPr/>
            </p:nvSpPr>
            <p:spPr>
              <a:xfrm>
                <a:off x="1447920" y="5181480"/>
                <a:ext cx="1447560" cy="304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Hypogeou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0"/>
              <p:cNvSpPr/>
              <p:nvPr/>
            </p:nvSpPr>
            <p:spPr>
              <a:xfrm>
                <a:off x="4648320" y="2438280"/>
                <a:ext cx="1447560" cy="304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pigeou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Rectangle 11"/>
            <p:cNvSpPr/>
            <p:nvPr/>
          </p:nvSpPr>
          <p:spPr>
            <a:xfrm>
              <a:off x="6248520" y="5486400"/>
              <a:ext cx="1066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dic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2"/>
            <p:cNvSpPr/>
            <p:nvPr/>
          </p:nvSpPr>
          <p:spPr>
            <a:xfrm flipH="1" flipV="1">
              <a:off x="6171840" y="4572000"/>
              <a:ext cx="2286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72144-035-AE10EFC1"/>
          <p:cNvPicPr/>
          <p:nvPr/>
        </p:nvPicPr>
        <p:blipFill>
          <a:blip r:embed="rId1"/>
          <a:stretch/>
        </p:blipFill>
        <p:spPr>
          <a:xfrm>
            <a:off x="990720" y="457200"/>
            <a:ext cx="708660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Arial"/>
              </a:rPr>
              <a:t>Fl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1219320"/>
            <a:ext cx="6858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Sexual reproductive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Produces egg and spe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Fertilization takes place inside the fl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dalia-flower-wallpap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4861080"/>
            <a:ext cx="228600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2895480"/>
            <a:ext cx="40384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Pist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</a:rPr>
              <a:t>*Stigma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–top of the pisti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Sticky surface for pollen to stick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</a:rPr>
              <a:t>*Style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– connects the stigma to the ov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</a:rPr>
              <a:t>*Ovary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–contains ov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 eg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8320" y="2971800"/>
            <a:ext cx="403848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Sta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*Anther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duces sperm nuclei by meiosis. Sperm nuclei are enclosed by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pollen gr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*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Filament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 holds the anther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flower-parts-pt"/>
          <p:cNvPicPr/>
          <p:nvPr/>
        </p:nvPicPr>
        <p:blipFill>
          <a:blip r:embed="rId1"/>
          <a:stretch/>
        </p:blipFill>
        <p:spPr>
          <a:xfrm>
            <a:off x="2286000" y="0"/>
            <a:ext cx="4952880" cy="29401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9"/>
          <p:cNvSpPr/>
          <p:nvPr/>
        </p:nvSpPr>
        <p:spPr>
          <a:xfrm>
            <a:off x="685800" y="380880"/>
            <a:ext cx="16765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99"/>
                </a:solidFill>
                <a:uFillTx/>
                <a:latin typeface="Arial"/>
              </a:rPr>
              <a:t>Female reproductive or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7391520" y="457200"/>
            <a:ext cx="1447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Male reproductive or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l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 of mature pollen grains from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ns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irds &amp; other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ollination"/>
          <p:cNvPicPr/>
          <p:nvPr/>
        </p:nvPicPr>
        <p:blipFill>
          <a:blip r:embed="rId1"/>
          <a:stretch/>
        </p:blipFill>
        <p:spPr>
          <a:xfrm>
            <a:off x="5105520" y="2209680"/>
            <a:ext cx="3504960" cy="2629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humingbd"/>
          <p:cNvPicPr/>
          <p:nvPr/>
        </p:nvPicPr>
        <p:blipFill>
          <a:blip r:embed="rId2"/>
          <a:stretch/>
        </p:blipFill>
        <p:spPr>
          <a:xfrm>
            <a:off x="304920" y="4140360"/>
            <a:ext cx="4076640" cy="2717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dandelion"/>
          <p:cNvPicPr/>
          <p:nvPr/>
        </p:nvPicPr>
        <p:blipFill>
          <a:blip r:embed="rId3"/>
          <a:stretch/>
        </p:blipFill>
        <p:spPr>
          <a:xfrm>
            <a:off x="5486400" y="4965840"/>
            <a:ext cx="251460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pollination2"/>
          <p:cNvPicPr/>
          <p:nvPr/>
        </p:nvPicPr>
        <p:blipFill>
          <a:blip r:embed="rId1"/>
          <a:stretch/>
        </p:blipFill>
        <p:spPr>
          <a:xfrm>
            <a:off x="914400" y="914400"/>
            <a:ext cx="769608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990720" y="304920"/>
            <a:ext cx="76960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When a 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pollen grain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lands on the 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stigma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, it germinates and a pollen tube grows down through the 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style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to an 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ovule (eg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Anatomy"/>
          <p:cNvPicPr/>
          <p:nvPr/>
        </p:nvPicPr>
        <p:blipFill>
          <a:blip r:embed="rId1"/>
          <a:stretch/>
        </p:blipFill>
        <p:spPr>
          <a:xfrm>
            <a:off x="2362320" y="2438280"/>
            <a:ext cx="457200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Ferti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e sperm travels through the  pollen tube to the ovule. The sperm &amp; egg fuse forming the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zygote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(fertilized egg) –this grows into the plant embryo 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(cells grow by mito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pic1"/>
          <p:cNvPicPr/>
          <p:nvPr/>
        </p:nvPicPr>
        <p:blipFill>
          <a:blip r:embed="rId1"/>
          <a:stretch/>
        </p:blipFill>
        <p:spPr>
          <a:xfrm>
            <a:off x="990720" y="3048120"/>
            <a:ext cx="7143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*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Self pollinatio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–pollen from same flower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*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Cross pollinatio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– pollen from a different flower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- mor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crosspollination"/>
          <p:cNvPicPr/>
          <p:nvPr/>
        </p:nvPicPr>
        <p:blipFill>
          <a:blip r:embed="rId1"/>
          <a:stretch/>
        </p:blipFill>
        <p:spPr>
          <a:xfrm>
            <a:off x="990720" y="1600200"/>
            <a:ext cx="739116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761760" y="456840"/>
            <a:ext cx="79246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e ovary and zygote (fertilized ovule) develop and rip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*The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ovule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forms the </a:t>
            </a:r>
            <a:r>
              <a:rPr b="1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seed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and the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ovary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forms the </a:t>
            </a:r>
            <a:r>
              <a:rPr b="1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fruit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fruit is a ripened ov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science"/>
          <p:cNvPicPr/>
          <p:nvPr/>
        </p:nvPicPr>
        <p:blipFill>
          <a:blip r:embed="rId1"/>
          <a:stretch/>
        </p:blipFill>
        <p:spPr>
          <a:xfrm>
            <a:off x="4724280" y="4191120"/>
            <a:ext cx="3426120" cy="2286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figs"/>
          <p:cNvPicPr/>
          <p:nvPr/>
        </p:nvPicPr>
        <p:blipFill>
          <a:blip r:embed="rId2"/>
          <a:stretch/>
        </p:blipFill>
        <p:spPr>
          <a:xfrm>
            <a:off x="1295280" y="4191120"/>
            <a:ext cx="3426120" cy="2279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MPj04445580000[1]"/>
          <p:cNvPicPr/>
          <p:nvPr/>
        </p:nvPicPr>
        <p:blipFill>
          <a:blip r:embed="rId3"/>
          <a:stretch/>
        </p:blipFill>
        <p:spPr>
          <a:xfrm>
            <a:off x="5943600" y="2666880"/>
            <a:ext cx="9637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3:08:37Z</dcterms:created>
  <dc:creator>bzemcik</dc:creator>
  <dc:description/>
  <dc:language>en-US</dc:language>
  <cp:lastModifiedBy>RomaK</cp:lastModifiedBy>
  <dcterms:modified xsi:type="dcterms:W3CDTF">2015-09-04T11:08:10Z</dcterms:modified>
  <cp:revision>13</cp:revision>
  <dc:subject/>
  <dc:title>Reproduction in Flowering Plants</dc:title>
</cp:coreProperties>
</file>