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6.png" ContentType="image/png"/>
  <Override PartName="/ppt/media/image15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FECF0-D8D6-4D32-9160-7C20FD8728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duction in Flowering Pl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rs. Zemci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ing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duction in Flowering Pl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rs. Zemci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ing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lant embryo uses food stored in the cotyledon of the seed until it develops leaves for photosyn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lant embryo uses food stored in the cotyledon of the seed until it develops leaves for photosyn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ropyle –opening in ovule where pollen tube attached, sperm entered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lum –scar where ovule attached to ovary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dicle –embryonic r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dling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icropyle –opening in ovule where pollen tube attached, sperm entered</a:t>
            </a:r>
            <a:br>
              <a:rPr sz="1200"/>
            </a:b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ilum –scar where ovule attached to ovary</a:t>
            </a:r>
            <a:br>
              <a:rPr sz="1200"/>
            </a:b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adicle –embryonic r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edling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picotyl – grows above the cotyledons and gives rise to the leav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ocotyl –below the point of attachment of the cotyledon, develops into the 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picotyl – grows above the cotyledons and gives rise to the leav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ocotyl –below the point of attachment of the cotyledon, develops into the 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s of a se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c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noc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s of a se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c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noc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d Germi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ed Germi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xual reproductive 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es egg and sp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rtilization takes place inside the fl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xual reproductive 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es egg and sp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rtilization takes place inside the fl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s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Stigma –top of the pistil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icky surface for pollen to stick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Style – connects the stigma to the ov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Ovary –contains ov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 egg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Anther – produces sperm nuclei by meiosis. Sperm nuclei are enclosed by pollen gr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Filament – holds the anther 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male reproductive org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le reproductive org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is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*Stigma –top of the pistil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icky surface for pollen to stick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*Style – connects the stigma to the ov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*Ovary –contains ov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( egg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a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*Anther – produces sperm nuclei by meiosis. Sperm nuclei are enclosed by pollen gr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*Filament – holds the anther 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emale reproductive org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le reproductive org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li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fer of mature pollen grains from the anther to the stig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wi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ins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birds &amp; other ani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li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fer of mature pollen grains from the anther to the stig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wi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ins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birds &amp; other ani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a pollen grain lands on the stigma, it germinates and a pollen tube grows down through the style to an ovule (eg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a pollen grain lands on the stigma, it germinates and a pollen tube grows down through the style to an ovule (eg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rtil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perm travels through the  pollen tube to the ovule. The sperm &amp; egg fuse forming the zygote (fertilized egg) –this grows into the plant embryo (cells grow by mitosi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rtil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perm travels through the  pollen tube to the ovule. The sperm &amp; egg fuse forming the zygote (fertilized egg) –this grows into the plant embryo (cells grow by mitosi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Self pollination –pollen from same flower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Cross pollination – pollen from a different flowe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- more var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Self pollination –pollen from same flower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Cross pollination – pollen from a different flowe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- more var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vary and zygote (fertilized ovule) develop and rip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The ovule forms the seed and the ovary forms the fru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fruit is a ripened ov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vary and zygote (fertilized ovule) develop and rip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The ovule forms the seed and the ovary forms the fru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fruit is a ripened ov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5FBFD-D1E4-439F-9145-7C1C3D104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E2C18-D363-46FC-93DF-71028C59D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102B5-BB71-440F-9E66-1802ECAD1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6A065-9644-4913-911E-F60156A3A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5B04F-E76D-4D63-A0B4-3516CCD90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615C7-6957-48A4-B9D6-64B1DABA2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44D7D-DAFE-4900-BE08-BF589519B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B300A-1E84-4C62-BD38-BDC92ABDE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3C0B9-4512-46D2-A4B5-2FA78AB56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1BF12-DEA8-4F03-9E41-B323A99AB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7F476-40C0-4D84-B78C-EFBF823A6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E227C-4C50-465B-8FFD-FE3AFDB53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033EB-6BAC-4D39-9089-275E7382E6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fm100cmu.com/blogs/pattwanit/files/2009/08/dalia-flower-wallpaper.jpg&amp;imgrefurl=http://fm100cmu.com/blogs/pattwanit/&amp;usg=__IUA9sk80br0uqPMDOc45bpmFINk=&amp;h=768&amp;w=1024&amp;sz=183&amp;hl=en&amp;start=32&amp;um=1&amp;tbnid=AUDdBcJsbwxwJM:&amp;tbnh=113&amp;tbnw=150&amp;prev=/images%3Fq%3Dflower%26ndsp%3D20%26hl%3Den%26sa%3DN%26start%3D20%26um%3D1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production in Flowering Pla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flowers-2-photos"/>
          <p:cNvPicPr/>
          <p:nvPr/>
        </p:nvPicPr>
        <p:blipFill>
          <a:blip r:embed="rId1"/>
          <a:stretch/>
        </p:blipFill>
        <p:spPr>
          <a:xfrm>
            <a:off x="2666880" y="2514600"/>
            <a:ext cx="3819600" cy="2857680"/>
          </a:xfrm>
          <a:prstGeom prst="rect">
            <a:avLst/>
          </a:prstGeom>
          <a:ln w="0">
            <a:noFill/>
          </a:ln>
        </p:spPr>
      </p:pic>
      <p:sp>
        <p:nvSpPr>
          <p:cNvPr id="50" name="Text Box 6"/>
          <p:cNvSpPr/>
          <p:nvPr/>
        </p:nvSpPr>
        <p:spPr>
          <a:xfrm>
            <a:off x="6858000" y="6019920"/>
            <a:ext cx="20574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rs. Zemcik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ving Environ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lant embryo uses food stored in th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otyle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the seed until it develops leaves for photosynth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7" descr="seeds"/>
          <p:cNvPicPr/>
          <p:nvPr/>
        </p:nvPicPr>
        <p:blipFill>
          <a:blip r:embed="rId1"/>
          <a:stretch/>
        </p:blipFill>
        <p:spPr>
          <a:xfrm>
            <a:off x="2133720" y="2209680"/>
            <a:ext cx="5257800" cy="420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8380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micropyle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–opening in ovule where pollen tube attached, sperm entered</a:t>
            </a:r>
            <a:br>
              <a:rPr sz="2400"/>
            </a:br>
            <a:br>
              <a:rPr sz="2400"/>
            </a:br>
            <a:r>
              <a:rPr b="0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hilum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–scar where ovule attached to ovary</a:t>
            </a:r>
            <a:br>
              <a:rPr sz="2400"/>
            </a:br>
            <a:br>
              <a:rPr sz="2400"/>
            </a:br>
            <a:r>
              <a:rPr b="0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radicle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–embryonic ro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6" descr="beanlabel"/>
          <p:cNvPicPr/>
          <p:nvPr/>
        </p:nvPicPr>
        <p:blipFill>
          <a:blip r:embed="rId1"/>
          <a:stretch/>
        </p:blipFill>
        <p:spPr>
          <a:xfrm>
            <a:off x="1523880" y="3200400"/>
            <a:ext cx="6096240" cy="2994120"/>
          </a:xfrm>
          <a:prstGeom prst="rect">
            <a:avLst/>
          </a:prstGeom>
          <a:ln w="0">
            <a:noFill/>
          </a:ln>
        </p:spPr>
      </p:pic>
      <p:sp>
        <p:nvSpPr>
          <p:cNvPr id="80" name="Text Box 7"/>
          <p:cNvSpPr/>
          <p:nvPr/>
        </p:nvSpPr>
        <p:spPr>
          <a:xfrm>
            <a:off x="2286000" y="228600"/>
            <a:ext cx="4191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Seedling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9" descr="Image119"/>
          <p:cNvPicPr/>
          <p:nvPr/>
        </p:nvPicPr>
        <p:blipFill>
          <a:blip r:embed="rId1"/>
          <a:stretch/>
        </p:blipFill>
        <p:spPr>
          <a:xfrm>
            <a:off x="2133720" y="2131920"/>
            <a:ext cx="5562360" cy="4726080"/>
          </a:xfrm>
          <a:prstGeom prst="rect">
            <a:avLst/>
          </a:prstGeom>
          <a:ln w="0">
            <a:noFill/>
          </a:ln>
        </p:spPr>
      </p:pic>
      <p:sp>
        <p:nvSpPr>
          <p:cNvPr id="82" name="Text Box 10"/>
          <p:cNvSpPr/>
          <p:nvPr/>
        </p:nvSpPr>
        <p:spPr>
          <a:xfrm>
            <a:off x="838080" y="304920"/>
            <a:ext cx="70866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Epicotyl – grows above the cotyledons and gives rise to the leav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Hypocotyl –below the point of attachment of the cotyledon, develops into the 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arts of a se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798560"/>
            <a:ext cx="2819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c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oc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Group 4"/>
          <p:cNvGrpSpPr/>
          <p:nvPr/>
        </p:nvGrpSpPr>
        <p:grpSpPr>
          <a:xfrm>
            <a:off x="3429000" y="1447920"/>
            <a:ext cx="4952520" cy="5257800"/>
            <a:chOff x="3429000" y="1447920"/>
            <a:chExt cx="4952520" cy="5257800"/>
          </a:xfrm>
        </p:grpSpPr>
        <p:pic>
          <p:nvPicPr>
            <p:cNvPr id="86" name="Picture 5" descr="seed parts"/>
            <p:cNvPicPr/>
            <p:nvPr/>
          </p:nvPicPr>
          <p:blipFill>
            <a:blip r:embed="rId1"/>
            <a:stretch/>
          </p:blipFill>
          <p:spPr>
            <a:xfrm>
              <a:off x="3657240" y="1447920"/>
              <a:ext cx="4168440" cy="525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Text Box 6"/>
            <p:cNvSpPr/>
            <p:nvPr/>
          </p:nvSpPr>
          <p:spPr>
            <a:xfrm>
              <a:off x="6705360" y="1828800"/>
              <a:ext cx="1447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ed coa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Text Box 7"/>
            <p:cNvSpPr/>
            <p:nvPr/>
          </p:nvSpPr>
          <p:spPr>
            <a:xfrm>
              <a:off x="3733560" y="3276720"/>
              <a:ext cx="129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Epicoty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Text Box 8"/>
            <p:cNvSpPr/>
            <p:nvPr/>
          </p:nvSpPr>
          <p:spPr>
            <a:xfrm>
              <a:off x="4876560" y="3733920"/>
              <a:ext cx="1523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otyledo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Text Box 9"/>
            <p:cNvSpPr/>
            <p:nvPr/>
          </p:nvSpPr>
          <p:spPr>
            <a:xfrm>
              <a:off x="6629040" y="2514600"/>
              <a:ext cx="1371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Hypocoty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Text Box 10"/>
            <p:cNvSpPr/>
            <p:nvPr/>
          </p:nvSpPr>
          <p:spPr>
            <a:xfrm>
              <a:off x="6324480" y="4191120"/>
              <a:ext cx="1371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ed coa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Text Box 11"/>
            <p:cNvSpPr/>
            <p:nvPr/>
          </p:nvSpPr>
          <p:spPr>
            <a:xfrm>
              <a:off x="3429000" y="4191120"/>
              <a:ext cx="1676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Endosper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Text Box 12"/>
            <p:cNvSpPr/>
            <p:nvPr/>
          </p:nvSpPr>
          <p:spPr>
            <a:xfrm>
              <a:off x="6400440" y="4876920"/>
              <a:ext cx="1676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Epicoty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Text Box 13"/>
            <p:cNvSpPr/>
            <p:nvPr/>
          </p:nvSpPr>
          <p:spPr>
            <a:xfrm>
              <a:off x="6476760" y="5486400"/>
              <a:ext cx="1904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Hypocoty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Text Box 14"/>
            <p:cNvSpPr/>
            <p:nvPr/>
          </p:nvSpPr>
          <p:spPr>
            <a:xfrm>
              <a:off x="6400440" y="5943600"/>
              <a:ext cx="1676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Radic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Text Box 15"/>
            <p:cNvSpPr/>
            <p:nvPr/>
          </p:nvSpPr>
          <p:spPr>
            <a:xfrm>
              <a:off x="3657240" y="5867280"/>
              <a:ext cx="1371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otyled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eed Germin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Group 3"/>
          <p:cNvGrpSpPr/>
          <p:nvPr/>
        </p:nvGrpSpPr>
        <p:grpSpPr>
          <a:xfrm>
            <a:off x="76320" y="1905120"/>
            <a:ext cx="8991360" cy="3962160"/>
            <a:chOff x="76320" y="1905120"/>
            <a:chExt cx="8991360" cy="3962160"/>
          </a:xfrm>
        </p:grpSpPr>
        <p:grpSp>
          <p:nvGrpSpPr>
            <p:cNvPr id="99" name="Group 4"/>
            <p:cNvGrpSpPr/>
            <p:nvPr/>
          </p:nvGrpSpPr>
          <p:grpSpPr>
            <a:xfrm>
              <a:off x="76320" y="1905120"/>
              <a:ext cx="8991360" cy="3962160"/>
              <a:chOff x="76320" y="1905120"/>
              <a:chExt cx="8991360" cy="3962160"/>
            </a:xfrm>
          </p:grpSpPr>
          <p:pic>
            <p:nvPicPr>
              <p:cNvPr id="100" name="Picture 5" descr="germination"/>
              <p:cNvPicPr/>
              <p:nvPr/>
            </p:nvPicPr>
            <p:blipFill>
              <a:blip r:embed="rId1"/>
              <a:srcRect l="0" t="3514" r="0" b="51177"/>
              <a:stretch/>
            </p:blipFill>
            <p:spPr>
              <a:xfrm>
                <a:off x="76320" y="1905120"/>
                <a:ext cx="4495680" cy="3932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1" name="Picture 6" descr="germination"/>
              <p:cNvPicPr/>
              <p:nvPr/>
            </p:nvPicPr>
            <p:blipFill>
              <a:blip r:embed="rId2"/>
              <a:srcRect l="3127" t="54693" r="0" b="3237"/>
              <a:stretch/>
            </p:blipFill>
            <p:spPr>
              <a:xfrm>
                <a:off x="4343400" y="1906560"/>
                <a:ext cx="4724280" cy="3960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2" name="Rectangle 7"/>
              <p:cNvSpPr/>
              <p:nvPr/>
            </p:nvSpPr>
            <p:spPr>
              <a:xfrm>
                <a:off x="762120" y="1905120"/>
                <a:ext cx="1218960" cy="304560"/>
              </a:xfrm>
              <a:prstGeom prst="rect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Monoco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Rectangle 8"/>
              <p:cNvSpPr/>
              <p:nvPr/>
            </p:nvSpPr>
            <p:spPr>
              <a:xfrm>
                <a:off x="5029200" y="1905120"/>
                <a:ext cx="1219320" cy="304560"/>
              </a:xfrm>
              <a:prstGeom prst="rect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Dico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Rectangle 9"/>
              <p:cNvSpPr/>
              <p:nvPr/>
            </p:nvSpPr>
            <p:spPr>
              <a:xfrm>
                <a:off x="1447920" y="5181480"/>
                <a:ext cx="1447560" cy="304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Hypogeou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Rectangle 10"/>
              <p:cNvSpPr/>
              <p:nvPr/>
            </p:nvSpPr>
            <p:spPr>
              <a:xfrm>
                <a:off x="4648320" y="2438280"/>
                <a:ext cx="1447560" cy="30492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Epigeou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6" name="Rectangle 11"/>
            <p:cNvSpPr/>
            <p:nvPr/>
          </p:nvSpPr>
          <p:spPr>
            <a:xfrm>
              <a:off x="6248520" y="5486400"/>
              <a:ext cx="10666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adic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Line 12"/>
            <p:cNvSpPr/>
            <p:nvPr/>
          </p:nvSpPr>
          <p:spPr>
            <a:xfrm flipH="1" flipV="1">
              <a:off x="6171840" y="4572000"/>
              <a:ext cx="22860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5" descr="72144-035-AE10EFC1"/>
          <p:cNvPicPr/>
          <p:nvPr/>
        </p:nvPicPr>
        <p:blipFill>
          <a:blip r:embed="rId1"/>
          <a:stretch/>
        </p:blipFill>
        <p:spPr>
          <a:xfrm>
            <a:off x="990720" y="457200"/>
            <a:ext cx="7086600" cy="60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99"/>
                </a:solidFill>
                <a:latin typeface="Arial"/>
              </a:rPr>
              <a:t>Flow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600" y="1219320"/>
            <a:ext cx="68580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99"/>
                </a:solidFill>
                <a:latin typeface="Arial"/>
              </a:rPr>
              <a:t>Sexual reproductive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99"/>
                </a:solidFill>
                <a:latin typeface="Arial"/>
              </a:rPr>
              <a:t>Produces egg and sper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99"/>
                </a:solidFill>
                <a:latin typeface="Arial"/>
              </a:rPr>
              <a:t>Fertilization takes place inside the flow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7" descr="dalia-flower-wallpaper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809880" y="4861080"/>
            <a:ext cx="2286000" cy="182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2895480"/>
            <a:ext cx="4038480" cy="32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 u="sng">
                <a:solidFill>
                  <a:srgbClr val="cc0099"/>
                </a:solidFill>
                <a:uFillTx/>
                <a:latin typeface="Arial"/>
              </a:rPr>
              <a:t>Pist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0099"/>
                </a:solidFill>
                <a:uFillTx/>
                <a:latin typeface="Arial"/>
              </a:rPr>
              <a:t>*Stigma</a:t>
            </a:r>
            <a:r>
              <a:rPr b="0" lang="en-US" sz="2400" spc="-1" strike="noStrike">
                <a:solidFill>
                  <a:srgbClr val="cc0099"/>
                </a:solidFill>
                <a:latin typeface="Arial"/>
              </a:rPr>
              <a:t> –top of the pisti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Arial"/>
              </a:rPr>
              <a:t>Sticky surface for pollen to stick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0099"/>
                </a:solidFill>
                <a:uFillTx/>
                <a:latin typeface="Arial"/>
              </a:rPr>
              <a:t>*Style</a:t>
            </a:r>
            <a:r>
              <a:rPr b="0" lang="en-US" sz="2400" spc="-1" strike="noStrike">
                <a:solidFill>
                  <a:srgbClr val="cc0099"/>
                </a:solidFill>
                <a:latin typeface="Arial"/>
              </a:rPr>
              <a:t> – connects the stigma to the ov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0099"/>
                </a:solidFill>
                <a:uFillTx/>
                <a:latin typeface="Arial"/>
              </a:rPr>
              <a:t>*Ovary</a:t>
            </a:r>
            <a:r>
              <a:rPr b="0" lang="en-US" sz="2400" spc="-1" strike="noStrike">
                <a:solidFill>
                  <a:srgbClr val="cc0099"/>
                </a:solidFill>
                <a:latin typeface="Arial"/>
              </a:rPr>
              <a:t> –contains ov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cc0099"/>
                </a:solidFill>
                <a:latin typeface="Arial"/>
              </a:rPr>
              <a:t>( eg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48320" y="2971800"/>
            <a:ext cx="403848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 u="sng">
                <a:solidFill>
                  <a:srgbClr val="333399"/>
                </a:solidFill>
                <a:uFillTx/>
                <a:latin typeface="Arial"/>
              </a:rPr>
              <a:t>Sta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*Anther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–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produces sperm nuclei by meiosis. Sperm nuclei are enclosed by </a:t>
            </a:r>
            <a:r>
              <a:rPr b="0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pollen grai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*</a:t>
            </a:r>
            <a:r>
              <a:rPr b="0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Filament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– holds the anther 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8" descr="flower-parts-pt"/>
          <p:cNvPicPr/>
          <p:nvPr/>
        </p:nvPicPr>
        <p:blipFill>
          <a:blip r:embed="rId1"/>
          <a:stretch/>
        </p:blipFill>
        <p:spPr>
          <a:xfrm>
            <a:off x="2286000" y="0"/>
            <a:ext cx="4952880" cy="2940120"/>
          </a:xfrm>
          <a:prstGeom prst="rect">
            <a:avLst/>
          </a:prstGeom>
          <a:ln w="0">
            <a:noFill/>
          </a:ln>
        </p:spPr>
      </p:pic>
      <p:sp>
        <p:nvSpPr>
          <p:cNvPr id="57" name="Text Box 9"/>
          <p:cNvSpPr/>
          <p:nvPr/>
        </p:nvSpPr>
        <p:spPr>
          <a:xfrm>
            <a:off x="685800" y="380880"/>
            <a:ext cx="167652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0099"/>
                </a:solidFill>
                <a:uFillTx/>
                <a:latin typeface="Arial"/>
              </a:rPr>
              <a:t>Female reproductive org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0"/>
          <p:cNvSpPr/>
          <p:nvPr/>
        </p:nvSpPr>
        <p:spPr>
          <a:xfrm>
            <a:off x="7391520" y="457200"/>
            <a:ext cx="144756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Male reproductive org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llin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fer of mature pollen grains from th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nth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th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tig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wi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ins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birds &amp; other anim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pollination"/>
          <p:cNvPicPr/>
          <p:nvPr/>
        </p:nvPicPr>
        <p:blipFill>
          <a:blip r:embed="rId1"/>
          <a:stretch/>
        </p:blipFill>
        <p:spPr>
          <a:xfrm>
            <a:off x="5105520" y="2209680"/>
            <a:ext cx="3504960" cy="26290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7" descr="humingbd"/>
          <p:cNvPicPr/>
          <p:nvPr/>
        </p:nvPicPr>
        <p:blipFill>
          <a:blip r:embed="rId2"/>
          <a:stretch/>
        </p:blipFill>
        <p:spPr>
          <a:xfrm>
            <a:off x="304920" y="4140360"/>
            <a:ext cx="4076640" cy="27176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9" descr="dandelion"/>
          <p:cNvPicPr/>
          <p:nvPr/>
        </p:nvPicPr>
        <p:blipFill>
          <a:blip r:embed="rId3"/>
          <a:stretch/>
        </p:blipFill>
        <p:spPr>
          <a:xfrm>
            <a:off x="5486400" y="4965840"/>
            <a:ext cx="2514600" cy="188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5" descr="pollination2"/>
          <p:cNvPicPr/>
          <p:nvPr/>
        </p:nvPicPr>
        <p:blipFill>
          <a:blip r:embed="rId1"/>
          <a:stretch/>
        </p:blipFill>
        <p:spPr>
          <a:xfrm>
            <a:off x="914400" y="914400"/>
            <a:ext cx="7696080" cy="490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990720" y="304920"/>
            <a:ext cx="7696080" cy="58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When a </a:t>
            </a:r>
            <a:r>
              <a:rPr b="0" lang="en-US" sz="3200" spc="-1" strike="noStrike" u="sng">
                <a:solidFill>
                  <a:srgbClr val="006600"/>
                </a:solidFill>
                <a:uFillTx/>
                <a:latin typeface="Arial"/>
              </a:rPr>
              <a:t>pollen grain</a:t>
            </a: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 lands on the </a:t>
            </a:r>
            <a:r>
              <a:rPr b="0" lang="en-US" sz="3200" spc="-1" strike="noStrike" u="sng">
                <a:solidFill>
                  <a:srgbClr val="006600"/>
                </a:solidFill>
                <a:uFillTx/>
                <a:latin typeface="Arial"/>
              </a:rPr>
              <a:t>stigma</a:t>
            </a: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, it germinates and a pollen tube grows down through the </a:t>
            </a:r>
            <a:r>
              <a:rPr b="0" lang="en-US" sz="3200" spc="-1" strike="noStrike" u="sng">
                <a:solidFill>
                  <a:srgbClr val="006600"/>
                </a:solidFill>
                <a:uFillTx/>
                <a:latin typeface="Arial"/>
              </a:rPr>
              <a:t>style</a:t>
            </a: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 to an </a:t>
            </a:r>
            <a:r>
              <a:rPr b="0" lang="en-US" sz="3200" spc="-1" strike="noStrike" u="sng">
                <a:solidFill>
                  <a:srgbClr val="006600"/>
                </a:solidFill>
                <a:uFillTx/>
                <a:latin typeface="Arial"/>
              </a:rPr>
              <a:t>ovule (eg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7" descr="Anatomy"/>
          <p:cNvPicPr/>
          <p:nvPr/>
        </p:nvPicPr>
        <p:blipFill>
          <a:blip r:embed="rId1"/>
          <a:stretch/>
        </p:blipFill>
        <p:spPr>
          <a:xfrm>
            <a:off x="2362320" y="2438280"/>
            <a:ext cx="4572000" cy="393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00"/>
                </a:solidFill>
                <a:latin typeface="Arial"/>
              </a:rPr>
              <a:t>Ferti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The sperm travels through the  pollen tube to the ovule. The sperm &amp; egg fuse forming the </a:t>
            </a:r>
            <a:r>
              <a:rPr b="1" lang="en-US" sz="2800" spc="-1" strike="noStrike" u="sng">
                <a:solidFill>
                  <a:srgbClr val="006600"/>
                </a:solidFill>
                <a:uFillTx/>
                <a:latin typeface="Arial"/>
              </a:rPr>
              <a:t>zygote</a:t>
            </a: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 (fertilized egg) –this grows into the plant embryo </a:t>
            </a:r>
            <a:r>
              <a:rPr b="0" lang="en-US" sz="2800" spc="-1" strike="noStrike">
                <a:solidFill>
                  <a:srgbClr val="cc0099"/>
                </a:solidFill>
                <a:latin typeface="Arial"/>
              </a:rPr>
              <a:t>(cells grow by mitosi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5" descr="pic1"/>
          <p:cNvPicPr/>
          <p:nvPr/>
        </p:nvPicPr>
        <p:blipFill>
          <a:blip r:embed="rId1"/>
          <a:stretch/>
        </p:blipFill>
        <p:spPr>
          <a:xfrm>
            <a:off x="990720" y="3048120"/>
            <a:ext cx="71434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99"/>
                </a:solidFill>
                <a:uFillTx/>
                <a:latin typeface="Arial"/>
              </a:rPr>
              <a:t>*</a:t>
            </a:r>
            <a:r>
              <a:rPr b="1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Self pollination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–pollen from same flower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*</a:t>
            </a:r>
            <a:r>
              <a:rPr b="1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Cross pollination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– pollen from a different flower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- more vari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5" descr="crosspollination"/>
          <p:cNvPicPr/>
          <p:nvPr/>
        </p:nvPicPr>
        <p:blipFill>
          <a:blip r:embed="rId1"/>
          <a:stretch/>
        </p:blipFill>
        <p:spPr>
          <a:xfrm>
            <a:off x="990720" y="1600200"/>
            <a:ext cx="7391160" cy="46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761760" y="456840"/>
            <a:ext cx="792468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The ovary and zygote (fertilized ovule) develop and rip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*The </a:t>
            </a: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ovule</a:t>
            </a: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 forms the </a:t>
            </a:r>
            <a:r>
              <a:rPr b="1" lang="en-US" sz="3200" spc="-1" strike="noStrike" u="sng">
                <a:solidFill>
                  <a:srgbClr val="006600"/>
                </a:solidFill>
                <a:uFillTx/>
                <a:latin typeface="Arial"/>
              </a:rPr>
              <a:t>seed</a:t>
            </a: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 and the </a:t>
            </a: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ovary</a:t>
            </a: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 forms the </a:t>
            </a:r>
            <a:r>
              <a:rPr b="1" lang="en-US" sz="3200" spc="-1" strike="noStrike" u="sng">
                <a:solidFill>
                  <a:srgbClr val="006600"/>
                </a:solidFill>
                <a:uFillTx/>
                <a:latin typeface="Arial"/>
              </a:rPr>
              <a:t>fruit</a:t>
            </a: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 fruit is a ripened ov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5" descr="science"/>
          <p:cNvPicPr/>
          <p:nvPr/>
        </p:nvPicPr>
        <p:blipFill>
          <a:blip r:embed="rId1"/>
          <a:stretch/>
        </p:blipFill>
        <p:spPr>
          <a:xfrm>
            <a:off x="4724280" y="4191120"/>
            <a:ext cx="3426120" cy="22860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7" descr="figs"/>
          <p:cNvPicPr/>
          <p:nvPr/>
        </p:nvPicPr>
        <p:blipFill>
          <a:blip r:embed="rId2"/>
          <a:stretch/>
        </p:blipFill>
        <p:spPr>
          <a:xfrm>
            <a:off x="1295280" y="4191120"/>
            <a:ext cx="3426120" cy="22795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8" descr="MPj04445580000[1]"/>
          <p:cNvPicPr/>
          <p:nvPr/>
        </p:nvPicPr>
        <p:blipFill>
          <a:blip r:embed="rId3"/>
          <a:stretch/>
        </p:blipFill>
        <p:spPr>
          <a:xfrm>
            <a:off x="5943600" y="2666880"/>
            <a:ext cx="96372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8T13:08:37Z</dcterms:created>
  <dc:creator>bzemcik</dc:creator>
  <dc:description/>
  <dc:language>en-US</dc:language>
  <cp:lastModifiedBy>RomaK</cp:lastModifiedBy>
  <dcterms:modified xsi:type="dcterms:W3CDTF">2015-09-04T11:08:10Z</dcterms:modified>
  <cp:revision>13</cp:revision>
  <dc:subject/>
  <dc:title>Reproduction in Flowering Plants</dc:title>
</cp:coreProperties>
</file>