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whoosh.wav" ContentType="audio/x-wav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77F9D-8FF1-417D-AACA-AE5CCCCDE29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ination and Fert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ination and Fert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f-poll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 from the anther is transferred to the stig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f-poll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 from the anther is transferred to the stig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Poll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 from the anther of one plant is transferred to the the stigma of a different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Poll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 from the anther of one plant is transferred to the the stigma of a different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ind Pollinated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 Pollinated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ind/Insect Poll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/Insect Poll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sect Pollinated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ct Pollinated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rt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CA4B-361F-4D0D-8A45-E97DDDD4E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F15E-B2E6-42B6-8068-7F1FCBAF7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7661-D17C-4AC2-BFD0-41F345AA6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7577-E8DC-4B76-AF91-82ACD1AAD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162B-D8B6-4245-8B08-239981A39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FA78-F956-45C1-8970-91D4C8E6A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FE59-3374-4059-8679-3024F7215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995C-97B3-456A-B824-2118E2D2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43AE-360F-4200-9D8C-73773CAA2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3002-EE04-41D7-96F6-1F3A67CE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88B7-5D5C-40C5-82F0-A5B77A95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FA9A-2812-4C3E-8F1D-57BB6EBC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EEBF4-0884-494E-934E-460F791C040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ollination and Fertil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andard Grade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oll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elf-poll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ollen from the anther is transferred to the stig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5" descr="image?id=95387&amp;rendTypeId=34"/>
          <p:cNvPicPr/>
          <p:nvPr/>
        </p:nvPicPr>
        <p:blipFill>
          <a:blip r:embed="rId1"/>
          <a:stretch/>
        </p:blipFill>
        <p:spPr>
          <a:xfrm>
            <a:off x="4718160" y="1523880"/>
            <a:ext cx="41972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ross Poll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ollen from the anther of one plant is transferred to the the stigma of a different pl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" descr="image?id=95388&amp;rendTypeId=34"/>
          <p:cNvPicPr/>
          <p:nvPr/>
        </p:nvPicPr>
        <p:blipFill>
          <a:blip r:embed="rId1"/>
          <a:stretch/>
        </p:blipFill>
        <p:spPr>
          <a:xfrm>
            <a:off x="1371600" y="3429000"/>
            <a:ext cx="6858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457200" y="685800"/>
          <a:ext cx="8229600" cy="6172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atur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ason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mall petals, often brown or dull gree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need to attract insects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sc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need to attract ins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nect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need to attract ins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llen produced in great quanti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ecause most does not reach another flow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llen very light and smoot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 it can be blown in the win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nthers loosely attached and dangle 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 release pollen into t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in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igma hangs outside the flower 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 catch the drifting poll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igma feathery or net li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 catch the drifting polle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Text Box 77"/>
          <p:cNvSpPr/>
          <p:nvPr/>
        </p:nvSpPr>
        <p:spPr>
          <a:xfrm>
            <a:off x="1600200" y="1522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Wind Pollinated Flo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ind/Insect Poll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2"/>
          <a:stretch/>
        </p:blipFill>
        <p:spPr>
          <a:xfrm>
            <a:off x="5238720" y="2057400"/>
            <a:ext cx="344808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304920" y="762120"/>
          <a:ext cx="8534160" cy="5906880"/>
        </p:xfrm>
        <a:graphic>
          <a:graphicData uri="http://schemas.openxmlformats.org/drawingml/2006/table">
            <a:tbl>
              <a:tblPr/>
              <a:tblGrid>
                <a:gridCol w="4267080"/>
                <a:gridCol w="4267080"/>
              </a:tblGrid>
              <a:tr h="58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a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a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large, brightly coloured pet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to attract insects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5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often sweetly scen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to attract insects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usually contain nect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to attract insects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moderate quantity of poll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less wastage than with wind pollin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pollen often sticky or spi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to stick to ins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anthers firm and inside flow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to brush against ins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stigma inside the flow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so that the insect brushes against 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stigma has sticky coa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pollen sticks to i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Text Box 51"/>
          <p:cNvSpPr/>
          <p:nvPr/>
        </p:nvSpPr>
        <p:spPr>
          <a:xfrm>
            <a:off x="1981080" y="15228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Insect Pollinated Flo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ertil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7" descr="image?id=63305&amp;rendTypeId=4"/>
          <p:cNvPicPr/>
          <p:nvPr/>
        </p:nvPicPr>
        <p:blipFill>
          <a:blip r:embed="rId1"/>
          <a:srcRect l="0" t="8926" r="0" b="5121"/>
          <a:stretch/>
        </p:blipFill>
        <p:spPr>
          <a:xfrm>
            <a:off x="914400" y="1297080"/>
            <a:ext cx="7680240" cy="55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8:35:09Z</dcterms:created>
  <dc:creator>hhashmi</dc:creator>
  <dc:description/>
  <dc:language>en-US</dc:language>
  <cp:lastModifiedBy>RomaK</cp:lastModifiedBy>
  <dcterms:modified xsi:type="dcterms:W3CDTF">2015-09-04T11:08:03Z</dcterms:modified>
  <cp:revision>10</cp:revision>
  <dc:subject/>
  <dc:title>Pollination and Fertilisation</dc:title>
</cp:coreProperties>
</file>