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whoosh.wav" ContentType="audio/x-wav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858BF-1120-425C-A316-6F0F97A8170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lination and Fertilis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ndard Grade B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lination and Fertilis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ndard Grade B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lin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lf-pollin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len from the anther is transferred to the stig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lin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lf-pollin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len from the anther is transferred to the stig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ss Pollin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len from the anther of one plant is transferred to the the stigma of a different 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ss Pollin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len from the anther of one plant is transferred to the the stigma of a different 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ind Pollinated Flow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nd Pollinated Flow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ind/Insect Pollin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nd/Insect Pollin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sect Pollinated Flow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ect Pollinated Flow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ertilis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tilis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9C30-6A3E-454F-8A7E-E779DB534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E9F4-8107-4938-93F1-3757D0DE2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8472-0E6A-4E17-A37A-535EEC6FE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61F8-6F6D-4AFA-A488-545FB9648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1459-465C-4018-8EC2-151D5572C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7B0D-64D5-4024-A444-14E9F052F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93DE-0123-4CC8-BE26-F154930D6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2212-8037-4ED5-8A51-72FB0540E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5383-4AB1-45D8-8D0C-61C34FAC8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BFB3-C710-4442-824E-777CB8D31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5650-FC85-4AB9-BCE1-35ED3192E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4675-E4B3-4C80-A806-EA602E1ED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DC5E4-E651-435E-B025-FA447692F49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ollination and Fertilis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tandard Grade Bi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ollin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971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Self-pollin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ollen from the anther is transferred to the stig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5" descr="image?id=95387&amp;rendTypeId=34"/>
          <p:cNvPicPr/>
          <p:nvPr/>
        </p:nvPicPr>
        <p:blipFill>
          <a:blip r:embed="rId1"/>
          <a:stretch/>
        </p:blipFill>
        <p:spPr>
          <a:xfrm>
            <a:off x="4718160" y="1523880"/>
            <a:ext cx="419724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ross Pollin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7696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ollen from the anther of one plant is transferred to the the stigma of a different pl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5" descr="image?id=95388&amp;rendTypeId=34"/>
          <p:cNvPicPr/>
          <p:nvPr/>
        </p:nvPicPr>
        <p:blipFill>
          <a:blip r:embed="rId1"/>
          <a:stretch/>
        </p:blipFill>
        <p:spPr>
          <a:xfrm>
            <a:off x="1371600" y="3429000"/>
            <a:ext cx="6858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457200" y="685800"/>
          <a:ext cx="8229600" cy="61722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9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eature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eason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mall petals, often brown or dull gree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 need to attract insects</a:t>
                      </a:r>
                      <a:br>
                        <a:rPr sz="2000"/>
                      </a:b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 sc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 need to attract inse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 nect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 need to attract inse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ollen produced in great quantit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ecause most does not reach another flow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ollen very light and smooth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o it can be blown in the win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nthers loosely attached and dangle 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o release pollen into t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in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tigma hangs outside the flower </a:t>
                      </a:r>
                      <a:br>
                        <a:rPr sz="2000"/>
                      </a:b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o catch the drifting poll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tigma feathery or net lik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o catch the drifting polle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Text Box 77"/>
          <p:cNvSpPr/>
          <p:nvPr/>
        </p:nvSpPr>
        <p:spPr>
          <a:xfrm>
            <a:off x="1600200" y="15228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Wind Pollinated Flow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Wind/Insect Pollin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3" descr=""/>
          <p:cNvPicPr/>
          <p:nvPr/>
        </p:nvPicPr>
        <p:blipFill>
          <a:blip r:embed="rId1"/>
          <a:stretch/>
        </p:blipFill>
        <p:spPr>
          <a:xfrm>
            <a:off x="685800" y="205740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"/>
          <p:cNvPicPr/>
          <p:nvPr/>
        </p:nvPicPr>
        <p:blipFill>
          <a:blip r:embed="rId2"/>
          <a:stretch/>
        </p:blipFill>
        <p:spPr>
          <a:xfrm>
            <a:off x="5238720" y="2057400"/>
            <a:ext cx="3448080" cy="46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304920" y="762120"/>
          <a:ext cx="8534160" cy="5906880"/>
        </p:xfrm>
        <a:graphic>
          <a:graphicData uri="http://schemas.openxmlformats.org/drawingml/2006/table">
            <a:tbl>
              <a:tblPr/>
              <a:tblGrid>
                <a:gridCol w="4267080"/>
                <a:gridCol w="4267080"/>
              </a:tblGrid>
              <a:tr h="585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eatu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ea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6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large, brightly coloured peta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to attract insects</a:t>
                      </a:r>
                      <a:br>
                        <a:rPr sz="2000"/>
                      </a:b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5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often sweetly scen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to attract insects</a:t>
                      </a:r>
                      <a:br>
                        <a:rPr sz="2000"/>
                      </a:b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4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usually contain nect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to attract insects</a:t>
                      </a:r>
                      <a:br>
                        <a:rPr sz="2000"/>
                      </a:b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6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moderate quantity of poll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less wastage than with wind pollin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pollen often sticky or spi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to stick to inse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anthers firm and inside flow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to brush against inse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stigma inside the flow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so that the insect brushes against 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stigma has sticky coat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pollen sticks to i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" name="Text Box 51"/>
          <p:cNvSpPr/>
          <p:nvPr/>
        </p:nvSpPr>
        <p:spPr>
          <a:xfrm>
            <a:off x="1981080" y="15228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Insect Pollinated Flow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Fertilis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7" descr="image?id=63305&amp;rendTypeId=4"/>
          <p:cNvPicPr/>
          <p:nvPr/>
        </p:nvPicPr>
        <p:blipFill>
          <a:blip r:embed="rId1"/>
          <a:srcRect l="0" t="8926" r="0" b="5121"/>
          <a:stretch/>
        </p:blipFill>
        <p:spPr>
          <a:xfrm>
            <a:off x="914400" y="1297080"/>
            <a:ext cx="7680240" cy="556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9T08:35:09Z</dcterms:created>
  <dc:creator>hhashmi</dc:creator>
  <dc:description/>
  <dc:language>en-US</dc:language>
  <cp:lastModifiedBy>RomaK</cp:lastModifiedBy>
  <dcterms:modified xsi:type="dcterms:W3CDTF">2015-09-04T11:08:03Z</dcterms:modified>
  <cp:revision>10</cp:revision>
  <dc:subject/>
  <dc:title>Pollination and Fertilisation</dc:title>
</cp:coreProperties>
</file>