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whoosh.wav" ContentType="audio/x-wav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689EE-63AC-4C83-A4C4-0B6C21059C0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lination and Fertilis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ndard Grade Bi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lination and Fertilis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ndard Grade Bi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lin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lf-pollin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len from the anther is transferred to the stig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lin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lf-pollin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len from the anther is transferred to the stig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oss Pollin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len from the anther of one plant is transferred to the the stigma of a different pl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oss Pollin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len from the anther of one plant is transferred to the the stigma of a different pl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ind Pollinated Flow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nd Pollinated Flow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ind/Insect Pollin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nd/Insect Pollin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sect Pollinated Flow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sect Pollinated Flow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ertilis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rtilis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EF0F3-8715-48FD-A6ED-7DD0C4EA7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34A10-03DC-437A-971C-157863B37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D5175-4BF3-4D24-A6AC-BBAD79CB3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780A3-85BD-42E7-8889-E2706364F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ACEE2-5BDD-44DF-900E-69E573736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6A36E-E92E-4C4D-913E-BD9A2C3C4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9ABAC-1E31-4862-88D8-EB8B99D40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6E110-D0F2-4B63-9467-823065C07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C7F43-33F5-4661-8434-FA1D460D1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3FDB8-F09A-4F18-9FD4-2E60FF11A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9A4E9-7BB0-4E72-8D70-1E8A67AC9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98AF7-ED79-4FC9-8DC1-190604EB1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0BCB0-93B9-4F8E-A96D-29ECCC0FAAA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Pollination and Fertilis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tandard Grade Biolo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Pollin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971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Self-pollin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ollen from the anther is transferred to the stig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5" descr="image?id=95387&amp;rendTypeId=34"/>
          <p:cNvPicPr/>
          <p:nvPr/>
        </p:nvPicPr>
        <p:blipFill>
          <a:blip r:embed="rId1"/>
          <a:stretch/>
        </p:blipFill>
        <p:spPr>
          <a:xfrm>
            <a:off x="4718160" y="1523880"/>
            <a:ext cx="419724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Cross Pollin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7696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Pollen from the anther of one plant is transferred to the the stigma of a different pla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5" descr="image?id=95388&amp;rendTypeId=34"/>
          <p:cNvPicPr/>
          <p:nvPr/>
        </p:nvPicPr>
        <p:blipFill>
          <a:blip r:embed="rId1"/>
          <a:stretch/>
        </p:blipFill>
        <p:spPr>
          <a:xfrm>
            <a:off x="1371600" y="3429000"/>
            <a:ext cx="6858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457200" y="685800"/>
          <a:ext cx="8229600" cy="61722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59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eature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eason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mall petals, often brown or dull gree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o need to attract insects</a:t>
                      </a:r>
                      <a:br>
                        <a:rPr sz="2000"/>
                      </a:b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o sc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o need to attract insec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o nect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o need to attract insec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ollen produced in great quantit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ecause most does not reach another flow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ollen very light and smooth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o it can be blown in the wind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nthers loosely attached and dangle o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o release pollen into th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wind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tigma hangs outside the flower </a:t>
                      </a:r>
                      <a:br>
                        <a:rPr sz="2000"/>
                      </a:b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o catch the drifting poll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tigma feathery or net lik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o catch the drifting polle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" name="Text Box 77"/>
          <p:cNvSpPr/>
          <p:nvPr/>
        </p:nvSpPr>
        <p:spPr>
          <a:xfrm>
            <a:off x="1600200" y="15228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Wind Pollinated Flow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Wind/Insect Pollin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3" descr=""/>
          <p:cNvPicPr/>
          <p:nvPr/>
        </p:nvPicPr>
        <p:blipFill>
          <a:blip r:embed="rId1"/>
          <a:stretch/>
        </p:blipFill>
        <p:spPr>
          <a:xfrm>
            <a:off x="685800" y="205740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" descr=""/>
          <p:cNvPicPr/>
          <p:nvPr/>
        </p:nvPicPr>
        <p:blipFill>
          <a:blip r:embed="rId2"/>
          <a:stretch/>
        </p:blipFill>
        <p:spPr>
          <a:xfrm>
            <a:off x="5238720" y="2057400"/>
            <a:ext cx="3448080" cy="46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304920" y="762120"/>
          <a:ext cx="8534160" cy="5906880"/>
        </p:xfrm>
        <a:graphic>
          <a:graphicData uri="http://schemas.openxmlformats.org/drawingml/2006/table">
            <a:tbl>
              <a:tblPr/>
              <a:tblGrid>
                <a:gridCol w="4267080"/>
                <a:gridCol w="4267080"/>
              </a:tblGrid>
              <a:tr h="585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eatu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eas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6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large, brightly coloured petal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to attract insects</a:t>
                      </a:r>
                      <a:br>
                        <a:rPr sz="2000"/>
                      </a:b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5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often sweetly scent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to attract insects</a:t>
                      </a:r>
                      <a:br>
                        <a:rPr sz="2000"/>
                      </a:b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4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usually contain nect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to attract insects</a:t>
                      </a:r>
                      <a:br>
                        <a:rPr sz="2000"/>
                      </a:b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6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moderate quantity of poll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less wastage than with wind pollin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pollen often sticky or spik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to stick to insec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anthers firm and inside flow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to brush against insec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stigma inside the flow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so that the insect brushes against i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stigma has sticky coat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pollen sticks to it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2" name="Text Box 51"/>
          <p:cNvSpPr/>
          <p:nvPr/>
        </p:nvSpPr>
        <p:spPr>
          <a:xfrm>
            <a:off x="1981080" y="152280"/>
            <a:ext cx="487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Insect Pollinated Flow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Fertilis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7" descr="image?id=63305&amp;rendTypeId=4"/>
          <p:cNvPicPr/>
          <p:nvPr/>
        </p:nvPicPr>
        <p:blipFill>
          <a:blip r:embed="rId1"/>
          <a:srcRect l="0" t="8926" r="0" b="5121"/>
          <a:stretch/>
        </p:blipFill>
        <p:spPr>
          <a:xfrm>
            <a:off x="914400" y="1297080"/>
            <a:ext cx="7680240" cy="556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9T08:35:09Z</dcterms:created>
  <dc:creator>hhashmi</dc:creator>
  <dc:description/>
  <dc:language>en-US</dc:language>
  <cp:lastModifiedBy>RomaK</cp:lastModifiedBy>
  <dcterms:modified xsi:type="dcterms:W3CDTF">2015-09-04T11:08:03Z</dcterms:modified>
  <cp:revision>10</cp:revision>
  <dc:subject/>
  <dc:title>Pollination and Fertilisation</dc:title>
</cp:coreProperties>
</file>