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AE29-44EB-4E95-BAF6-908A779513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626-AA87-4AAC-B84F-21E68904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D73-2512-4CA7-8D3C-C9F6B0F9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36C-42B9-431C-B853-BE9D2D40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E29-77E4-45D4-8A0D-28959DFA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4244-ABDC-40E6-B5BD-4EF07971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CC15-E4F3-472E-8813-66B66124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68DC-E914-4514-8B1A-6039914F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43AE-BEA4-45DC-879C-3D51E132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8EE0-A625-4075-B04B-17184329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025A-1BC5-4F67-A7AB-7A201FB4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78F2-BBA0-4396-A8A8-3726A5E3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80E-0E80-4614-8048-7B7D12E8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2D25-CA19-4D32-AB48-E7A792AF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1D40-2EB0-4E1F-879D-24D87142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7061-4F53-4051-A815-6A4BD4E5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4859-1606-4EAB-8EA6-207B36D8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407C-4AB8-47BA-8C87-E38C8C6B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D02-93C8-48F0-8771-EDC1A4CC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8C2-12A9-48D9-BD61-4D3D80F7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E06-5003-4DC8-B256-93664805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03D-38B4-405A-9CF7-C054BBED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96A-0BF3-4A0F-9B8E-BFD2E11B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2E7-0F86-4E6F-B3A5-5B6ABF41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477-5C18-4C30-8803-9B5197BE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1F59-B1CD-43ED-971A-3254F34238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7BAE-5DDE-43A8-A07C-D377F5B7DDBA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belibrary.org/images/tterry/anim/phago053.html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32" name="Picture 3" descr="Blood"/>
          <p:cNvPicPr/>
          <p:nvPr/>
        </p:nvPicPr>
        <p:blipFill>
          <a:blip r:embed="rId1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6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9" name="Picture 4" descr="Bacteria covered in antigens"/>
          <p:cNvPicPr/>
          <p:nvPr/>
        </p:nvPicPr>
        <p:blipFill>
          <a:blip r:embed="rId1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tigens"/>
          <p:cNvPicPr/>
          <p:nvPr/>
        </p:nvPicPr>
        <p:blipFill>
          <a:blip r:embed="rId2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47" name="Picture 4" descr="antibodieaction2"/>
            <p:cNvPicPr/>
            <p:nvPr/>
          </p:nvPicPr>
          <p:blipFill>
            <a:blip r:embed="rId1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280" y="3136680"/>
            <a:ext cx="21798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en-GB" sz="2100" spc="-1" strike="noStrike" u="sng">
                <a:solidFill>
                  <a:srgbClr val="3333ff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3333ff"/>
                </a:solidFill>
                <a:latin typeface="Comic Sans MS"/>
              </a:rPr>
              <a:t> prevents entry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6" name="Picture 4" descr="vbodyman"/>
          <p:cNvPicPr/>
          <p:nvPr/>
        </p:nvPicPr>
        <p:blipFill>
          <a:blip r:embed="rId1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47640" y="436572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ff"/>
                </a:solidFill>
                <a:uFillTx/>
                <a:latin typeface="Comic Sans MS"/>
              </a:rPr>
              <a:t>mucus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4508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gut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ut compete bad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1979640" y="2852280"/>
            <a:ext cx="1944720" cy="50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571640" y="2565360"/>
            <a:ext cx="180036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3348000" y="3357720"/>
            <a:ext cx="1295280" cy="1079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ion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0" name="Picture 4" descr="bacecoli"/>
          <p:cNvPicPr/>
          <p:nvPr/>
        </p:nvPicPr>
        <p:blipFill>
          <a:blip r:embed="rId1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ho_01"/>
          <p:cNvPicPr/>
          <p:nvPr/>
        </p:nvPicPr>
        <p:blipFill>
          <a:blip r:embed="rId2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30005b"/>
          <p:cNvPicPr/>
          <p:nvPr/>
        </p:nvPicPr>
        <p:blipFill>
          <a:blip r:embed="rId3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Picture 4" descr="259"/>
          <p:cNvPicPr/>
          <p:nvPr/>
        </p:nvPicPr>
        <p:blipFill>
          <a:blip r:embed="rId1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ct11"/>
          <p:cNvPicPr/>
          <p:nvPr/>
        </p:nvPicPr>
        <p:blipFill>
          <a:blip r:embed="rId2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18" name="Picture 3" descr="Blood"/>
          <p:cNvPicPr/>
          <p:nvPr/>
        </p:nvPicPr>
        <p:blipFill>
          <a:blip r:embed="rId1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Comic Sans MS"/>
                <a:hlinkClick r:id="rId1"/>
              </a:rPr>
              <a:t>http://www.microbelibrary.org/images/tterry/anim/phago053.htm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2" name="Picture 4" descr="Phagocytose"/>
          <p:cNvPicPr/>
          <p:nvPr/>
        </p:nvPicPr>
        <p:blipFill>
          <a:blip r:embed="rId2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4303087"/>
          <p:cNvPicPr/>
          <p:nvPr/>
        </p:nvPicPr>
        <p:blipFill>
          <a:blip r:embed="rId3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moves up the concentration gradient towards the intruder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31240" indent="-3877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ink to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0" name="Picture 4" descr="acne2"/>
          <p:cNvPicPr/>
          <p:nvPr/>
        </p:nvPicPr>
        <p:blipFill>
          <a:blip r:embed="rId1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>the immune system phagocytosis</dc:description>
  <cp:keywords>the immune system phagocytosis</cp:keywords>
  <dc:language>en-US</dc:language>
  <cp:lastModifiedBy>LEGION</cp:lastModifiedBy>
  <dcterms:modified xsi:type="dcterms:W3CDTF">2015-09-18T10:32:23Z</dcterms:modified>
  <cp:revision>7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