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gif" ContentType="image/gif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6FCB-2921-487D-B3EA-8D55F75732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surface markers called anti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an recognise these as self or non-self (fore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detect presence of foreign 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d to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proteins call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combine with their specific antigen (like a lock and 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nders the pathog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prim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the bodies ability to resi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natural or ac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ological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n infection is fought off some lymphocytes become memory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same pathogen returns memory cells stimulate the produce the specific antibody very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ection is fought off before symptoms appear = secondary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es can stimulate sam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stages in phagocy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antibodies work and how they are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 prevents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rs             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 antibacterial              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              low pH kills harmful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linings traps dirt and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d” gut bacteria out compete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disease causing micro-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ng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zo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sit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s of de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ing pathogens are targeted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 produce chemicals called antibodies that target specific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in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detects chemicals released by a foreign intruder (e.g.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 moves up the concentration gradient towards the intru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gocyte adheres to the foreign cell and engulfs it in a vacuole by an infolding of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organelles which are rich in digestive enzymes &amp; found in the phagocytes cytoplasm) fuse with the vacuole &amp; release their contents in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cterium is digested by the enzymes, and the breakdown products are absorbed by the phagocy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infection, hundreds of phagocytes ar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 is dead bacteria and phagocy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to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umulation of 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ed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BD38-E884-4838-AD90-4CAF2FE5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C9C9-C62F-4E67-946E-8B7F4D35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32E-7205-4154-AB49-FF570329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984-B50F-443A-ADA2-78D5D64C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F6C0-23D0-40CB-9A6A-0632E41A2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4BB8-4748-4C96-BBA8-0D72710F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3FF6-24D3-46AB-82E1-4004B379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83DC-3C46-400F-8D19-BA28CB5D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0A07-57CE-426F-8AD5-8FEFA0F4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23F4-681B-47AC-B3EB-9BDC4D35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207A-1CFF-42D0-9EBC-1C72C4ED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5C3-8B57-4DF2-A42C-0DB42620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2FEA-E793-4807-9CC4-D5E1B816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F4FF-1C38-4618-AE8A-133B5065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0BB5-2BAB-4668-9999-29C527C6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D899-7FAB-47C5-A6CC-A089A577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BBBA-2450-48D4-9159-B7150975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6B7-1674-46D0-A55B-1EBE409A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249-2F50-4FDC-9C5B-A0C21235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529-30F8-4817-9E22-1B4FF317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D48-2F2E-487B-8885-0953C70D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8404-7ECF-411A-8CE0-AAABF3DB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5B2-199E-4901-9FFC-ED6B42B2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6D64-BA42-47DE-AE4E-BEE72725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5E7C-0C8A-478F-991A-5D95574FF88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ccff"/>
          </a:solidFill>
          <a:ln w="9360">
            <a:solidFill>
              <a:srgbClr val="00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cc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721C-DB27-4A53-8747-97960158F893}" type="slidenum">
              <a:rPr b="0" lang="en-US" sz="1200" spc="-1" strike="noStrike">
                <a:solidFill>
                  <a:srgbClr val="0033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icrobelibrary.org/images/tterry/anim/phago053.html" TargetMode="External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y the end of the lesson you should be able to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32" name="Picture 3" descr="Blood"/>
          <p:cNvPicPr/>
          <p:nvPr/>
        </p:nvPicPr>
        <p:blipFill>
          <a:blip r:embed="rId1"/>
          <a:srcRect l="0" t="22747" r="0" b="0"/>
          <a:stretch/>
        </p:blipFill>
        <p:spPr>
          <a:xfrm>
            <a:off x="1619280" y="1413000"/>
            <a:ext cx="5832360" cy="4506840"/>
          </a:xfrm>
          <a:prstGeom prst="rect">
            <a:avLst/>
          </a:prstGeom>
          <a:ln w="0">
            <a:noFill/>
          </a:ln>
        </p:spPr>
      </p:pic>
      <p:sp>
        <p:nvSpPr>
          <p:cNvPr id="133" name="Line 4"/>
          <p:cNvSpPr/>
          <p:nvPr/>
        </p:nvSpPr>
        <p:spPr>
          <a:xfrm flipV="1">
            <a:off x="684360" y="3573360"/>
            <a:ext cx="1439640" cy="28728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cc"/>
                </a:solidFill>
                <a:latin typeface="Comic Sans MS"/>
              </a:rPr>
              <a:t>Lymph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6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              </a:t>
            </a: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Anti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4070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ll cells have surface markers called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gen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body can recognise these as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elf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(foreign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9" name="Picture 4" descr="Bacteria covered in antigens"/>
          <p:cNvPicPr/>
          <p:nvPr/>
        </p:nvPicPr>
        <p:blipFill>
          <a:blip r:embed="rId1"/>
          <a:stretch/>
        </p:blipFill>
        <p:spPr>
          <a:xfrm>
            <a:off x="5651640" y="321300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antigens"/>
          <p:cNvPicPr/>
          <p:nvPr/>
        </p:nvPicPr>
        <p:blipFill>
          <a:blip r:embed="rId2"/>
          <a:srcRect l="0" t="0" r="57708" b="56708"/>
          <a:stretch/>
        </p:blipFill>
        <p:spPr>
          <a:xfrm>
            <a:off x="5724360" y="907920"/>
            <a:ext cx="20894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cc"/>
                </a:solidFill>
                <a:latin typeface="Comic Sans MS"/>
              </a:rPr>
              <a:t>Specific response</a:t>
            </a:r>
            <a:endParaRPr b="0" lang="en-US" sz="40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Lymphocytes detect presence of foreign antigen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timulated to produce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specific proteins called 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antibodie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435640" y="2492280"/>
          <a:ext cx="291636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492280"/>
                    <a:ext cx="291636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antibodies combine with their specific antigen (like a lock and key)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this renders the pathogen harmless.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</a:t>
            </a: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primary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763640" y="1773360"/>
            <a:ext cx="5472360" cy="2952720"/>
            <a:chOff x="1763640" y="1773360"/>
            <a:chExt cx="5472360" cy="2952720"/>
          </a:xfrm>
        </p:grpSpPr>
        <p:pic>
          <p:nvPicPr>
            <p:cNvPr id="147" name="Picture 4" descr="antibodieaction2"/>
            <p:cNvPicPr/>
            <p:nvPr/>
          </p:nvPicPr>
          <p:blipFill>
            <a:blip r:embed="rId1"/>
            <a:stretch/>
          </p:blipFill>
          <p:spPr>
            <a:xfrm>
              <a:off x="1763640" y="1773360"/>
              <a:ext cx="547236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Rectangle 5"/>
            <p:cNvSpPr/>
            <p:nvPr/>
          </p:nvSpPr>
          <p:spPr>
            <a:xfrm>
              <a:off x="4050000" y="3147120"/>
              <a:ext cx="554040" cy="2059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579600"/>
            <a:ext cx="800100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it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2050560"/>
            <a:ext cx="8001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 the bodies ability to resist infection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can be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natural</a:t>
            </a: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 or </a:t>
            </a:r>
            <a:r>
              <a:rPr b="1" lang="en-GB" sz="3000" spc="-1" strike="noStrike" u="sng">
                <a:solidFill>
                  <a:srgbClr val="003399"/>
                </a:solidFill>
                <a:uFillTx/>
                <a:latin typeface="Comic Sans MS"/>
              </a:rPr>
              <a:t>acquired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ological memory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after an infection is fought off some lymphocytes become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memory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cells</a:t>
            </a: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f same pathogen returns memory cells stimulate the produce the specific antibody very rapidly.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the infection is fought off before symptoms appear = </a:t>
            </a:r>
            <a:r>
              <a:rPr b="1" lang="en-GB" sz="2600" spc="-1" strike="noStrike">
                <a:solidFill>
                  <a:srgbClr val="003399"/>
                </a:solidFill>
                <a:latin typeface="Comic Sans MS"/>
              </a:rPr>
              <a:t>secondary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vaccines can stimulate same response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Immune system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an you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Outline the stages in phagocytosis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Describe how antibodies work and how they are specific.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First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47280" y="3136680"/>
            <a:ext cx="2179800" cy="11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3399"/>
                </a:solidFill>
                <a:latin typeface="Comic Sans MS"/>
              </a:rPr>
              <a:t>    </a:t>
            </a:r>
            <a:r>
              <a:rPr b="1" lang="en-GB" sz="2100" spc="-1" strike="noStrike" u="sng">
                <a:solidFill>
                  <a:srgbClr val="3333ff"/>
                </a:solidFill>
                <a:uFillTx/>
                <a:latin typeface="Comic Sans MS"/>
              </a:rPr>
              <a:t>skin</a:t>
            </a:r>
            <a:r>
              <a:rPr b="0" lang="en-GB" sz="2100" spc="-1" strike="noStrike">
                <a:solidFill>
                  <a:srgbClr val="3333ff"/>
                </a:solidFill>
                <a:latin typeface="Comic Sans MS"/>
              </a:rPr>
              <a:t> prevents entry</a:t>
            </a:r>
            <a:endParaRPr b="0" lang="en-US" sz="21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96" name="Picture 4" descr="vbodyman"/>
          <p:cNvPicPr/>
          <p:nvPr/>
        </p:nvPicPr>
        <p:blipFill>
          <a:blip r:embed="rId1"/>
          <a:stretch/>
        </p:blipFill>
        <p:spPr>
          <a:xfrm>
            <a:off x="2700360" y="1916280"/>
            <a:ext cx="3852720" cy="4032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435640" y="119700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tear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1268280"/>
            <a:ext cx="21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aliv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tibacterial               enzym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547640" y="4365720"/>
            <a:ext cx="25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stomach aci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low pH kills harmful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270828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ff"/>
                </a:solidFill>
                <a:uFillTx/>
                <a:latin typeface="Comic Sans MS"/>
              </a:rPr>
              <a:t>mucus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 linings traps dirt and microb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96000" y="4508640"/>
            <a:ext cx="21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“</a:t>
            </a:r>
            <a:r>
              <a:rPr b="1" lang="en-GB" sz="2400" spc="-1" strike="noStrike" u="sng">
                <a:solidFill>
                  <a:srgbClr val="003399"/>
                </a:solidFill>
                <a:uFillTx/>
                <a:latin typeface="Comic Sans MS"/>
              </a:rPr>
              <a:t>good” gut bacteria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ut compete bad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2" name="Line 11"/>
          <p:cNvSpPr/>
          <p:nvPr/>
        </p:nvSpPr>
        <p:spPr>
          <a:xfrm flipV="1">
            <a:off x="1979640" y="2852280"/>
            <a:ext cx="1944720" cy="505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3" name="Line 12"/>
          <p:cNvSpPr/>
          <p:nvPr/>
        </p:nvSpPr>
        <p:spPr>
          <a:xfrm flipH="1" flipV="1">
            <a:off x="4571640" y="2565360"/>
            <a:ext cx="1800360" cy="503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4" name="Line 13"/>
          <p:cNvSpPr/>
          <p:nvPr/>
        </p:nvSpPr>
        <p:spPr>
          <a:xfrm flipH="1">
            <a:off x="4716000" y="1557360"/>
            <a:ext cx="647640" cy="64764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635280" y="1916280"/>
            <a:ext cx="936720" cy="4330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3348000" y="3357720"/>
            <a:ext cx="1295280" cy="107928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  <p:sp>
        <p:nvSpPr>
          <p:cNvPr id="107" name="Line 16"/>
          <p:cNvSpPr/>
          <p:nvPr/>
        </p:nvSpPr>
        <p:spPr>
          <a:xfrm flipH="1" flipV="1">
            <a:off x="4642920" y="3573000"/>
            <a:ext cx="1081080" cy="11509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athogen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= disease causing micro-organism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bacteria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virus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fungi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otozoa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arasite, 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575"/>
              </a:spcBef>
              <a:buClr>
                <a:srgbClr val="00cc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99"/>
                </a:solidFill>
                <a:latin typeface="Comic Sans MS"/>
              </a:rPr>
              <a:t>prion</a:t>
            </a:r>
            <a:endParaRPr b="0" lang="en-US" sz="23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0" name="Picture 4" descr="bacecoli"/>
          <p:cNvPicPr/>
          <p:nvPr/>
        </p:nvPicPr>
        <p:blipFill>
          <a:blip r:embed="rId1"/>
          <a:stretch/>
        </p:blipFill>
        <p:spPr>
          <a:xfrm>
            <a:off x="5651640" y="1916280"/>
            <a:ext cx="2544480" cy="183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pho_01"/>
          <p:cNvPicPr/>
          <p:nvPr/>
        </p:nvPicPr>
        <p:blipFill>
          <a:blip r:embed="rId2"/>
          <a:stretch/>
        </p:blipFill>
        <p:spPr>
          <a:xfrm>
            <a:off x="3564000" y="3068640"/>
            <a:ext cx="1619280" cy="2419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30005b"/>
          <p:cNvPicPr/>
          <p:nvPr/>
        </p:nvPicPr>
        <p:blipFill>
          <a:blip r:embed="rId3"/>
          <a:srcRect l="0" t="3780" r="0" b="4725"/>
          <a:stretch/>
        </p:blipFill>
        <p:spPr>
          <a:xfrm>
            <a:off x="5796000" y="4230720"/>
            <a:ext cx="2663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Second lines of defence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5986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Comic Sans MS"/>
              </a:rPr>
              <a:t>Involves white blood cells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Non-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invading pathogens are targeted by macrophage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3399"/>
                </a:solidFill>
                <a:latin typeface="Comic Sans MS"/>
              </a:rPr>
              <a:t>Specific response</a:t>
            </a:r>
            <a:endParaRPr b="0" lang="en-US" sz="30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Comic Sans MS"/>
              </a:rPr>
              <a:t>lymphocytes produce chemicals called antibodies that target specific pathogens</a:t>
            </a:r>
            <a:endParaRPr b="0" lang="en-US" sz="26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15" name="Picture 4" descr="259"/>
          <p:cNvPicPr/>
          <p:nvPr/>
        </p:nvPicPr>
        <p:blipFill>
          <a:blip r:embed="rId1"/>
          <a:srcRect l="0" t="0" r="6890" b="0"/>
          <a:stretch/>
        </p:blipFill>
        <p:spPr>
          <a:xfrm>
            <a:off x="6012000" y="2276640"/>
            <a:ext cx="2447640" cy="180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bact11"/>
          <p:cNvPicPr/>
          <p:nvPr/>
        </p:nvPicPr>
        <p:blipFill>
          <a:blip r:embed="rId2"/>
          <a:stretch/>
        </p:blipFill>
        <p:spPr>
          <a:xfrm>
            <a:off x="6443640" y="4292640"/>
            <a:ext cx="213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pic>
        <p:nvPicPr>
          <p:cNvPr id="118" name="Picture 3" descr="Blood"/>
          <p:cNvPicPr/>
          <p:nvPr/>
        </p:nvPicPr>
        <p:blipFill>
          <a:blip r:embed="rId1"/>
          <a:srcRect l="0" t="0" r="0" b="34121"/>
          <a:stretch/>
        </p:blipFill>
        <p:spPr>
          <a:xfrm>
            <a:off x="1066680" y="1752480"/>
            <a:ext cx="6264360" cy="412776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 flipH="1" flipV="1">
            <a:off x="6372360" y="2852280"/>
            <a:ext cx="2016000" cy="647640"/>
          </a:xfrm>
          <a:prstGeom prst="line">
            <a:avLst/>
          </a:prstGeom>
          <a:ln w="38160">
            <a:solidFill>
              <a:srgbClr val="0033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Monocytes and macrophages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</a:rPr>
              <a:t>Provide a non-specific response to infection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333399"/>
                </a:solidFill>
                <a:uFillTx/>
                <a:latin typeface="Comic Sans MS"/>
                <a:hlinkClick r:id="rId1"/>
              </a:rPr>
              <a:t>http://www.microbelibrary.org/images/tterry/anim/phago053.html</a:t>
            </a:r>
            <a:endParaRPr b="0" lang="en-US" sz="32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22" name="Picture 4" descr="Phagocytose"/>
          <p:cNvPicPr/>
          <p:nvPr/>
        </p:nvPicPr>
        <p:blipFill>
          <a:blip r:embed="rId2"/>
          <a:stretch/>
        </p:blipFill>
        <p:spPr>
          <a:xfrm>
            <a:off x="5486400" y="3429000"/>
            <a:ext cx="2482920" cy="2579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4303087"/>
          <p:cNvPicPr/>
          <p:nvPr/>
        </p:nvPicPr>
        <p:blipFill>
          <a:blip r:embed="rId3"/>
          <a:stretch/>
        </p:blipFill>
        <p:spPr>
          <a:xfrm>
            <a:off x="838080" y="3809880"/>
            <a:ext cx="329112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52160" indent="-4521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tages in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detects chemicals released by a foreign intruder (e.g. bacteria)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agocyte moves up the concentration gradient towards the intruder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phagocyte adheres to the foreign cell and engulfs it in a vacuole by an infolding of the cell membran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lvl="1" marL="813960" indent="-379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ysosome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(organelles which are rich in digestive enzymes &amp; found in the phagocytes cytoplasm) fuse with the vacuole &amp; release their contents into it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hagocytosi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75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831240" indent="-3877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The bacterium is digested by the enzymes, and the breakdown products are absorbed by the phagocyte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During infection, hundreds of phagocytes are needed.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us is dead bacteria and phagocytes!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  <a:p>
            <a:pPr marL="461880" indent="-4618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Comic Sans MS"/>
              </a:rPr>
              <a:t>link to phagocytosis</a:t>
            </a:r>
            <a:endParaRPr b="0" lang="en-US" sz="2800" spc="-1" strike="noStrike">
              <a:solidFill>
                <a:srgbClr val="00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cc"/>
                </a:solidFill>
                <a:latin typeface="Comic Sans MS"/>
              </a:rPr>
              <a:t>Pus</a:t>
            </a:r>
            <a:endParaRPr b="0" lang="en-US" sz="4400" spc="-1" strike="noStrike">
              <a:solidFill>
                <a:srgbClr val="0066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6800" y="1846080"/>
            <a:ext cx="39258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n accumulation of : -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phagocyte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stroyed bacteria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dead cells</a:t>
            </a:r>
            <a:endParaRPr b="0" lang="en-US" sz="2400" spc="-1" strike="noStrike">
              <a:solidFill>
                <a:srgbClr val="003399"/>
              </a:solidFill>
              <a:latin typeface="Verdana"/>
            </a:endParaRPr>
          </a:p>
        </p:txBody>
      </p:sp>
      <p:pic>
        <p:nvPicPr>
          <p:cNvPr id="130" name="Picture 4" descr="acne2"/>
          <p:cNvPicPr/>
          <p:nvPr/>
        </p:nvPicPr>
        <p:blipFill>
          <a:blip r:embed="rId1"/>
          <a:stretch/>
        </p:blipFill>
        <p:spPr>
          <a:xfrm>
            <a:off x="539640" y="170028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>the immune system phagocytosis</dc:description>
  <cp:keywords>the immune system phagocytosis</cp:keywords>
  <dc:language>en-US</dc:language>
  <cp:lastModifiedBy>LEGION</cp:lastModifiedBy>
  <dcterms:modified xsi:type="dcterms:W3CDTF">2015-09-18T10:32:23Z</dcterms:modified>
  <cp:revision>7</cp:revision>
  <dc:subject>the immune system phagocytosis</dc:subject>
  <dc:title>the immune system phagocytosis antibody fun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