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5A64-E3BF-42CD-8056-AB490C7FB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FD7-5F29-45BE-80E2-11B834CA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B5E-2890-46DD-AEB0-7A5781AF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501-0414-47D9-BEE5-F407A493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D70-886C-4B89-9F47-93E66AEB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159E-7C8E-4623-9B4B-8A42476D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2CFC-12E4-49C7-B7E1-399EB8F1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1607-797C-46F9-BD3E-603EF5F3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8BE4-BBBE-4F98-B45A-17B56822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7E14-39BB-40DF-A1DE-C7ECC052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B318-39EC-4CED-A40F-921F901F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58C1-8EC8-4B57-91C9-86C6BA3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3B0-0A99-4753-961A-6746B27D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1357-FFAF-4A31-85B0-9F166785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2DD5-5025-4EC3-B807-ED764537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9A0D-8D25-4232-AE33-B1934B98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2741-9E24-407E-ABAC-621EC2B2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4DA3-2BBD-4709-9F15-49BC927E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319-5828-4056-977A-71B341F3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386-6DA5-4547-8A70-17EDC4D6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638-E042-4A1E-9523-C90A9DF3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CB6-0A02-4D03-85DC-9B57D941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F29-F832-4541-8B39-8ACA4C96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F3D-8937-49FE-A50C-FE27417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D835-766B-43C8-A302-EE209598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A866-4DC9-4997-AF93-A0BEEFC410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B759-3290-4A7D-AFE9-CAB468B4B948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belibrary.org/images/tterry/anim/phago053.html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2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6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47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0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8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1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Picture 4" descr="Phagocytose"/>
          <p:cNvPicPr/>
          <p:nvPr/>
        </p:nvPicPr>
        <p:blipFill>
          <a:blip r:embed="rId2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4303087"/>
          <p:cNvPicPr/>
          <p:nvPr/>
        </p:nvPicPr>
        <p:blipFill>
          <a:blip r:embed="rId3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0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>the immune system phagocytosis</dc:description>
  <cp:keywords>the immune system phagocytosis</cp:keywords>
  <dc:language>en-US</dc:language>
  <cp:lastModifiedBy>LEGION</cp:lastModifiedBy>
  <dcterms:modified xsi:type="dcterms:W3CDTF">2015-09-18T10:32:23Z</dcterms:modified>
  <cp:revision>7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