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gif" ContentType="image/gif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68D6-B924-4252-A060-B9C77E14D7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ll cells have surface markers called antigen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body can recognise these as self or non-self (foreign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have surface markers called anti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an recognise these as self or non-self (fore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 detect presence of foreign anti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timulated to produce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proteins called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bodi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 detect presence of foreign 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d to pro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proteins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bodies combine with their specific antigen (like a lock and key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renders the pathogen harmles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= primary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combine with their specific antigen (like a lock and 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nders the pathogen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rimar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=  the bodies ability to resist infect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can be natural or acquired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the bodies ability to resi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natural or ac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ological memor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fter an infection is fought off some lymphocytes become memory cell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f same pathogen returns memory cells stimulate the produce the specific antibody very rapidly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infection is fought off before symptoms appear = secondary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vaccines can stimulate same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ological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n infection is fought off some lymphocytes become memor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ame pathogen returns memory cells stimulate the produce the specific antibody very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ection is fought off before symptoms appear = secondar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can stimulate sam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Can you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First lines of defenc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kin prevents entr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tears              antibacterial               enzym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aliva antibacterial               enzym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tomach acid              low pH kills harmful microb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mucus linings traps dirt and microb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good” gut bacteria out compete bad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 lines of de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n prevents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rs              antibacterial              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 antibacterial              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mach acid              low pH kills harmful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us linings traps dirt and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” gut bacteria out compete 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atho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= disease causing micro-organism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viru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fungi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rotozoa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arasite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r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disease causing micro-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g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ozo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sit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cond lines of defenc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volves white blood 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Non-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vading pathogens are targeted by macrophag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 produce chemicals called antibodies that target specific patho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s of de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ing pathogens are targeted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 produce chemicals called antibodies that target specific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tages in 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 detects chemicals released by a foreign intruder (e.g. bacteria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 moves up the concentration gradient towards the intruder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phagocyte adheres to the foreign cell and engulfs it in a vacuole by an infolding of the cell membrane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sosomes (organelles which are rich in digestive enzymes &amp; found in the phagocytes cytoplasm) fuse with the vacuole &amp; release their contents into it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in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 detects chemicals released by a foreign intruder (e.g.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 moves up the concentration gradient towards the intru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gocyte adheres to the foreign cell and engulfs it in a vacuole by an infolding of the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organelles which are rich in digestive enzymes &amp; found in the phagocytes cytoplasm) fuse with the vacuole &amp; release their contents in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bacterium is digested by the enzymes, and the breakdown products are absorbed by the phagocyte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uring infection, hundreds of phagocytes are needed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us is dead bacteria and phagocytes!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ink to 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terium is digested by the enzymes, and the breakdown products are absorbed by the phagocy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infection, hundreds of phagocytes ar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 is dead bacteria and phagocy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u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 accumulation of : -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ad 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troyed bacteria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ad 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umulation of 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90E-4AD9-47B1-B00D-565C29AE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184B-8B26-4B3E-871C-F54FF920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DB5-628C-4098-BD37-3CB4E1D2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FBA-AED4-48D5-B550-8AA6EBD3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2571-B86E-44AC-93F1-7740C6E1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8E23-C6E3-406B-914F-55ED9B33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AF3E-F83E-47A4-AB47-B37C3D03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97AA-C07A-4F69-B8B7-F3F309C1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E27C-4A9D-412B-AE9D-358D62E4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67C4-069B-4783-BCE5-970F405C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7F8E-1DC3-478B-B9D9-13C30650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928-B496-450A-B331-AC2BA03D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E609-A96F-43A5-BCE9-EAACDE7C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1C24-E0B4-44C5-AAC0-CF8101AE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9DA1-44DF-4B40-B439-4C11BE20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88F5-8688-4DC8-BE02-A9C67F20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9A09-4B7E-43F9-95F1-5011B418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8365-3ACE-457D-8862-0EC3172F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D997-61CF-4E35-8BEF-9B8DB004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D18F-0D88-4D07-887D-C2E61085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3165-6D88-4E34-84C8-46AFE38F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7A9-8823-44E8-A606-3E731E52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0BB9-75B4-4677-A6C6-F244BE9E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A5F-3205-4637-B0AB-C41A6619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C6C6-2AA2-48E9-8AC4-4611665D61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4B97-A21A-421E-A18C-419CF29221BA}" type="slidenum">
              <a:rPr b="0" lang="en-US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crobelibrary.org/images/tterry/anim/phago053.html" TargetMode="External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y the end of the lesson you should be able to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32" name="Picture 3" descr="Blood"/>
          <p:cNvPicPr/>
          <p:nvPr/>
        </p:nvPicPr>
        <p:blipFill>
          <a:blip r:embed="rId1"/>
          <a:srcRect l="0" t="22747" r="0" b="0"/>
          <a:stretch/>
        </p:blipFill>
        <p:spPr>
          <a:xfrm>
            <a:off x="1619280" y="1413000"/>
            <a:ext cx="5832360" cy="4506840"/>
          </a:xfrm>
          <a:prstGeom prst="rect">
            <a:avLst/>
          </a:prstGeom>
          <a:ln w="0">
            <a:noFill/>
          </a:ln>
        </p:spPr>
      </p:pic>
      <p:sp>
        <p:nvSpPr>
          <p:cNvPr id="133" name="Line 4"/>
          <p:cNvSpPr/>
          <p:nvPr/>
        </p:nvSpPr>
        <p:spPr>
          <a:xfrm flipV="1">
            <a:off x="684360" y="3573360"/>
            <a:ext cx="1439640" cy="28728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6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              </a:t>
            </a: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Anti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070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ll cells have surface markers called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gen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body can recognise these as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(foreign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9" name="Picture 4" descr="Bacteria covered in antigens"/>
          <p:cNvPicPr/>
          <p:nvPr/>
        </p:nvPicPr>
        <p:blipFill>
          <a:blip r:embed="rId1"/>
          <a:stretch/>
        </p:blipFill>
        <p:spPr>
          <a:xfrm>
            <a:off x="5651640" y="321300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ntigens"/>
          <p:cNvPicPr/>
          <p:nvPr/>
        </p:nvPicPr>
        <p:blipFill>
          <a:blip r:embed="rId2"/>
          <a:srcRect l="0" t="0" r="57708" b="56708"/>
          <a:stretch/>
        </p:blipFill>
        <p:spPr>
          <a:xfrm>
            <a:off x="5724360" y="907920"/>
            <a:ext cx="208944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cc"/>
                </a:solidFill>
                <a:latin typeface="Comic Sans MS"/>
              </a:rPr>
              <a:t>Specific response</a:t>
            </a:r>
            <a:endParaRPr b="0" lang="en-US" sz="4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Lymphocytes detect presence of foreign antigen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timulated to produce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pecific proteins called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5435640" y="2492280"/>
          <a:ext cx="29163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492280"/>
                    <a:ext cx="29163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ntibodies combine with their specific antigen (like a lock and key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is renders the pathogen harmles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primary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1763640" y="1773360"/>
            <a:ext cx="5472360" cy="2952720"/>
            <a:chOff x="1763640" y="1773360"/>
            <a:chExt cx="5472360" cy="2952720"/>
          </a:xfrm>
        </p:grpSpPr>
        <p:pic>
          <p:nvPicPr>
            <p:cNvPr id="147" name="Picture 4" descr="antibodieaction2"/>
            <p:cNvPicPr/>
            <p:nvPr/>
          </p:nvPicPr>
          <p:blipFill>
            <a:blip r:embed="rId1"/>
            <a:stretch/>
          </p:blipFill>
          <p:spPr>
            <a:xfrm>
              <a:off x="1763640" y="1773360"/>
              <a:ext cx="547236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5"/>
            <p:cNvSpPr/>
            <p:nvPr/>
          </p:nvSpPr>
          <p:spPr>
            <a:xfrm>
              <a:off x="4050000" y="3147120"/>
              <a:ext cx="554040" cy="2059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579600"/>
            <a:ext cx="800100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it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2050560"/>
            <a:ext cx="800100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 the bodies ability to resist infection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can be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natural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acquired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ological memor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after an infection is fought off some lymphocytes become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memory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cells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f same pathogen returns memory cells stimulate the produce the specific antibody very rapidly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the infection is fought off before symptoms appear =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secondary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vaccines can stimulate same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an you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First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280" y="3136680"/>
            <a:ext cx="217980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99"/>
                </a:solidFill>
                <a:latin typeface="Comic Sans MS"/>
              </a:rPr>
              <a:t>    </a:t>
            </a:r>
            <a:r>
              <a:rPr b="1" lang="en-GB" sz="2100" spc="-1" strike="noStrike" u="sng">
                <a:solidFill>
                  <a:srgbClr val="3333ff"/>
                </a:solidFill>
                <a:uFillTx/>
                <a:latin typeface="Comic Sans MS"/>
              </a:rPr>
              <a:t>skin</a:t>
            </a:r>
            <a:r>
              <a:rPr b="0" lang="en-GB" sz="2100" spc="-1" strike="noStrike">
                <a:solidFill>
                  <a:srgbClr val="3333ff"/>
                </a:solidFill>
                <a:latin typeface="Comic Sans MS"/>
              </a:rPr>
              <a:t> prevents entry</a:t>
            </a: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96" name="Picture 4" descr="vbodyman"/>
          <p:cNvPicPr/>
          <p:nvPr/>
        </p:nvPicPr>
        <p:blipFill>
          <a:blip r:embed="rId1"/>
          <a:stretch/>
        </p:blipFill>
        <p:spPr>
          <a:xfrm>
            <a:off x="2700360" y="1916280"/>
            <a:ext cx="3852720" cy="403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5435640" y="119700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tear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antibacterial               enzym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126828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aliv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antibacterial               enzym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547640" y="4365720"/>
            <a:ext cx="25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tomach acid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low pH kills harmful microb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372360" y="270828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ff"/>
                </a:solidFill>
                <a:uFillTx/>
                <a:latin typeface="Comic Sans MS"/>
              </a:rPr>
              <a:t>mucus</a:t>
            </a:r>
            <a:r>
              <a:rPr b="0" lang="en-GB" sz="2400" spc="-1" strike="noStrike">
                <a:solidFill>
                  <a:srgbClr val="3333ff"/>
                </a:solidFill>
                <a:latin typeface="Comic Sans MS"/>
              </a:rPr>
              <a:t> linings traps dirt and microb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796000" y="450864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“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good” gut bacteri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out compete bad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1979640" y="2852280"/>
            <a:ext cx="1944720" cy="505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3" name="Line 12"/>
          <p:cNvSpPr/>
          <p:nvPr/>
        </p:nvSpPr>
        <p:spPr>
          <a:xfrm flipH="1" flipV="1">
            <a:off x="4571640" y="2565360"/>
            <a:ext cx="1800360" cy="503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4716000" y="1557360"/>
            <a:ext cx="647640" cy="647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635280" y="1916280"/>
            <a:ext cx="936720" cy="433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3348000" y="3357720"/>
            <a:ext cx="1295280" cy="1079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7" name="Line 16"/>
          <p:cNvSpPr/>
          <p:nvPr/>
        </p:nvSpPr>
        <p:spPr>
          <a:xfrm flipH="1" flipV="1">
            <a:off x="4642920" y="3573000"/>
            <a:ext cx="1081080" cy="1150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atho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disease causing micro-organism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bacteria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virus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fungi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otozoa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arasite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ion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0" name="Picture 4" descr="bacecoli"/>
          <p:cNvPicPr/>
          <p:nvPr/>
        </p:nvPicPr>
        <p:blipFill>
          <a:blip r:embed="rId1"/>
          <a:stretch/>
        </p:blipFill>
        <p:spPr>
          <a:xfrm>
            <a:off x="5651640" y="1916280"/>
            <a:ext cx="2544480" cy="183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pho_01"/>
          <p:cNvPicPr/>
          <p:nvPr/>
        </p:nvPicPr>
        <p:blipFill>
          <a:blip r:embed="rId2"/>
          <a:stretch/>
        </p:blipFill>
        <p:spPr>
          <a:xfrm>
            <a:off x="3564000" y="3068640"/>
            <a:ext cx="1619280" cy="2419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30005b"/>
          <p:cNvPicPr/>
          <p:nvPr/>
        </p:nvPicPr>
        <p:blipFill>
          <a:blip r:embed="rId3"/>
          <a:srcRect l="0" t="3780" r="0" b="4725"/>
          <a:stretch/>
        </p:blipFill>
        <p:spPr>
          <a:xfrm>
            <a:off x="5796000" y="4230720"/>
            <a:ext cx="2663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Second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5986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volves white blood 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nvading pathogens are targeted by macrophage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lymphocytes produce chemicals called antibodies that target specific pathogen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5" name="Picture 4" descr="259"/>
          <p:cNvPicPr/>
          <p:nvPr/>
        </p:nvPicPr>
        <p:blipFill>
          <a:blip r:embed="rId1"/>
          <a:srcRect l="0" t="0" r="6890" b="0"/>
          <a:stretch/>
        </p:blipFill>
        <p:spPr>
          <a:xfrm>
            <a:off x="6012000" y="2276640"/>
            <a:ext cx="2447640" cy="180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act11"/>
          <p:cNvPicPr/>
          <p:nvPr/>
        </p:nvPicPr>
        <p:blipFill>
          <a:blip r:embed="rId2"/>
          <a:stretch/>
        </p:blipFill>
        <p:spPr>
          <a:xfrm>
            <a:off x="6443640" y="4292640"/>
            <a:ext cx="21384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18" name="Picture 3" descr="Blood"/>
          <p:cNvPicPr/>
          <p:nvPr/>
        </p:nvPicPr>
        <p:blipFill>
          <a:blip r:embed="rId1"/>
          <a:srcRect l="0" t="0" r="0" b="34121"/>
          <a:stretch/>
        </p:blipFill>
        <p:spPr>
          <a:xfrm>
            <a:off x="1066680" y="1752480"/>
            <a:ext cx="6264360" cy="4127760"/>
          </a:xfrm>
          <a:prstGeom prst="rect">
            <a:avLst/>
          </a:prstGeom>
          <a:ln w="0">
            <a:noFill/>
          </a:ln>
        </p:spPr>
      </p:pic>
      <p:sp>
        <p:nvSpPr>
          <p:cNvPr id="119" name="Line 4"/>
          <p:cNvSpPr/>
          <p:nvPr/>
        </p:nvSpPr>
        <p:spPr>
          <a:xfrm flipH="1" flipV="1">
            <a:off x="6372360" y="2852280"/>
            <a:ext cx="2016000" cy="64764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Monocytes and macrophages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Provide a non-specific response to infection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Comic Sans MS"/>
                <a:hlinkClick r:id="rId1"/>
              </a:rPr>
              <a:t>http://www.microbelibrary.org/images/tterry/anim/phago053.html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2" name="Picture 4" descr="Phagocytose"/>
          <p:cNvPicPr/>
          <p:nvPr/>
        </p:nvPicPr>
        <p:blipFill>
          <a:blip r:embed="rId2"/>
          <a:stretch/>
        </p:blipFill>
        <p:spPr>
          <a:xfrm>
            <a:off x="5486400" y="3429000"/>
            <a:ext cx="2482920" cy="2579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4303087"/>
          <p:cNvPicPr/>
          <p:nvPr/>
        </p:nvPicPr>
        <p:blipFill>
          <a:blip r:embed="rId3"/>
          <a:stretch/>
        </p:blipFill>
        <p:spPr>
          <a:xfrm>
            <a:off x="838080" y="3809880"/>
            <a:ext cx="329112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34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52160" indent="-4521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Stages in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detects chemicals released by a foreign intruder (e.g. bacteria)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moves up the concentration gradient towards the intruder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phagocyte adheres to the foreign cell and engulfs it in a vacuole by an infolding of the cell membran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ysosomes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(organelles which are rich in digestive enzymes &amp; found in the phagocytes cytoplasm) fuse with the vacuole &amp; release their contents into it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756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831240" indent="-3877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bacterium is digested by the enzymes, and the breakdown products are absorbed by the phagocyt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During infection, hundreds of phagocytes are needed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us is dead bacteria and phagocytes!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link to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u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36800" y="1846080"/>
            <a:ext cx="39258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An accumulation of : -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phagocyt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stroyed bacteria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cell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0" name="Picture 4" descr="acne2"/>
          <p:cNvPicPr/>
          <p:nvPr/>
        </p:nvPicPr>
        <p:blipFill>
          <a:blip r:embed="rId1"/>
          <a:stretch/>
        </p:blipFill>
        <p:spPr>
          <a:xfrm>
            <a:off x="539640" y="170028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>the immune system phagocytosis</dc:description>
  <cp:keywords>the immune system phagocytosis</cp:keywords>
  <dc:language>en-US</dc:language>
  <cp:lastModifiedBy>LEGION</cp:lastModifiedBy>
  <dcterms:modified xsi:type="dcterms:W3CDTF">2015-09-18T10:32:23Z</dcterms:modified>
  <cp:revision>7</cp:revision>
  <dc:subject>the immune system phagocytosis</dc:subject>
  <dc:title>the immune system phagocytosis antibody fun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