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3D25-5043-496E-94F9-D62BC63CFA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30BB-FD08-4BB1-82BF-7877FF7A3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B7A1-CCEF-46D1-AF84-D5D09659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0546-2248-4C70-A7AF-E01202B7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F994-FC24-468B-B2D5-27C37D81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926B-B0FE-41D8-B0C6-59423FC6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0441-F8BD-47E0-A8CE-33553059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174B-4EF8-46E5-A8B4-3C8D4812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D89E-F295-46AD-981C-66817C90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6352-5E98-42C7-A2A6-13F1C07C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6FE5-8389-4CBE-AED4-6AA61F8F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44A2-8C15-4EF8-BD7B-42CA7DCF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857D-3951-49CC-BB43-6615D424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EF37-1555-417F-BD3A-A6EDFE92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0984-D3D9-4D6B-9F66-3C0CF946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2FD8-D968-4B49-8B30-E86141F6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5B7B-262F-43AB-BF78-F58E316D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4102-1B9A-46CC-8C15-B49274F5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135D6-3929-46EC-B75D-45117B64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F887A-8FA6-48E4-ABFA-1B627E30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F0C6D-849F-4186-BD02-006D69A2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C3F94-160D-418F-BF81-9D6EC65D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DCDFB-8ECE-419B-A288-59043B7E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E0A9-00A9-48F0-84B1-DA881AC5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9C1D9-3F9D-412A-9CD9-DCCDD340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214C4-7B79-406F-9753-849F1673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13AA6-8353-4C4A-B864-C3746FB4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90B81-10A7-47BE-AF47-49F1D2EE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CFE88-1AD2-49DF-B563-4B98F335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5866C-C0C0-4153-8BD9-3B0A2743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246AF-FBFD-4D07-B19B-8C22F41F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6D1B-3D44-4BA9-8E3A-30A1F800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3C92-42E7-461F-8139-2682FF4A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3828-8245-4913-BB18-25339809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E8B0-305D-44C4-A192-BC1C9BFD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8163-1B6B-4213-8623-BE2F92C5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014F-2F19-4356-A233-64C76EEC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7024-2CE9-4F17-B203-2EC7A68DA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0B99-D7D1-4871-8010-E5AB8049A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4E0B-241C-4419-A823-28EC68DB705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4792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ntal and Emotional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ression – feeling of sadness loneliness and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spai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mily Histo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jor life stresso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hysical illnes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bstance abu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depres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y to identify your source of depress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t things into perspec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ocus on the positive thing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alk to someone you trus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ideal - your mental image of what you would like to b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concept – the current mental image you have of yourself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Defense Mechanism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chniques people use to protect themselves from being hur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ge – 16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slow’s Hierarchy of Needs – focusing on the positive aspects of human behavior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 organized human need by prior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Diagram 0"/>
          <p:cNvGrpSpPr/>
          <p:nvPr/>
        </p:nvGrpSpPr>
        <p:grpSpPr>
          <a:xfrm>
            <a:off x="2469240" y="1523520"/>
            <a:ext cx="4357440" cy="3918240"/>
            <a:chOff x="2469240" y="1523520"/>
            <a:chExt cx="4357440" cy="3918240"/>
          </a:xfrm>
        </p:grpSpPr>
        <p:sp>
          <p:nvSpPr>
            <p:cNvPr id="176" name="_s1028"/>
            <p:cNvSpPr/>
            <p:nvPr/>
          </p:nvSpPr>
          <p:spPr>
            <a:xfrm flipV="1">
              <a:off x="4212720" y="1523520"/>
              <a:ext cx="870480" cy="783360"/>
            </a:xfrm>
            <a:custGeom>
              <a:avLst/>
              <a:gdLst>
                <a:gd name="textAreaLeft" fmla="*/ 312120 w 870480"/>
                <a:gd name="textAreaRight" fmla="*/ 558360 w 870480"/>
                <a:gd name="textAreaTop" fmla="*/ 281160 h 783360"/>
                <a:gd name="textAreaBottom" fmla="*/ 50220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Self Actualization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rsonal growth and fulfillmen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_s1029"/>
            <p:cNvSpPr/>
            <p:nvPr/>
          </p:nvSpPr>
          <p:spPr>
            <a:xfrm flipV="1">
              <a:off x="3777120" y="2306160"/>
              <a:ext cx="1741320" cy="783720"/>
            </a:xfrm>
            <a:custGeom>
              <a:avLst/>
              <a:gdLst>
                <a:gd name="textAreaLeft" fmla="*/ 382680 w 1741320"/>
                <a:gd name="textAreaRight" fmla="*/ 1358640 w 1741320"/>
                <a:gd name="textAreaTop" fmla="*/ 172080 h 783720"/>
                <a:gd name="textAreaBottom" fmla="*/ 611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Esteem need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hievement, responsibility, reputat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_s1030"/>
            <p:cNvSpPr/>
            <p:nvPr/>
          </p:nvSpPr>
          <p:spPr>
            <a:xfrm flipV="1">
              <a:off x="3340080" y="3089880"/>
              <a:ext cx="2615760" cy="783720"/>
            </a:xfrm>
            <a:custGeom>
              <a:avLst/>
              <a:gdLst>
                <a:gd name="textAreaLeft" fmla="*/ 453960 w 2615760"/>
                <a:gd name="textAreaRight" fmla="*/ 2161800 w 261576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elongingness and love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amily affection, relationship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_s1031"/>
            <p:cNvSpPr/>
            <p:nvPr/>
          </p:nvSpPr>
          <p:spPr>
            <a:xfrm flipV="1">
              <a:off x="2904480" y="3873600"/>
              <a:ext cx="3486600" cy="783720"/>
            </a:xfrm>
            <a:custGeom>
              <a:avLst/>
              <a:gdLst>
                <a:gd name="textAreaLeft" fmla="*/ 524520 w 3486600"/>
                <a:gd name="textAreaRight" fmla="*/ 2962080 w 348660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afety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tection, security, law and ord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_s1032"/>
            <p:cNvSpPr/>
            <p:nvPr/>
          </p:nvSpPr>
          <p:spPr>
            <a:xfrm flipV="1">
              <a:off x="2469240" y="4657680"/>
              <a:ext cx="4357440" cy="783720"/>
            </a:xfrm>
            <a:custGeom>
              <a:avLst/>
              <a:gdLst>
                <a:gd name="textAreaLeft" fmla="*/ 595080 w 4357440"/>
                <a:gd name="textAreaRight" fmla="*/ 3762360 w 435744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iological and physiological nee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sic life needs- air, food, shelter, slee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ypes of Mental and Emotional Disorder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rganic disorder – mental and emotional disorders resulting from a physical cause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llness- brain tum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ury – blow  to the 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mical imbalance – drugs to destroy brain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ating Disorders – deep emotional problems related to self – image and self-esteem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quired psychiatric trea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creased among tee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nxiety disorder – a condition in which fear or anxiety prevents one from enjoying life and completing everyday task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obias most well kn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women then 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Tahoma"/>
              </a:rPr>
              <a:t>Mental Healt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feeling you have about yourself and your abilities to deal with problem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ssociative disorder – a condition in which someone’s personality changes to the point that the person believes he or she is someone els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personality dis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od Disorder – a condition in which one mood is experienced almost to the exclusion of other feeling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pres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ochond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Seeking Help IF You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ave prolonged feeling of depression or hopelessn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eelings that life is out of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ability to concentrate or make decisio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fficulty getting along with oth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ense f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istent difficulty sleep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motional problems coping with a physical ill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ability to stop destructive behavio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Types of Treatment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sychoanalysis – examines unresolved conflict from the pas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havior therapy – focuses on the persons behavior now rather then the underlying problem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roup Therapy- meetings of people with similar problem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emical Therapy – the use of drugs to treat mental and emotional disord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can be dangerous and addictive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6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Esteem – pride in and acceptance of yourself; feeling good about yourself and your abilities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-198720">
              <a:spcBef>
                <a:spcPts val="10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gins at Birt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-702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ody Image – the view a person has on his or her bod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sitive self talk – talking in a positive way to yourself about yourself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lf – disclosure – telling another person meaningful info about yourself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Emotions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Norma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veryone has them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xpress them in a positive way (not negative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 Steps to Improv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ste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nk about what you are good at, and build on those abilit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Select supportive and encouraging friend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Practice good health habi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-21132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4.  Exercise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ink positiv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rite down 3 things that make you happy everyda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et goals, be realistic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Beware of perfectionis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1468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ake a difference in the world, help other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*Voluntee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ward yourself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ve fun !!!!!!!!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-3495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 Esteem more than any other factors has a direct effect on all 5 aspects of your health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80084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Emotions Examples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8120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Love – strong affection or caring for someon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ppiness – feeling of joy and well being or contentment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ptimism – feeling that life experiences will be positive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umor – a way of expressing some negative emotions in a more positive way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Fear – feeling of danger</a:t>
            </a:r>
            <a:br>
              <a:rPr sz="40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naging your fears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lf talk – saying things to yourself to view the fear more realisticall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vironmental planning – rearranging the environment to reduce your fear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nger – strong feeling or irritation.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anger –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nnel emotions appropriately, so that they are posi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cognize your feelings and the source of the anger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lt – feeling that you have done something wrong or are responsible for something bad happening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ealousy – feeling of wanting something that someone else has or of losing something you ha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oneliness – feeling of isolation or alien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hyness- being timid or bashfu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9:33:29Z</dcterms:created>
  <dc:creator>workshop</dc:creator>
  <dc:description/>
  <dc:language>en-US</dc:language>
  <cp:lastModifiedBy>RomaK</cp:lastModifiedBy>
  <cp:lastPrinted>2008-06-08T23:00:35Z</cp:lastPrinted>
  <dcterms:modified xsi:type="dcterms:W3CDTF">2015-09-04T10:41:56Z</dcterms:modified>
  <cp:revision>20</cp:revision>
  <dc:subject/>
  <dc:title>Chapter 7</dc:title>
</cp:coreProperties>
</file>