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dt" idx="10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Img"/>
          </p:nvPr>
        </p:nvSpPr>
        <p:spPr>
          <a:xfrm>
            <a:off x="1158840" y="680760"/>
            <a:ext cx="4540320" cy="340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1"/>
          </p:nvPr>
        </p:nvSpPr>
        <p:spPr>
          <a:xfrm>
            <a:off x="-36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83D3B-29E7-4E27-8C4F-970B70AE02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ntal and Emotional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ntal and Emotio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ression – feeling of sadness loneliness and despair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Histor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jor life stresso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illnes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ance abu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ression – feeling of sadness loneliness and despa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jor life stress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il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ance ab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depress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o identify your source of depress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things into perspectiv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on the positive thing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 to someone you tru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de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o identify your source of de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things into persp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on the positive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 to someone you tr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ideal - your mental image of what you would like to b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concept – the current mental image you have of yourself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ideal - your mental image of what you would like to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concept – the current mental image you have of your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nse Mechanism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ques people use to protect themselves from being hur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– 16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nse Mechanism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ques people use to protect themselves from being hu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– 1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low’s Hierarchy of Needs – focusing on the positive aspects of human behavior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organized human need by priorit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low’s Hierarchy of Needs – focusing on the positive aspects of human behavi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organized human need by prio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Mental and Emotional Disord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Mental and Emotional Disor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c disorder – mental and emotional disorders resulting from a physical caus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illness- brain tumo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jury – blow  to the hea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imbalance – drugs to destroy brain cell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c disorder – mental and emotional disorders resulting from a physical caus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illness- brain tum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jury – blow  to the 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imbalance – drugs to destroy brain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ting Disorders – deep emotional problems related to self – image and self-estee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d psychiatric treat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d among teen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ting Disorders – deep emotional problems related to self – image and self-estee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d psychiatric trea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d among te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xiety disorder – a condition in which fear or anxiety prevents one from enjoying life and completing everyday task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comm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bias most well know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women then me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xiety disorder – a condition in which fear or anxiety prevents one from enjoying life and completing everyday tas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com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bias most well kn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women then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al Health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eeling you have about yourself and your abilities to deal with problem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al Heal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eeling you have about yourself and your abilities to deal with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sociative disorder – a condition in which someone’s personality changes to the point that the person believes he or she is someone els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nesi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personality disorder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sociative disorder – a condition in which someone’s personality changes to the point that the person believes he or she is someone el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ne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personality disord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d Disorder – a condition in which one mood is experienced almost to the exclusion of other feeling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ress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d Disorder – a condition in which one mood is experienced almost to the exclusion of other feel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ality Disorder – an emotional condition in which a person’s patterns of behavior negatively affects that person’s ability to get along with other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socia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ality Disorder – an emotional condition in which a person’s patterns of behavior negatively affects that person’s ability to get along with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soc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atoform Disorder – emotional condition in which there are physical symptoms but no identifiable disease or injury, physical symptoms are caused by psychological factor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chondri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atoform Disorder – emotional condition in which there are physical symptoms but no identifiable disease or injury, physical symptoms are caused by psychological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chond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king Help IF Yo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prolonged feeling of depression or hopelessnes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lings that life is out of contro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ability to concentrate or make decision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iculty getting along with oth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king Help IF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prolonged feeling of depression or hopeless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lings that life is out of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ability to concentrate or make deci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iculty getting along with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nse fea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istent difficulty sleepin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al problems coping with a physical illnes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ability to stop destructive behavio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nse f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istent difficulty slee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al problems coping with a physical il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ability to stop destructive behavi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Treat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oanalysis – examines unresolved conflict from the pas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avior therapy – focuses on the persons behavior now rather then the underlying problem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Trea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oanalysis – examines unresolved conflict from the pa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avior therapy – focuses on the persons behavior now rather then the underlying probl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Therapy- meetings of people with similar problem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Therapy – the use of drugs to treat mental and emotional disorder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an be dangerous and addictiv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Therapy- meetings of people with similar probl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Therapy – the use of drugs to treat mental and emotional disor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an be dangerous and addicti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–Esteem – pride in and acceptance of yourself; feeling good about yourself and your abilitie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s at Birt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–Esteem – pride in and acceptance of yourself; feeling good about yourself and your abil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s at Bi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Image – the view a person has on his or her bod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self talk – talking in a positive way to yourself about yourself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– disclosure – telling another person meaningful info about yourself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Image – the view a person has on his or her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self talk – talking in a positive way to yourself about your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– disclosure – telling another person meaningful info about your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has the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 them in a positive way (not negativ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has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 them in a positive way (not negati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teps to Improv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Estee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Think about what you are good at, and build on those abiliti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Select supportive and encouraging frie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Practice good health habi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teps to Improv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Este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Think about what you are good at, and build on those a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Select supportive and encouraging fri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Practice good health hab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Exercise!!!!!!!!!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Think positiv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down 3 things that make you happy everyda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goals, be realistic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ware of perfectioni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Exercise!!!!!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Think 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down 3 things that make you happy every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goals, be realis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ware of perfection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a difference in the world, help oth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Volunte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ward yourself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fun !!!!!!!!!!!!!!!!!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a difference in the world, help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Volunte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ward yoursel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fun !!!!!!!!!!!!!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– Esteem more than any other factors has a direct effect on all 5 aspects of your health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– Esteem more than any other factors has a direct effect on all 5 aspects of your heal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s Exampl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ve – strong affection or caring for someon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iness – feeling of joy and well being or contentmen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s 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ve – strong affection or caring for some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iness – feeling of joy and well being or content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mism – feeling that life experiences will be positiv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or – a way of expressing some negative emotions in a more positive way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mism – feeling that life experiences will be posi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or – a way of expressing some negative emotions in a more positive 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r – feeling of dange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your fears –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talk – saying things to yourself to view the fear more realistically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al planning – rearranging the environment to reduce your fear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r – feeling of dange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your fear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talk – saying things to yourself to view the fear more realistic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al planning – rearranging the environment to reduce your f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er – strong feeling or irritation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anger –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emotions appropriately, so that they are positiv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gnize your feelings and the source of the anger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er – strong feeling or irritation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anger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emotions appropriately, so that they are 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gnize your feelings and the source of the ang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lt – feeling that you have done something wrong or are responsible for something bad happening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alousy – feeling of wanting something that someone else has or of losing something you hav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lt – feeling that you have done something wrong or are responsible for something bad happen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alousy – feeling of wanting something that someone else has or of losing something you h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eliness – feeling of isolation or alien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yness- being timid or bashfu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eliness – feeling of isolation or alie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yness- being timid or bashf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E397-9183-46AF-9046-E204B1DF8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D1A4-E75F-4687-85E1-024E4ECB9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96AA-CD12-4B13-A549-352C33F1D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A10A-1EBA-4B31-9E8E-42C60479E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96E2B-9B6E-491F-9817-E91674D1D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93688-6EB7-472E-90AB-5C145A1EA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34E42-91B1-4B6D-8CD4-3AEA87AB0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49774-381D-41A0-9FED-E19091A60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02FA0-B348-411B-B878-8891B13D4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A41BC-B2B6-409D-A029-46986218C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3CCD9-4F8A-41C2-8BF6-D6F67739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0E05-796D-4712-8A5B-F3582850A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1B1B5-0B32-4C5F-B9DC-4051F8D9A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EFE34-A12B-4729-8FB6-F4CF1C44A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2DC5E-27E3-4FAE-9605-59C3BC77B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84A22-53E6-4E59-8D67-2A14C669A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2940D-992A-46BC-88F2-884749BB1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3787B-5EB7-4A09-9384-AF22BE894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E805B-2D8A-439A-BCC2-8003188B8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390E6-71C6-42F8-BD30-69FAA637C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7D7F8-43F6-41E3-8186-9DC7CBA7B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CE5C8-C91D-4A33-9B9C-539FA51DA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846C-780B-42F8-91D3-7B98B9792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139FD-ACED-4333-BA3F-F0EA25599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5A058-036B-4ABB-A43F-9CBF5D2AD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E006B-92F3-486A-A719-CB4F2786F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65C3A-0710-4453-8467-E2F038B23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0E94C-A7CE-4D59-BAE7-11AC6F25A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44764-C352-4970-B50D-E7633B5DE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53C5F-4E83-45C6-8A5C-B452CF7E4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1B3F-2EBF-4D56-9441-B2B90A171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E308-25AA-4EE7-A509-FC150E0A2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138D-9382-44B7-AEBA-E3A68C094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4443-29D4-42D6-A54E-3F66C49BE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1CFE-8906-4E21-AF91-0BB9954F6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7B74-383B-40B8-8D64-E7D95FC35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8060C-8E37-4397-A1F7-02C0534660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E6F88-2766-432C-A437-7059780533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0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91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93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94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291CA-5CB5-4CB6-BB50-24511667842C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1447920" y="990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ental and Emotional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Health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pression – feeling of sadness loneliness and 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espair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Family History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jor life stressor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hysical illnes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ubstance abus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Gende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1752120"/>
            <a:ext cx="7772400" cy="43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naging depressio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ry to identify your source of depressio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ut things into perspectiv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Focus on the positive thing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alk to someone you trus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elf ideal - your mental image of what you would like to b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elf concept – the current mental image you have of yourself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Defense Mechanisms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	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echniques people use to protect themselves from being hurt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age – 160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slow’s Hierarchy of Needs – focusing on the positive aspects of human behavior.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He organized human need by priority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24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Diagram 0"/>
          <p:cNvGrpSpPr/>
          <p:nvPr/>
        </p:nvGrpSpPr>
        <p:grpSpPr>
          <a:xfrm>
            <a:off x="2469240" y="1523520"/>
            <a:ext cx="4357440" cy="3918240"/>
            <a:chOff x="2469240" y="1523520"/>
            <a:chExt cx="4357440" cy="3918240"/>
          </a:xfrm>
        </p:grpSpPr>
        <p:sp>
          <p:nvSpPr>
            <p:cNvPr id="176" name="_s1028"/>
            <p:cNvSpPr/>
            <p:nvPr/>
          </p:nvSpPr>
          <p:spPr>
            <a:xfrm flipV="1">
              <a:off x="4212720" y="1523520"/>
              <a:ext cx="870480" cy="783360"/>
            </a:xfrm>
            <a:custGeom>
              <a:avLst/>
              <a:gdLst>
                <a:gd name="textAreaLeft" fmla="*/ 312120 w 870480"/>
                <a:gd name="textAreaRight" fmla="*/ 558360 w 870480"/>
                <a:gd name="textAreaTop" fmla="*/ 281160 h 783360"/>
                <a:gd name="textAreaBottom" fmla="*/ 502200 h 78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ahoma"/>
                </a:rPr>
                <a:t>Self Actualization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Personal growth and fulfillment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" name="_s1029"/>
            <p:cNvSpPr/>
            <p:nvPr/>
          </p:nvSpPr>
          <p:spPr>
            <a:xfrm flipV="1">
              <a:off x="3777120" y="2306160"/>
              <a:ext cx="1741320" cy="783720"/>
            </a:xfrm>
            <a:custGeom>
              <a:avLst/>
              <a:gdLst>
                <a:gd name="textAreaLeft" fmla="*/ 382680 w 1741320"/>
                <a:gd name="textAreaRight" fmla="*/ 1358640 w 1741320"/>
                <a:gd name="textAreaTop" fmla="*/ 172080 h 783720"/>
                <a:gd name="textAreaBottom" fmla="*/ 611640 h 78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ahoma"/>
                </a:rPr>
                <a:t>Esteem needs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chievement, responsibility, reputation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" name="_s1030"/>
            <p:cNvSpPr/>
            <p:nvPr/>
          </p:nvSpPr>
          <p:spPr>
            <a:xfrm flipV="1">
              <a:off x="3340080" y="3089880"/>
              <a:ext cx="2615760" cy="783720"/>
            </a:xfrm>
            <a:custGeom>
              <a:avLst/>
              <a:gdLst>
                <a:gd name="textAreaLeft" fmla="*/ 453960 w 2615760"/>
                <a:gd name="textAreaRight" fmla="*/ 2161800 w 2615760"/>
                <a:gd name="textAreaTop" fmla="*/ 136080 h 783720"/>
                <a:gd name="textAreaBottom" fmla="*/ 647640 h 78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Belongingness and love needs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amily affection, relationships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" name="_s1031"/>
            <p:cNvSpPr/>
            <p:nvPr/>
          </p:nvSpPr>
          <p:spPr>
            <a:xfrm flipV="1">
              <a:off x="2904480" y="3873600"/>
              <a:ext cx="3486600" cy="783720"/>
            </a:xfrm>
            <a:custGeom>
              <a:avLst/>
              <a:gdLst>
                <a:gd name="textAreaLeft" fmla="*/ 524520 w 3486600"/>
                <a:gd name="textAreaRight" fmla="*/ 2962080 w 3486600"/>
                <a:gd name="textAreaTop" fmla="*/ 117720 h 783720"/>
                <a:gd name="textAreaBottom" fmla="*/ 666000 h 78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ff8c01"/>
            </a:solidFill>
            <a:ln w="28440">
              <a:solidFill>
                <a:srgbClr val="d87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Safety Needs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Protection, security, law and orde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" name="_s1032"/>
            <p:cNvSpPr/>
            <p:nvPr/>
          </p:nvSpPr>
          <p:spPr>
            <a:xfrm flipV="1">
              <a:off x="2469240" y="4657680"/>
              <a:ext cx="4357440" cy="783720"/>
            </a:xfrm>
            <a:custGeom>
              <a:avLst/>
              <a:gdLst>
                <a:gd name="textAreaLeft" fmla="*/ 595080 w 4357440"/>
                <a:gd name="textAreaRight" fmla="*/ 3762360 w 4357440"/>
                <a:gd name="textAreaTop" fmla="*/ 106920 h 783720"/>
                <a:gd name="textAreaBottom" fmla="*/ 676800 h 78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b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Biological and physiological need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Basic life needs- air, food, shelter, slee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Types of Mental and Emotional Disorders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Organic disorder – mental and emotional disorders resulting from a physical cause.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llness- brain tum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ury – blow  to the 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mical imbalance – drugs to destroy brain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ating Disorders – deep emotional problems related to self – image and self-esteem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9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quired psychiatric trea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9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creased among tee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Anxiety disorder – a condition in which fear or anxiety prevents one from enjoying life and completing everyday task.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st comm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obias most well know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women then m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33399"/>
                </a:solidFill>
                <a:latin typeface="Tahoma"/>
              </a:rPr>
              <a:t>Mental Health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The feeling you have about yourself and your abilities to deal with problems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Dissociative disorder – a condition in which someone’s personality changes to the point that the person believes he or she is someone else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mnes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personality disord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ood Disorder – a condition in which one mood is experienced almost to the exclusion of other feeling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9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epress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ersonality Disorder – an emotional condition in which a person’s patterns of behavior negatively affects that person’s ability to get along with others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soc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omatoform Disorder – emotional condition in which there are physical symptoms but no identifiable disease or injury, physical symptoms are caused by psychological factors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ypochond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Tahoma"/>
              </a:rPr>
              <a:t>Seeking Help IF You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Have prolonged feeling of depression or hopelessnes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Feelings that life is out of contro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ability to concentrate or make decisions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ifficulty getting along with other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Intense fear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ersistent difficulty sleeping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Emotional problems coping with a physical illnes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Inability to stop destructive behavior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Tahoma"/>
              </a:rPr>
              <a:t>Types of Treatment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sychoanalysis – examines unresolved conflict from the past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Behavior therapy – focuses on the persons behavior now rather then the underlying problem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Cont.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1752120"/>
            <a:ext cx="7772400" cy="43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Group Therapy- meetings of people with similar problems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hemical Therapy – the use of drugs to treat mental and emotional disorders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(can be dangerous and addictive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6660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62120" y="91404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Self –Esteem – pride in and acceptance of yourself; feeling good about yourself and your abilities.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lvl="3" marL="1392120" indent="-198720">
              <a:spcBef>
                <a:spcPts val="10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Begins at Birth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-7020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Body Image – the view a person has on his or her body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ositive self talk – talking in a positive way to yourself about yourself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elf – disclosure – telling another person meaningful info about yourself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Emotions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Normal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Everyone has them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Express them in a positive way (not negative)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0 Steps to Improve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lf-Este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hink about what you are good at, and build on those abilitie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2. Select supportive and encouraging friend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3. Practice good health habit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-21132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4.  Exercise!!!!!!!!!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.  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Think positive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Write down 3 things that make you happy everyday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Set goals, be realistic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Beware of perfectionist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14688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Make a difference in the world, help other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*Volunteer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Reward yourself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Have fun !!!!!!!!!!!!!!!!!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-34956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Self – Esteem more than any other factors has a direct effect on all 5 aspects of your health 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2640" y="213840"/>
            <a:ext cx="7800840" cy="11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Tahoma"/>
              </a:rPr>
              <a:t>Emotions Examples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781200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Love – strong affection or caring for someone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Happiness – feeling of joy and well being or contentment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Optimism – feeling that life experiences will be positive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Humor – a way of expressing some negative emotions in a more positive way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76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Fear – feeling of danger</a:t>
            </a:r>
            <a:br>
              <a:rPr sz="4000"/>
            </a:b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Managing your fears –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elf talk – saying things to yourself to view the fear more realistically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nvironmental planning – rearranging the environment to reduce your fear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Anger – strong feeling or irritation.</a:t>
            </a: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naging anger –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hannel emotions appropriately, so that they are positiv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Recognize your feelings and the source of the anger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Guilt – feeling that you have done something wrong or are responsible for something bad happening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Jealousy – feeling of wanting something that someone else has or of losing something you hav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Loneliness – feeling of isolation or alienation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Shyness- being timid or bashful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30T19:33:29Z</dcterms:created>
  <dc:creator>workshop</dc:creator>
  <dc:description/>
  <dc:language>en-US</dc:language>
  <cp:lastModifiedBy>RomaK</cp:lastModifiedBy>
  <cp:lastPrinted>2008-06-08T23:00:35Z</cp:lastPrinted>
  <dcterms:modified xsi:type="dcterms:W3CDTF">2015-09-04T10:41:56Z</dcterms:modified>
  <cp:revision>20</cp:revision>
  <dc:subject/>
  <dc:title>Chapter 7</dc:title>
</cp:coreProperties>
</file>