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4C46-BD31-4EDA-B8B9-B886F87907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037B-D8E2-4544-91C4-4018C0DB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60E4-193A-4BF2-A2F8-AFE4663A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F49D-3AC0-4EFB-8747-9EBC7155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0C40-FAFB-440D-A57F-AEEDD34D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87C7-9B90-47C4-9C94-F132D316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542C-3E0F-49E5-8934-D53E9583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D080-485C-4B48-9CF0-ECEB9848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6718-E51E-43CB-8DD4-AE17A119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B459-2D61-47E2-8647-08BA6546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8890-6E6F-440B-9091-A76DAD39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21C4-EBFF-42F9-87B2-54DEE7BF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7690-9124-466B-8938-7681A0C1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81C4-CE2C-48FD-A915-EA21F037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33A8-D322-465F-89D7-FC982C96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565A-A4E9-47FF-8469-EC257634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DECB-2A89-40CC-B9F3-696F2676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A916-4DFD-41BD-B1F3-151180C8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9D841-B9D9-4BFF-B6E1-BC0C22F0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FD1E6-EECB-4F30-90AC-F57F05F3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7835E-9E56-467B-927C-67B7F65E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6179D-4505-4C3C-9CA9-9ECA37D5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ABAC2-767B-4250-9907-117B9EB7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9E35-A054-4844-B369-AD8AF368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F0F84-3D67-41E3-9234-06BEA390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EFB35-F0CF-4636-8B4B-C6586A68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468B5-7D1C-4371-83CD-4617E9A1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AB43B-8C55-4C05-85D9-D7FD9A67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DA110-CC24-4535-9C41-C3F47154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AEE1A-1D03-4378-A7B4-3812CBAA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5345A-3959-4ED9-99AF-A5B79604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0E3C-5F95-4135-9C53-7969FD8E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3EC5-5AE1-4D16-BED2-B96CFAB2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A2D5-6CEF-42B2-8F4D-19EB9CDC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CC25-E59B-429F-9763-BCB01169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F2FE-31B0-4BD3-A214-24D2A191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49A6-6208-4C10-B879-A2FBA2C3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7E46-B352-4E59-9FFA-DEB3D54AA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4744-A205-436C-BAD6-C37862249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291C-09DE-4507-9EEB-EC434B694486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4792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ntal and Emotional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ression – feeling of sadness loneliness and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spai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mily Histo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jor life stresso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hysical illnes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bstance abu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depres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y to identify your source of depress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t things into perspec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ocus on the positive thing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alk to someone you trus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ideal - your mental image of what you would like to b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concept – the current mental image you have of yourself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Defense Mechanism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chniques people use to protect themselves from being hur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ge – 16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slow’s Hierarchy of Needs – focusing on the positive aspects of human behavior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 organized human need by prior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Diagram 0"/>
          <p:cNvGrpSpPr/>
          <p:nvPr/>
        </p:nvGrpSpPr>
        <p:grpSpPr>
          <a:xfrm>
            <a:off x="2469240" y="1523520"/>
            <a:ext cx="4357440" cy="3918240"/>
            <a:chOff x="2469240" y="1523520"/>
            <a:chExt cx="4357440" cy="3918240"/>
          </a:xfrm>
        </p:grpSpPr>
        <p:sp>
          <p:nvSpPr>
            <p:cNvPr id="176" name="_s1028"/>
            <p:cNvSpPr/>
            <p:nvPr/>
          </p:nvSpPr>
          <p:spPr>
            <a:xfrm flipV="1">
              <a:off x="4212720" y="1523520"/>
              <a:ext cx="870480" cy="783360"/>
            </a:xfrm>
            <a:custGeom>
              <a:avLst/>
              <a:gdLst>
                <a:gd name="textAreaLeft" fmla="*/ 312120 w 870480"/>
                <a:gd name="textAreaRight" fmla="*/ 558360 w 870480"/>
                <a:gd name="textAreaTop" fmla="*/ 281160 h 783360"/>
                <a:gd name="textAreaBottom" fmla="*/ 50220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Self Actualization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rsonal growth and fulfillmen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_s1029"/>
            <p:cNvSpPr/>
            <p:nvPr/>
          </p:nvSpPr>
          <p:spPr>
            <a:xfrm flipV="1">
              <a:off x="3777120" y="2306160"/>
              <a:ext cx="1741320" cy="783720"/>
            </a:xfrm>
            <a:custGeom>
              <a:avLst/>
              <a:gdLst>
                <a:gd name="textAreaLeft" fmla="*/ 382680 w 1741320"/>
                <a:gd name="textAreaRight" fmla="*/ 1358640 w 1741320"/>
                <a:gd name="textAreaTop" fmla="*/ 172080 h 783720"/>
                <a:gd name="textAreaBottom" fmla="*/ 611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Esteem need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hievement, responsibility, reputat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_s1030"/>
            <p:cNvSpPr/>
            <p:nvPr/>
          </p:nvSpPr>
          <p:spPr>
            <a:xfrm flipV="1">
              <a:off x="3340080" y="3089880"/>
              <a:ext cx="2615760" cy="783720"/>
            </a:xfrm>
            <a:custGeom>
              <a:avLst/>
              <a:gdLst>
                <a:gd name="textAreaLeft" fmla="*/ 453960 w 2615760"/>
                <a:gd name="textAreaRight" fmla="*/ 2161800 w 261576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elongingness and love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amily affection, relationship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_s1031"/>
            <p:cNvSpPr/>
            <p:nvPr/>
          </p:nvSpPr>
          <p:spPr>
            <a:xfrm flipV="1">
              <a:off x="2904480" y="3873600"/>
              <a:ext cx="3486600" cy="783720"/>
            </a:xfrm>
            <a:custGeom>
              <a:avLst/>
              <a:gdLst>
                <a:gd name="textAreaLeft" fmla="*/ 524520 w 3486600"/>
                <a:gd name="textAreaRight" fmla="*/ 2962080 w 348660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afety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tection, security, law and ord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_s1032"/>
            <p:cNvSpPr/>
            <p:nvPr/>
          </p:nvSpPr>
          <p:spPr>
            <a:xfrm flipV="1">
              <a:off x="2469240" y="4657680"/>
              <a:ext cx="4357440" cy="783720"/>
            </a:xfrm>
            <a:custGeom>
              <a:avLst/>
              <a:gdLst>
                <a:gd name="textAreaLeft" fmla="*/ 595080 w 4357440"/>
                <a:gd name="textAreaRight" fmla="*/ 3762360 w 435744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iological and physiological nee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sic life needs- air, food, shelter, slee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ypes of Mental and Emotional Disorder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rganic disorder – mental and emotional disorders resulting from a physical cause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llness- brain tum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ury – blow  to the 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mical imbalance – drugs to destroy brain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ating Disorders – deep emotional problems related to self – image and self-esteem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quired psychiatric trea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creased among tee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nxiety disorder – a condition in which fear or anxiety prevents one from enjoying life and completing everyday task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obias most well kn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women then 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Tahoma"/>
              </a:rPr>
              <a:t>Mental Healt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feeling you have about yourself and your abilities to deal with problem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ssociative disorder – a condition in which someone’s personality changes to the point that the person believes he or she is someone els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personality dis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od Disorder – a condition in which one mood is experienced almost to the exclusion of other feeling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pres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ochond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Seeking Help IF You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ave prolonged feeling of depression or hopelessn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eelings that life is out of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ability to concentrate or make decisio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fficulty getting along with oth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ense f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istent difficulty sleep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motional problems coping with a physical ill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ability to stop destructive behavio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Types of Treatment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sychoanalysis – examines unresolved conflict from the pas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havior therapy – focuses on the persons behavior now rather then the underlying problem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roup Therapy- meetings of people with similar problem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emical Therapy – the use of drugs to treat mental and emotional disord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can be dangerous and addictive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6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Esteem – pride in and acceptance of yourself; feeling good about yourself and your abilities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-198720">
              <a:spcBef>
                <a:spcPts val="10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gins at Birt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-702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ody Image – the view a person has on his or her bod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sitive self talk – talking in a positive way to yourself about yourself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lf – disclosure – telling another person meaningful info about yourself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Emotions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Norma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veryone has them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xpress them in a positive way (not negative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 Steps to Improv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ste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nk about what you are good at, and build on those abilit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Select supportive and encouraging friend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Practice good health habi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-21132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4.  Exercise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ink positiv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rite down 3 things that make you happy everyda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et goals, be realistic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Beware of perfectionis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1468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ake a difference in the world, help other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*Voluntee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ward yourself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ve fun !!!!!!!!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-3495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 Esteem more than any other factors has a direct effect on all 5 aspects of your health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80084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Emotions Examples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8120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Love – strong affection or caring for someon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ppiness – feeling of joy and well being or contentment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ptimism – feeling that life experiences will be positive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umor – a way of expressing some negative emotions in a more positive way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Fear – feeling of danger</a:t>
            </a:r>
            <a:br>
              <a:rPr sz="40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naging your fears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lf talk – saying things to yourself to view the fear more realisticall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vironmental planning – rearranging the environment to reduce your fear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nger – strong feeling or irritation.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anger –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nnel emotions appropriately, so that they are posi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cognize your feelings and the source of the anger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lt – feeling that you have done something wrong or are responsible for something bad happening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ealousy – feeling of wanting something that someone else has or of losing something you ha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oneliness – feeling of isolation or alien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hyness- being timid or bashfu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9:33:29Z</dcterms:created>
  <dc:creator>workshop</dc:creator>
  <dc:description/>
  <dc:language>en-US</dc:language>
  <cp:lastModifiedBy>RomaK</cp:lastModifiedBy>
  <cp:lastPrinted>2008-06-08T23:00:35Z</cp:lastPrinted>
  <dcterms:modified xsi:type="dcterms:W3CDTF">2015-09-04T10:41:56Z</dcterms:modified>
  <cp:revision>20</cp:revision>
  <dc:subject/>
  <dc:title>Chapter 7</dc:title>
</cp:coreProperties>
</file>