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5DFA-C2BD-4181-B83A-10A63DF15D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924-37B2-452B-AA91-444F1E1A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E68-4E4E-40D7-9C2E-E6D37FEE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D7B-F55A-427F-8B40-5F6390B7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D85-48A7-4CFD-82B4-25ED8C91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05C7-D1F4-4CED-A2E0-E3DFED7D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64FF-567D-4CAE-9314-10FCA02C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189B-127E-48AE-B427-EC50E1A0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5966-86B3-4B01-87C4-5A39330B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4D96-9480-48CF-A3A5-F20CE145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CC5E-78BA-44FD-A432-30568835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BF94-5809-4E4A-9645-5EC626B6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455-294A-48B9-9A85-60CAFDBA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BC1B-D073-48FD-9409-A066B54D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6B76-75FC-429F-87CD-D05386CD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0A61-547D-4DF0-8563-2551775B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AB75-859C-4F46-B297-FFAAB998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02C6-5DD1-4EDF-92DB-C9C6AC89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5A5E0-8D8D-4B2C-A42C-74576D7F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0996F-DD36-4DBA-9FF3-9EEC46BE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38F47-AC9F-4F28-9B61-B92CA057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C5F69-8351-4289-8AA1-41F1EB20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A0862-8A36-49E3-865A-A08E0116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DDD-31A2-4035-BB90-D4EA4E7F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53E4E-6C59-42E2-9DB0-B4FEC669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6ECF9-0F89-4B5A-AE2A-D7099090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4B7DE-9060-4A98-B23B-5CC9D946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B9630-1811-40FE-AB2A-9D4168E8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91139-85BB-4980-AFC9-1B91AC82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10DE1-B8EC-4319-BFFD-81617580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13EBC-104D-4DBA-B605-D7C466D5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0983-7D05-44D3-B9D0-1623E137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2FA-10AC-4082-814A-4240B9AB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702-8590-40D5-B3AF-3F39CC83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D07-8F38-4845-B4A3-B49D8E3F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450-B132-40EF-A78D-A3631103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4C28-480C-4730-8271-F92AF8B8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E6DE-4FF3-4F13-B705-BCC814582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FB99-3D9B-4874-9008-88BAEBBD8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2645-4D37-4D60-964D-E2C4E737837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76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RomaK</cp:lastModifiedBy>
  <cp:lastPrinted>2008-06-08T23:00:35Z</cp:lastPrinted>
  <dcterms:modified xsi:type="dcterms:W3CDTF">2015-09-04T10:41:56Z</dcterms:modified>
  <cp:revision>20</cp:revision>
  <dc:subject/>
  <dc:title>Chapter 7</dc:title>
</cp:coreProperties>
</file>