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B7D3-D4BC-44AA-A5E3-644F7B338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19DE-C43A-4309-BF8A-B9F20723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9D0-6271-4CD4-A987-74E38E0E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783-538E-41E4-B0C7-46B9E146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1BC-BA31-45D7-9F00-D7FFF8DE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EA99-D23B-4D9D-8733-7925355C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A2D0-3A0A-41F4-AB79-3B5A5DCF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FADA-EF7D-482B-AFBE-5D8489A1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02D9-7CF4-45B2-9616-3534BD4C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1C65-3C75-4883-8B90-E9D6348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1BD1-86BC-4777-91AF-69EE2219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238E-440A-4E50-8A11-1B052CA3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776-F432-4DDC-8CAA-8DD1A0AD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2D6B-CD82-4BE5-8C49-1B62A83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747F-06FC-4BB9-AEB9-A6002DA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84FE-8C58-4CC4-ABA4-2F940AD8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D2DF-6254-42E9-AAD6-A5CD0B79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CBA5-9F63-49CF-BD85-D6343044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B8E-46B9-42DB-80A0-FB76AD6D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9ABD-7386-4A49-838B-C9B5837C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9D5-B049-43D0-BA88-2DF8ECF0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416-4FDF-4623-A0D4-EE19FFAE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111-67A8-4E15-9094-0583112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92C1-2C17-436E-BC9E-3D5BEFE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784-5E9B-46BC-AFF2-6DDC9A37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2EFC-4B28-47FC-9356-4DD0C22F72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D89D-E16C-4437-B318-E0506A64E99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you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Breath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breathing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39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608480" y="60292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breat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he lung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rgans that allow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xygen in /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ou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rach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has rings of cartil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 (bronch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veoli (alveol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0" descr="Lungs1"/>
          <p:cNvPicPr/>
          <p:nvPr/>
        </p:nvPicPr>
        <p:blipFill>
          <a:blip r:embed="rId1"/>
          <a:stretch/>
        </p:blipFill>
        <p:spPr>
          <a:xfrm>
            <a:off x="457200" y="1828800"/>
            <a:ext cx="390384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514600" y="2666880"/>
            <a:ext cx="20574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2514240" y="4114800"/>
            <a:ext cx="21337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2895120" y="4572000"/>
            <a:ext cx="17528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809520" y="495288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780440" y="548640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ani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lveoli (air sac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alveoli"/>
          <p:cNvPicPr/>
          <p:nvPr/>
        </p:nvPicPr>
        <p:blipFill>
          <a:blip r:embed="rId1"/>
          <a:srcRect l="0" t="11594" r="0" b="1159"/>
          <a:stretch/>
        </p:blipFill>
        <p:spPr>
          <a:xfrm>
            <a:off x="533520" y="1295280"/>
            <a:ext cx="39528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arge surface are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or 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ne lung equivalent to a tennis court of surface area using alve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94320" y="54198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8647200" cy="5218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50133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7672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1964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524720" y="544500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1116000" y="4365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 flipV="1">
            <a:off x="7740360" y="5157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50920" y="2565360"/>
            <a:ext cx="154764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1116000" y="270792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1258560" y="3499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78360" y="62164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gas ex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Alveoli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absorb oxyg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ist surface to allow oxygen to dissol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 lining to allow easy diffusion of g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of blood capillaries for easy gas ex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7200" y="6216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adaptation of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capillaries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to carry 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transpor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ning is one cell thick so gases can pass through quickly and easi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ungs structure and funcion</dc:description>
  <cp:keywords>lungs structure and funcion</cp:keywords>
  <dc:language>en-US</dc:language>
  <cp:lastModifiedBy>RomaK</cp:lastModifiedBy>
  <dcterms:modified xsi:type="dcterms:W3CDTF">2015-09-04T11:07:00Z</dcterms:modified>
  <cp:revision>6</cp:revision>
  <dc:subject>lungs structure and funcion</dc:subject>
  <dc:title>lungs structure and fun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