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86C13-EA32-448F-8901-FED0CDC9B74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the end of the lesson you should be able to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el the internal structures of the lung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the features of the alveoli which allow efficient gas exchan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the role of diffusion in gas exchan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the features of the capillary network that allow efficient gas exchan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the end of the lesson you should be able t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el the internal structures of the 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the features of the alveoli which allow efficient gas ex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the role of diffusion in gas ex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the features of the capillary network that allow efficient gas ex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reath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otprints breath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rea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otprints brea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lung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rgans that allow gas exchan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ygen in / CO2 out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ache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has rings of cartil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ronchi (bronchu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ronchiol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veoli (alveolu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puter anim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rgans that allow gas ex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ygen in / CO2 ou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ach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has rings of cartil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ronchi (bronchu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ronchio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veoli (alveolu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puter ani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veoli (air sac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 large surface area for gas exchan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lung equivalent to a tennis court of surface area using alveol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otprints alveol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veoli (air sac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 large surface area for gas ex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lung equivalent to a tennis court of surface area using alveo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otprints alveo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sac in lung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oxygenated bloo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ated bloo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cell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i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ou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ool gas exchan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sac in 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oxygenated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ated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ool gas ex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eatures of Alveoli for efficient gas exchan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arge surface area to absorb oxyge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ist surface to allow oxygen to dissolv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n lining to allow easy diffusion of gas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nse network of blood capillaries for easy gas exchang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kool adaptation of alveol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eatures of Alveoli for efficient gas ex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arge surface area to absorb oxy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ist surface to allow oxygen to dissol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n lining to allow easy diffusion of g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nse network of blood capillaries for easy gas exchan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kool adaptation of alveo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atures of capillaries for efficient gas exchan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se network to carry CO2 and O2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 surface area to transport gas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ing is one cell thick so gases can pass through quickly and easil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atures of capillaries for efficient gas ex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se network to carry CO2 and 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 surface area to transport g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ing is one cell thick so gases can pass through quickly and easi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you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el the internal structures of the lung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the features of the alveoli which allow efficient gas exchan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the role of diffusion in gas exchan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the features of the capillary network that allow efficient gas exchan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you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el the internal structures of the 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the features of the alveoli which allow efficient gas ex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the role of diffusion in gas ex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the features of the capillary network that allow efficient gas ex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7847-46F4-4580-B78B-9978E1697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E89B-1EE1-42FB-8E96-AE25D9DB3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A46B-B79E-4173-957A-0C65F5097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2D1A-F2AD-43DB-838D-C6E9B2864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093D2-289F-4637-B130-CF6FAE6C8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8B04E-CEB4-4BCC-BF1E-06F9D2FE4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6CDE8-2412-4F80-8C4A-A6951E066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E57B9-4787-4E95-BEAB-CA871F01A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07BF3-71F1-4FCA-8750-F10E30C59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19480-4AAD-4EAB-9AC4-EC30C4909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01F3C-7289-45A2-A9DB-608E18CCB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49C1-A935-46D8-BD70-FA7545F6F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E0885-9EF3-4056-97A4-1B711D567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C6D16-3033-4C2D-AE17-EDC4FC867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3CA4D-49F3-444F-B681-6FC48D97D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50BFD-E553-4F5A-B935-BF7B097EB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8F5FF-637C-442C-BF5C-84BD438D5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01F1-FD47-4A13-919F-A222753C5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8D80-DECC-4159-AC83-F35B750F0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E3A7-9203-4AD5-AF2B-64ECD9BB0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139F-5729-4840-8AF8-D76597A64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0B90-F3B6-4705-8958-AC5660385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F261-68E1-44A2-9B89-67D34C5F0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BB6E-2285-4F3A-9D7E-83BCEE19E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4BC59-1D41-4F0A-AEA3-AC9E5FA60A3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75E62-A722-41DA-87EE-9052E8E102C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Lung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By the end of the lesson you should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Label the internal structures of the lung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tate the features of the alveoli which allow efficient gas exchan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xplain the role of diffusion in gas exchan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tate the features of the capillary network that allow efficient gas exchan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750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Comic Sans MS"/>
              </a:rPr>
              <a:t>Breath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" name="Picture 4" descr="breathing"/>
          <p:cNvPicPr/>
          <p:nvPr/>
        </p:nvPicPr>
        <p:blipFill>
          <a:blip r:embed="rId1"/>
          <a:stretch/>
        </p:blipFill>
        <p:spPr>
          <a:xfrm>
            <a:off x="684360" y="1268280"/>
            <a:ext cx="7848360" cy="439920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6"/>
          <p:cNvSpPr/>
          <p:nvPr/>
        </p:nvSpPr>
        <p:spPr>
          <a:xfrm>
            <a:off x="1608480" y="6029280"/>
            <a:ext cx="236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footprints breath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750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Comic Sans MS"/>
              </a:rPr>
              <a:t>The lung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organs that allow </a:t>
            </a:r>
            <a:r>
              <a:rPr b="1" lang="en-GB" sz="2600" spc="-1" strike="noStrike" u="sng">
                <a:solidFill>
                  <a:srgbClr val="000000"/>
                </a:solidFill>
                <a:uFillTx/>
                <a:latin typeface="Comic Sans MS"/>
              </a:rPr>
              <a:t>gas exchan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oxygen in / CO</a:t>
            </a:r>
            <a:r>
              <a:rPr b="0" lang="en-GB" sz="26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 out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trache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- has rings of cartilag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bronchi (bronchu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bronchiol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alveoli (alveolu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" name="Picture 10" descr="Lungs1"/>
          <p:cNvPicPr/>
          <p:nvPr/>
        </p:nvPicPr>
        <p:blipFill>
          <a:blip r:embed="rId1"/>
          <a:stretch/>
        </p:blipFill>
        <p:spPr>
          <a:xfrm>
            <a:off x="457200" y="1828800"/>
            <a:ext cx="3903840" cy="5029200"/>
          </a:xfrm>
          <a:prstGeom prst="rect">
            <a:avLst/>
          </a:prstGeom>
          <a:ln w="0">
            <a:noFill/>
          </a:ln>
        </p:spPr>
      </p:pic>
      <p:sp>
        <p:nvSpPr>
          <p:cNvPr id="101" name="Line 13"/>
          <p:cNvSpPr/>
          <p:nvPr/>
        </p:nvSpPr>
        <p:spPr>
          <a:xfrm>
            <a:off x="2514600" y="2666880"/>
            <a:ext cx="2057400" cy="6098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Line 14"/>
          <p:cNvSpPr/>
          <p:nvPr/>
        </p:nvSpPr>
        <p:spPr>
          <a:xfrm flipH="1">
            <a:off x="2514240" y="4114800"/>
            <a:ext cx="2133720" cy="152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Line 15"/>
          <p:cNvSpPr/>
          <p:nvPr/>
        </p:nvSpPr>
        <p:spPr>
          <a:xfrm flipH="1">
            <a:off x="2895120" y="4572000"/>
            <a:ext cx="1752840" cy="152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Line 16"/>
          <p:cNvSpPr/>
          <p:nvPr/>
        </p:nvSpPr>
        <p:spPr>
          <a:xfrm flipH="1">
            <a:off x="3809520" y="4952880"/>
            <a:ext cx="838440" cy="3812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Rectangle 17"/>
          <p:cNvSpPr/>
          <p:nvPr/>
        </p:nvSpPr>
        <p:spPr>
          <a:xfrm>
            <a:off x="4780440" y="5486400"/>
            <a:ext cx="238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computer anim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750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Comic Sans MS"/>
              </a:rPr>
              <a:t>Alveoli (air sacs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" name="Picture 3" descr="alveoli"/>
          <p:cNvPicPr/>
          <p:nvPr/>
        </p:nvPicPr>
        <p:blipFill>
          <a:blip r:embed="rId1"/>
          <a:srcRect l="0" t="11594" r="0" b="1159"/>
          <a:stretch/>
        </p:blipFill>
        <p:spPr>
          <a:xfrm>
            <a:off x="533520" y="1295280"/>
            <a:ext cx="3952800" cy="453708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47960" y="1600200"/>
            <a:ext cx="4244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provide </a:t>
            </a:r>
            <a:r>
              <a:rPr b="1" lang="en-GB" sz="2600" spc="-1" strike="noStrike" u="sng">
                <a:solidFill>
                  <a:srgbClr val="000000"/>
                </a:solidFill>
                <a:uFillTx/>
                <a:latin typeface="Comic Sans MS"/>
              </a:rPr>
              <a:t>large surface area</a:t>
            </a: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 for gas exchan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one lung equivalent to a tennis court of surface area using alveol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5494320" y="5419800"/>
            <a:ext cx="199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footprints alveol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1" name="Picture 3" descr=""/>
          <p:cNvPicPr/>
          <p:nvPr/>
        </p:nvPicPr>
        <p:blipFill>
          <a:blip r:embed="rId1"/>
          <a:stretch/>
        </p:blipFill>
        <p:spPr>
          <a:xfrm>
            <a:off x="0" y="476280"/>
            <a:ext cx="8647200" cy="521820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4"/>
          <p:cNvSpPr/>
          <p:nvPr/>
        </p:nvSpPr>
        <p:spPr>
          <a:xfrm>
            <a:off x="468360" y="5013360"/>
            <a:ext cx="143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ir sac in lung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3276720" y="551664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oxygenated bloo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3419640" y="33336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xygenated bloo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7524720" y="5445000"/>
            <a:ext cx="93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ody cel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Line 8"/>
          <p:cNvSpPr/>
          <p:nvPr/>
        </p:nvSpPr>
        <p:spPr>
          <a:xfrm flipV="1">
            <a:off x="1116000" y="4365720"/>
            <a:ext cx="50328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Line 9"/>
          <p:cNvSpPr/>
          <p:nvPr/>
        </p:nvSpPr>
        <p:spPr>
          <a:xfrm flipH="1" flipV="1">
            <a:off x="7740360" y="5157720"/>
            <a:ext cx="14436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Text Box 10"/>
          <p:cNvSpPr/>
          <p:nvPr/>
        </p:nvSpPr>
        <p:spPr>
          <a:xfrm>
            <a:off x="250920" y="2565360"/>
            <a:ext cx="1547640" cy="12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ir i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ir ou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Line 11"/>
          <p:cNvSpPr/>
          <p:nvPr/>
        </p:nvSpPr>
        <p:spPr>
          <a:xfrm flipV="1">
            <a:off x="1116000" y="2707920"/>
            <a:ext cx="79200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Line 12"/>
          <p:cNvSpPr/>
          <p:nvPr/>
        </p:nvSpPr>
        <p:spPr>
          <a:xfrm flipH="1" flipV="1">
            <a:off x="1258560" y="3499920"/>
            <a:ext cx="86508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Rectangle 13"/>
          <p:cNvSpPr/>
          <p:nvPr/>
        </p:nvSpPr>
        <p:spPr>
          <a:xfrm>
            <a:off x="378360" y="6216480"/>
            <a:ext cx="228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skool gas exchang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750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Comic Sans MS"/>
              </a:rPr>
              <a:t>Features of Alveoli for efficient gas exchang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2160" y="1916280"/>
            <a:ext cx="8310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large surface area to absorb oxygen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oist surface to allow oxygen to dissolv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in lining to allow easy diffusion of gase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ense network of blood capillaries for easy gas exchang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97200" y="6216480"/>
            <a:ext cx="300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skool adaptation of alveol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750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Comic Sans MS"/>
              </a:rPr>
              <a:t>Features of capillaries for efficient gas exchang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2160" y="1916280"/>
            <a:ext cx="8310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ense network to carry CO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and O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Large surface area to transport gas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Lining is one cell thick so gases can pass through quickly and easily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Lung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an you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Label the internal structures of the lung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tate the features of the alveoli which allow efficient gas exchan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xplain the role of diffusion in gas exchan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tate the features of the capillary network that allow efficient gas exchan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>lungs structure and funcion</dc:description>
  <cp:keywords>lungs structure and funcion</cp:keywords>
  <dc:language>en-US</dc:language>
  <cp:lastModifiedBy>RomaK</cp:lastModifiedBy>
  <dcterms:modified xsi:type="dcterms:W3CDTF">2015-09-04T11:07:00Z</dcterms:modified>
  <cp:revision>6</cp:revision>
  <dc:subject>lungs structure and funcion</dc:subject>
  <dc:title>lungs structure and func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