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3461-612B-4D12-ACAF-365A860C774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Kingdom Protista</a:t>
            </a:r>
            <a:br>
              <a:rPr sz="1200"/>
            </a:b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The Catchall Kingdom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dom Protist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tchall King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Phae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Brown 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arin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eaweed and kelp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ooler areas of ocean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Fucoxanthin pigment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tore food as laminarin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ALL multicellular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temlike stip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Leaflike region called blad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Phae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w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aweed and kel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ler areas of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coxanthin pi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 food as laminar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multicell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mlike st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flike region called bl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Rhod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Red algae but colors vary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arine seawee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maller than brown algae and live in deeper water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cobilins – pigment for absorbing light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ome coated with polysaccharide carageenan – cosmetics, gel capsules, cheese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Agar – extracted from cell walls of red 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Rhod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algae but colors 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ine seaw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aller than brown algae and live in deeper wa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cobilins – pigment for absorbing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coated with polysaccharide carageenan – cosmetics, gel capsules, che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ar – extracted from cell walls of red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Phylum Bacillari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Diatom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Shells fit together like a box with a lid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Centric and pennat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Main component of phytoplankton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Diatomaceous earth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um Bacillari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s fit together like a box with a 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c and pen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component of phytoplank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aceous ea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Dinoflagella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Dinoflagellate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mall, unicellular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ost photosynthetic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ome bioluminescent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Red tide a problem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Dinoflagell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noflagel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all, unicell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photosynth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biolumines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tide a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Chrys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Golden 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ost fresh water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Form cyst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2 flagell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arotenoids give color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Important for formation of petroleum deposit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Chrys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lde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fresh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 cy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flag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otenoids give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portant for formation of petroleum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Phylum Euglen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Euglenoi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Plant-like and animal-like characteristic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Many have cholorphyll and are photosynthetic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No cell wall, motil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Most live in fresh water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See picture on page 533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um Euglen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glen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-like and animal-like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have cholorphyll and are photosynth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ell wall, mo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live in fresh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picture on page 5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Fungus-like protist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lime molds: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acrasiomyco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ellular slime mol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Amoeboid movement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Myxomyco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lasmodial slime mol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ass of plasmodium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Water mol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Oomyco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Blight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Chytridiomyco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hytri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Zoospores with one flagellum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aybe fungi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ngus-like prot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lime mol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acrasiomyco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ular slime m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oeboid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Myxomyco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smodial slime m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ss of plasm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 m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Oomyco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Chytridiomyco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ytr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oospores with one flagel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ybe fung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lime mol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lime m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Water mol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 m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Characteristics of 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Autotrophic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Not plants – why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Often contain pyrenoi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tro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plants –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contain pyren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hytri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ytr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The END….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ND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tructure of 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Thallus or body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Unicellular or multicellular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olonial:  Volvoz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Filamentous:  Spirogyr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ulticellular:  Ulv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Asexual and sexual reproduction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e of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llus or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cellular or multicell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nial:  Volvo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amentous:  Spirogy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lticellular:  Ul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exual and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Chlor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Phae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Rhod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Bacillari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Dinoflagella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Chrys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a Eugleno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Chlor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Phae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Rhod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Bacillari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Dinoflagell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Chrys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a Eugleno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Chlor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Look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familiar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Chlor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o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mili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Continued…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Green 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Many different form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Gave rise to land plants – why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Choroplasts that contain a and b cholorphyll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Have carotenoi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Cell walls of cellulos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different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rise to land plants –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oplasts that contain a and b cholorphy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caroten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s of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Ulv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l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olonial Chlor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nial Chlor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0336-05B2-40BF-9C7F-A78BD7C47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9744-3DA7-4927-9E32-B051B6A2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98B1-F8A1-478C-A2D4-103F58AF2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381A-8AED-4241-A159-A10C0E8AF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C3AC-EB54-4274-87BF-3294B28A7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F10F-619C-4C1E-90F8-0A1870C5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97CE2-DA5A-420B-B30E-A83A6672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1561-0A91-492F-9752-43457368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C8D2-81F9-4639-A49E-FA4090EB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AD5E-5834-46B5-B33D-DB303807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93C7-CA9F-4377-99B0-B94BE926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A1B9-EF0C-408A-AF46-3E841416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9D8CE-AC30-43A5-AA18-C821A755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C901-DEE3-459F-906A-ADB66349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F7E5-E4B2-4EE8-9229-8EF21563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304BD-5DF0-4880-A9C8-F6B45E613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F710-6A89-4FC7-8B2F-379190E0A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049AB-FDA9-482A-8ED9-82160E298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52DC8-1D51-47D3-8700-3B437AF5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8C00D-6209-40F7-BBD8-0DC7CA6E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490C8-F445-45F3-AF64-854E78A1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254F5-2C10-4DCA-A354-5326C52B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18EC-5883-457E-9A9C-CCBDE354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C9B97-C51C-445F-A2CB-7C79F034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2A320-F17E-46CA-8F56-96BE4BEE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1CD41-7BE1-42AB-8B93-74BFB5DC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8A963-AC3A-45D2-BD76-86A57289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2E7FE-5A47-424C-B08B-D669E8E5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FA555-9694-4B58-A429-A2954C5BD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C4FFF-6636-40EB-A06B-708EA1C2B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013FB-9DFA-4736-9023-DE7BB1ACA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9520D-12B1-4353-AAE8-B3A9C0D3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BBFEA-92A3-4023-A5F2-66FA0C78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E616-623D-44BB-BB5E-04A7E688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DB36E-07E5-4D27-ABC8-42F5FFBD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888A1-DCF4-4BB3-B1B7-B642A018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DB1D2-EC72-441C-83B0-A78DF0AD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12D7B-863C-4E7A-8D62-B4E94725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3A7CA-FF7F-4BE3-B4F4-F1775356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AAB50-CA44-49F1-BB46-AE812DA1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FD773-8C46-499D-936D-30A1ED54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6720F-DD1F-49AD-9E3E-D6C2F8EE3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0C88B-BEBF-4443-930D-FA28E43C8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256D-AAAD-4BE7-A54B-EE87FCF6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7CE5-6FB0-4083-BF76-E9AC55C9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E08F-AF84-4F20-8418-0EFBDF4E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A414-0836-4473-8BC4-7B4DC4E5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58E1-CEBA-4E14-98CB-C40214E5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6CA6-7089-4A83-BAB6-95E22CC30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0248-E166-403F-8403-395CB87D4E0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3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4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5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6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7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8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9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0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1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2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3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5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6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7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9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0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1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3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4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5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6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7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8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9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80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81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82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C855-89F3-4F80-A3B9-AA9A53D28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6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6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9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9FB1-CD43-4B17-8ED2-1FCF778C4C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ingdom Protista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Catchall Kingdo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Phae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own alga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aweed and kel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oler areas of oce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coxanthin pig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ore food as laminar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multicell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mlike sti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flike region called bl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5" descr="laminaria"/>
          <p:cNvPicPr/>
          <p:nvPr/>
        </p:nvPicPr>
        <p:blipFill>
          <a:blip r:embed="rId1"/>
          <a:stretch/>
        </p:blipFill>
        <p:spPr>
          <a:xfrm>
            <a:off x="1143000" y="228600"/>
            <a:ext cx="6781680" cy="64008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Rhod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 algae but colors v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ine seawee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maller than brown algae and live in deeper wa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cobilins – pigment for absorbing lig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oated with polysaccharide carageenan – cosmetics, gel capsules, chee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gar – extracted from cell walls of red alga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Rhodophyta"/>
          <p:cNvPicPr/>
          <p:nvPr/>
        </p:nvPicPr>
        <p:blipFill>
          <a:blip r:embed="rId1"/>
          <a:stretch/>
        </p:blipFill>
        <p:spPr>
          <a:xfrm>
            <a:off x="1143000" y="838080"/>
            <a:ext cx="6400800" cy="52578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5" descr="rhodophyta7"/>
          <p:cNvPicPr/>
          <p:nvPr/>
        </p:nvPicPr>
        <p:blipFill>
          <a:blip r:embed="rId1"/>
          <a:stretch/>
        </p:blipFill>
        <p:spPr>
          <a:xfrm>
            <a:off x="2057400" y="609480"/>
            <a:ext cx="4952880" cy="59436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Bacillari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at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ells fit together like a box with a l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ntric and penn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in component of phytoplankt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atomaceous eart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5" descr="Diatoms2"/>
          <p:cNvPicPr/>
          <p:nvPr/>
        </p:nvPicPr>
        <p:blipFill>
          <a:blip r:embed="rId1"/>
          <a:stretch/>
        </p:blipFill>
        <p:spPr>
          <a:xfrm>
            <a:off x="304920" y="7621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Dinoflagella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noflagell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mall, unicellu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photosynthe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bioluminesc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 tide a prob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5" descr="noctiluca"/>
          <p:cNvPicPr/>
          <p:nvPr/>
        </p:nvPicPr>
        <p:blipFill>
          <a:blip r:embed="rId1"/>
          <a:stretch/>
        </p:blipFill>
        <p:spPr>
          <a:xfrm>
            <a:off x="990720" y="609480"/>
            <a:ext cx="6933960" cy="49532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" descr="noctiluca"/>
          <p:cNvPicPr/>
          <p:nvPr/>
        </p:nvPicPr>
        <p:blipFill>
          <a:blip r:embed="rId1"/>
          <a:stretch/>
        </p:blipFill>
        <p:spPr>
          <a:xfrm>
            <a:off x="457200" y="60948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Alga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Chrys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lden alga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fresh 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 cy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flagel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rotenoids give col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ortant for formation of petroleum depos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5" descr="BRIE014P"/>
          <p:cNvPicPr/>
          <p:nvPr/>
        </p:nvPicPr>
        <p:blipFill>
          <a:blip r:embed="rId1"/>
          <a:stretch/>
        </p:blipFill>
        <p:spPr>
          <a:xfrm>
            <a:off x="685800" y="914400"/>
            <a:ext cx="7162920" cy="51055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5" descr="navic1"/>
          <p:cNvPicPr/>
          <p:nvPr/>
        </p:nvPicPr>
        <p:blipFill>
          <a:blip r:embed="rId1"/>
          <a:stretch/>
        </p:blipFill>
        <p:spPr>
          <a:xfrm>
            <a:off x="609480" y="457200"/>
            <a:ext cx="7162920" cy="57913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7" descr="Mallomonadales"/>
          <p:cNvPicPr/>
          <p:nvPr/>
        </p:nvPicPr>
        <p:blipFill>
          <a:blip r:embed="rId1"/>
          <a:stretch/>
        </p:blipFill>
        <p:spPr>
          <a:xfrm>
            <a:off x="1219320" y="609480"/>
            <a:ext cx="6629400" cy="53341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Euglen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ugleno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nt-like and animal-like characteris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have cholorphyll and are photosynthe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ell wall, mot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live in fresh 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e picture on page 53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5" descr="Euglena_2"/>
          <p:cNvPicPr/>
          <p:nvPr/>
        </p:nvPicPr>
        <p:blipFill>
          <a:blip r:embed="rId1"/>
          <a:stretch/>
        </p:blipFill>
        <p:spPr>
          <a:xfrm>
            <a:off x="609480" y="609480"/>
            <a:ext cx="7162920" cy="5562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5" descr="euglena"/>
          <p:cNvPicPr/>
          <p:nvPr/>
        </p:nvPicPr>
        <p:blipFill>
          <a:blip r:embed="rId1"/>
          <a:stretch/>
        </p:blipFill>
        <p:spPr>
          <a:xfrm>
            <a:off x="304920" y="457200"/>
            <a:ext cx="7315200" cy="57913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gus-like protis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lime mold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lum acrasiomyco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llular slime mol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moeboid mov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lum Myxomyco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smodial slime mol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ss of plasmodi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ter mol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lum Oomyco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lum Chytridiomyco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ytri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oospores with one flagell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ybe fung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0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lime mold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5" descr="raspberry%20slime"/>
          <p:cNvPicPr/>
          <p:nvPr/>
        </p:nvPicPr>
        <p:blipFill>
          <a:blip r:embed="rId1"/>
          <a:stretch/>
        </p:blipFill>
        <p:spPr>
          <a:xfrm>
            <a:off x="1143000" y="1438200"/>
            <a:ext cx="7229520" cy="54198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ter mold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5" descr="Lofng65"/>
          <p:cNvPicPr/>
          <p:nvPr/>
        </p:nvPicPr>
        <p:blipFill>
          <a:blip r:embed="rId1"/>
          <a:stretch/>
        </p:blipFill>
        <p:spPr>
          <a:xfrm>
            <a:off x="914400" y="1905120"/>
            <a:ext cx="7010280" cy="41907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0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aracteristics of Alga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utotroph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t plants – why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ften contain pyrenoi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ytrid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5" descr="08025$"/>
          <p:cNvPicPr/>
          <p:nvPr/>
        </p:nvPicPr>
        <p:blipFill>
          <a:blip r:embed="rId1"/>
          <a:stretch/>
        </p:blipFill>
        <p:spPr>
          <a:xfrm>
            <a:off x="609480" y="1600200"/>
            <a:ext cx="6934320" cy="41911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0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END…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ructure of Alga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llus or b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cellular or multicellu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lonial:  Volvo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lamentous:  Spirogy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cellular:  Ul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exual and sexual repro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um Chlorophy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um Phaeophy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um Rhodophy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um Bacillariophy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um Dinoflagell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um Chrysophy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a Euglenohy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Chlor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o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milia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ChlamydomonasEMLab"/>
          <p:cNvPicPr/>
          <p:nvPr/>
        </p:nvPicPr>
        <p:blipFill>
          <a:blip r:embed="rId1"/>
          <a:stretch/>
        </p:blipFill>
        <p:spPr>
          <a:xfrm>
            <a:off x="2743200" y="1447920"/>
            <a:ext cx="5334120" cy="54100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1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inued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een alga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different for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ave rise to land plants – wh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roplasts that contain a and b cholorphy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 caroteno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ll walls of cellulo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5" descr="Ulva_lactuca_01_06_18_A_600x550"/>
          <p:cNvPicPr/>
          <p:nvPr/>
        </p:nvPicPr>
        <p:blipFill>
          <a:blip r:embed="rId1"/>
          <a:stretch/>
        </p:blipFill>
        <p:spPr>
          <a:xfrm>
            <a:off x="1714680" y="809640"/>
            <a:ext cx="5715000" cy="523872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lv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8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lonial Chlor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5" descr="BRIE028P"/>
          <p:cNvPicPr/>
          <p:nvPr/>
        </p:nvPicPr>
        <p:blipFill>
          <a:blip r:embed="rId1"/>
          <a:stretch/>
        </p:blipFill>
        <p:spPr>
          <a:xfrm>
            <a:off x="1447920" y="18288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8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7T11:20:49Z</dcterms:created>
  <dc:creator>teacher</dc:creator>
  <dc:description>Kingdom Protista </dc:description>
  <cp:keywords>Kingdom Protista </cp:keywords>
  <dc:language>en-US</dc:language>
  <cp:lastModifiedBy>RomaK</cp:lastModifiedBy>
  <dcterms:modified xsi:type="dcterms:W3CDTF">2015-09-04T10:52:38Z</dcterms:modified>
  <cp:revision>9</cp:revision>
  <dc:subject/>
  <dc:title>Kingdom Protista </dc:title>
</cp:coreProperties>
</file>