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656C-9EAE-475A-9C51-C59BF7DBE2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4BD-98B1-488D-A711-D54B0D1B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FCB-6756-4932-8C55-E763171C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2EC-DE15-49C1-ADAD-D3FC43A1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9AA-90E2-41AE-A2B7-D39356E6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190D-5762-4F57-BAA7-86C5B86E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23F6-428E-478B-9D65-62489398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A804-79EA-4400-AA26-549C9D00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EB34-EA47-46E6-BA2E-D3B0ACC8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DFC0-65D6-4E02-A6AA-A7FEC626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F5D5-E969-45E4-BA7B-3330B81E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D2EC-06C0-491D-8910-9B4DCC6E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265-7FE2-45FE-AA06-4E3833D5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6EAF-CE43-4479-9F43-D96EBA50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7F41-6DF9-4FB2-8152-187B6BCA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9483-9FA9-42CC-B08A-C279258C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E310-69FA-4D24-8574-3ACDDAB2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CB0A-B29B-465C-B88B-C87853A9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0BE6F-89DB-4F8A-9E7A-53706936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A90ED-DCDE-4E35-B103-9DFC5C9D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43221-89A5-4DD6-8DAB-BD62F6A8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CB3C5-529D-4494-B4FD-D0952ED0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D8855-31DC-47A0-8864-2BBADCA2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FA66-4F97-4B10-8158-D7D210DE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CC9E4-4922-43F0-A80F-79C452EF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B307E-8A57-4BA3-B909-AA85EAC1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18521-D5DA-4E87-8935-AA06908F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0D10C-661B-4A0B-9C30-51754B4C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2D020-8652-4733-8CC3-E509FAE9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9D312-50A7-4564-8564-9FE6112D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4817A-F8A0-4C11-B313-F2A784F2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584A5-3A45-4607-B39A-C9CC258F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66824-9E39-4001-8866-6B30357B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21224-5596-4563-9456-582BCC14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ED9-D672-4F6D-A40F-CC8CB9A7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3F8D4-05E3-424D-BD95-1490706C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0350D-E2D0-4A7D-904F-2B895498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1C8A5-2DCE-4B53-8E16-72905B6C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E74B5-83F7-488B-8611-73661692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08BA6-1D36-49D5-BAF6-0CE086F8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C0E9A-0F06-4C21-AEAF-09D1E4E4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25C17-D5AE-459A-8764-D3656EEE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074CD-59B7-4DEB-99EF-967DD75C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285C0-C4D3-4860-B1DA-3CD7CAC9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2D6-B116-4DF3-B933-5329ECC0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7BA-C1A3-401D-8067-2CD83D30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D5F-C33C-43D7-A43A-04B5B03F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E3B-D67F-4DFB-A9DE-308161F3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347-3CBF-476D-AE61-19E87CF7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836D-3A00-4C78-B4EA-109BA5D32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E252-EFEF-458D-A8A9-E8134F952A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9488-61D9-463C-A740-B30D386C9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9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E40F-D831-4190-9840-99207A9961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Phae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laminaria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Rhod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Rhodophyta"/>
          <p:cNvPicPr/>
          <p:nvPr/>
        </p:nvPicPr>
        <p:blipFill>
          <a:blip r:embed="rId1"/>
          <a:stretch/>
        </p:blipFill>
        <p:spPr>
          <a:xfrm>
            <a:off x="1143000" y="838080"/>
            <a:ext cx="6400800" cy="5257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rhodophyta7"/>
          <p:cNvPicPr/>
          <p:nvPr/>
        </p:nvPicPr>
        <p:blipFill>
          <a:blip r:embed="rId1"/>
          <a:stretch/>
        </p:blipFill>
        <p:spPr>
          <a:xfrm>
            <a:off x="2057400" y="609480"/>
            <a:ext cx="4952880" cy="5943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Bacillari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Diatoms2"/>
          <p:cNvPicPr/>
          <p:nvPr/>
        </p:nvPicPr>
        <p:blipFill>
          <a:blip r:embed="rId1"/>
          <a:stretch/>
        </p:blipFill>
        <p:spPr>
          <a:xfrm>
            <a:off x="30492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Dinoflagell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noctiluca"/>
          <p:cNvPicPr/>
          <p:nvPr/>
        </p:nvPicPr>
        <p:blipFill>
          <a:blip r:embed="rId1"/>
          <a:stretch/>
        </p:blipFill>
        <p:spPr>
          <a:xfrm>
            <a:off x="990720" y="609480"/>
            <a:ext cx="6933960" cy="4953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noctiluca"/>
          <p:cNvPicPr/>
          <p:nvPr/>
        </p:nvPicPr>
        <p:blipFill>
          <a:blip r:embed="rId1"/>
          <a:stretch/>
        </p:blipFill>
        <p:spPr>
          <a:xfrm>
            <a:off x="457200" y="6094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rys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BRIE014P"/>
          <p:cNvPicPr/>
          <p:nvPr/>
        </p:nvPicPr>
        <p:blipFill>
          <a:blip r:embed="rId1"/>
          <a:stretch/>
        </p:blipFill>
        <p:spPr>
          <a:xfrm>
            <a:off x="68580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navic1"/>
          <p:cNvPicPr/>
          <p:nvPr/>
        </p:nvPicPr>
        <p:blipFill>
          <a:blip r:embed="rId1"/>
          <a:stretch/>
        </p:blipFill>
        <p:spPr>
          <a:xfrm>
            <a:off x="609480" y="457200"/>
            <a:ext cx="716292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Mallomonadales"/>
          <p:cNvPicPr/>
          <p:nvPr/>
        </p:nvPicPr>
        <p:blipFill>
          <a:blip r:embed="rId1"/>
          <a:stretch/>
        </p:blipFill>
        <p:spPr>
          <a:xfrm>
            <a:off x="1219320" y="609480"/>
            <a:ext cx="6629400" cy="5334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Euglen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Euglena_2"/>
          <p:cNvPicPr/>
          <p:nvPr/>
        </p:nvPicPr>
        <p:blipFill>
          <a:blip r:embed="rId1"/>
          <a:stretch/>
        </p:blipFill>
        <p:spPr>
          <a:xfrm>
            <a:off x="609480" y="609480"/>
            <a:ext cx="7162920" cy="5562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euglena"/>
          <p:cNvPicPr/>
          <p:nvPr/>
        </p:nvPicPr>
        <p:blipFill>
          <a:blip r:embed="rId1"/>
          <a:stretch/>
        </p:blipFill>
        <p:spPr>
          <a:xfrm>
            <a:off x="304920" y="457200"/>
            <a:ext cx="731520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gus-like protis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ime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raspberry%20slime"/>
          <p:cNvPicPr/>
          <p:nvPr/>
        </p:nvPicPr>
        <p:blipFill>
          <a:blip r:embed="rId1"/>
          <a:stretch/>
        </p:blipFill>
        <p:spPr>
          <a:xfrm>
            <a:off x="1143000" y="1438200"/>
            <a:ext cx="7229520" cy="5419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er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Lofng65"/>
          <p:cNvPicPr/>
          <p:nvPr/>
        </p:nvPicPr>
        <p:blipFill>
          <a:blip r:embed="rId1"/>
          <a:stretch/>
        </p:blipFill>
        <p:spPr>
          <a:xfrm>
            <a:off x="914400" y="1905120"/>
            <a:ext cx="7010280" cy="41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racteristics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ytri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08025$"/>
          <p:cNvPicPr/>
          <p:nvPr/>
        </p:nvPicPr>
        <p:blipFill>
          <a:blip r:embed="rId1"/>
          <a:stretch/>
        </p:blipFill>
        <p:spPr>
          <a:xfrm>
            <a:off x="609480" y="1600200"/>
            <a:ext cx="6934320" cy="4191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END…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cture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ChlamydomonasEMLab"/>
          <p:cNvPicPr/>
          <p:nvPr/>
        </p:nvPicPr>
        <p:blipFill>
          <a:blip r:embed="rId1"/>
          <a:stretch/>
        </p:blipFill>
        <p:spPr>
          <a:xfrm>
            <a:off x="2743200" y="1447920"/>
            <a:ext cx="5334120" cy="5410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inu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Ulva_lactuca_01_06_18_A_600x550"/>
          <p:cNvPicPr/>
          <p:nvPr/>
        </p:nvPicPr>
        <p:blipFill>
          <a:blip r:embed="rId1"/>
          <a:stretch/>
        </p:blipFill>
        <p:spPr>
          <a:xfrm>
            <a:off x="1714680" y="809640"/>
            <a:ext cx="5715000" cy="52387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l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nial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BRIE028P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1:20:49Z</dcterms:created>
  <dc:creator>teacher</dc:creator>
  <dc:description>Kingdom Protista </dc:description>
  <cp:keywords>Kingdom Protista </cp:keywords>
  <dc:language>en-US</dc:language>
  <cp:lastModifiedBy>RomaK</cp:lastModifiedBy>
  <dcterms:modified xsi:type="dcterms:W3CDTF">2015-09-04T10:52:38Z</dcterms:modified>
  <cp:revision>9</cp:revision>
  <dc:subject/>
  <dc:title>Kingdom Protista </dc:title>
</cp:coreProperties>
</file>