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2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.jpeg" ContentType="image/jpeg"/>
  <Override PartName="/ppt/media/image7.png" ContentType="image/pn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8F64D-3667-4437-A7A3-ABA538F0238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66"/>
                </a:solidFill>
                <a:latin typeface="Arial"/>
              </a:rPr>
              <a:t>Kingdom Protista</a:t>
            </a:r>
            <a:br>
              <a:rPr sz="1200"/>
            </a:b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66"/>
                </a:solidFill>
                <a:latin typeface="Arial"/>
              </a:rPr>
              <a:t>The Catchall Kingdom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ngdom Protista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atchall Kingd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Phylum Phaeophyta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Brown algae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Marine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Seaweed and kelps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Cooler areas of ocean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Fucoxanthin pigment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Store food as laminarin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ALL multicellular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Stemlike stipe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Leaflike region called blade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ylum Phaeophy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rown alga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r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aweed and kel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oler areas of oce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ucoxanthin pig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ore food as laminar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L multicellul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emlike sti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eaflike region called bla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Phylum Rhodophyta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Red algae but colors vary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Marine seaweeds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Smaller than brown algae and live in deeper waters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Phycobilins – pigment for absorbing light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Some coated with polysaccharide carageenan – cosmetics, gel capsules, cheeses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Agar – extracted from cell walls of red algae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ylum Rhodophy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d algae but colors v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rine seawee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maller than brown algae and live in deeper wa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ycobilins – pigment for absorbing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me coated with polysaccharide carageenan – cosmetics, gel capsules, chee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gar – extracted from cell walls of red alga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66"/>
                </a:solidFill>
                <a:latin typeface="Arial"/>
              </a:rPr>
              <a:t>Phylum Bacillariophyta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66"/>
                </a:solidFill>
                <a:latin typeface="Arial"/>
              </a:rPr>
              <a:t>Diatoms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66"/>
                </a:solidFill>
                <a:latin typeface="Arial"/>
              </a:rPr>
              <a:t>Shells fit together like a box with a lid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66"/>
                </a:solidFill>
                <a:latin typeface="Arial"/>
              </a:rPr>
              <a:t>Centric and pennate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66"/>
                </a:solidFill>
                <a:latin typeface="Arial"/>
              </a:rPr>
              <a:t>Main component of phytoplankton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66"/>
                </a:solidFill>
                <a:latin typeface="Arial"/>
              </a:rPr>
              <a:t>Diatomaceous earth 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lum Bacillariophy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t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ells fit together like a box with a l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ntric and pen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 component of phytoplankt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tomaceous eart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Phylum Dinoflagellata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Dinoflagellates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Small, unicellular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Most photosynthetic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Some bioluminescent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Red tide a problem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ylum Dinoflagell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noflagell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mall, unicellul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st photosynthe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me bioluminesc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d tide a probl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Algae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Phylum Chrysophyta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Golden algae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Most fresh water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Form cysts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2 flagella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Carotenoids give color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Important for formation of petroleum deposits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ylum Chrysophy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olden alga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st fresh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orm cy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 flagel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rotenoids give col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mportant for formation of petroleum depos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66"/>
                </a:solidFill>
                <a:latin typeface="Arial"/>
              </a:rPr>
              <a:t>Phylum Euglenophyta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66"/>
                </a:solidFill>
                <a:latin typeface="Arial"/>
              </a:rPr>
              <a:t>Euglenoids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66"/>
                </a:solidFill>
                <a:latin typeface="Arial"/>
              </a:rPr>
              <a:t>Plant-like and animal-like characteristics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66"/>
                </a:solidFill>
                <a:latin typeface="Arial"/>
              </a:rPr>
              <a:t>Many have cholorphyll and are photosynthetic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66"/>
                </a:solidFill>
                <a:latin typeface="Arial"/>
              </a:rPr>
              <a:t>No cell wall, motile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66"/>
                </a:solidFill>
                <a:latin typeface="Arial"/>
              </a:rPr>
              <a:t>Most live in fresh water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66"/>
                </a:solidFill>
                <a:latin typeface="Arial"/>
              </a:rPr>
              <a:t>See picture on page 533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lum Euglenophy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ugleno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t-like and animal-like character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have cholorphyll and are photosynthe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cell wall, mot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live in fresh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picture on page 5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Fungus-like protists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Slime molds: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Phylum acrasiomycota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Cellular slime molds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Amoeboid movement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Phylum Myxomycota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Plasmodial slime molds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Mass of plasmodium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Water molds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Phylum Oomycota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Blight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Phylum Chytridiomycota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Chytrids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Zoospores with one flagellum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Maybe fungi?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ungus-like proti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lime mold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ylum acrasiomyco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ellular slime m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moeboid mov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ylum Myxomyco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lasmodial slime m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ss of plasmod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ater m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ylum Oomyco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ylum Chytridiomyco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ytr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Zoospores with one flagell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ybe fungi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Slime molds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lime m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Water molds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ater m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66"/>
                </a:solidFill>
                <a:latin typeface="Arial"/>
              </a:rPr>
              <a:t>Characteristics of Algae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66"/>
                </a:solidFill>
                <a:latin typeface="Arial"/>
              </a:rPr>
              <a:t>Autotrophic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66"/>
                </a:solidFill>
                <a:latin typeface="Arial"/>
              </a:rPr>
              <a:t>Not plants – why?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66"/>
                </a:solidFill>
                <a:latin typeface="Arial"/>
              </a:rPr>
              <a:t>Often contain pyrenoids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stics of Alga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totroph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plants – wh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ten contain pyreno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Chytrids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ytr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The END….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END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Structure of Algae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Thallus or body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Unicellular or multicellular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Colonial:  Volvoz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Filamentous:  Spirogyra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Multicellular:  Ulva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Asexual and sexual reproduction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ructure of Alga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allus or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nicellular or multicellul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lonial:  Volvo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ilamentous:  Spirogy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ulticellular:  Ul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sexual and 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Phylums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Phylum Chlorophyta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Phylum Phaeophyta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Phylum Rhodophyta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Phylum Bacillariophyta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Phylum Dinoflagellata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Phylum Chrysophyta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Phyla Euglenohyta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ylu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ylum Chlorophy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ylum Phaeophy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ylum Rhodophy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ylum Bacillariophy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ylum Dinoflagell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ylum Chrysophy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yla Euglenohy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Phylum Chlorophyta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Look 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familiar?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ylum Chlorophy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oo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amilia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66"/>
                </a:solidFill>
                <a:latin typeface="Arial"/>
              </a:rPr>
              <a:t>Continued…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66"/>
                </a:solidFill>
                <a:latin typeface="Arial"/>
              </a:rPr>
              <a:t>Green algae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66"/>
                </a:solidFill>
                <a:latin typeface="Arial"/>
              </a:rPr>
              <a:t>Many different forms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66"/>
                </a:solidFill>
                <a:latin typeface="Arial"/>
              </a:rPr>
              <a:t>Gave rise to land plants – why?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66"/>
                </a:solidFill>
                <a:latin typeface="Arial"/>
              </a:rPr>
              <a:t>Choroplasts that contain a and b cholorphyll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66"/>
                </a:solidFill>
                <a:latin typeface="Arial"/>
              </a:rPr>
              <a:t>Have carotenoids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66"/>
                </a:solidFill>
                <a:latin typeface="Arial"/>
              </a:rPr>
              <a:t>Cell walls of cellulose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inued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en alga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different fo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ve rise to land plants – wh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oroplasts that contain a and b cholorphy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caroteno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walls of cellul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Ulva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l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Colonial Chlorophyta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lonial Chlorophy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AAB4C-7850-4B92-BFAB-DFA784901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067C4-2BB6-46F2-AB03-2B945F72F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B40A5-2C7A-49EA-8342-30C186839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CEDD2-8F5B-44D2-B982-935DFE916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0A70B-CA60-41C0-A117-6DE5E2C05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3D949-6E1B-4A15-B425-D748EE204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3F1D2-A842-4637-9023-1335B997C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47BA3-769E-4B2D-9725-3B8FE1ACB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EC65B-D2B3-4B8D-8EA1-F536092E9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347BF-F089-4CC2-BFA6-57C91D614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336CD-953E-48A1-ACC3-20322E3EC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8978A-54EC-4B69-A36A-DD562F7D8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F938B-A63B-436B-AB60-851274219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20620-B359-4DED-ABE2-400604CBF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69DD3-2F71-47B2-818A-632034B6D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21286-3A84-4B43-868C-438051242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0B630-DC8C-4201-841A-72A0EDCDA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062AC0-792F-4684-9F33-0FF9190FF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45F85B-F1C2-4B5F-8208-4F4FB4544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327497-B4A6-493D-A2D7-5AE5A1244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1C568D-FCAC-4069-BD02-1F9E07332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473F5F-3956-45F3-813A-B2CDA6B4B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3EBC5-22F2-4F23-A691-9A7523DEB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181083-6703-45F5-B8BD-F7B101EF5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E3EB36-DF00-405E-9925-3E0877D1E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DA97E9-C70A-4A22-A105-544B91582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BC121B-C3D1-48A6-BE21-824F67E2E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0D5887-8FE0-4219-B162-43C5F8F1F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3E8626-5025-4AE1-8432-20D8E4E0B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71B543-6E35-4DAE-A2C9-A5AD8F1CC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F6654D-24C8-4430-BCF6-8DB06AF58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B3368C-F38B-434E-AF42-AF291109B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DFACB4-6960-43FD-A5ED-76744D1C6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BCE2C-A26E-418F-A881-3FAEE5CBA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769A1C-FB5C-4193-9713-AB83563EE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7B92FD-351A-42C4-95BB-79D5A092F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57FB26-A66E-4001-A1E9-F0F7DFEC5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1E92FF-3F91-4675-94B9-2BF53DE07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1F5469-98CB-4E88-A0D4-752B77A7E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12403E-F12B-4BA1-808F-9EF608D21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D86CD6-10C8-43AB-B9E4-00E98FFA1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038145-ABE6-451B-9F42-69D75BD69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E0FC50-F159-4ABB-A2D7-783CF7BEE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D8DF4-49CD-42AF-AD11-FBF3AA840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D0B4C-F94F-49BF-BD10-C361BDE4F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546AB-185F-44AB-ADB2-4AEACD40F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4BEB1-5D67-4F8C-A8C0-D0938E388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EAE62-0958-4C0A-9FE9-F4F256A9D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69671-3116-47F5-AFC9-442EE59ECF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7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" name="Oval 8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" name="Oval 9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8" name="Oval 10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F9537-7334-401E-98D7-D9DE17B293E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5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53" name="Oval 10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54" name="Oval 11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55" name="Oval 12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56" name="Oval 13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57" name="Oval 14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58" name="Oval 15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59" name="Oval 16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60" name="Oval 17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61" name="Oval 18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62" name="Oval 19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63" name="Oval 20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6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65" name="Oval 22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66" name="Oval 23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67" name="Oval 24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6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69" name="Oval 26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70" name="Oval 27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71" name="Oval 28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7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73" name="Oval 30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74" name="Oval 31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75" name="Oval 32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76" name="Oval 33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77" name="Oval 34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78" name="Oval 35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79" name="Oval 36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80" name="Oval 37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81" name="Oval 38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82" name="Oval 39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Line 7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0" name="Oval 8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1" name="Oval 9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2" name="Oval 10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7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8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9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1AFDB-44F5-4627-AEB2-EBD0BE3DA1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grpSp>
        <p:nvGrpSpPr>
          <p:cNvPr id="16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16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6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6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6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7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7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7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7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7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7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7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7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7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7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8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8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8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8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8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8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8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8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8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8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9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9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9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9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9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9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9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</p:grpSp>
      <p:sp>
        <p:nvSpPr>
          <p:cNvPr id="19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97EFC-BB45-4D0F-B872-903867CE937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Kingdom Protista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2133360" y="3733560"/>
            <a:ext cx="647676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he Catchall Kingdo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hylum Phaeophyt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rown alga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ri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aweed and kelp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oler areas of ocea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ucoxanthin pig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ore food as laminar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L multicellul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emlike stip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aflike region called bla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0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Picture 5" descr="laminaria"/>
          <p:cNvPicPr/>
          <p:nvPr/>
        </p:nvPicPr>
        <p:blipFill>
          <a:blip r:embed="rId1"/>
          <a:stretch/>
        </p:blipFill>
        <p:spPr>
          <a:xfrm>
            <a:off x="1143000" y="228600"/>
            <a:ext cx="6781680" cy="640080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hylum Rhodophyt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d algae but colors var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rine seaweed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maller than brown algae and live in deeper wat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hycobilins – pigment for absorbing ligh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me coated with polysaccharide carageenan – cosmetics, gel capsules, chee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gar – extracted from cell walls of red alga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nodeType="clickEffect" fill="hold">
                      <p:stCondLst>
                        <p:cond delay="0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Picture 5" descr="Rhodophyta"/>
          <p:cNvPicPr/>
          <p:nvPr/>
        </p:nvPicPr>
        <p:blipFill>
          <a:blip r:embed="rId1"/>
          <a:stretch/>
        </p:blipFill>
        <p:spPr>
          <a:xfrm>
            <a:off x="1143000" y="838080"/>
            <a:ext cx="6400800" cy="525780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Picture 5" descr="rhodophyta7"/>
          <p:cNvPicPr/>
          <p:nvPr/>
        </p:nvPicPr>
        <p:blipFill>
          <a:blip r:embed="rId1"/>
          <a:stretch/>
        </p:blipFill>
        <p:spPr>
          <a:xfrm>
            <a:off x="2057400" y="609480"/>
            <a:ext cx="4952880" cy="594360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hylum Bacillariophyt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iatom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hells fit together like a box with a li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entric and pennat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in component of phytoplankt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iatomaceous earth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nodeType="clickEffect" fill="hold">
                      <p:stCondLst>
                        <p:cond delay="0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Picture 5" descr="Diatoms2"/>
          <p:cNvPicPr/>
          <p:nvPr/>
        </p:nvPicPr>
        <p:blipFill>
          <a:blip r:embed="rId1"/>
          <a:stretch/>
        </p:blipFill>
        <p:spPr>
          <a:xfrm>
            <a:off x="304920" y="762120"/>
            <a:ext cx="7315200" cy="548640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hylum Dinoflagellat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inoflagella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mall, unicellula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st photosyntheti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me bioluminesc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d tide a proble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nodeType="clickEffect" fill="hold">
                      <p:stCondLst>
                        <p:cond delay="0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Picture 5" descr="noctiluca"/>
          <p:cNvPicPr/>
          <p:nvPr/>
        </p:nvPicPr>
        <p:blipFill>
          <a:blip r:embed="rId1"/>
          <a:stretch/>
        </p:blipFill>
        <p:spPr>
          <a:xfrm>
            <a:off x="990720" y="609480"/>
            <a:ext cx="6933960" cy="495324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Picture 5" descr="noctiluca"/>
          <p:cNvPicPr/>
          <p:nvPr/>
        </p:nvPicPr>
        <p:blipFill>
          <a:blip r:embed="rId1"/>
          <a:stretch/>
        </p:blipFill>
        <p:spPr>
          <a:xfrm>
            <a:off x="457200" y="609480"/>
            <a:ext cx="7238880" cy="502920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Algae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hylum Chrysophyt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olden alga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st fresh wa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rm cys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flagell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arotenoids give col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mportant for formation of petroleum deposi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nodeType="clickEffect" fill="hold">
                      <p:stCondLst>
                        <p:cond delay="0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4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Picture 5" descr="BRIE014P"/>
          <p:cNvPicPr/>
          <p:nvPr/>
        </p:nvPicPr>
        <p:blipFill>
          <a:blip r:embed="rId1"/>
          <a:stretch/>
        </p:blipFill>
        <p:spPr>
          <a:xfrm>
            <a:off x="685800" y="914400"/>
            <a:ext cx="7162920" cy="510552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5" descr="navic1"/>
          <p:cNvPicPr/>
          <p:nvPr/>
        </p:nvPicPr>
        <p:blipFill>
          <a:blip r:embed="rId1"/>
          <a:stretch/>
        </p:blipFill>
        <p:spPr>
          <a:xfrm>
            <a:off x="609480" y="457200"/>
            <a:ext cx="7162920" cy="579132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Picture 7" descr="Mallomonadales"/>
          <p:cNvPicPr/>
          <p:nvPr/>
        </p:nvPicPr>
        <p:blipFill>
          <a:blip r:embed="rId1"/>
          <a:stretch/>
        </p:blipFill>
        <p:spPr>
          <a:xfrm>
            <a:off x="1219320" y="609480"/>
            <a:ext cx="6629400" cy="533412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hylum Euglenophyt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uglenoid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lant-like and animal-like characteristic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ny have cholorphyll and are photosyntheti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ell wall, mot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st live in fresh wa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e picture on page 53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nodeType="clickEffect" fill="hold">
                      <p:stCondLst>
                        <p:cond delay="0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3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5" descr="Euglena_2"/>
          <p:cNvPicPr/>
          <p:nvPr/>
        </p:nvPicPr>
        <p:blipFill>
          <a:blip r:embed="rId1"/>
          <a:stretch/>
        </p:blipFill>
        <p:spPr>
          <a:xfrm>
            <a:off x="609480" y="609480"/>
            <a:ext cx="7162920" cy="556272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Picture 5" descr="euglena"/>
          <p:cNvPicPr/>
          <p:nvPr/>
        </p:nvPicPr>
        <p:blipFill>
          <a:blip r:embed="rId1"/>
          <a:stretch/>
        </p:blipFill>
        <p:spPr>
          <a:xfrm>
            <a:off x="304920" y="457200"/>
            <a:ext cx="7315200" cy="579132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Fungus-like protist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lime mold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hylum acrasiomyco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ellular slime mol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moeboid mov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hylum Myxomyco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lasmodial slime mol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ss of plasmodiu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4832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ater mol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hylum Oomyco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igh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hylum Chytridiomyco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ytri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Zoospores with one flagellu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ybe fungi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nodeType="clickEffect" fill="hold">
                      <p:stCondLst>
                        <p:cond delay="0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2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lime mold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Picture 5" descr="raspberry%20slime"/>
          <p:cNvPicPr/>
          <p:nvPr/>
        </p:nvPicPr>
        <p:blipFill>
          <a:blip r:embed="rId1"/>
          <a:stretch/>
        </p:blipFill>
        <p:spPr>
          <a:xfrm>
            <a:off x="1143000" y="1438200"/>
            <a:ext cx="7229520" cy="541980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nodeType="clickEffect" fill="hold">
                      <p:stCondLst>
                        <p:cond delay="0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56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Water mold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Picture 5" descr="Lofng65"/>
          <p:cNvPicPr/>
          <p:nvPr/>
        </p:nvPicPr>
        <p:blipFill>
          <a:blip r:embed="rId1"/>
          <a:stretch/>
        </p:blipFill>
        <p:spPr>
          <a:xfrm>
            <a:off x="914400" y="1905120"/>
            <a:ext cx="7010280" cy="419076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nodeType="clickEffect" fill="hold">
                      <p:stCondLst>
                        <p:cond delay="0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76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haracteristics of Alga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Autotrophic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Not plants – why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ften contain pyrenoid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hytrid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Picture 5" descr="08025$"/>
          <p:cNvPicPr/>
          <p:nvPr/>
        </p:nvPicPr>
        <p:blipFill>
          <a:blip r:embed="rId1"/>
          <a:stretch/>
        </p:blipFill>
        <p:spPr>
          <a:xfrm>
            <a:off x="609480" y="1600200"/>
            <a:ext cx="6934320" cy="419112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nodeType="clickEffect" fill="hold">
                      <p:stCondLst>
                        <p:cond delay="0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96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-36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he END….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tructure of Alga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allus or bod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nicellular or multicellula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lonial:  Volvoz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lamentous:  Spirogyr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ulticellular:  Ulv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sexual and sexual reprodu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hylum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hylum Chlorophy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hylum Phaeophy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hylum Rhodophy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hylum Bacillariophy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hylum Dinoflagell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hylum Chrysophy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hyla Euglenohy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hylum Chlorophyt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ook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amiliar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5" descr="ChlamydomonasEMLab"/>
          <p:cNvPicPr/>
          <p:nvPr/>
        </p:nvPicPr>
        <p:blipFill>
          <a:blip r:embed="rId1"/>
          <a:stretch/>
        </p:blipFill>
        <p:spPr>
          <a:xfrm>
            <a:off x="2743200" y="1447920"/>
            <a:ext cx="5334120" cy="541008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0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1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ontinued…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reen alga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ny different form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ave rise to land plants – why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oroplasts that contain a and b cholorphy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ave carotenoid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ell walls of cellulo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0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5" descr="Ulva_lactuca_01_06_18_A_600x550"/>
          <p:cNvPicPr/>
          <p:nvPr/>
        </p:nvPicPr>
        <p:blipFill>
          <a:blip r:embed="rId1"/>
          <a:stretch/>
        </p:blipFill>
        <p:spPr>
          <a:xfrm>
            <a:off x="1714680" y="809640"/>
            <a:ext cx="5715000" cy="5238720"/>
          </a:xfrm>
          <a:prstGeom prst="rect">
            <a:avLst/>
          </a:prstGeom>
          <a:ln w="0">
            <a:noFill/>
          </a:ln>
        </p:spPr>
      </p:pic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Ulv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p:transition>
    <p:pull dir="rd"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0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8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olonial Chlorophyt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Picture 5" descr="BRIE028P"/>
          <p:cNvPicPr/>
          <p:nvPr/>
        </p:nvPicPr>
        <p:blipFill>
          <a:blip r:embed="rId1"/>
          <a:stretch/>
        </p:blipFill>
        <p:spPr>
          <a:xfrm>
            <a:off x="1447920" y="1828800"/>
            <a:ext cx="6095880" cy="457200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0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18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7T11:20:49Z</dcterms:created>
  <dc:creator>teacher</dc:creator>
  <dc:description>Kingdom Protista </dc:description>
  <cp:keywords>Kingdom Protista </cp:keywords>
  <dc:language>en-US</dc:language>
  <cp:lastModifiedBy>RomaK</cp:lastModifiedBy>
  <dcterms:modified xsi:type="dcterms:W3CDTF">2015-09-04T10:52:38Z</dcterms:modified>
  <cp:revision>9</cp:revision>
  <dc:subject/>
  <dc:title>Kingdom Protista </dc:title>
</cp:coreProperties>
</file>