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3.wmf" ContentType="image/x-wmf"/>
  <Override PartName="/ppt/media/image5.png" ContentType="image/png"/>
  <Override PartName="/ppt/media/image9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7.wmf" ContentType="image/x-wmf"/>
  <Override PartName="/ppt/media/image20.jpeg" ContentType="image/jpeg"/>
  <Override PartName="/ppt/media/image6.wmf" ContentType="image/x-wmf"/>
  <Override PartName="/ppt/media/image19.jpeg" ContentType="image/jpeg"/>
  <Override PartName="/ppt/media/image23.png" ContentType="image/png"/>
  <Override PartName="/ppt/media/image22.jpeg" ContentType="image/jpeg"/>
  <Override PartName="/ppt/media/image21.jpeg" ContentType="image/jpeg"/>
  <Override PartName="/ppt/media/image18.jpeg" ContentType="image/jpeg"/>
  <Override PartName="/ppt/media/image16.gif" ContentType="image/gif"/>
  <Override PartName="/ppt/media/image2.png" ContentType="image/png"/>
  <Override PartName="/ppt/media/image15.png" ContentType="image/png"/>
  <Override PartName="/ppt/media/image14.wmf" ContentType="image/x-wmf"/>
  <Override PartName="/ppt/media/image24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10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0896C-F93B-4175-B982-2959461DB1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WAR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R TO END ALL WA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WAR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R TO END ALL WA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sita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usitania was a British cruise liner, sunk by a German U-bo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inking of the Lusitania, with 139 Americans on board (128 killed), prompted the United States to join the all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sita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usitania was a British cruise liner, sunk by a German U-bo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inking of the Lusitania, with 139 Americans on board (128 killed), prompted the United States to join the all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Man’s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 Man’s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Man’s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 Man’s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lions Kil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d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illions Kil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d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d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 may sometimes be a necessary evil. But no matter how necessary, it is always an evil, never a good. We will not learn how to live together in peace by killing each other's children.” -Jimmy Car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ks For Watching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 may sometimes be a necessary evil. But no matter how necessary, it is always an evil, never a good. We will not learn how to live together in peace by killing each other's children.” -Jimmy Car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ks For Watching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War One includ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Conti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5 Million Sold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7 Million Casual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1,198 Deaths by G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,395 Allied and Neutral Ships Lo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86.3 Billion Financial L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War One includ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Conti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5 Million Sold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7 Million Casual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1,198 Deaths by G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,395 Allied and Neutral Ships Lo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86.3 Billion Financial L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s of WW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Causes May Inclu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ial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ita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ona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b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ianc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e All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rmany, Aus.-Hun., Bulgaria, and Tur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e Ent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bia, Russia, France, Great Britain, US,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uses of WW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me Causes May Inclu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dustrial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ilita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tiona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rb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lianc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iple All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rmany, Aus.-Hun., Bulgaria, and Tur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iple Ent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rbia, Russia, France, Great Britain, US,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ries Invol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ied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al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stria-Hung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toman Empi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lg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ries that only cut off tra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liv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u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ugu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b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s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g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at Bri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b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p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teneg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a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 Mar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ug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a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aragu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z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sta 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atema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i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ndur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Should Add Up To 31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untries Invol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lied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entral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ustria-Hung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ttoman Empi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ulg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untries that only cut off tra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liv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cu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e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rugu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rb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us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lg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reat Bri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b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ap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nteneg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ta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n Mar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rtug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oma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re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u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icaragu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az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sta 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uatema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i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ondur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at Should Add Up To 31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ediate 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assination of Archduke Francis Ferdin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Gavrilo Princip, June 28th, 191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ediate 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assination of Archduke Francis Ferdin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Gavrilo Princip, June 28th, 191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ca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the Archduke was killed, a series of events was set in motion, to change the wor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-H declared war on Serb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Russia mobilized to aid Serb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Germany aids A-H, declares war on Russ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France mobilizes to aid Russ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Germany declares war on Fr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Germany invades Belg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UK declares war on Germ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 OE mobilizes to aid Germany and A-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 Italy joins France, UK, and Russ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 Bulgaria joins OE, Germany, and A-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. US joins Italy, France, UK, and Rus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ca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the Archduke was killed, a series of events was set in motion, to change the wor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-H declared war on Serb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Russia mobilized to aid Serb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Germany aids A-H, declares war on Russ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France mobilizes to aid Russ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Germany declares war on Fr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Germany invades Belg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UK declares war on Germ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 OE mobilizes to aid Germany and A-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 Italy joins France, UK, and Russ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 Bulgaria joins OE, Germany, and A-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. US joins Italy, France, UK, and Rus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p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eap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ld back the Germ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long the War (until better technolog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Naval Blockade in pl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ntrate on the Western Fro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quer F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oid Two-Front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Unrestricted Submarine Warfare (naval subs could attack non-naval vesse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e Ent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e All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ld back the Germ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long the War (until better technolog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Naval Blockade in pl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ntrate on the Western Fro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quer F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oid Two-Front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Unrestricted Submarine Warfare (naval subs could attack non-naval vesse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e Ent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e All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hting Fro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estern Front was between France and 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talian Front was between Aus.-Hun. and Ita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astern Front was between Russia and 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rmany wanted to avoid fighting on more than one fro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hting Fro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estern Front was between France and 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talian Front was between Aus.-Hun. and Ita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astern Front was between Russia and 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rmany wanted to avoid fighting on more than one fro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4044-4F8E-4668-9771-069E86380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6CD4-BC16-4284-9A81-AD4C93BB1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3DEA-52E6-45EE-9A3D-0F7A6A37D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DF26-79CC-4E80-A121-5FAD23253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EBD9-DAFD-424E-9B0E-B85B7D5B9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9FC5-0658-4CDA-BD03-440B65099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22F7-53E4-49AC-B20E-5236B1E02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34FD-4362-4839-B31C-D66FEF50E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AE19-B4FE-4B94-88D6-D112D5DFC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C435-930F-4567-9BB9-E07828BC9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169E-8FF1-4CBE-A330-6DF958208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A173-C865-4440-B2AC-127251A51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585AC-2840-4AFA-93C2-9AD3D41ECA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file:///tmp/home/.config/libreoffice/4/user/gallery/SN01134A.wav" TargetMode="External"/><Relationship Id="rId3" Type="http://schemas.openxmlformats.org/officeDocument/2006/relationships/image" Target="../media/image11.gif"/><Relationship Id="rId4" Type="http://schemas.openxmlformats.org/officeDocument/2006/relationships/image" Target="../media/image7.wmf"/><Relationship Id="rId5" Type="http://schemas.openxmlformats.org/officeDocument/2006/relationships/image" Target="../media/image12.wmf"/><Relationship Id="rId6" Type="http://schemas.openxmlformats.org/officeDocument/2006/relationships/hyperlink" Target="file:///tmp/home/.config/libreoffice/4/user/gallery/j0388271.wav" TargetMode="External"/><Relationship Id="rId7" Type="http://schemas.openxmlformats.org/officeDocument/2006/relationships/image" Target="../media/image13.wmf"/><Relationship Id="rId8" Type="http://schemas.openxmlformats.org/officeDocument/2006/relationships/image" Target="../media/image14.wmf"/><Relationship Id="rId9" Type="http://schemas.openxmlformats.org/officeDocument/2006/relationships/image" Target="../media/image15.png"/><Relationship Id="rId10" Type="http://schemas.openxmlformats.org/officeDocument/2006/relationships/image" Target="../media/image16.gi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1695600" y="1231920"/>
            <a:ext cx="7548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457200" y="533520"/>
            <a:ext cx="525780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0000"/>
                </a:solidFill>
                <a:latin typeface="Arial Black"/>
              </a:rPr>
              <a:t>WORLD WAR I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0" y="2541600"/>
            <a:ext cx="4545000" cy="15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4952880" y="2743200"/>
            <a:ext cx="388620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E WAR TO END ALL WAR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10" descr=""/>
          <p:cNvPicPr/>
          <p:nvPr/>
        </p:nvPicPr>
        <p:blipFill>
          <a:blip r:embed="rId2"/>
          <a:stretch/>
        </p:blipFill>
        <p:spPr>
          <a:xfrm>
            <a:off x="0" y="1851120"/>
            <a:ext cx="3716280" cy="5083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"/>
          <p:cNvPicPr/>
          <p:nvPr/>
        </p:nvPicPr>
        <p:blipFill>
          <a:blip r:embed="rId3"/>
          <a:stretch/>
        </p:blipFill>
        <p:spPr>
          <a:xfrm>
            <a:off x="4724280" y="3962520"/>
            <a:ext cx="3735360" cy="2617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" descr=""/>
          <p:cNvPicPr/>
          <p:nvPr/>
        </p:nvPicPr>
        <p:blipFill>
          <a:blip r:embed="rId4"/>
          <a:stretch/>
        </p:blipFill>
        <p:spPr>
          <a:xfrm>
            <a:off x="6292800" y="0"/>
            <a:ext cx="292752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usitan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380880" y="8380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usitania was a British cruise liner, sunk by a German U-bo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762120" y="4960080"/>
            <a:ext cx="739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inking of the Lusitania, with 139 Americans on board (128 killed), prompted the United States to join the all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10" descr=""/>
          <p:cNvPicPr/>
          <p:nvPr/>
        </p:nvPicPr>
        <p:blipFill>
          <a:blip r:embed="rId2"/>
          <a:stretch/>
        </p:blipFill>
        <p:spPr>
          <a:xfrm>
            <a:off x="1600200" y="1295280"/>
            <a:ext cx="609588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0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 Man’s L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2"/>
          <a:stretch/>
        </p:blipFill>
        <p:spPr>
          <a:xfrm>
            <a:off x="533520" y="838080"/>
            <a:ext cx="8229600" cy="570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 Man’s L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2"/>
          <a:stretch/>
        </p:blipFill>
        <p:spPr>
          <a:xfrm>
            <a:off x="914400" y="990720"/>
            <a:ext cx="7162920" cy="55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d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3" descr="ypres-cemeteries1"/>
          <p:cNvPicPr/>
          <p:nvPr/>
        </p:nvPicPr>
        <p:blipFill>
          <a:blip r:embed="rId2"/>
          <a:stretch/>
        </p:blipFill>
        <p:spPr>
          <a:xfrm>
            <a:off x="762120" y="1676520"/>
            <a:ext cx="7848360" cy="499428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3238200" y="1043640"/>
            <a:ext cx="26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llions Kil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d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2"/>
          <a:stretch/>
        </p:blipFill>
        <p:spPr>
          <a:xfrm>
            <a:off x="990720" y="990720"/>
            <a:ext cx="7848360" cy="54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d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2"/>
          <a:stretch/>
        </p:blipFill>
        <p:spPr>
          <a:xfrm>
            <a:off x="684360" y="1141560"/>
            <a:ext cx="7619760" cy="53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The En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990360" y="3352680"/>
            <a:ext cx="7313400" cy="28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r may sometimes be a necessary evil. But no matter how necessary, it is always an evil, never a good. We will not learn how to live together in peace by killing each other's children.”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Jimmy Car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2992680" y="2513520"/>
            <a:ext cx="316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anks For Watchin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0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atis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ld War One includ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 Conti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1 Cou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5 Million Soldi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Million Casual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1,198 Deaths by G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,395 Allied and Neutral Ships Los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$186.3 Billion Financial Lo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0" y="19080"/>
            <a:ext cx="924408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0" y="866880"/>
            <a:ext cx="924408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15"/>
          <p:cNvSpPr/>
          <p:nvPr/>
        </p:nvSpPr>
        <p:spPr>
          <a:xfrm>
            <a:off x="470160" y="2098800"/>
            <a:ext cx="421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18"/>
          <p:cNvSpPr/>
          <p:nvPr/>
        </p:nvSpPr>
        <p:spPr>
          <a:xfrm>
            <a:off x="470160" y="2695680"/>
            <a:ext cx="421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21"/>
          <p:cNvSpPr/>
          <p:nvPr/>
        </p:nvSpPr>
        <p:spPr>
          <a:xfrm>
            <a:off x="470160" y="3271680"/>
            <a:ext cx="421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24"/>
          <p:cNvSpPr/>
          <p:nvPr/>
        </p:nvSpPr>
        <p:spPr>
          <a:xfrm>
            <a:off x="470160" y="3868560"/>
            <a:ext cx="421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27"/>
          <p:cNvSpPr/>
          <p:nvPr/>
        </p:nvSpPr>
        <p:spPr>
          <a:xfrm>
            <a:off x="470160" y="4465800"/>
            <a:ext cx="421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uses of WW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Causes May Inclu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ustrial Rev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litar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m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tional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b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ianc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ple All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rmany, Aus.-Hun., Bulgaria, and Tur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ple Ent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bia, Russia, France, Great Britain, US,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Object 5" descr=""/>
          <p:cNvPicPr/>
          <p:nvPr/>
        </p:nvPicPr>
        <p:blipFill>
          <a:blip r:embed="rId2"/>
          <a:stretch/>
        </p:blipFill>
        <p:spPr>
          <a:xfrm>
            <a:off x="3352680" y="2133720"/>
            <a:ext cx="2389320" cy="2347920"/>
          </a:xfrm>
          <a:prstGeom prst="rect">
            <a:avLst/>
          </a:prstGeom>
          <a:ln w="0">
            <a:noFill/>
          </a:ln>
        </p:spPr>
      </p:pic>
      <p:pic>
        <p:nvPicPr>
          <p:cNvPr id="70" name="Object 6" descr=""/>
          <p:cNvPicPr/>
          <p:nvPr/>
        </p:nvPicPr>
        <p:blipFill>
          <a:blip r:embed="rId3"/>
          <a:stretch/>
        </p:blipFill>
        <p:spPr>
          <a:xfrm>
            <a:off x="6172200" y="1523880"/>
            <a:ext cx="25401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108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untries Involv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838080"/>
            <a:ext cx="38098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ied Cou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4876920" y="990720"/>
            <a:ext cx="3962160" cy="26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al Cou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stria-Hung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m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toman Empi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lg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4724280" y="3581280"/>
            <a:ext cx="3733920" cy="28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ntries that only cut off trad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liv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u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rugu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2895480" y="541008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609480" y="1447920"/>
            <a:ext cx="190512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b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lg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at Brit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p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teneg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a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n Mar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ug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ma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11"/>
          <p:cNvSpPr/>
          <p:nvPr/>
        </p:nvSpPr>
        <p:spPr>
          <a:xfrm>
            <a:off x="2590920" y="1371600"/>
            <a:ext cx="1828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e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cara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az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a 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tema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i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ndu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6400800" y="4876920"/>
            <a:ext cx="1752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Shoul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Up To 31 Cou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3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3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3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3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3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3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3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30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mediate C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assination of Archduke Francis Ferdin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Gavrilo Princip, June 28th, 191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Group 25"/>
          <p:cNvGrpSpPr/>
          <p:nvPr/>
        </p:nvGrpSpPr>
        <p:grpSpPr>
          <a:xfrm>
            <a:off x="5867280" y="2362320"/>
            <a:ext cx="3115440" cy="4253400"/>
            <a:chOff x="5867280" y="2362320"/>
            <a:chExt cx="3115440" cy="4253400"/>
          </a:xfrm>
        </p:grpSpPr>
        <p:pic>
          <p:nvPicPr>
            <p:cNvPr id="84" name="Picture 23" descr=""/>
            <p:cNvPicPr/>
            <p:nvPr/>
          </p:nvPicPr>
          <p:blipFill>
            <a:blip r:embed="rId2"/>
            <a:stretch/>
          </p:blipFill>
          <p:spPr>
            <a:xfrm>
              <a:off x="5867280" y="2362320"/>
              <a:ext cx="3113280" cy="38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24"/>
            <p:cNvSpPr/>
            <p:nvPr/>
          </p:nvSpPr>
          <p:spPr>
            <a:xfrm>
              <a:off x="5868360" y="6095160"/>
              <a:ext cx="311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rchduke Ferdinan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Group 29"/>
          <p:cNvGrpSpPr/>
          <p:nvPr/>
        </p:nvGrpSpPr>
        <p:grpSpPr>
          <a:xfrm>
            <a:off x="380880" y="2438280"/>
            <a:ext cx="5383440" cy="2457720"/>
            <a:chOff x="380880" y="2438280"/>
            <a:chExt cx="5383440" cy="2457720"/>
          </a:xfrm>
        </p:grpSpPr>
        <p:graphicFrame>
          <p:nvGraphicFramePr>
            <p:cNvPr id="87" name="Object 27"/>
            <p:cNvGraphicFramePr/>
            <p:nvPr/>
          </p:nvGraphicFramePr>
          <p:xfrm>
            <a:off x="380880" y="2438280"/>
            <a:ext cx="5383440" cy="2457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8" name="Object 2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0880" y="2438280"/>
                      <a:ext cx="5383440" cy="245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9" name="Text Box 28"/>
            <p:cNvSpPr/>
            <p:nvPr/>
          </p:nvSpPr>
          <p:spPr>
            <a:xfrm>
              <a:off x="4110840" y="3929040"/>
              <a:ext cx="1084320" cy="8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irst Bom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unsho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av. Princi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ca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6854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the Archduke was killed, a series of events was set in motion, to change the wor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A-H declared war on Serb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Russia mobilized to aid Serb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Germany aids A-H, declares war on Russ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France mobilizes to aid Russ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Germany declares war on Fr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 Germany invades Belgiu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 UK declares war on German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 OE mobilizes to aid Germany and A-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. Italy joins France, UK, and Russ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. Bulgaria joins OE, Germany, and A-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. US joins Italy, France, UK, and 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1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ap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Group 24"/>
          <p:cNvGrpSpPr/>
          <p:nvPr/>
        </p:nvGrpSpPr>
        <p:grpSpPr>
          <a:xfrm>
            <a:off x="457200" y="4724280"/>
            <a:ext cx="2752560" cy="1755360"/>
            <a:chOff x="457200" y="4724280"/>
            <a:chExt cx="2752560" cy="1755360"/>
          </a:xfrm>
        </p:grpSpPr>
        <p:pic>
          <p:nvPicPr>
            <p:cNvPr id="96" name="Picture 4" descr="j0336593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533520" y="4724280"/>
              <a:ext cx="2676240" cy="12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5"/>
            <p:cNvSpPr/>
            <p:nvPr/>
          </p:nvSpPr>
          <p:spPr>
            <a:xfrm>
              <a:off x="457200" y="601992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ubmarin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Group 25"/>
          <p:cNvGrpSpPr/>
          <p:nvPr/>
        </p:nvGrpSpPr>
        <p:grpSpPr>
          <a:xfrm>
            <a:off x="4495680" y="3962520"/>
            <a:ext cx="2536920" cy="2361960"/>
            <a:chOff x="4495680" y="3962520"/>
            <a:chExt cx="2536920" cy="2361960"/>
          </a:xfrm>
        </p:grpSpPr>
        <p:pic>
          <p:nvPicPr>
            <p:cNvPr id="99" name="Object 16" descr=""/>
            <p:cNvPicPr/>
            <p:nvPr/>
          </p:nvPicPr>
          <p:blipFill>
            <a:blip r:embed="rId4"/>
            <a:stretch/>
          </p:blipFill>
          <p:spPr>
            <a:xfrm>
              <a:off x="4495680" y="3962520"/>
              <a:ext cx="224964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7"/>
            <p:cNvSpPr/>
            <p:nvPr/>
          </p:nvSpPr>
          <p:spPr>
            <a:xfrm>
              <a:off x="6173640" y="4875840"/>
              <a:ext cx="85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hip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Group 29"/>
          <p:cNvGrpSpPr/>
          <p:nvPr/>
        </p:nvGrpSpPr>
        <p:grpSpPr>
          <a:xfrm>
            <a:off x="3505320" y="2971800"/>
            <a:ext cx="1360440" cy="2058840"/>
            <a:chOff x="3505320" y="2971800"/>
            <a:chExt cx="1360440" cy="2058840"/>
          </a:xfrm>
        </p:grpSpPr>
        <p:pic>
          <p:nvPicPr>
            <p:cNvPr id="102" name="Picture 6" descr="MCBD10450_0000[1]"/>
            <p:cNvPicPr/>
            <p:nvPr/>
          </p:nvPicPr>
          <p:blipFill>
            <a:blip r:embed="rId5"/>
            <a:stretch/>
          </p:blipFill>
          <p:spPr>
            <a:xfrm>
              <a:off x="3505320" y="2971800"/>
              <a:ext cx="136044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9"/>
            <p:cNvSpPr/>
            <p:nvPr/>
          </p:nvSpPr>
          <p:spPr>
            <a:xfrm>
              <a:off x="3735720" y="45709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Group 26"/>
          <p:cNvGrpSpPr/>
          <p:nvPr/>
        </p:nvGrpSpPr>
        <p:grpSpPr>
          <a:xfrm>
            <a:off x="7391520" y="2971800"/>
            <a:ext cx="1371600" cy="1753920"/>
            <a:chOff x="7391520" y="2971800"/>
            <a:chExt cx="1371600" cy="1753920"/>
          </a:xfrm>
        </p:grpSpPr>
        <p:pic>
          <p:nvPicPr>
            <p:cNvPr id="105" name="Picture 7" descr="j0234317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7391520" y="2971800"/>
              <a:ext cx="1371600" cy="11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20"/>
            <p:cNvSpPr/>
            <p:nvPr/>
          </p:nvSpPr>
          <p:spPr>
            <a:xfrm>
              <a:off x="7545240" y="4266000"/>
              <a:ext cx="92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ank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Group 28"/>
          <p:cNvGrpSpPr/>
          <p:nvPr/>
        </p:nvGrpSpPr>
        <p:grpSpPr>
          <a:xfrm>
            <a:off x="3200400" y="1066680"/>
            <a:ext cx="1371600" cy="1449360"/>
            <a:chOff x="3200400" y="1066680"/>
            <a:chExt cx="1371600" cy="1449360"/>
          </a:xfrm>
        </p:grpSpPr>
        <p:pic>
          <p:nvPicPr>
            <p:cNvPr id="108" name="Picture 8" descr="MCj03119760000[1]"/>
            <p:cNvPicPr/>
            <p:nvPr/>
          </p:nvPicPr>
          <p:blipFill>
            <a:blip r:embed="rId8"/>
            <a:stretch/>
          </p:blipFill>
          <p:spPr>
            <a:xfrm>
              <a:off x="3200400" y="1066680"/>
              <a:ext cx="1371600" cy="92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21"/>
            <p:cNvSpPr/>
            <p:nvPr/>
          </p:nvSpPr>
          <p:spPr>
            <a:xfrm>
              <a:off x="3353040" y="205632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limp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Group 30"/>
          <p:cNvGrpSpPr/>
          <p:nvPr/>
        </p:nvGrpSpPr>
        <p:grpSpPr>
          <a:xfrm>
            <a:off x="150840" y="1676520"/>
            <a:ext cx="2808000" cy="2592000"/>
            <a:chOff x="150840" y="1676520"/>
            <a:chExt cx="2808000" cy="2592000"/>
          </a:xfrm>
        </p:grpSpPr>
        <p:pic>
          <p:nvPicPr>
            <p:cNvPr id="111" name="Picture 9" descr=""/>
            <p:cNvPicPr/>
            <p:nvPr/>
          </p:nvPicPr>
          <p:blipFill>
            <a:blip r:embed="rId9"/>
            <a:stretch/>
          </p:blipFill>
          <p:spPr>
            <a:xfrm>
              <a:off x="304920" y="1676520"/>
              <a:ext cx="2552760" cy="204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 Box 22"/>
            <p:cNvSpPr/>
            <p:nvPr/>
          </p:nvSpPr>
          <p:spPr>
            <a:xfrm>
              <a:off x="150840" y="3808800"/>
              <a:ext cx="28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ong Range Artille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Group 27"/>
          <p:cNvGrpSpPr/>
          <p:nvPr/>
        </p:nvGrpSpPr>
        <p:grpSpPr>
          <a:xfrm>
            <a:off x="6019920" y="990720"/>
            <a:ext cx="1752480" cy="1677600"/>
            <a:chOff x="6019920" y="990720"/>
            <a:chExt cx="1752480" cy="1677600"/>
          </a:xfrm>
        </p:grpSpPr>
        <p:pic>
          <p:nvPicPr>
            <p:cNvPr id="114" name="Picture 10" descr="j0356722"/>
            <p:cNvPicPr/>
            <p:nvPr/>
          </p:nvPicPr>
          <p:blipFill>
            <a:blip r:embed="rId10"/>
            <a:stretch/>
          </p:blipFill>
          <p:spPr>
            <a:xfrm>
              <a:off x="6019920" y="990720"/>
              <a:ext cx="175248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23"/>
            <p:cNvSpPr/>
            <p:nvPr/>
          </p:nvSpPr>
          <p:spPr>
            <a:xfrm>
              <a:off x="6096240" y="2208600"/>
              <a:ext cx="136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irplan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ld back the Germ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long the War (until better technolog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a Naval Blockade in p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8320" y="1676520"/>
            <a:ext cx="3962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ntrate on the Western Fro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quer F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oid Two-Front W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Unrestricted Submarine Warfare (naval subs could attack non-naval vesse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685800" y="9907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ple Ent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4800600" y="99072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ple All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9" descr="Photo # NH 63367:  British battleship Dreadnought in harbor, circa 1906-07"/>
          <p:cNvPicPr/>
          <p:nvPr/>
        </p:nvPicPr>
        <p:blipFill>
          <a:blip r:embed="rId2"/>
          <a:stretch/>
        </p:blipFill>
        <p:spPr>
          <a:xfrm>
            <a:off x="457200" y="4343400"/>
            <a:ext cx="342900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0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ghting Fro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339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estern Front was between France and Germ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talian Front was between Aus.-Hun. and Ita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astern Front was between Russia and Germ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rmany wanted to avoid fighting on more than one fro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13" descr=""/>
          <p:cNvPicPr/>
          <p:nvPr/>
        </p:nvPicPr>
        <p:blipFill>
          <a:blip r:embed="rId2"/>
          <a:stretch/>
        </p:blipFill>
        <p:spPr>
          <a:xfrm>
            <a:off x="4419720" y="990720"/>
            <a:ext cx="47242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7T00:08:39Z</dcterms:created>
  <dc:creator>Greg</dc:creator>
  <dc:description/>
  <dc:language>en-US</dc:language>
  <cp:lastModifiedBy>RomaK</cp:lastModifiedBy>
  <cp:lastPrinted>2009-01-22T12:50:56Z</cp:lastPrinted>
  <dcterms:modified xsi:type="dcterms:W3CDTF">2015-09-01T16:20:07Z</dcterms:modified>
  <cp:revision>20</cp:revision>
  <dc:subject/>
  <dc:title>No Slide Title</dc:title>
</cp:coreProperties>
</file>