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8.jpeg" ContentType="image/jpeg"/>
  <Override PartName="/ppt/media/image16.gif" ContentType="image/gif"/>
  <Override PartName="/ppt/media/image2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2750-23FA-4703-B903-0CB579F19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A53-EBC3-422E-829A-8E4E7B3F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5BC-E541-4AA6-83B2-5366F799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734-9103-4E01-B3FB-B573696E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C146-5066-4402-989D-8FADE42A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B3C-99FA-4510-892C-B3B3DF66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BC6-D150-41EE-9805-0A3EFDD7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6424-E506-4941-8AA4-194DC679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E14F-4539-4554-B9AA-2C88B26E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217-BDC1-4A22-9037-A4C82D44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5EA5-6423-4B69-A7E9-B9C72F23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C84-AE65-4C92-B5E6-5874EE2D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6D9E-B01E-429C-A4FC-BEB842F2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BEAE-73DD-4EE0-BBB6-D302446CD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SN01134A.wav" TargetMode="External"/><Relationship Id="rId3" Type="http://schemas.openxmlformats.org/officeDocument/2006/relationships/image" Target="../media/image11.gif"/><Relationship Id="rId4" Type="http://schemas.openxmlformats.org/officeDocument/2006/relationships/image" Target="../media/image7.wmf"/><Relationship Id="rId5" Type="http://schemas.openxmlformats.org/officeDocument/2006/relationships/image" Target="../media/image12.wmf"/><Relationship Id="rId6" Type="http://schemas.openxmlformats.org/officeDocument/2006/relationships/hyperlink" Target="file:///tmp/home/.config/libreoffice/4/user/gallery/j0388271.wav" TargetMode="External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695600" y="1231920"/>
            <a:ext cx="7548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57200" y="533520"/>
            <a:ext cx="52578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 Black"/>
              </a:rPr>
              <a:t>WORLD WAR I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2541600"/>
            <a:ext cx="45450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952880" y="2743200"/>
            <a:ext cx="3886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WAR TO END ALL WAR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0" y="1851120"/>
            <a:ext cx="3716280" cy="508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4724280" y="3962520"/>
            <a:ext cx="3735360" cy="261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4"/>
          <a:stretch/>
        </p:blipFill>
        <p:spPr>
          <a:xfrm>
            <a:off x="6292800" y="0"/>
            <a:ext cx="29275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62120" y="49600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609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2296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16292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ypres-cemeteries1"/>
          <p:cNvPicPr/>
          <p:nvPr/>
        </p:nvPicPr>
        <p:blipFill>
          <a:blip r:embed="rId2"/>
          <a:stretch/>
        </p:blipFill>
        <p:spPr>
          <a:xfrm>
            <a:off x="762120" y="1676520"/>
            <a:ext cx="7848360" cy="4994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238200" y="104364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78483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684360" y="1141560"/>
            <a:ext cx="761976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360" y="3352680"/>
            <a:ext cx="7313400" cy="28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Jimmy C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992680" y="2513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19080"/>
            <a:ext cx="9244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866880"/>
            <a:ext cx="9244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470160" y="2098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470160" y="2695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470160" y="3271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470160" y="3868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470160" y="4465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ct 5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2389320" cy="2347920"/>
          </a:xfrm>
          <a:prstGeom prst="rect">
            <a:avLst/>
          </a:prstGeom>
          <a:ln w="0">
            <a:noFill/>
          </a:ln>
        </p:spPr>
      </p:pic>
      <p:pic>
        <p:nvPicPr>
          <p:cNvPr id="70" name="Object 6" descr=""/>
          <p:cNvPicPr/>
          <p:nvPr/>
        </p:nvPicPr>
        <p:blipFill>
          <a:blip r:embed="rId3"/>
          <a:stretch/>
        </p:blipFill>
        <p:spPr>
          <a:xfrm>
            <a:off x="6172200" y="1523880"/>
            <a:ext cx="2540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876920" y="990720"/>
            <a:ext cx="39621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24280" y="3581280"/>
            <a:ext cx="373392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895480" y="54100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09480" y="1447920"/>
            <a:ext cx="19051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2590920" y="1371600"/>
            <a:ext cx="182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400800" y="48769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Shou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Up To 31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25"/>
          <p:cNvGrpSpPr/>
          <p:nvPr/>
        </p:nvGrpSpPr>
        <p:grpSpPr>
          <a:xfrm>
            <a:off x="5867280" y="2362320"/>
            <a:ext cx="3115440" cy="4253400"/>
            <a:chOff x="5867280" y="2362320"/>
            <a:chExt cx="3115440" cy="4253400"/>
          </a:xfrm>
        </p:grpSpPr>
        <p:pic>
          <p:nvPicPr>
            <p:cNvPr id="84" name="Picture 23" descr=""/>
            <p:cNvPicPr/>
            <p:nvPr/>
          </p:nvPicPr>
          <p:blipFill>
            <a:blip r:embed="rId2"/>
            <a:stretch/>
          </p:blipFill>
          <p:spPr>
            <a:xfrm>
              <a:off x="5867280" y="2362320"/>
              <a:ext cx="31132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4"/>
            <p:cNvSpPr/>
            <p:nvPr/>
          </p:nvSpPr>
          <p:spPr>
            <a:xfrm>
              <a:off x="5868360" y="609516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chduke Ferdin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29"/>
          <p:cNvGrpSpPr/>
          <p:nvPr/>
        </p:nvGrpSpPr>
        <p:grpSpPr>
          <a:xfrm>
            <a:off x="380880" y="2438280"/>
            <a:ext cx="5383440" cy="2457720"/>
            <a:chOff x="380880" y="2438280"/>
            <a:chExt cx="5383440" cy="2457720"/>
          </a:xfrm>
        </p:grpSpPr>
        <p:graphicFrame>
          <p:nvGraphicFramePr>
            <p:cNvPr id="87" name="Object 27"/>
            <p:cNvGraphicFramePr/>
            <p:nvPr/>
          </p:nvGraphicFramePr>
          <p:xfrm>
            <a:off x="380880" y="2438280"/>
            <a:ext cx="5383440" cy="245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" name="Object 2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438280"/>
                      <a:ext cx="5383440" cy="245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Text Box 28"/>
            <p:cNvSpPr/>
            <p:nvPr/>
          </p:nvSpPr>
          <p:spPr>
            <a:xfrm>
              <a:off x="4110840" y="3929040"/>
              <a:ext cx="108432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rst Bom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unsho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av. Princ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1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24"/>
          <p:cNvGrpSpPr/>
          <p:nvPr/>
        </p:nvGrpSpPr>
        <p:grpSpPr>
          <a:xfrm>
            <a:off x="457200" y="4724280"/>
            <a:ext cx="2752560" cy="1755360"/>
            <a:chOff x="457200" y="4724280"/>
            <a:chExt cx="2752560" cy="1755360"/>
          </a:xfrm>
        </p:grpSpPr>
        <p:pic>
          <p:nvPicPr>
            <p:cNvPr id="96" name="Picture 4" descr="j0336593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33520" y="4724280"/>
              <a:ext cx="26762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457200" y="6019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ar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25"/>
          <p:cNvGrpSpPr/>
          <p:nvPr/>
        </p:nvGrpSpPr>
        <p:grpSpPr>
          <a:xfrm>
            <a:off x="4495680" y="3962520"/>
            <a:ext cx="2536920" cy="2361960"/>
            <a:chOff x="4495680" y="3962520"/>
            <a:chExt cx="2536920" cy="2361960"/>
          </a:xfrm>
        </p:grpSpPr>
        <p:pic>
          <p:nvPicPr>
            <p:cNvPr id="99" name="Object 16" descr=""/>
            <p:cNvPicPr/>
            <p:nvPr/>
          </p:nvPicPr>
          <p:blipFill>
            <a:blip r:embed="rId4"/>
            <a:stretch/>
          </p:blipFill>
          <p:spPr>
            <a:xfrm>
              <a:off x="4495680" y="3962520"/>
              <a:ext cx="224964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6173640" y="487584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29"/>
          <p:cNvGrpSpPr/>
          <p:nvPr/>
        </p:nvGrpSpPr>
        <p:grpSpPr>
          <a:xfrm>
            <a:off x="3505320" y="2971800"/>
            <a:ext cx="1360440" cy="2058840"/>
            <a:chOff x="3505320" y="2971800"/>
            <a:chExt cx="1360440" cy="2058840"/>
          </a:xfrm>
        </p:grpSpPr>
        <p:pic>
          <p:nvPicPr>
            <p:cNvPr id="102" name="Picture 6" descr="MCBD10450_0000[1]"/>
            <p:cNvPicPr/>
            <p:nvPr/>
          </p:nvPicPr>
          <p:blipFill>
            <a:blip r:embed="rId5"/>
            <a:stretch/>
          </p:blipFill>
          <p:spPr>
            <a:xfrm>
              <a:off x="3505320" y="2971800"/>
              <a:ext cx="13604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3735720" y="45709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7391520" y="2971800"/>
            <a:ext cx="1371600" cy="1753920"/>
            <a:chOff x="7391520" y="2971800"/>
            <a:chExt cx="1371600" cy="1753920"/>
          </a:xfrm>
        </p:grpSpPr>
        <p:pic>
          <p:nvPicPr>
            <p:cNvPr id="105" name="Picture 7" descr="j0234317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391520" y="2971800"/>
              <a:ext cx="137160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7545240" y="42660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8"/>
          <p:cNvGrpSpPr/>
          <p:nvPr/>
        </p:nvGrpSpPr>
        <p:grpSpPr>
          <a:xfrm>
            <a:off x="3200400" y="1066680"/>
            <a:ext cx="1371600" cy="1449360"/>
            <a:chOff x="3200400" y="1066680"/>
            <a:chExt cx="1371600" cy="1449360"/>
          </a:xfrm>
        </p:grpSpPr>
        <p:pic>
          <p:nvPicPr>
            <p:cNvPr id="108" name="Picture 8" descr="MCj03119760000[1]"/>
            <p:cNvPicPr/>
            <p:nvPr/>
          </p:nvPicPr>
          <p:blipFill>
            <a:blip r:embed="rId8"/>
            <a:stretch/>
          </p:blipFill>
          <p:spPr>
            <a:xfrm>
              <a:off x="3200400" y="1066680"/>
              <a:ext cx="137160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3353040" y="205632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i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30"/>
          <p:cNvGrpSpPr/>
          <p:nvPr/>
        </p:nvGrpSpPr>
        <p:grpSpPr>
          <a:xfrm>
            <a:off x="150840" y="1676520"/>
            <a:ext cx="2808000" cy="2592000"/>
            <a:chOff x="150840" y="1676520"/>
            <a:chExt cx="2808000" cy="2592000"/>
          </a:xfrm>
        </p:grpSpPr>
        <p:pic>
          <p:nvPicPr>
            <p:cNvPr id="111" name="Picture 9" descr=""/>
            <p:cNvPicPr/>
            <p:nvPr/>
          </p:nvPicPr>
          <p:blipFill>
            <a:blip r:embed="rId9"/>
            <a:stretch/>
          </p:blipFill>
          <p:spPr>
            <a:xfrm>
              <a:off x="304920" y="1676520"/>
              <a:ext cx="25527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2"/>
            <p:cNvSpPr/>
            <p:nvPr/>
          </p:nvSpPr>
          <p:spPr>
            <a:xfrm>
              <a:off x="150840" y="380880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Range Artill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7"/>
          <p:cNvGrpSpPr/>
          <p:nvPr/>
        </p:nvGrpSpPr>
        <p:grpSpPr>
          <a:xfrm>
            <a:off x="6019920" y="990720"/>
            <a:ext cx="1752480" cy="1677600"/>
            <a:chOff x="6019920" y="990720"/>
            <a:chExt cx="1752480" cy="1677600"/>
          </a:xfrm>
        </p:grpSpPr>
        <p:pic>
          <p:nvPicPr>
            <p:cNvPr id="114" name="Picture 10" descr="j0356722"/>
            <p:cNvPicPr/>
            <p:nvPr/>
          </p:nvPicPr>
          <p:blipFill>
            <a:blip r:embed="rId10"/>
            <a:stretch/>
          </p:blipFill>
          <p:spPr>
            <a:xfrm>
              <a:off x="6019920" y="990720"/>
              <a:ext cx="17524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23"/>
            <p:cNvSpPr/>
            <p:nvPr/>
          </p:nvSpPr>
          <p:spPr>
            <a:xfrm>
              <a:off x="6096240" y="220860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rpla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5800" y="990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800600" y="990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9" descr="Photo # NH 63367:  British battleship Dreadnought in harbor, circa 1906-07"/>
          <p:cNvPicPr/>
          <p:nvPr/>
        </p:nvPicPr>
        <p:blipFill>
          <a:blip r:embed="rId2"/>
          <a:stretch/>
        </p:blipFill>
        <p:spPr>
          <a:xfrm>
            <a:off x="457200" y="4343400"/>
            <a:ext cx="34290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4724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0:08:39Z</dcterms:created>
  <dc:creator>Greg</dc:creator>
  <dc:description/>
  <dc:language>en-US</dc:language>
  <cp:lastModifiedBy>RomaK</cp:lastModifiedBy>
  <cp:lastPrinted>2009-01-22T12:50:56Z</cp:lastPrinted>
  <dcterms:modified xsi:type="dcterms:W3CDTF">2015-09-01T16:20:07Z</dcterms:modified>
  <cp:revision>20</cp:revision>
  <dc:subject/>
  <dc:title>No Slide Title</dc:title>
</cp:coreProperties>
</file>