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23.png" ContentType="image/png"/>
  <Override PartName="/ppt/media/image22.jpeg" ContentType="image/jpeg"/>
  <Override PartName="/ppt/media/image21.jpeg" ContentType="image/jpeg"/>
  <Override PartName="/ppt/media/image18.jpeg" ContentType="image/jpeg"/>
  <Override PartName="/ppt/media/image16.gif" ContentType="image/gif"/>
  <Override PartName="/ppt/media/image2.png" ContentType="image/png"/>
  <Override PartName="/ppt/media/image15.png" ContentType="image/png"/>
  <Override PartName="/ppt/media/image14.wmf" ContentType="image/x-wmf"/>
  <Override PartName="/ppt/media/image2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C4F-EB86-47D2-83A1-B26B495F2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R TO END ALL WA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-Jimmy Ca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t Should Add Up To 31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856-CFFA-467B-8E70-DFCE0F0F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B1B-A6D4-4423-BC5F-F5EA42BF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413B-E0E7-4E3E-A20F-737D7CF45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ED6-6671-45E4-ABBC-75100452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8F6E-27C7-456E-93AB-FD007335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5D8-2F62-4464-8893-91973E22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EE4-5421-42BA-B4D9-9DD2DDF2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3500-D1F2-4AC8-9DC7-398459B9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C74-18FD-4C83-9A8C-DF6B25C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FDA2-7451-4269-95F3-E31B4816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CD63-BABC-41E3-BA0C-1658F478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B6B-8580-4224-A0D6-6F7C693E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96DE-0043-44F5-8B2F-12E96D869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SN01134A.wav" TargetMode="External"/><Relationship Id="rId3" Type="http://schemas.openxmlformats.org/officeDocument/2006/relationships/image" Target="../media/image11.gif"/><Relationship Id="rId4" Type="http://schemas.openxmlformats.org/officeDocument/2006/relationships/image" Target="../media/image7.wmf"/><Relationship Id="rId5" Type="http://schemas.openxmlformats.org/officeDocument/2006/relationships/image" Target="../media/image12.wmf"/><Relationship Id="rId6" Type="http://schemas.openxmlformats.org/officeDocument/2006/relationships/hyperlink" Target="file:///tmp/home/.config/libreoffice/4/user/gallery/j0388271.wav" TargetMode="External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6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95600" y="1231920"/>
            <a:ext cx="75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457200" y="533520"/>
            <a:ext cx="525780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0000"/>
                </a:solidFill>
                <a:latin typeface="Arial Black"/>
              </a:rPr>
              <a:t>WORLD WAR I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2541600"/>
            <a:ext cx="454500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4952880" y="2743200"/>
            <a:ext cx="3886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WAR TO END ALL WAR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>
            <a:off x="0" y="1851120"/>
            <a:ext cx="3716280" cy="508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3735360" cy="2617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"/>
          <p:cNvPicPr/>
          <p:nvPr/>
        </p:nvPicPr>
        <p:blipFill>
          <a:blip r:embed="rId4"/>
          <a:stretch/>
        </p:blipFill>
        <p:spPr>
          <a:xfrm>
            <a:off x="6292800" y="0"/>
            <a:ext cx="29275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usitan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0880" y="8380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usitania was a British cruise liner, sunk by a German U-bo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762120" y="49600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inking of the Lusitania, with 139 Americans on board (128 killed), prompted the United States to join the al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"/>
          <p:cNvPicPr/>
          <p:nvPr/>
        </p:nvPicPr>
        <p:blipFill>
          <a:blip r:embed="rId2"/>
          <a:stretch/>
        </p:blipFill>
        <p:spPr>
          <a:xfrm>
            <a:off x="1600200" y="1295280"/>
            <a:ext cx="60958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229600" cy="57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Man’s 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914400" y="990720"/>
            <a:ext cx="716292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ypres-cemeteries1"/>
          <p:cNvPicPr/>
          <p:nvPr/>
        </p:nvPicPr>
        <p:blipFill>
          <a:blip r:embed="rId2"/>
          <a:stretch/>
        </p:blipFill>
        <p:spPr>
          <a:xfrm>
            <a:off x="762120" y="1676520"/>
            <a:ext cx="7848360" cy="4994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3238200" y="1043640"/>
            <a:ext cx="26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llions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990720" y="990720"/>
            <a:ext cx="7848360" cy="54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d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2"/>
          <a:stretch/>
        </p:blipFill>
        <p:spPr>
          <a:xfrm>
            <a:off x="684360" y="1141560"/>
            <a:ext cx="761976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The E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990360" y="3352680"/>
            <a:ext cx="7313400" cy="28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 may sometimes be a necessary evil. But no matter how necessary, it is always an evil, never a good. We will not learn how to live together in peace by killing each other's children.”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Jimmy C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2992680" y="2513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nks For Watch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 War One includ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Conti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1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 Million Sold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Million Casual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1,198 Deaths by G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,395 Allied and Neutral Ships Lo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186.3 Billion Financial Lo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19080"/>
            <a:ext cx="92440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866880"/>
            <a:ext cx="9244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470160" y="2098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470160" y="2695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470160" y="327168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4"/>
          <p:cNvSpPr/>
          <p:nvPr/>
        </p:nvSpPr>
        <p:spPr>
          <a:xfrm>
            <a:off x="470160" y="386856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7"/>
          <p:cNvSpPr/>
          <p:nvPr/>
        </p:nvSpPr>
        <p:spPr>
          <a:xfrm>
            <a:off x="470160" y="4465800"/>
            <a:ext cx="421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uses of WW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Causes May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itar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ianc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, Aus.-Hun., Bulgaria, and Tur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bia, Russia, France, Great Britain, U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Object 5" descr=""/>
          <p:cNvPicPr/>
          <p:nvPr/>
        </p:nvPicPr>
        <p:blipFill>
          <a:blip r:embed="rId2"/>
          <a:stretch/>
        </p:blipFill>
        <p:spPr>
          <a:xfrm>
            <a:off x="3352680" y="2133720"/>
            <a:ext cx="2389320" cy="2347920"/>
          </a:xfrm>
          <a:prstGeom prst="rect">
            <a:avLst/>
          </a:prstGeom>
          <a:ln w="0">
            <a:noFill/>
          </a:ln>
        </p:spPr>
      </p:pic>
      <p:pic>
        <p:nvPicPr>
          <p:cNvPr id="70" name="Object 6" descr=""/>
          <p:cNvPicPr/>
          <p:nvPr/>
        </p:nvPicPr>
        <p:blipFill>
          <a:blip r:embed="rId3"/>
          <a:stretch/>
        </p:blipFill>
        <p:spPr>
          <a:xfrm>
            <a:off x="6172200" y="1523880"/>
            <a:ext cx="2540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ries Involv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8380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ied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4876920" y="990720"/>
            <a:ext cx="3962160" cy="26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Cou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ia-Hung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m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toman Emp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4724280" y="3581280"/>
            <a:ext cx="3733920" cy="28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ries that only cut off tra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rugu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895480" y="54100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609480" y="1447920"/>
            <a:ext cx="190512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b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g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eneg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a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 Ma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u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590920" y="1371600"/>
            <a:ext cx="182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car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z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a 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tem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nd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6400800" y="4876920"/>
            <a:ext cx="1752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Sh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Up To 31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0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mediate C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assination of Archduke Francis Ferdin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Gavrilo Princip, June 28th, 191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5"/>
          <p:cNvGrpSpPr/>
          <p:nvPr/>
        </p:nvGrpSpPr>
        <p:grpSpPr>
          <a:xfrm>
            <a:off x="5867280" y="2362320"/>
            <a:ext cx="3115440" cy="4253400"/>
            <a:chOff x="5867280" y="2362320"/>
            <a:chExt cx="3115440" cy="4253400"/>
          </a:xfrm>
        </p:grpSpPr>
        <p:pic>
          <p:nvPicPr>
            <p:cNvPr id="84" name="Picture 23" descr=""/>
            <p:cNvPicPr/>
            <p:nvPr/>
          </p:nvPicPr>
          <p:blipFill>
            <a:blip r:embed="rId2"/>
            <a:stretch/>
          </p:blipFill>
          <p:spPr>
            <a:xfrm>
              <a:off x="5867280" y="2362320"/>
              <a:ext cx="311328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4"/>
            <p:cNvSpPr/>
            <p:nvPr/>
          </p:nvSpPr>
          <p:spPr>
            <a:xfrm>
              <a:off x="5868360" y="609516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rchduke Ferdinan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29"/>
          <p:cNvGrpSpPr/>
          <p:nvPr/>
        </p:nvGrpSpPr>
        <p:grpSpPr>
          <a:xfrm>
            <a:off x="380880" y="2438280"/>
            <a:ext cx="5383440" cy="2457720"/>
            <a:chOff x="380880" y="2438280"/>
            <a:chExt cx="5383440" cy="2457720"/>
          </a:xfrm>
        </p:grpSpPr>
        <p:graphicFrame>
          <p:nvGraphicFramePr>
            <p:cNvPr id="87" name="Object 27"/>
            <p:cNvGraphicFramePr/>
            <p:nvPr/>
          </p:nvGraphicFramePr>
          <p:xfrm>
            <a:off x="380880" y="2438280"/>
            <a:ext cx="5383440" cy="2457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" name="Object 2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880" y="2438280"/>
                      <a:ext cx="5383440" cy="2457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" name="Text Box 28"/>
            <p:cNvSpPr/>
            <p:nvPr/>
          </p:nvSpPr>
          <p:spPr>
            <a:xfrm>
              <a:off x="4110840" y="3929040"/>
              <a:ext cx="1084320" cy="82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rst Bom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unsho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av. Prin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ca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the Archduke was killed, a series of events was set in motion, to change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-H declared war on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Russia mobilized to aid Ser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Germany aids A-H, declares war on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rance mobilizes to ai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Germany declares war on Fr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Germany invades Belg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UK declares war on Germa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OE mobilizes to aid Germany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Italy joins France, UK, and Russ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Bulgaria joins OE, Germany, and A-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US joins Italy, France, UK, and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1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ap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24"/>
          <p:cNvGrpSpPr/>
          <p:nvPr/>
        </p:nvGrpSpPr>
        <p:grpSpPr>
          <a:xfrm>
            <a:off x="457200" y="4724280"/>
            <a:ext cx="2752560" cy="1755360"/>
            <a:chOff x="457200" y="4724280"/>
            <a:chExt cx="2752560" cy="1755360"/>
          </a:xfrm>
        </p:grpSpPr>
        <p:pic>
          <p:nvPicPr>
            <p:cNvPr id="96" name="Picture 4" descr="j0336593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33520" y="4724280"/>
              <a:ext cx="2676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5"/>
            <p:cNvSpPr/>
            <p:nvPr/>
          </p:nvSpPr>
          <p:spPr>
            <a:xfrm>
              <a:off x="457200" y="60199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ubmar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25"/>
          <p:cNvGrpSpPr/>
          <p:nvPr/>
        </p:nvGrpSpPr>
        <p:grpSpPr>
          <a:xfrm>
            <a:off x="4495680" y="3962520"/>
            <a:ext cx="2536920" cy="2361960"/>
            <a:chOff x="4495680" y="3962520"/>
            <a:chExt cx="2536920" cy="2361960"/>
          </a:xfrm>
        </p:grpSpPr>
        <p:pic>
          <p:nvPicPr>
            <p:cNvPr id="99" name="Object 16" descr=""/>
            <p:cNvPicPr/>
            <p:nvPr/>
          </p:nvPicPr>
          <p:blipFill>
            <a:blip r:embed="rId4"/>
            <a:stretch/>
          </p:blipFill>
          <p:spPr>
            <a:xfrm>
              <a:off x="4495680" y="3962520"/>
              <a:ext cx="224964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7"/>
            <p:cNvSpPr/>
            <p:nvPr/>
          </p:nvSpPr>
          <p:spPr>
            <a:xfrm>
              <a:off x="6173640" y="487584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29"/>
          <p:cNvGrpSpPr/>
          <p:nvPr/>
        </p:nvGrpSpPr>
        <p:grpSpPr>
          <a:xfrm>
            <a:off x="3505320" y="2971800"/>
            <a:ext cx="1360440" cy="2058840"/>
            <a:chOff x="3505320" y="2971800"/>
            <a:chExt cx="1360440" cy="2058840"/>
          </a:xfrm>
        </p:grpSpPr>
        <p:pic>
          <p:nvPicPr>
            <p:cNvPr id="102" name="Picture 6" descr="MCBD10450_0000[1]"/>
            <p:cNvPicPr/>
            <p:nvPr/>
          </p:nvPicPr>
          <p:blipFill>
            <a:blip r:embed="rId5"/>
            <a:stretch/>
          </p:blipFill>
          <p:spPr>
            <a:xfrm>
              <a:off x="3505320" y="29718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9"/>
            <p:cNvSpPr/>
            <p:nvPr/>
          </p:nvSpPr>
          <p:spPr>
            <a:xfrm>
              <a:off x="3735720" y="45709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7391520" y="2971800"/>
            <a:ext cx="1371600" cy="1753920"/>
            <a:chOff x="7391520" y="2971800"/>
            <a:chExt cx="1371600" cy="1753920"/>
          </a:xfrm>
        </p:grpSpPr>
        <p:pic>
          <p:nvPicPr>
            <p:cNvPr id="105" name="Picture 7" descr="j0234317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7391520" y="2971800"/>
              <a:ext cx="1371600" cy="11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20"/>
            <p:cNvSpPr/>
            <p:nvPr/>
          </p:nvSpPr>
          <p:spPr>
            <a:xfrm>
              <a:off x="7545240" y="42660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ank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28"/>
          <p:cNvGrpSpPr/>
          <p:nvPr/>
        </p:nvGrpSpPr>
        <p:grpSpPr>
          <a:xfrm>
            <a:off x="3200400" y="1066680"/>
            <a:ext cx="1371600" cy="1449360"/>
            <a:chOff x="3200400" y="1066680"/>
            <a:chExt cx="1371600" cy="1449360"/>
          </a:xfrm>
        </p:grpSpPr>
        <p:pic>
          <p:nvPicPr>
            <p:cNvPr id="108" name="Picture 8" descr="MCj03119760000[1]"/>
            <p:cNvPicPr/>
            <p:nvPr/>
          </p:nvPicPr>
          <p:blipFill>
            <a:blip r:embed="rId8"/>
            <a:stretch/>
          </p:blipFill>
          <p:spPr>
            <a:xfrm>
              <a:off x="3200400" y="1066680"/>
              <a:ext cx="137160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21"/>
            <p:cNvSpPr/>
            <p:nvPr/>
          </p:nvSpPr>
          <p:spPr>
            <a:xfrm>
              <a:off x="3353040" y="205632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lim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30"/>
          <p:cNvGrpSpPr/>
          <p:nvPr/>
        </p:nvGrpSpPr>
        <p:grpSpPr>
          <a:xfrm>
            <a:off x="150840" y="1676520"/>
            <a:ext cx="2808000" cy="2592000"/>
            <a:chOff x="150840" y="1676520"/>
            <a:chExt cx="2808000" cy="2592000"/>
          </a:xfrm>
        </p:grpSpPr>
        <p:pic>
          <p:nvPicPr>
            <p:cNvPr id="111" name="Picture 9" descr=""/>
            <p:cNvPicPr/>
            <p:nvPr/>
          </p:nvPicPr>
          <p:blipFill>
            <a:blip r:embed="rId9"/>
            <a:stretch/>
          </p:blipFill>
          <p:spPr>
            <a:xfrm>
              <a:off x="304920" y="1676520"/>
              <a:ext cx="25527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2"/>
            <p:cNvSpPr/>
            <p:nvPr/>
          </p:nvSpPr>
          <p:spPr>
            <a:xfrm>
              <a:off x="150840" y="3808800"/>
              <a:ext cx="28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ng Range Artille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27"/>
          <p:cNvGrpSpPr/>
          <p:nvPr/>
        </p:nvGrpSpPr>
        <p:grpSpPr>
          <a:xfrm>
            <a:off x="6019920" y="990720"/>
            <a:ext cx="1752480" cy="1677600"/>
            <a:chOff x="6019920" y="990720"/>
            <a:chExt cx="1752480" cy="1677600"/>
          </a:xfrm>
        </p:grpSpPr>
        <p:pic>
          <p:nvPicPr>
            <p:cNvPr id="114" name="Picture 10" descr="j0356722"/>
            <p:cNvPicPr/>
            <p:nvPr/>
          </p:nvPicPr>
          <p:blipFill>
            <a:blip r:embed="rId10"/>
            <a:stretch/>
          </p:blipFill>
          <p:spPr>
            <a:xfrm>
              <a:off x="6019920" y="990720"/>
              <a:ext cx="175248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23"/>
            <p:cNvSpPr/>
            <p:nvPr/>
          </p:nvSpPr>
          <p:spPr>
            <a:xfrm>
              <a:off x="6096240" y="2208600"/>
              <a:ext cx="136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irpla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ld back the Germ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long the War (until better technolog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Naval Blockade in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76520"/>
            <a:ext cx="3962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entrate on the Western Fro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quer F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Two-Front W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restricted Submarine Warfare (naval subs could attack non-naval vesse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5800" y="9907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Ent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800600" y="990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iple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9" descr="Photo # NH 63367:  British battleship Dreadnought in harbor, circa 1906-07"/>
          <p:cNvPicPr/>
          <p:nvPr/>
        </p:nvPicPr>
        <p:blipFill>
          <a:blip r:embed="rId2"/>
          <a:stretch/>
        </p:blipFill>
        <p:spPr>
          <a:xfrm>
            <a:off x="457200" y="4343400"/>
            <a:ext cx="342900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44080" cy="69310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ghting Fro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3733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estern Front was between France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talian Front was between Aus.-Hun. and It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astern Front was between Russia and Germ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rmany wanted to avoid fighting on more than one fr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13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47242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00:08:39Z</dcterms:created>
  <dc:creator>Greg</dc:creator>
  <dc:description/>
  <dc:language>en-US</dc:language>
  <cp:lastModifiedBy>RomaK</cp:lastModifiedBy>
  <cp:lastPrinted>2009-01-22T12:50:56Z</cp:lastPrinted>
  <dcterms:modified xsi:type="dcterms:W3CDTF">2015-09-01T16:20:07Z</dcterms:modified>
  <cp:revision>20</cp:revision>
  <dc:subject/>
  <dc:title>No Slide Title</dc:title>
</cp:coreProperties>
</file>