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gif" ContentType="image/gif"/>
  <Override PartName="/ppt/media/image13.wmf" ContentType="image/x-wmf"/>
  <Override PartName="/ppt/media/image5.png" ContentType="image/png"/>
  <Override PartName="/ppt/media/image9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7.wmf" ContentType="image/x-wmf"/>
  <Override PartName="/ppt/media/image20.jpeg" ContentType="image/jpeg"/>
  <Override PartName="/ppt/media/image6.wmf" ContentType="image/x-wmf"/>
  <Override PartName="/ppt/media/image19.jpeg" ContentType="image/jpeg"/>
  <Override PartName="/ppt/media/image23.png" ContentType="image/png"/>
  <Override PartName="/ppt/media/image22.jpeg" ContentType="image/jpeg"/>
  <Override PartName="/ppt/media/image21.jpeg" ContentType="image/jpeg"/>
  <Override PartName="/ppt/media/image18.jpeg" ContentType="image/jpeg"/>
  <Override PartName="/ppt/media/image16.gif" ContentType="image/gif"/>
  <Override PartName="/ppt/media/image2.png" ContentType="image/png"/>
  <Override PartName="/ppt/media/image15.png" ContentType="image/png"/>
  <Override PartName="/ppt/media/image14.wmf" ContentType="image/x-wmf"/>
  <Override PartName="/ppt/media/image24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10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BD9C5-C9BB-4B32-B95D-68BD4C1855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LD WAR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AR TO END ALL WA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LD WAR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AR TO END ALL WA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usitan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usitania was a British cruise liner, sunk by a German U-boa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inking of the Lusitania, with 139 Americans on board (128 killed), prompted the United States to join the all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usitan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usitania was a British cruise liner, sunk by a German U-boa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inking of the Lusitania, with 139 Americans on board (128 killed), prompted the United States to join the all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Man’s 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 Man’s 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Man’s 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 Man’s 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 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llions Kil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nd 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illions Kil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 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nd 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 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nd 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 may sometimes be a necessary evil. But no matter how necessary, it is always an evil, never a good. We will not learn how to live together in peace by killing each other's children.” -Jimmy Car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nks For Watching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 may sometimes be a necessary evil. But no matter how necessary, it is always an evil, never a good. We will not learn how to live together in peace by killing each other's children.” -Jimmy Car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nks For Watching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ld War One includ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Conti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1 Count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5 Million Soldi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7 Million Casual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1,198 Deaths by G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,395 Allied and Neutral Ships Lo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86.3 Billion Financial Lo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ld War One includ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Conti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1 Count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5 Million Soldi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7 Million Casual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1,198 Deaths by G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,395 Allied and Neutral Ships Lo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86.3 Billion Financial Lo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uses of WW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Causes May Includ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ustrial R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litar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rm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ional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b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ianc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ple Alli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rmany, Aus.-Hun., Bulgaria, and Turk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ple Ent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bia, Russia, France, Great Britain, US,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uses of WW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ome Causes May Includ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dustrial R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ilitar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rm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tional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rb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llianc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riple Alli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rmany, Aus.-Hun., Bulgaria, and Turk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riple Ent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rbia, Russia, France, Great Britain, US,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ntries Invol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ied Count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ral Count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stria-Hung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rm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toman Empi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lga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ntries that only cut off trad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liv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u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rugu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b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ss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lg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at Brit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b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p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teneg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al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 Mar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rtug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man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caragu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az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sta 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uatema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it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ndur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Should Add Up To 31 Count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untries Invol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llied Count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entral Count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ustria-Hung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rm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ttoman Empi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ulga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untries that only cut off trad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liv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cu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e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Urugu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rb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uss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r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elg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reat Brit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b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ap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onteneg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tal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an Mar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ortug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oman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ree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U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u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icaragu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raz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i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sta 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uatema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ait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ondur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at Should Add Up To 31 Count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mediate Ca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assination of Archduke Francis Ferdin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Gavrilo Princip, June 28th, 191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mediate Ca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assination of Archduke Francis Ferdin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Gavrilo Princip, June 28th, 191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ca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the Archduke was killed, a series of events was set in motion, to change the worl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-H declared war on Serb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Russia mobilized to aid Serb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Germany aids A-H, declares war on Russ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France mobilizes to aid Russ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Germany declares war on Fra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Germany invades Belgi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 UK declares war on Germ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 OE mobilizes to aid Germany and A-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 Italy joins France, UK, and Russ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. Bulgaria joins OE, Germany, and A-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. US joins Italy, France, UK, and Russ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ca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the Archduke was killed, a series of events was set in motion, to change the worl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-H declared war on Serb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Russia mobilized to aid Serb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Germany aids A-H, declares war on Russ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France mobilizes to aid Russ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Germany declares war on Fra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Germany invades Belgi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 UK declares war on Germ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 OE mobilizes to aid Germany and A-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 Italy joins France, UK, and Russ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. Bulgaria joins OE, Germany, and A-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. US joins Italy, France, UK, and Russ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ap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eap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ld back the Germ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long the War (until better technolog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a Naval Blockade in pl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ntrate on the Western Fro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quer Fr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oid Two-Front W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Unrestricted Submarine Warfare (naval subs could attack non-naval vessel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ple Ent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ple Alli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ld back the Germ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long the War (until better technolog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a Naval Blockade in pl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ntrate on the Western Fro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quer Fr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oid Two-Front W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Unrestricted Submarine Warfare (naval subs could attack non-naval vessel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ple Ent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ple Alli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hting Fro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estern Front was between France and Germ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talian Front was between Aus.-Hun. and Ita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astern Front was between Russia and Germ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rmany wanted to avoid fighting on more than one fro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hting Fro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estern Front was between France and Germ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talian Front was between Aus.-Hun. and Ita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astern Front was between Russia and Germ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rmany wanted to avoid fighting on more than one fro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17ED-95F4-4771-9F74-5B18BC9D2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BEA7-AC03-49B2-A078-B8A603CAF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9B80-7ADE-48DC-9C2E-532203D5D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7C42-7B91-4F9F-B762-741C2D7B6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3447-136F-4562-89EB-C68AEB4BE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4B16-69D9-4CE9-9128-7B04CA2FF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FF37-E4CE-405B-B60A-07736E1D4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DA07-2B73-4117-8F99-4F2B3962E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E598-BB1E-4E4B-B98A-8B3444B68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F9B9-EA33-4805-B0FE-921CB4DCC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6330-2CE7-4958-B1F2-6305A57A0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0D4E-2A39-49D7-8881-05D212D07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F7886-2D12-4505-97CE-D42704D9BB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file:///tmp/home/.config/libreoffice/4/user/gallery/SN01134A.wav" TargetMode="External"/><Relationship Id="rId3" Type="http://schemas.openxmlformats.org/officeDocument/2006/relationships/image" Target="../media/image11.gif"/><Relationship Id="rId4" Type="http://schemas.openxmlformats.org/officeDocument/2006/relationships/image" Target="../media/image7.wmf"/><Relationship Id="rId5" Type="http://schemas.openxmlformats.org/officeDocument/2006/relationships/image" Target="../media/image12.wmf"/><Relationship Id="rId6" Type="http://schemas.openxmlformats.org/officeDocument/2006/relationships/hyperlink" Target="file:///tmp/home/.config/libreoffice/4/user/gallery/j0388271.wav" TargetMode="External"/><Relationship Id="rId7" Type="http://schemas.openxmlformats.org/officeDocument/2006/relationships/image" Target="../media/image13.wmf"/><Relationship Id="rId8" Type="http://schemas.openxmlformats.org/officeDocument/2006/relationships/image" Target="../media/image14.wmf"/><Relationship Id="rId9" Type="http://schemas.openxmlformats.org/officeDocument/2006/relationships/image" Target="../media/image15.png"/><Relationship Id="rId10" Type="http://schemas.openxmlformats.org/officeDocument/2006/relationships/image" Target="../media/image16.gi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244080" cy="693108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4"/>
          <p:cNvSpPr/>
          <p:nvPr/>
        </p:nvSpPr>
        <p:spPr>
          <a:xfrm>
            <a:off x="1695600" y="1231920"/>
            <a:ext cx="75484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457200" y="533520"/>
            <a:ext cx="525780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0000"/>
                </a:solidFill>
                <a:latin typeface="Arial Black"/>
              </a:rPr>
              <a:t>WORLD WAR I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0" y="2541600"/>
            <a:ext cx="4545000" cy="15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4952880" y="2743200"/>
            <a:ext cx="388620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HE WAR TO END ALL WAR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10" descr=""/>
          <p:cNvPicPr/>
          <p:nvPr/>
        </p:nvPicPr>
        <p:blipFill>
          <a:blip r:embed="rId2"/>
          <a:stretch/>
        </p:blipFill>
        <p:spPr>
          <a:xfrm>
            <a:off x="0" y="1851120"/>
            <a:ext cx="3716280" cy="5083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" descr=""/>
          <p:cNvPicPr/>
          <p:nvPr/>
        </p:nvPicPr>
        <p:blipFill>
          <a:blip r:embed="rId3"/>
          <a:stretch/>
        </p:blipFill>
        <p:spPr>
          <a:xfrm>
            <a:off x="4724280" y="3962520"/>
            <a:ext cx="3735360" cy="26175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2" descr=""/>
          <p:cNvPicPr/>
          <p:nvPr/>
        </p:nvPicPr>
        <p:blipFill>
          <a:blip r:embed="rId4"/>
          <a:stretch/>
        </p:blipFill>
        <p:spPr>
          <a:xfrm>
            <a:off x="6292800" y="0"/>
            <a:ext cx="292752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244080" cy="693108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usitan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380880" y="83808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usitania was a British cruise liner, sunk by a German U-bo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762120" y="4960080"/>
            <a:ext cx="7391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inking of the Lusitania, with 139 Americans on board (128 killed), prompted the United States to join the all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10" descr=""/>
          <p:cNvPicPr/>
          <p:nvPr/>
        </p:nvPicPr>
        <p:blipFill>
          <a:blip r:embed="rId2"/>
          <a:stretch/>
        </p:blipFill>
        <p:spPr>
          <a:xfrm>
            <a:off x="1600200" y="1295280"/>
            <a:ext cx="6095880" cy="35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0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244080" cy="693108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 Man’s L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3" descr=""/>
          <p:cNvPicPr/>
          <p:nvPr/>
        </p:nvPicPr>
        <p:blipFill>
          <a:blip r:embed="rId2"/>
          <a:stretch/>
        </p:blipFill>
        <p:spPr>
          <a:xfrm>
            <a:off x="533520" y="838080"/>
            <a:ext cx="8229600" cy="570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244080" cy="693108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 Man’s L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4" descr=""/>
          <p:cNvPicPr/>
          <p:nvPr/>
        </p:nvPicPr>
        <p:blipFill>
          <a:blip r:embed="rId2"/>
          <a:stretch/>
        </p:blipFill>
        <p:spPr>
          <a:xfrm>
            <a:off x="914400" y="990720"/>
            <a:ext cx="7162920" cy="55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244080" cy="693108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d Resul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3" descr="ypres-cemeteries1"/>
          <p:cNvPicPr/>
          <p:nvPr/>
        </p:nvPicPr>
        <p:blipFill>
          <a:blip r:embed="rId2"/>
          <a:stretch/>
        </p:blipFill>
        <p:spPr>
          <a:xfrm>
            <a:off x="762120" y="1676520"/>
            <a:ext cx="7848360" cy="499428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5"/>
          <p:cNvSpPr/>
          <p:nvPr/>
        </p:nvSpPr>
        <p:spPr>
          <a:xfrm>
            <a:off x="3238200" y="1043640"/>
            <a:ext cx="26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llions Kill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244080" cy="693108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d Resul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5" descr=""/>
          <p:cNvPicPr/>
          <p:nvPr/>
        </p:nvPicPr>
        <p:blipFill>
          <a:blip r:embed="rId2"/>
          <a:stretch/>
        </p:blipFill>
        <p:spPr>
          <a:xfrm>
            <a:off x="990720" y="990720"/>
            <a:ext cx="7848360" cy="54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244080" cy="693108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d Resul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icture 4" descr=""/>
          <p:cNvPicPr/>
          <p:nvPr/>
        </p:nvPicPr>
        <p:blipFill>
          <a:blip r:embed="rId2"/>
          <a:stretch/>
        </p:blipFill>
        <p:spPr>
          <a:xfrm>
            <a:off x="684360" y="1141560"/>
            <a:ext cx="7619760" cy="53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Times New Roman"/>
              </a:rPr>
              <a:t>The En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990360" y="3352680"/>
            <a:ext cx="7313400" cy="281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r may sometimes be a necessary evil. But no matter how necessary, it is always an evil, never a good. We will not learn how to live together in peace by killing each other's children.”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-Jimmy Car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2992680" y="2513520"/>
            <a:ext cx="316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anks For Watching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nodeType="clickEffect" fill="hold">
                      <p:stCondLst>
                        <p:cond delay="0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244080" cy="69310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tatist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ld War One includ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 Conti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1 Count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5 Million Soldi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7 Million Casual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1,198 Deaths by Ga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,395 Allied and Neutral Ships Los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$186.3 Billion Financial Lo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0" y="19080"/>
            <a:ext cx="924408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8"/>
          <p:cNvSpPr/>
          <p:nvPr/>
        </p:nvSpPr>
        <p:spPr>
          <a:xfrm>
            <a:off x="0" y="866880"/>
            <a:ext cx="924408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15"/>
          <p:cNvSpPr/>
          <p:nvPr/>
        </p:nvSpPr>
        <p:spPr>
          <a:xfrm>
            <a:off x="470160" y="2098800"/>
            <a:ext cx="4212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18"/>
          <p:cNvSpPr/>
          <p:nvPr/>
        </p:nvSpPr>
        <p:spPr>
          <a:xfrm>
            <a:off x="470160" y="2695680"/>
            <a:ext cx="4212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21"/>
          <p:cNvSpPr/>
          <p:nvPr/>
        </p:nvSpPr>
        <p:spPr>
          <a:xfrm>
            <a:off x="470160" y="3271680"/>
            <a:ext cx="4212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24"/>
          <p:cNvSpPr/>
          <p:nvPr/>
        </p:nvSpPr>
        <p:spPr>
          <a:xfrm>
            <a:off x="470160" y="3868560"/>
            <a:ext cx="4212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27"/>
          <p:cNvSpPr/>
          <p:nvPr/>
        </p:nvSpPr>
        <p:spPr>
          <a:xfrm>
            <a:off x="470160" y="4465800"/>
            <a:ext cx="4212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uses of WW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Causes May Includ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ustrial Rev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litari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rm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tionali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b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ianci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ple Alli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rmany, Aus.-Hun., Bulgaria, and Turk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ple Ent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bia, Russia, France, Great Britain, US,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Object 5" descr=""/>
          <p:cNvPicPr/>
          <p:nvPr/>
        </p:nvPicPr>
        <p:blipFill>
          <a:blip r:embed="rId2"/>
          <a:stretch/>
        </p:blipFill>
        <p:spPr>
          <a:xfrm>
            <a:off x="3352680" y="2133720"/>
            <a:ext cx="2389320" cy="2347920"/>
          </a:xfrm>
          <a:prstGeom prst="rect">
            <a:avLst/>
          </a:prstGeom>
          <a:ln w="0">
            <a:noFill/>
          </a:ln>
        </p:spPr>
      </p:pic>
      <p:pic>
        <p:nvPicPr>
          <p:cNvPr id="70" name="Object 6" descr=""/>
          <p:cNvPicPr/>
          <p:nvPr/>
        </p:nvPicPr>
        <p:blipFill>
          <a:blip r:embed="rId3"/>
          <a:stretch/>
        </p:blipFill>
        <p:spPr>
          <a:xfrm>
            <a:off x="6172200" y="1523880"/>
            <a:ext cx="254016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3108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untries Involv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838080"/>
            <a:ext cx="380988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ied Count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4876920" y="990720"/>
            <a:ext cx="3962160" cy="26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ntral Count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stria-Hung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rm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toman Empi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lg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7"/>
          <p:cNvSpPr/>
          <p:nvPr/>
        </p:nvSpPr>
        <p:spPr>
          <a:xfrm>
            <a:off x="4724280" y="3581280"/>
            <a:ext cx="3733920" cy="285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ntries that only cut off trad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liv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cu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rugu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9"/>
          <p:cNvSpPr/>
          <p:nvPr/>
        </p:nvSpPr>
        <p:spPr>
          <a:xfrm>
            <a:off x="2895480" y="541008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10"/>
          <p:cNvSpPr/>
          <p:nvPr/>
        </p:nvSpPr>
        <p:spPr>
          <a:xfrm>
            <a:off x="609480" y="1447920"/>
            <a:ext cx="190512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b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s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lg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eat Brit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p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nteneg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al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n Mar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rtug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ma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11"/>
          <p:cNvSpPr/>
          <p:nvPr/>
        </p:nvSpPr>
        <p:spPr>
          <a:xfrm>
            <a:off x="2590920" y="1371600"/>
            <a:ext cx="18288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ee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.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b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caragu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az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a 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atema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i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ndu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13"/>
          <p:cNvSpPr/>
          <p:nvPr/>
        </p:nvSpPr>
        <p:spPr>
          <a:xfrm>
            <a:off x="6400800" y="4876920"/>
            <a:ext cx="1752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Shoul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Up To 31 Coun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3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3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3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3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3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3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3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30" descr=""/>
          <p:cNvPicPr/>
          <p:nvPr/>
        </p:nvPicPr>
        <p:blipFill>
          <a:blip r:embed="rId1"/>
          <a:stretch/>
        </p:blipFill>
        <p:spPr>
          <a:xfrm>
            <a:off x="0" y="0"/>
            <a:ext cx="9244080" cy="693108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mediate C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assination of Archduke Francis Ferdin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Gavrilo Princip, June 28th, 1914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Group 25"/>
          <p:cNvGrpSpPr/>
          <p:nvPr/>
        </p:nvGrpSpPr>
        <p:grpSpPr>
          <a:xfrm>
            <a:off x="5867280" y="2362320"/>
            <a:ext cx="3115440" cy="4253400"/>
            <a:chOff x="5867280" y="2362320"/>
            <a:chExt cx="3115440" cy="4253400"/>
          </a:xfrm>
        </p:grpSpPr>
        <p:pic>
          <p:nvPicPr>
            <p:cNvPr id="84" name="Picture 23" descr=""/>
            <p:cNvPicPr/>
            <p:nvPr/>
          </p:nvPicPr>
          <p:blipFill>
            <a:blip r:embed="rId2"/>
            <a:stretch/>
          </p:blipFill>
          <p:spPr>
            <a:xfrm>
              <a:off x="5867280" y="2362320"/>
              <a:ext cx="3113280" cy="38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Text Box 24"/>
            <p:cNvSpPr/>
            <p:nvPr/>
          </p:nvSpPr>
          <p:spPr>
            <a:xfrm>
              <a:off x="5868360" y="6095160"/>
              <a:ext cx="311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rchduke Ferdinan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Group 29"/>
          <p:cNvGrpSpPr/>
          <p:nvPr/>
        </p:nvGrpSpPr>
        <p:grpSpPr>
          <a:xfrm>
            <a:off x="380880" y="2438280"/>
            <a:ext cx="5383440" cy="2457720"/>
            <a:chOff x="380880" y="2438280"/>
            <a:chExt cx="5383440" cy="2457720"/>
          </a:xfrm>
        </p:grpSpPr>
        <p:graphicFrame>
          <p:nvGraphicFramePr>
            <p:cNvPr id="87" name="Object 27"/>
            <p:cNvGraphicFramePr/>
            <p:nvPr/>
          </p:nvGraphicFramePr>
          <p:xfrm>
            <a:off x="380880" y="2438280"/>
            <a:ext cx="5383440" cy="2457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8" name="Object 2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80880" y="2438280"/>
                      <a:ext cx="5383440" cy="2457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9" name="Text Box 28"/>
            <p:cNvSpPr/>
            <p:nvPr/>
          </p:nvSpPr>
          <p:spPr>
            <a:xfrm>
              <a:off x="4110840" y="3929040"/>
              <a:ext cx="1084320" cy="82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irst Bom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Gunsho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Gav. Princi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244080" cy="69310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ca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68544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fter the Archduke was killed, a series of events was set in motion, to change the wor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A-H declared war on Serb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Russia mobilized to aid Serb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Germany aids A-H, declares war on Russ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France mobilizes to aid Russ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 Germany declares war on Fra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. Germany invades Belgiu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. UK declares war on German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 OE mobilizes to aid Germany and A-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. Italy joins France, UK, and Russ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. Bulgaria joins OE, Germany, and A-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. US joins Italy, France, UK, and Rus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0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31" descr=""/>
          <p:cNvPicPr/>
          <p:nvPr/>
        </p:nvPicPr>
        <p:blipFill>
          <a:blip r:embed="rId1"/>
          <a:stretch/>
        </p:blipFill>
        <p:spPr>
          <a:xfrm>
            <a:off x="0" y="0"/>
            <a:ext cx="9244080" cy="693108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ap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Group 24"/>
          <p:cNvGrpSpPr/>
          <p:nvPr/>
        </p:nvGrpSpPr>
        <p:grpSpPr>
          <a:xfrm>
            <a:off x="457200" y="4724280"/>
            <a:ext cx="2752560" cy="1755360"/>
            <a:chOff x="457200" y="4724280"/>
            <a:chExt cx="2752560" cy="1755360"/>
          </a:xfrm>
        </p:grpSpPr>
        <p:pic>
          <p:nvPicPr>
            <p:cNvPr id="96" name="Picture 4" descr="j0336593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533520" y="4724280"/>
              <a:ext cx="2676240" cy="125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5"/>
            <p:cNvSpPr/>
            <p:nvPr/>
          </p:nvSpPr>
          <p:spPr>
            <a:xfrm>
              <a:off x="457200" y="6019920"/>
              <a:ext cx="167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ubmarin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" name="Group 25"/>
          <p:cNvGrpSpPr/>
          <p:nvPr/>
        </p:nvGrpSpPr>
        <p:grpSpPr>
          <a:xfrm>
            <a:off x="4495680" y="3962520"/>
            <a:ext cx="2536920" cy="2361960"/>
            <a:chOff x="4495680" y="3962520"/>
            <a:chExt cx="2536920" cy="2361960"/>
          </a:xfrm>
        </p:grpSpPr>
        <p:pic>
          <p:nvPicPr>
            <p:cNvPr id="99" name="Object 16" descr=""/>
            <p:cNvPicPr/>
            <p:nvPr/>
          </p:nvPicPr>
          <p:blipFill>
            <a:blip r:embed="rId4"/>
            <a:stretch/>
          </p:blipFill>
          <p:spPr>
            <a:xfrm>
              <a:off x="4495680" y="3962520"/>
              <a:ext cx="2249640" cy="23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 Box 17"/>
            <p:cNvSpPr/>
            <p:nvPr/>
          </p:nvSpPr>
          <p:spPr>
            <a:xfrm>
              <a:off x="6173640" y="4875840"/>
              <a:ext cx="85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hip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Group 29"/>
          <p:cNvGrpSpPr/>
          <p:nvPr/>
        </p:nvGrpSpPr>
        <p:grpSpPr>
          <a:xfrm>
            <a:off x="3505320" y="2971800"/>
            <a:ext cx="1360440" cy="2058840"/>
            <a:chOff x="3505320" y="2971800"/>
            <a:chExt cx="1360440" cy="2058840"/>
          </a:xfrm>
        </p:grpSpPr>
        <p:pic>
          <p:nvPicPr>
            <p:cNvPr id="102" name="Picture 6" descr="MCBD10450_0000[1]"/>
            <p:cNvPicPr/>
            <p:nvPr/>
          </p:nvPicPr>
          <p:blipFill>
            <a:blip r:embed="rId5"/>
            <a:stretch/>
          </p:blipFill>
          <p:spPr>
            <a:xfrm>
              <a:off x="3505320" y="2971800"/>
              <a:ext cx="136044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 Box 19"/>
            <p:cNvSpPr/>
            <p:nvPr/>
          </p:nvSpPr>
          <p:spPr>
            <a:xfrm>
              <a:off x="3735720" y="457092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G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Group 26"/>
          <p:cNvGrpSpPr/>
          <p:nvPr/>
        </p:nvGrpSpPr>
        <p:grpSpPr>
          <a:xfrm>
            <a:off x="7391520" y="2971800"/>
            <a:ext cx="1371600" cy="1753920"/>
            <a:chOff x="7391520" y="2971800"/>
            <a:chExt cx="1371600" cy="1753920"/>
          </a:xfrm>
        </p:grpSpPr>
        <p:pic>
          <p:nvPicPr>
            <p:cNvPr id="105" name="Picture 7" descr="j0234317">
              <a:hlinkClick r:id="rId6"/>
            </p:cNvPr>
            <p:cNvPicPr/>
            <p:nvPr/>
          </p:nvPicPr>
          <p:blipFill>
            <a:blip r:embed="rId7"/>
            <a:stretch/>
          </p:blipFill>
          <p:spPr>
            <a:xfrm>
              <a:off x="7391520" y="2971800"/>
              <a:ext cx="1371600" cy="11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 Box 20"/>
            <p:cNvSpPr/>
            <p:nvPr/>
          </p:nvSpPr>
          <p:spPr>
            <a:xfrm>
              <a:off x="7545240" y="4266000"/>
              <a:ext cx="925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ank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Group 28"/>
          <p:cNvGrpSpPr/>
          <p:nvPr/>
        </p:nvGrpSpPr>
        <p:grpSpPr>
          <a:xfrm>
            <a:off x="3200400" y="1066680"/>
            <a:ext cx="1371600" cy="1449360"/>
            <a:chOff x="3200400" y="1066680"/>
            <a:chExt cx="1371600" cy="1449360"/>
          </a:xfrm>
        </p:grpSpPr>
        <p:pic>
          <p:nvPicPr>
            <p:cNvPr id="108" name="Picture 8" descr="MCj03119760000[1]"/>
            <p:cNvPicPr/>
            <p:nvPr/>
          </p:nvPicPr>
          <p:blipFill>
            <a:blip r:embed="rId8"/>
            <a:stretch/>
          </p:blipFill>
          <p:spPr>
            <a:xfrm>
              <a:off x="3200400" y="1066680"/>
              <a:ext cx="1371600" cy="92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Text Box 21"/>
            <p:cNvSpPr/>
            <p:nvPr/>
          </p:nvSpPr>
          <p:spPr>
            <a:xfrm>
              <a:off x="3353040" y="2056320"/>
              <a:ext cx="106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limp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Group 30"/>
          <p:cNvGrpSpPr/>
          <p:nvPr/>
        </p:nvGrpSpPr>
        <p:grpSpPr>
          <a:xfrm>
            <a:off x="150840" y="1676520"/>
            <a:ext cx="2808000" cy="2592000"/>
            <a:chOff x="150840" y="1676520"/>
            <a:chExt cx="2808000" cy="2592000"/>
          </a:xfrm>
        </p:grpSpPr>
        <p:pic>
          <p:nvPicPr>
            <p:cNvPr id="111" name="Picture 9" descr=""/>
            <p:cNvPicPr/>
            <p:nvPr/>
          </p:nvPicPr>
          <p:blipFill>
            <a:blip r:embed="rId9"/>
            <a:stretch/>
          </p:blipFill>
          <p:spPr>
            <a:xfrm>
              <a:off x="304920" y="1676520"/>
              <a:ext cx="2552760" cy="204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Text Box 22"/>
            <p:cNvSpPr/>
            <p:nvPr/>
          </p:nvSpPr>
          <p:spPr>
            <a:xfrm>
              <a:off x="150840" y="3808800"/>
              <a:ext cx="280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ong Range Artille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Group 27"/>
          <p:cNvGrpSpPr/>
          <p:nvPr/>
        </p:nvGrpSpPr>
        <p:grpSpPr>
          <a:xfrm>
            <a:off x="6019920" y="990720"/>
            <a:ext cx="1752480" cy="1677600"/>
            <a:chOff x="6019920" y="990720"/>
            <a:chExt cx="1752480" cy="1677600"/>
          </a:xfrm>
        </p:grpSpPr>
        <p:pic>
          <p:nvPicPr>
            <p:cNvPr id="114" name="Picture 10" descr="j0356722"/>
            <p:cNvPicPr/>
            <p:nvPr/>
          </p:nvPicPr>
          <p:blipFill>
            <a:blip r:embed="rId10"/>
            <a:stretch/>
          </p:blipFill>
          <p:spPr>
            <a:xfrm>
              <a:off x="6019920" y="990720"/>
              <a:ext cx="175248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Text Box 23"/>
            <p:cNvSpPr/>
            <p:nvPr/>
          </p:nvSpPr>
          <p:spPr>
            <a:xfrm>
              <a:off x="6096240" y="2208600"/>
              <a:ext cx="136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irplan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0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244080" cy="693108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3809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ld back the Germ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long the War (until better technolog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ve a Naval Blockade in pl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48320" y="1676520"/>
            <a:ext cx="39621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centrate on the Western Fro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quer Fr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oid Two-Front W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Unrestricted Submarine Warfare (naval subs could attack non-naval vessel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685800" y="99072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iple Ent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4800600" y="99072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iple Alli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9" descr="Photo # NH 63367:  British battleship Dreadnought in harbor, circa 1906-07"/>
          <p:cNvPicPr/>
          <p:nvPr/>
        </p:nvPicPr>
        <p:blipFill>
          <a:blip r:embed="rId2"/>
          <a:stretch/>
        </p:blipFill>
        <p:spPr>
          <a:xfrm>
            <a:off x="457200" y="4343400"/>
            <a:ext cx="3429000" cy="23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0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244080" cy="693108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ghting Fro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7339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Western Front was between France and Germ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Italian Front was between Aus.-Hun. and Ita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Eastern Front was between Russia and Germ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rmany wanted to avoid fighting on more than one fro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13" descr=""/>
          <p:cNvPicPr/>
          <p:nvPr/>
        </p:nvPicPr>
        <p:blipFill>
          <a:blip r:embed="rId2"/>
          <a:stretch/>
        </p:blipFill>
        <p:spPr>
          <a:xfrm>
            <a:off x="4419720" y="990720"/>
            <a:ext cx="47242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7T00:08:39Z</dcterms:created>
  <dc:creator>Greg</dc:creator>
  <dc:description/>
  <dc:language>en-US</dc:language>
  <cp:lastModifiedBy>RomaK</cp:lastModifiedBy>
  <cp:lastPrinted>2009-01-22T12:50:56Z</cp:lastPrinted>
  <dcterms:modified xsi:type="dcterms:W3CDTF">2015-09-01T16:20:07Z</dcterms:modified>
  <cp:revision>20</cp:revision>
  <dc:subject/>
  <dc:title>No Slide Title</dc:title>
</cp:coreProperties>
</file>