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7C77-3AB7-4B8D-AE17-5FEE78B338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gdom Protist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  The Catch-All Kingdom” Protozo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dom Protis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  The Catch-All Kingdom” Protozo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ylum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0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moeb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seudopodia – most mo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ytoplasmic strea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at other prot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ological roles: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rams – tests made from caco3 – sink to bottom and make limestone and chalk deposi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adiolaria – t4ests made form sio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use diseases like amebic dysent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0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oeb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eudopodia – most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toplasmic strea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t other pro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ological role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ams – tests made from caco3 – sink to bottom and make limestone and chalk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diolaria – t4ests made form si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use diseases like amebic dys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um Ciliopho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using cil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llicle, oral groove, gullet, macronucleus, micronucle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mec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Cili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using ci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llicle, oral groove, gullet, macronucleus, micro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ylum Zoomastig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,5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ve using flagel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st free-liv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use disease – zooflagell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frican trypanosomiasis – sleeping sickness – tsetse f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gas Disease – kissing bu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ishmaniasis – sand f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iardi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Zoomastig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,5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e using 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free-l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use disease – zooflagel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rican trypanosomiasis – sleeping sickness – tsetse 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gas Disease – kissing b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ishmaniasis – sand 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ardi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setse fly – sleeping sickness ve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setse fly – sleeping sickness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Kissing Bu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Kissing B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ishmani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ishmani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 cel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scop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independently – named for mechanism of mov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5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heterotroph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-living or parasi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capable of asexual reproduction through binary or multiple fi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reproduce sexually through conjug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ce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independently – named for mechanism of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5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eter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-living or parasi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apable of asexual reproduction through binary or multiple 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produce sexually through 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um Sporoz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ied in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use disease like toxoplasmosis and mal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 malaria cycle!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Spor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in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disease like toxoplasmosis and 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malaria cycle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inar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n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gon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exual reproduction in multiple fission, as in Mal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izogo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 in multiple fission, as in 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ly based on HOW they MO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iewing this by looking at phylogen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based on HOW they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ing this by looking at phyloge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 Phyla of Protozoan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iliopho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Zoomastig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oroz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Phyla of Protozoa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li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oomastig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or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siological mechanisms, like eyespo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 nucle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ological mechanisms, like eyesp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olution of Protis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karyotes – 3.5 b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ukaryotes – 1.5 b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zoan thought to be descendents of first eukary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 of Prot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karyotes – 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karyotes – 1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zoan thought to be descendents of first eu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E1E2-7D5E-4579-A090-19684469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EEDE-F58B-43BC-B919-34ECB21F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FD8C-9950-4BC8-8DE5-180820B14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A3D0-C9ED-40A3-B0F2-E234C8EA0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63B6-0A8C-489E-A476-15797957E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897A-FBA6-430C-97A2-446D32C3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5978-3530-4DA4-9C82-884DF73D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1389-BB7B-4F8E-92F8-157EA5EA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27E8-6A9C-4169-8D23-3D07E93F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1BC3-BCD6-4A4B-BFA9-1630F66D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5C34-17AA-4171-BFE7-797B7DE3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6797-8625-4E8C-A02D-757E2468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BCC1-E800-4ADF-B477-208DE0E4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D9E1-2C4F-4AB1-B42C-59AD33FA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164B-672A-41FE-929E-4404ECD3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9388-70EE-45A3-9F9A-BF5624A8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E377-B20B-4A90-BA34-175B9035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7D1C-7977-43C0-A7E4-BDBAF15E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7AC7-9472-497F-A101-FBAD0B61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84C2-3E74-49AC-A2F0-0587A50C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AECE-9277-4598-A03F-DE6F94A9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AF27-F90D-44A2-8BD3-0248E00E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ACBB-32A6-42A7-988C-69911D86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F524-CF3D-45FE-83AE-B507025D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6E3C-8101-4D02-A706-7645AFEB8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2EF2-4929-49BF-A753-1480B5DD9F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8000" spc="-1" strike="noStrike">
                <a:solidFill>
                  <a:srgbClr val="cc0099"/>
                </a:solidFill>
                <a:latin typeface="Baskerville Old Face"/>
              </a:rPr>
              <a:t>Kingdom Protista</a:t>
            </a:r>
            <a:br>
              <a:rPr sz="8000"/>
            </a:br>
            <a:r>
              <a:rPr b="0" lang="en-US" sz="8000" spc="-1" strike="noStrike">
                <a:solidFill>
                  <a:srgbClr val="cc0099"/>
                </a:solidFill>
                <a:latin typeface="Baskerville Old Face"/>
              </a:rPr>
              <a:t>“  The Catch-All Kingdom” Protozoans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ndosymbiotic The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5" descr="endosymbiosisnice2"/>
          <p:cNvPicPr/>
          <p:nvPr/>
        </p:nvPicPr>
        <p:blipFill>
          <a:blip r:embed="rId1"/>
          <a:stretch/>
        </p:blipFill>
        <p:spPr>
          <a:xfrm>
            <a:off x="457200" y="1600200"/>
            <a:ext cx="8381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13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Arial"/>
              </a:rPr>
              <a:t>Phylums…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arcodi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,000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eb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eudopodia – most m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toplasmic strea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t other prot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logical role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ams – tests made from caco3 – sink to bottom and make limestone and chalk depos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olaria – t4ests made form sio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 diseases like amebic dysen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phylumsarcodina"/>
          <p:cNvPicPr/>
          <p:nvPr/>
        </p:nvPicPr>
        <p:blipFill>
          <a:blip r:embed="rId1"/>
          <a:stretch/>
        </p:blipFill>
        <p:spPr>
          <a:xfrm>
            <a:off x="1447920" y="1282680"/>
            <a:ext cx="662940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ylum Ciliopho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,000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 using ci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llicle, oral groove, gullet, macronucleus, micro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mec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paramecium1"/>
          <p:cNvPicPr/>
          <p:nvPr/>
        </p:nvPicPr>
        <p:blipFill>
          <a:blip r:embed="rId1"/>
          <a:stretch/>
        </p:blipFill>
        <p:spPr>
          <a:xfrm>
            <a:off x="914400" y="676440"/>
            <a:ext cx="644364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ylum Zoomastigi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,500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using flag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free-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 disease – zooflagell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rican trypanosomiasis – sleeping sickness – tsetse f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gas Disease – kissing b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ishmaniasis – sand f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ardi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tsetse2"/>
          <p:cNvPicPr/>
          <p:nvPr/>
        </p:nvPicPr>
        <p:blipFill>
          <a:blip r:embed="rId1"/>
          <a:stretch/>
        </p:blipFill>
        <p:spPr>
          <a:xfrm>
            <a:off x="2438280" y="1752480"/>
            <a:ext cx="4800600" cy="40928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tsetse fly – sleeping sickness vecto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Kissing Bu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image001"/>
          <p:cNvPicPr/>
          <p:nvPr/>
        </p:nvPicPr>
        <p:blipFill>
          <a:blip r:embed="rId1"/>
          <a:stretch/>
        </p:blipFill>
        <p:spPr>
          <a:xfrm>
            <a:off x="1828800" y="1752480"/>
            <a:ext cx="6095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ishmania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figure1"/>
          <p:cNvPicPr/>
          <p:nvPr/>
        </p:nvPicPr>
        <p:blipFill>
          <a:blip r:embed="rId1"/>
          <a:stretch/>
        </p:blipFill>
        <p:spPr>
          <a:xfrm>
            <a:off x="1371600" y="1752480"/>
            <a:ext cx="61056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ce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independently – named for mechanism of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5,000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heterotroph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-living or parasi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capable of asexual reproduction through binary or multiple f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reproduce sexually through conju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ylum Sporozo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,000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ied in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 disease like toxoplasmosis and mal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 malaria cycle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5" descr="malaria_LifeCyc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pconjugation"/>
          <p:cNvPicPr/>
          <p:nvPr/>
        </p:nvPicPr>
        <p:blipFill>
          <a:blip r:embed="rId1"/>
          <a:stretch/>
        </p:blipFill>
        <p:spPr>
          <a:xfrm>
            <a:off x="609480" y="1676520"/>
            <a:ext cx="8077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a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Prot016b"/>
          <p:cNvPicPr/>
          <p:nvPr/>
        </p:nvPicPr>
        <p:blipFill>
          <a:blip r:embed="rId1"/>
          <a:stretch/>
        </p:blipFill>
        <p:spPr>
          <a:xfrm>
            <a:off x="380880" y="1371600"/>
            <a:ext cx="3181320" cy="4762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olih023p"/>
          <p:cNvPicPr/>
          <p:nvPr/>
        </p:nvPicPr>
        <p:blipFill>
          <a:blip r:embed="rId2"/>
          <a:stretch/>
        </p:blipFill>
        <p:spPr>
          <a:xfrm>
            <a:off x="4191120" y="2209680"/>
            <a:ext cx="42861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hizogon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sexual reproduction in multiple fission, as in Malar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urrently based on HOW they MO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viewing this by looking at phylogen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4 Phyla of Protozoans</a:t>
            </a:r>
            <a:br>
              <a:rPr sz="40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arcodin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iliophor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Zoomastigin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porozo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dapt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hysiological mechanisms, like eyespo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rm cys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ultiple nucle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volution of Protis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karyotes – 3.5 b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karyotes – 1.5 b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zoan thought to be descendents of first eukary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osymbiotic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13:08:46Z</dcterms:created>
  <dc:creator>teacher</dc:creator>
  <dc:description>Kingdom Protista  “  The Catch-All Kingdom” Protozoans</dc:description>
  <cp:keywords>Kingdom Protista  “  The Catch-All Kingdom” Protozoans</cp:keywords>
  <dc:language>en-US</dc:language>
  <cp:lastModifiedBy>RomaK</cp:lastModifiedBy>
  <dcterms:modified xsi:type="dcterms:W3CDTF">2015-09-04T10:52:44Z</dcterms:modified>
  <cp:revision>9</cp:revision>
  <dc:subject/>
  <dc:title>Kingdom Protista  “  The Catch-All Kingdom” Protozoans</dc:title>
</cp:coreProperties>
</file>