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159B-CB11-4639-B34F-E4F55C3CE5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FA9-A0DB-4A59-985E-D3870AE1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322D-8D37-4AA0-9340-BDBF6E92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23C-8841-4E39-9A7C-A22E0197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A69-2815-4EE7-AA80-67C7931D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1FF5-4478-4980-8A2E-3B248E4F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4AD4-19A8-47C3-9477-6F993ACD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75C5-CFEE-479E-8ABF-011393A4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82C1-9E3D-41D7-92E0-D99113B3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4C94-205D-45EB-B495-838F4AAC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6EA2-17A2-4B6A-9CB5-A3ACFDFA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A562-9685-4328-A117-4947ADB1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530-6B7C-468C-B148-A2EF4B5B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37B9-FB44-44E9-8683-C7FF8D9E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353F-A06A-4B2F-B422-60B37F11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4852-E536-446B-83EB-4F30F64F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4416-58BC-4454-9E2F-AE046C66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B746-7764-4425-86FD-B1BBA537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050C-CBDE-451F-A851-D011503E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355-41B9-4034-912E-EDBC5894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EC70-09DE-40E6-AD0F-6C5957FD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9FB8-7FB5-41D3-A003-262747ED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76CB-A1F8-4FA5-9E2D-29D9FB70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B218-85F4-4652-AB52-2FAE6A05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2C4C-9E83-4AE0-A730-CF90EE60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ACE9-6DE9-4164-B75F-225A32486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483F-1E20-499E-B4C9-2C90CCEBEA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Kingdom Protista</a:t>
            </a:r>
            <a:br>
              <a:rPr sz="80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“  The Catch-All Kingdom” Protozoan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ndosymbiotic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5" descr="endosymbiosisnice2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3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Phylums…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rcod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phylumsarcodina"/>
          <p:cNvPicPr/>
          <p:nvPr/>
        </p:nvPicPr>
        <p:blipFill>
          <a:blip r:embed="rId1"/>
          <a:stretch/>
        </p:blipFill>
        <p:spPr>
          <a:xfrm>
            <a:off x="1447920" y="1282680"/>
            <a:ext cx="66294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Ciliopho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paramecium1"/>
          <p:cNvPicPr/>
          <p:nvPr/>
        </p:nvPicPr>
        <p:blipFill>
          <a:blip r:embed="rId1"/>
          <a:stretch/>
        </p:blipFill>
        <p:spPr>
          <a:xfrm>
            <a:off x="914400" y="676440"/>
            <a:ext cx="64436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Zoomastig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tsetse2"/>
          <p:cNvPicPr/>
          <p:nvPr/>
        </p:nvPicPr>
        <p:blipFill>
          <a:blip r:embed="rId1"/>
          <a:stretch/>
        </p:blipFill>
        <p:spPr>
          <a:xfrm>
            <a:off x="2438280" y="1752480"/>
            <a:ext cx="4800600" cy="40928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setse fly – sleeping sickness vec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issing Bu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image001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ishmania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figure1"/>
          <p:cNvPicPr/>
          <p:nvPr/>
        </p:nvPicPr>
        <p:blipFill>
          <a:blip r:embed="rId1"/>
          <a:stretch/>
        </p:blipFill>
        <p:spPr>
          <a:xfrm>
            <a:off x="1371600" y="1752480"/>
            <a:ext cx="61056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Sporozo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malaria_Life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pconjugation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Prot016b"/>
          <p:cNvPicPr/>
          <p:nvPr/>
        </p:nvPicPr>
        <p:blipFill>
          <a:blip r:embed="rId1"/>
          <a:stretch/>
        </p:blipFill>
        <p:spPr>
          <a:xfrm>
            <a:off x="380880" y="1371600"/>
            <a:ext cx="3181320" cy="4762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olih023p"/>
          <p:cNvPicPr/>
          <p:nvPr/>
        </p:nvPicPr>
        <p:blipFill>
          <a:blip r:embed="rId2"/>
          <a:stretch/>
        </p:blipFill>
        <p:spPr>
          <a:xfrm>
            <a:off x="4191120" y="2209680"/>
            <a:ext cx="42861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hizogon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4 Phyla of Protozoans</a:t>
            </a:r>
            <a:br>
              <a:rPr sz="40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dap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olution of Protis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3:08:46Z</dcterms:created>
  <dc:creator>teacher</dc:creator>
  <dc:description>Kingdom Protista  “  The Catch-All Kingdom” Protozoans</dc:description>
  <cp:keywords>Kingdom Protista  “  The Catch-All Kingdom” Protozoans</cp:keywords>
  <dc:language>en-US</dc:language>
  <cp:lastModifiedBy>RomaK</cp:lastModifiedBy>
  <dcterms:modified xsi:type="dcterms:W3CDTF">2015-09-04T10:52:44Z</dcterms:modified>
  <cp:revision>9</cp:revision>
  <dc:subject/>
  <dc:title>Kingdom Protista  “  The Catch-All Kingdom” Protozoans</dc:title>
</cp:coreProperties>
</file>