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B18F8-7D4E-427D-8ABF-FD18384957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ingdom Protista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  The Catch-All Kingdom” Protozoa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dom Protist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  The Catch-All Kingdom” Protozo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ndosymbiotic The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symbiotic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hylum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arcodi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40,000 spec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moeb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seudopodia – most mo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ytoplasmic stream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at other proti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cological roles: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orams – tests made from caco3 – sink to bottom and make limestone and chalk deposi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adiolaria – t4ests made form sio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use diseases like amebic dysenta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rcod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0,000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oeb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seudopodia – most m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toplasmic strea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t other prot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cological role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ams – tests made from caco3 – sink to bottom and make limestone and chalk depos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diolaria – t4ests made form si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use diseases like amebic dysen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ylum Ciliopho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,000 spec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 using cil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llicle, oral groove, gullet, macronucleus, micronucle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amec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lum Cilioph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,000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using ci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llicle, oral groove, gullet, macronucleus, micro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c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hylum Zoomastigi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,500 spec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ove using flagell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ost free-liv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use disease – zooflagella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frican trypanosomiasis – sleeping sickness – tsetse f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agas Disease – kissing bu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eishmaniasis – sand f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iardia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Zoomastig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,500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ve using flage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st free-li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use disease – zooflagel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frican trypanosomiasis – sleeping sickness – tsetse f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gas Disease – kissing b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ishmaniasis – sand f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iardi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tsetse fly – sleeping sickness vec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setse fly – sleeping sickness v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e Kissing Bu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Kissing B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eishmania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ishmani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cteristi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gle cell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scop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 independently – named for mechanism of move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5,000 spec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st heterotroph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ee-living or parasit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 capable of asexual reproduction through binary or multiple fis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reproduce sexually through conjug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ce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cop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independently – named for mechanism of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5,000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heterotroph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-living or parasi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apable of asexual reproduction through binary or multiple f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eproduce sexually through conju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ylum Sporozo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,000 spec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ried in blo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use disease like toxoplasmosis and mala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now malaria cycle!!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lum Sporo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,000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d in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disease like toxoplasmosis and mal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 malaria cycle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sexual reprod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inar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s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na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gon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exual reproduction in multiple fission, as in Mala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izogon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 in multiple fission, as in Mal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assif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rrently based on HOW they MO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viewing this by looking at phylogen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ly based on HOW they M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ing this by looking at phyloge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4 Phyla of Protozoans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arcodi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iliopho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Zoomastigi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porozo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 Phyla of Protozoa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rcod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ilioph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oomastig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oro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apt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ysiological mechanisms, like eyespo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 cy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ltiple nucle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ological mechanisms, like eyesp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cy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nucl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olution of Protis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karyotes – 3.5 billion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ukaryotes – 1.5 billion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ozoan thought to be descendents of first eukaryo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osymbiotic The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ution of Proti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karyotes – 3.5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karyotes – 1.5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zoan thought to be descendents of first eukary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ymbiotic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29F7-4D1A-4006-AF6B-D81A3D5F3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2BCF-1F7C-418E-A15F-BCE7AEB5D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42BA-C36A-477D-BFFD-926E3468A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3D50-A71A-42BA-8D09-868CE61ED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E8B4D-89CC-43B9-B1B7-4F1AF7916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08E66-C531-4D91-8CE5-CD1D87BC3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9A4DF-276F-478F-AD12-426823C54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AB3A4-A0D1-4A62-B155-D805C1145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C1B83-374F-42B0-9649-04BF43B7A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DBD0D-56DA-4092-B32C-151A1F5A8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0A489-477A-41F6-B24B-28BFFFB2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3763-F609-4DF4-BDC9-AC2E4AF4A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AF55B-8365-4F6C-91F6-C7EC4BA5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210EE-9E2D-4D48-9246-DCAE0540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AC0C3-5710-433D-8B59-AEB2A414C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E5962-9F95-4BF8-B7B9-0AE2C0489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46255-AED2-4667-8CC1-6ECF3A988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9CA0-B96A-464C-919A-13461229D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31FA-2123-4FA3-8BB7-D15466F32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0AD8-C665-44F3-9A78-341D325DD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394D-0E95-4E81-A001-C292FA1BB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F8E4-35EE-4EC5-9559-F9E9D7EC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1F1E-2CA2-47C1-886C-5B5968EB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E4F2-C3CE-4651-BAC8-B1A6FD49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3C2A9-93E8-4A74-961E-8D6D0DA57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9E0E9-972F-4AB4-8EDC-46624B5C1C8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0" lang="en-US" sz="8000" spc="-1" strike="noStrike">
                <a:solidFill>
                  <a:srgbClr val="cc0099"/>
                </a:solidFill>
                <a:latin typeface="Baskerville Old Face"/>
              </a:rPr>
              <a:t>Kingdom Protista</a:t>
            </a:r>
            <a:br>
              <a:rPr sz="8000"/>
            </a:br>
            <a:r>
              <a:rPr b="0" lang="en-US" sz="8000" spc="-1" strike="noStrike">
                <a:solidFill>
                  <a:srgbClr val="cc0099"/>
                </a:solidFill>
                <a:latin typeface="Baskerville Old Face"/>
              </a:rPr>
              <a:t>“  The Catch-All Kingdom” Protozoans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ndosymbiotic The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5" descr="endosymbiosisnice2"/>
          <p:cNvPicPr/>
          <p:nvPr/>
        </p:nvPicPr>
        <p:blipFill>
          <a:blip r:embed="rId1"/>
          <a:stretch/>
        </p:blipFill>
        <p:spPr>
          <a:xfrm>
            <a:off x="457200" y="1600200"/>
            <a:ext cx="83818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132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66"/>
                </a:solidFill>
                <a:latin typeface="Arial"/>
              </a:rPr>
              <a:t>Phylums…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arcodin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0,000 spe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oeb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eudopodia – most m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ytoplasmic stream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t other prot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ological roles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ams – tests made from caco3 – sink to bottom and make limestone and chalk depos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diolaria – t4ests made form sio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e diseases like amebic dysent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5" descr="phylumsarcodina"/>
          <p:cNvPicPr/>
          <p:nvPr/>
        </p:nvPicPr>
        <p:blipFill>
          <a:blip r:embed="rId1"/>
          <a:stretch/>
        </p:blipFill>
        <p:spPr>
          <a:xfrm>
            <a:off x="1447920" y="1282680"/>
            <a:ext cx="6629400" cy="45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ylum Ciliopho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,000 spe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 using cil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llicle, oral groove, gullet, macronucleus, micronucle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mec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5" descr="paramecium1"/>
          <p:cNvPicPr/>
          <p:nvPr/>
        </p:nvPicPr>
        <p:blipFill>
          <a:blip r:embed="rId1"/>
          <a:stretch/>
        </p:blipFill>
        <p:spPr>
          <a:xfrm>
            <a:off x="914400" y="676440"/>
            <a:ext cx="6443640" cy="45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ylum Zoomastigin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,500 spe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ve using flagel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free-l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e disease – zooflagell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rican trypanosomiasis – sleeping sickness – tsetse f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gas Disease – kissing bu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ishmaniasis – sand f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ardi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5" descr="tsetse2"/>
          <p:cNvPicPr/>
          <p:nvPr/>
        </p:nvPicPr>
        <p:blipFill>
          <a:blip r:embed="rId1"/>
          <a:stretch/>
        </p:blipFill>
        <p:spPr>
          <a:xfrm>
            <a:off x="2438280" y="1752480"/>
            <a:ext cx="4800600" cy="409284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e tsetse fly – sleeping sickness vecto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Kissing Bu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5" descr="image001"/>
          <p:cNvPicPr/>
          <p:nvPr/>
        </p:nvPicPr>
        <p:blipFill>
          <a:blip r:embed="rId1"/>
          <a:stretch/>
        </p:blipFill>
        <p:spPr>
          <a:xfrm>
            <a:off x="1828800" y="1752480"/>
            <a:ext cx="60958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eishmanias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5" descr="figure1"/>
          <p:cNvPicPr/>
          <p:nvPr/>
        </p:nvPicPr>
        <p:blipFill>
          <a:blip r:embed="rId1"/>
          <a:stretch/>
        </p:blipFill>
        <p:spPr>
          <a:xfrm>
            <a:off x="1371600" y="1752480"/>
            <a:ext cx="610560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haracterist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gle cel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scop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ve independently – named for mechanism of mov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5,000 spe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heterotroph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e-living or parasit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capable of asexual reproduction through binary or multiple fi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reproduce sexually through conjug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ylum Sporozo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,000 spe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ried in bl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se disease like toxoplasmosis and mala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now malaria cycle!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5" descr="malaria_LifeCycl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5" descr="pconjugation"/>
          <p:cNvPicPr/>
          <p:nvPr/>
        </p:nvPicPr>
        <p:blipFill>
          <a:blip r:embed="rId1"/>
          <a:stretch/>
        </p:blipFill>
        <p:spPr>
          <a:xfrm>
            <a:off x="609480" y="1676520"/>
            <a:ext cx="80773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ar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5" descr="Prot016b"/>
          <p:cNvPicPr/>
          <p:nvPr/>
        </p:nvPicPr>
        <p:blipFill>
          <a:blip r:embed="rId1"/>
          <a:stretch/>
        </p:blipFill>
        <p:spPr>
          <a:xfrm>
            <a:off x="380880" y="1371600"/>
            <a:ext cx="3181320" cy="47624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olih023p"/>
          <p:cNvPicPr/>
          <p:nvPr/>
        </p:nvPicPr>
        <p:blipFill>
          <a:blip r:embed="rId2"/>
          <a:stretch/>
        </p:blipFill>
        <p:spPr>
          <a:xfrm>
            <a:off x="4191120" y="2209680"/>
            <a:ext cx="428616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chizogony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sexual reproduction in multiple fission, as in Malari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assific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urrently based on HOW they MOV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Reviewing this by looking at phylogen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"/>
              </a:rPr>
              <a:t>4 Phyla of Protozoans</a:t>
            </a:r>
            <a:br>
              <a:rPr sz="4000"/>
            </a:b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arcodin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iliophor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Zoomastigin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porozo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dapta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hysiological mechanisms, like eyespo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Form cys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Multiple nucle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volution of Protist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karyotes – 3.5 billion years a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karyotes – 1.5 billion years a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ozoan thought to be descendents of first eukary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osymbiotic The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4T13:08:46Z</dcterms:created>
  <dc:creator>teacher</dc:creator>
  <dc:description>Kingdom Protista  “  The Catch-All Kingdom” Protozoans</dc:description>
  <cp:keywords>Kingdom Protista  “  The Catch-All Kingdom” Protozoans</cp:keywords>
  <dc:language>en-US</dc:language>
  <cp:lastModifiedBy>RomaK</cp:lastModifiedBy>
  <dcterms:modified xsi:type="dcterms:W3CDTF">2015-09-04T10:52:44Z</dcterms:modified>
  <cp:revision>9</cp:revision>
  <dc:subject/>
  <dc:title>Kingdom Protista  “  The Catch-All Kingdom” Protozoans</dc:title>
</cp:coreProperties>
</file>