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4.jpeg" ContentType="image/jpeg"/>
  <Override PartName="/ppt/media/image8.png" ContentType="image/png"/>
  <Override PartName="/ppt/media/image13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781AD-C096-4C0A-89D4-E49B5538D10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The kidne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id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Finally-recap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ly-rec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Kidney and bladder posi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dney and bladder 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Kidney transplan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dney trans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X section to nephr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section to neph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ephr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ph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filtr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Filtration diagram - bowma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tration diagram - bowm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Filtration &amp; reabsorp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tration &amp; reabsor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CEAF-673D-4BD2-BB32-124D6BCE7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DD31-B691-4369-B262-04C28DFEE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3320-6CAB-4D7D-B58D-263347388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85C6-82C2-453F-A705-82907F3D4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F0BAC-F91C-4008-B8D5-040B088C0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7D448-4965-4427-914E-599043C16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3F2D0-15FB-4DED-AA77-C9B413F7A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B11E8-3004-4D17-85EF-B6E4FD6B7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2E247-96AD-4D7F-829F-0DD9585E3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B64FC-9E23-42A8-8582-325966134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C659D-57CF-48A7-9CB4-7A557072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BE33-D095-4A1F-802E-3A521BA18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285AB-2659-47B0-AF43-32D3D4F7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C5B1F-F91E-4E7F-B3D9-F21A2429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C5B24-FC8D-4832-8F5C-2C79DF6D7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35C6E-946C-49CA-821C-6BF888608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DD682-EF6A-4DAA-B957-F652F1BAF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8F67-248F-443C-92D8-7D27724D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818F-8F62-474B-A472-BCA154A49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1A35-CB19-4BD3-BBA5-87E159B8C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F19D-36DE-450B-B1BC-111E60101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E98D-A511-4C88-BE7B-22E818F7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D1AF-0086-4DB1-B1CC-90DD3530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7983-8042-45CD-8225-C518C9D0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66DCA-2892-48F6-B099-45768A9765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5356C-5127-455B-823D-34BAF44C1DA7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The kidne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08" name="Picture 5" descr="kidney"/>
          <p:cNvPicPr/>
          <p:nvPr/>
        </p:nvPicPr>
        <p:blipFill>
          <a:blip r:embed="rId1"/>
          <a:stretch/>
        </p:blipFill>
        <p:spPr>
          <a:xfrm>
            <a:off x="4876920" y="1600200"/>
            <a:ext cx="3551040" cy="4119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Kidney1"/>
          <p:cNvPicPr/>
          <p:nvPr/>
        </p:nvPicPr>
        <p:blipFill>
          <a:blip r:embed="rId2"/>
          <a:stretch/>
        </p:blipFill>
        <p:spPr>
          <a:xfrm>
            <a:off x="1676520" y="1752480"/>
            <a:ext cx="25286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533160"/>
            <a:ext cx="213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Finally-recap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30" name="Picture 3" descr="kidney-nephron"/>
          <p:cNvPicPr/>
          <p:nvPr/>
        </p:nvPicPr>
        <p:blipFill>
          <a:blip r:embed="rId1"/>
          <a:stretch/>
        </p:blipFill>
        <p:spPr>
          <a:xfrm>
            <a:off x="2209680" y="533520"/>
            <a:ext cx="6400800" cy="57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Kidney and bladder posi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1" name="Picture 6" descr="kidneys position"/>
          <p:cNvPicPr/>
          <p:nvPr/>
        </p:nvPicPr>
        <p:blipFill>
          <a:blip r:embed="rId1"/>
          <a:stretch/>
        </p:blipFill>
        <p:spPr>
          <a:xfrm>
            <a:off x="5334120" y="1828800"/>
            <a:ext cx="3306600" cy="4114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kidneys place"/>
          <p:cNvPicPr/>
          <p:nvPr/>
        </p:nvPicPr>
        <p:blipFill>
          <a:blip r:embed="rId2"/>
          <a:stretch/>
        </p:blipFill>
        <p:spPr>
          <a:xfrm>
            <a:off x="1066680" y="1676520"/>
            <a:ext cx="37339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Kidney transplan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4" name="Picture 4" descr="kidney new trans"/>
          <p:cNvPicPr/>
          <p:nvPr/>
        </p:nvPicPr>
        <p:blipFill>
          <a:blip r:embed="rId1"/>
          <a:stretch/>
        </p:blipFill>
        <p:spPr>
          <a:xfrm>
            <a:off x="762120" y="1447920"/>
            <a:ext cx="761976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Cross sec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6" name="Picture 5" descr="kidney x sect"/>
          <p:cNvPicPr/>
          <p:nvPr/>
        </p:nvPicPr>
        <p:blipFill>
          <a:blip r:embed="rId1"/>
          <a:stretch/>
        </p:blipFill>
        <p:spPr>
          <a:xfrm>
            <a:off x="762120" y="1676520"/>
            <a:ext cx="4267080" cy="4306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kidney  x sect pic"/>
          <p:cNvPicPr/>
          <p:nvPr/>
        </p:nvPicPr>
        <p:blipFill>
          <a:blip r:embed="rId2"/>
          <a:stretch/>
        </p:blipFill>
        <p:spPr>
          <a:xfrm>
            <a:off x="5334120" y="1676520"/>
            <a:ext cx="3349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X section to nephr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9" name="Picture 5" descr="kidney nefron"/>
          <p:cNvPicPr/>
          <p:nvPr/>
        </p:nvPicPr>
        <p:blipFill>
          <a:blip r:embed="rId1"/>
          <a:stretch/>
        </p:blipFill>
        <p:spPr>
          <a:xfrm>
            <a:off x="1752480" y="1676520"/>
            <a:ext cx="579132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nephr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1" name="Picture 5" descr="kidn nefron"/>
          <p:cNvPicPr/>
          <p:nvPr/>
        </p:nvPicPr>
        <p:blipFill>
          <a:blip r:embed="rId1"/>
          <a:stretch/>
        </p:blipFill>
        <p:spPr>
          <a:xfrm>
            <a:off x="5638680" y="914400"/>
            <a:ext cx="3295800" cy="5562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kidney bowmans cap"/>
          <p:cNvPicPr/>
          <p:nvPr/>
        </p:nvPicPr>
        <p:blipFill>
          <a:blip r:embed="rId2"/>
          <a:stretch/>
        </p:blipFill>
        <p:spPr>
          <a:xfrm>
            <a:off x="533520" y="990720"/>
            <a:ext cx="48006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filtra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4" name="Picture 3" descr="kidn glomerulus"/>
          <p:cNvPicPr/>
          <p:nvPr/>
        </p:nvPicPr>
        <p:blipFill>
          <a:blip r:embed="rId1"/>
          <a:stretch/>
        </p:blipFill>
        <p:spPr>
          <a:xfrm>
            <a:off x="3581280" y="685800"/>
            <a:ext cx="43340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Filtration diagram - bowma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6" name="Picture 4" descr="kidn bowmans diag"/>
          <p:cNvPicPr/>
          <p:nvPr/>
        </p:nvPicPr>
        <p:blipFill>
          <a:blip r:embed="rId1"/>
          <a:stretch/>
        </p:blipFill>
        <p:spPr>
          <a:xfrm>
            <a:off x="838080" y="1295280"/>
            <a:ext cx="76201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Filtration &amp; reabsorp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8" name="Picture 5" descr="kidn nefron"/>
          <p:cNvPicPr/>
          <p:nvPr/>
        </p:nvPicPr>
        <p:blipFill>
          <a:blip r:embed="rId1"/>
          <a:stretch/>
        </p:blipFill>
        <p:spPr>
          <a:xfrm>
            <a:off x="2743200" y="1523880"/>
            <a:ext cx="470844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3T11:49:06Z</dcterms:created>
  <dc:creator>RM</dc:creator>
  <dc:description/>
  <dc:language>en-US</dc:language>
  <cp:lastModifiedBy>RomaK</cp:lastModifiedBy>
  <dcterms:modified xsi:type="dcterms:W3CDTF">2015-09-04T10:48:15Z</dcterms:modified>
  <cp:revision>9</cp:revision>
  <dc:subject/>
  <dc:title>The kidney</dc:title>
</cp:coreProperties>
</file>