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9.jpeg" ContentType="image/jpeg"/>
  <Override PartName="/ppt/media/image14.jpeg" ContentType="image/jpeg"/>
  <Override PartName="/ppt/media/image8.png" ContentType="image/png"/>
  <Override PartName="/ppt/media/image13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3CBC4-7AAD-47A4-8637-B8114E4D5DF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The kidne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kidn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Finally-recap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ally-rec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Kidney and bladder posi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dney and bladder 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Kidney transplan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dney trans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Cross sec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ss s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X section to nephr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section to neph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nephr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ph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filtra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Filtration diagram - bowman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tration diagram - bowm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Filtration &amp; reabsorp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tration &amp; reabsor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FF7A-8BED-49A2-8E59-03DB9C646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4D29-ACAF-4CE2-B5A0-C8588ADF1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4825-0169-4BEE-AFF7-6685B103E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7925-3354-4453-9310-D56C3B8A9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24598-C95B-4185-8076-E400DBFD2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07FA7-9F8A-4500-9274-3C73E7C99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AF199-24D0-4394-BAB1-2F2566C43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E172B-297A-4515-969F-B44EC990B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6EE80-98F9-4B79-AE75-C21E16737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9F6F9-C851-41F5-8BB6-0053EA708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54339-1AED-4640-9CEE-76BA34F86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349D-D334-4D25-A485-02A0CD1A5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6F403-C612-4F5A-992E-AA3B96437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CCF01-1A7D-48FF-AA6B-70B06BAB8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FD9A0-244B-4E62-8009-862BD370C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48ADF-ABA1-4C91-92F2-B9F59ABA4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4FDB6-B90B-4F82-9F9A-E3963D563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483E-A8F8-40F3-971F-B7A38F808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5ECD-F87E-4F87-8B73-E13523897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BDBF-82D9-443D-A923-615264E47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C234-2D76-497E-B353-0ED5EE6D1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79EC-ED1D-4E2D-8C96-43989AA5C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4DD2-5FC4-4200-A6F6-ACE742E82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A9F1-C112-4AB6-BD64-B7AB293DB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Rectangle 3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8ED1C-2394-44CC-9502-D690388E1FA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Rectangle 3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" name="Freeform 9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9B7B9-7BF9-47A8-A148-8BE42A1A4055}" type="slidenum"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Times New Roman"/>
              </a:rPr>
              <a:t>The kidne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08" name="Picture 5" descr="kidney"/>
          <p:cNvPicPr/>
          <p:nvPr/>
        </p:nvPicPr>
        <p:blipFill>
          <a:blip r:embed="rId1"/>
          <a:stretch/>
        </p:blipFill>
        <p:spPr>
          <a:xfrm>
            <a:off x="4876920" y="1600200"/>
            <a:ext cx="3551040" cy="41194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Kidney1"/>
          <p:cNvPicPr/>
          <p:nvPr/>
        </p:nvPicPr>
        <p:blipFill>
          <a:blip r:embed="rId2"/>
          <a:stretch/>
        </p:blipFill>
        <p:spPr>
          <a:xfrm>
            <a:off x="1676520" y="1752480"/>
            <a:ext cx="252864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-360" y="533160"/>
            <a:ext cx="2133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Times New Roman"/>
              </a:rPr>
              <a:t>Finally-recap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30" name="Picture 3" descr="kidney-nephron"/>
          <p:cNvPicPr/>
          <p:nvPr/>
        </p:nvPicPr>
        <p:blipFill>
          <a:blip r:embed="rId1"/>
          <a:stretch/>
        </p:blipFill>
        <p:spPr>
          <a:xfrm>
            <a:off x="2209680" y="533520"/>
            <a:ext cx="6400800" cy="578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Times New Roman"/>
              </a:rPr>
              <a:t>Kidney and bladder positio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11" name="Picture 6" descr="kidneys position"/>
          <p:cNvPicPr/>
          <p:nvPr/>
        </p:nvPicPr>
        <p:blipFill>
          <a:blip r:embed="rId1"/>
          <a:stretch/>
        </p:blipFill>
        <p:spPr>
          <a:xfrm>
            <a:off x="5334120" y="1828800"/>
            <a:ext cx="3306600" cy="41148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8" descr="kidneys place"/>
          <p:cNvPicPr/>
          <p:nvPr/>
        </p:nvPicPr>
        <p:blipFill>
          <a:blip r:embed="rId2"/>
          <a:stretch/>
        </p:blipFill>
        <p:spPr>
          <a:xfrm>
            <a:off x="1066680" y="1676520"/>
            <a:ext cx="37339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Times New Roman"/>
              </a:rPr>
              <a:t>Kidney transplan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14" name="Picture 4" descr="kidney new trans"/>
          <p:cNvPicPr/>
          <p:nvPr/>
        </p:nvPicPr>
        <p:blipFill>
          <a:blip r:embed="rId1"/>
          <a:stretch/>
        </p:blipFill>
        <p:spPr>
          <a:xfrm>
            <a:off x="762120" y="1447920"/>
            <a:ext cx="7619760" cy="49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Times New Roman"/>
              </a:rPr>
              <a:t>Cross sectio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16" name="Picture 5" descr="kidney x sect"/>
          <p:cNvPicPr/>
          <p:nvPr/>
        </p:nvPicPr>
        <p:blipFill>
          <a:blip r:embed="rId1"/>
          <a:stretch/>
        </p:blipFill>
        <p:spPr>
          <a:xfrm>
            <a:off x="762120" y="1676520"/>
            <a:ext cx="4267080" cy="43066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kidney  x sect pic"/>
          <p:cNvPicPr/>
          <p:nvPr/>
        </p:nvPicPr>
        <p:blipFill>
          <a:blip r:embed="rId2"/>
          <a:stretch/>
        </p:blipFill>
        <p:spPr>
          <a:xfrm>
            <a:off x="5334120" y="1676520"/>
            <a:ext cx="33494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Times New Roman"/>
              </a:rPr>
              <a:t>X section to nephro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19" name="Picture 5" descr="kidney nefron"/>
          <p:cNvPicPr/>
          <p:nvPr/>
        </p:nvPicPr>
        <p:blipFill>
          <a:blip r:embed="rId1"/>
          <a:stretch/>
        </p:blipFill>
        <p:spPr>
          <a:xfrm>
            <a:off x="1752480" y="1676520"/>
            <a:ext cx="5791320" cy="47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3124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Times New Roman"/>
              </a:rPr>
              <a:t>nephro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21" name="Picture 5" descr="kidn nefron"/>
          <p:cNvPicPr/>
          <p:nvPr/>
        </p:nvPicPr>
        <p:blipFill>
          <a:blip r:embed="rId1"/>
          <a:stretch/>
        </p:blipFill>
        <p:spPr>
          <a:xfrm>
            <a:off x="5638680" y="914400"/>
            <a:ext cx="3295800" cy="55627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kidney bowmans cap"/>
          <p:cNvPicPr/>
          <p:nvPr/>
        </p:nvPicPr>
        <p:blipFill>
          <a:blip r:embed="rId2"/>
          <a:stretch/>
        </p:blipFill>
        <p:spPr>
          <a:xfrm>
            <a:off x="533520" y="990720"/>
            <a:ext cx="480060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2895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Times New Roman"/>
              </a:rPr>
              <a:t>filtratio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24" name="Picture 3" descr="kidn glomerulus"/>
          <p:cNvPicPr/>
          <p:nvPr/>
        </p:nvPicPr>
        <p:blipFill>
          <a:blip r:embed="rId1"/>
          <a:stretch/>
        </p:blipFill>
        <p:spPr>
          <a:xfrm>
            <a:off x="3581280" y="685800"/>
            <a:ext cx="433404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Times New Roman"/>
              </a:rPr>
              <a:t>Filtration diagram - bowman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26" name="Picture 4" descr="kidn bowmans diag"/>
          <p:cNvPicPr/>
          <p:nvPr/>
        </p:nvPicPr>
        <p:blipFill>
          <a:blip r:embed="rId1"/>
          <a:stretch/>
        </p:blipFill>
        <p:spPr>
          <a:xfrm>
            <a:off x="838080" y="1295280"/>
            <a:ext cx="762012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Times New Roman"/>
              </a:rPr>
              <a:t>Filtration &amp; reabsorptio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28" name="Picture 5" descr="kidn nefron"/>
          <p:cNvPicPr/>
          <p:nvPr/>
        </p:nvPicPr>
        <p:blipFill>
          <a:blip r:embed="rId1"/>
          <a:stretch/>
        </p:blipFill>
        <p:spPr>
          <a:xfrm>
            <a:off x="2743200" y="1523880"/>
            <a:ext cx="4708440" cy="50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3T11:49:06Z</dcterms:created>
  <dc:creator>RM</dc:creator>
  <dc:description/>
  <dc:language>en-US</dc:language>
  <cp:lastModifiedBy>RomaK</cp:lastModifiedBy>
  <dcterms:modified xsi:type="dcterms:W3CDTF">2015-09-04T10:48:15Z</dcterms:modified>
  <cp:revision>9</cp:revision>
  <dc:subject/>
  <dc:title>The kidney</dc:title>
</cp:coreProperties>
</file>