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46D4-640E-4468-995C-6EBCEFF1A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5B7-B2F1-4B50-B767-268F070D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5E5-C8F4-4321-9BFA-975CB671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9A7-8A27-43CD-864D-29C6A289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510-8AF0-46B3-907A-DD770BDA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E7874-5C01-4DC4-98E4-8C1F7B2F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C318A-D84C-4ECB-BDD6-7F291625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8B409-A62C-484B-A58C-9FA17348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06B60-6503-4940-BCF4-16DFE2A5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D00A1-CC29-4FB6-97D5-A45EB72E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1EA08-A95E-4985-A897-FC08E36A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B019A-DB38-4CCC-946B-26A21FD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85D-ED76-4BEB-82A6-9340D7BD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18811-CDD7-4F23-90EA-655000E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6F35C-4B40-44FE-9E3E-26ED3FE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85D18-8988-4025-A31D-E20CCC55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61C11-B530-42D6-B685-08666C95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EC05F-E331-4668-BFAC-D7389B50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B31-5DAF-437D-B559-D6391E61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BC8-8862-4E47-81C2-7A8B8BA8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A8A-4813-4284-A8B9-367CAFC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DA3-D20C-4E88-8633-ABD7C8B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2A4-FE63-4DC7-A61E-C5DEA6A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E72-C2F7-49E4-8864-1D90FF5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D82-3C0C-45C3-97BA-1C478FA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948-5274-4372-83B1-3E3675AA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FCCD-709D-4939-A227-F599914DB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oh Wil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7" descr="E906945C"/>
          <p:cNvPicPr/>
          <p:nvPr/>
        </p:nvPicPr>
        <p:blipFill>
          <a:blip r:embed="rId1"/>
          <a:srcRect l="43654" t="10454" r="0" b="56452"/>
          <a:stretch/>
        </p:blipFill>
        <p:spPr>
          <a:xfrm>
            <a:off x="53352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i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dida, Asperg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zoa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histos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cari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6" descr="CB114BB6"/>
          <p:cNvPicPr/>
          <p:nvPr/>
        </p:nvPicPr>
        <p:blipFill>
          <a:blip r:embed="rId1"/>
          <a:srcRect l="58262" t="64115" r="0" b="14926"/>
          <a:stretch/>
        </p:blipFill>
        <p:spPr>
          <a:xfrm>
            <a:off x="4724280" y="1219320"/>
            <a:ext cx="4419720" cy="490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F89C934"/>
          <p:cNvPicPr/>
          <p:nvPr/>
        </p:nvPicPr>
        <p:blipFill>
          <a:blip r:embed="rId2"/>
          <a:srcRect l="60349" t="47319" r="0" b="38048"/>
          <a:stretch/>
        </p:blipFill>
        <p:spPr>
          <a:xfrm>
            <a:off x="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des of transmi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lent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terial 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 production. Toxins fall into two categories;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endotoxin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both gram positive and gram negative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stridium (neurotoxin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illus (enterotoxin) (+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brio (ente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fectious Disease T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asmodium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pec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ove to reproduce in RBCs resulting in their rupture and the associated ch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 Infected R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Treat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rmal Micro flora &amp; its impor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odifications to Koch’s Postul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plococcus pneumon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Fast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ical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 shaped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reptococcus pyogenes, Staphylococcus aureus, Bacillus anthracis, Clostridium te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DFFD6E10"/>
          <p:cNvPicPr/>
          <p:nvPr/>
        </p:nvPicPr>
        <p:blipFill>
          <a:blip r:embed="rId1"/>
          <a:srcRect l="0" t="18664" r="74961" b="64245"/>
          <a:stretch/>
        </p:blipFill>
        <p:spPr>
          <a:xfrm>
            <a:off x="0" y="12952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7574CE9E"/>
          <p:cNvPicPr/>
          <p:nvPr/>
        </p:nvPicPr>
        <p:blipFill>
          <a:blip r:embed="rId2"/>
          <a:srcRect l="25042" t="6954" r="4000" b="62404"/>
          <a:stretch/>
        </p:blipFill>
        <p:spPr>
          <a:xfrm>
            <a:off x="4419720" y="12952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actamases and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monella typhi, E. coli, Yersinia pestis, Vibrio chole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9:54Z</dcterms:created>
  <dc:creator>ANDOH</dc:creator>
  <dc:description/>
  <dc:language>en-US</dc:language>
  <cp:lastModifiedBy>RomaK</cp:lastModifiedBy>
  <dcterms:modified xsi:type="dcterms:W3CDTF">2015-09-04T10:48:08Z</dcterms:modified>
  <cp:revision>16</cp:revision>
  <dc:subject/>
  <dc:title>Infectious Diseases</dc:title>
</cp:coreProperties>
</file>