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13E3-8D43-42E4-9767-8FCCDCBB6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AD6-1618-47B4-845F-6EE29030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4AD-93A3-49F8-A109-FAE2B50F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249-ABF6-44A1-9430-5718A6FD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491-2D58-4ED7-B200-58B2BFB5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15684-7422-4B4A-9AA0-0B5E1DD8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87580-19EB-481D-AFA0-F97DAB1F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7C39B-CA01-4290-B189-4C06ACCF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75211-797A-447F-8DF3-E83842DB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931CC-2831-4722-8D64-07CF4D61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2890D-59E0-4F26-8117-DE1EE823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E48E2-D92E-4301-B34A-3950891C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5F5-279A-481D-9DFB-CAB75CF1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BC56B-3562-4E16-B75E-31B5A17F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C279C-E432-4EAF-843C-7A8FB0E6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C42D2-71FF-449E-9F2A-FE79C36C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5339E-9D44-4186-AF00-50B7F8E6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4CBDD-DBAA-4038-9BD7-C383E7D3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3A1-720D-45FC-B742-D6AD54A9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1FA-6B85-4C69-B4CB-DD66F666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424-B33D-4F06-8172-F70C3251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C53-53AD-479C-8571-A454B39B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DFE-A8B9-472E-9959-768FEEDB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76E-3444-4F9B-9F36-8667285F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527-1333-4F72-A61F-2D2D5198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6884-86ED-43DD-B0C1-FB7508B37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4995-4D93-4D07-8B6A-9F68AC7D35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oh Wil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7" descr="E906945C"/>
          <p:cNvPicPr/>
          <p:nvPr/>
        </p:nvPicPr>
        <p:blipFill>
          <a:blip r:embed="rId1"/>
          <a:srcRect l="43654" t="10454" r="0" b="56452"/>
          <a:stretch/>
        </p:blipFill>
        <p:spPr>
          <a:xfrm>
            <a:off x="53352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i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dida, Aspergil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zoa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chistos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cari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6" descr="CB114BB6"/>
          <p:cNvPicPr/>
          <p:nvPr/>
        </p:nvPicPr>
        <p:blipFill>
          <a:blip r:embed="rId1"/>
          <a:srcRect l="58262" t="64115" r="0" b="14926"/>
          <a:stretch/>
        </p:blipFill>
        <p:spPr>
          <a:xfrm>
            <a:off x="4724280" y="1219320"/>
            <a:ext cx="4419720" cy="490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F89C934"/>
          <p:cNvPicPr/>
          <p:nvPr/>
        </p:nvPicPr>
        <p:blipFill>
          <a:blip r:embed="rId2"/>
          <a:srcRect l="60349" t="47319" r="0" b="38048"/>
          <a:stretch/>
        </p:blipFill>
        <p:spPr>
          <a:xfrm>
            <a:off x="0" y="160020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des of transmi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lent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terial 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 production. Toxins fall into two categories;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exotox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endotoxin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e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both gram positive and gram negative bac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stridium (neurotoxin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cillus (enterotoxin) (+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brio (ente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fectious Disease T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lasmodium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pec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move to reproduce in RBCs resulting in their rupture and the associated ch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 Infected RB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 Prev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Treat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rmal Micro flora &amp; its importa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och’s Postu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odifications to Koch’s Postula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plococcus pneumoni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Fast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c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ical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 shaped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c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reptococcus pyogenes, Staphylococcus aureus, Bacillus anthracis, Clostridium tetan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DFFD6E10"/>
          <p:cNvPicPr/>
          <p:nvPr/>
        </p:nvPicPr>
        <p:blipFill>
          <a:blip r:embed="rId1"/>
          <a:srcRect l="0" t="18664" r="74961" b="64245"/>
          <a:stretch/>
        </p:blipFill>
        <p:spPr>
          <a:xfrm>
            <a:off x="0" y="129528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7574CE9E"/>
          <p:cNvPicPr/>
          <p:nvPr/>
        </p:nvPicPr>
        <p:blipFill>
          <a:blip r:embed="rId2"/>
          <a:srcRect l="25042" t="6954" r="4000" b="62404"/>
          <a:stretch/>
        </p:blipFill>
        <p:spPr>
          <a:xfrm>
            <a:off x="4419720" y="12952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lactamases and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iss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lmonella typhi, E. coli, Yersinia pestis, Vibrio chole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2:19:54Z</dcterms:created>
  <dc:creator>ANDOH</dc:creator>
  <dc:description/>
  <dc:language>en-US</dc:language>
  <cp:lastModifiedBy>RomaK</cp:lastModifiedBy>
  <dcterms:modified xsi:type="dcterms:W3CDTF">2015-09-04T10:48:08Z</dcterms:modified>
  <cp:revision>16</cp:revision>
  <dc:subject/>
  <dc:title>Infectious Diseases</dc:title>
</cp:coreProperties>
</file>