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20461-7042-4BAE-B9FC-9D2CA842A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ectious Diseas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oh Wil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fectious Diseas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oh Wils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 Negative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m Negative 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path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sites (Eukaryotic Pathog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gi e.g. Candida, Aspergil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zoa e.g. Plasmodium, Schistos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ms e.g. Ascaris, Ta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pathoge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asites (Eukaryotic Pathogen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ungi e.g. Candida, Aspergill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ozoa e.g. Plasmodium, Schistosom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ms e.g. Ascaris, Ta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path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pieces of DNA or RNA surrounded by protein coat. The may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capsulated e.g. HIV, HBV, measles, mumps, influenza, rab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encapsulated e.g.adenoviruses, HPV, Pol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pathoge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ru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pieces of DNA or RNA surrounded by protein coat. The may b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capsulated e.g. HIV, HBV, measles, mumps, influenza, rab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n-encapsulated e.g.adenoviruses, HPV, Poli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ru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des of transmis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rect contact e.g. touching, handshaking, or sexual intercours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direct contact e.g. food, water or droplets in air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imal vectors e.g. insect bites in malaria, plague and oncho, dog bite in rab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s of trans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 contact e.g. touching, handshaking, or sexual intercour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rect contact e.g. food, water or droplets in ai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vectors e.g. insect bites in malaria, plague and oncho, dog bite in rab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hoge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quence of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ssion of causative agent to susceptible hos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herence of the agent to a target tiss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ization and invasio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mage to host by toxins or other mechanism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t from hos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vival outside host long enough for step 1 to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thogene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quence of activit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mission of causative agent to susceptible hos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herence of the agent to a target tissue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lonization and invasion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mage to host by toxins or other mechanisms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it from hos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rvival outside host long enough for step 1 to occu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rulent Fac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all pathogens there is an infective dose and a lethal do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rulent factors that confer pathogenicity include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li that facilitate attachmen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psules that interfere with phagocyt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otox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otox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eases that break down antibod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ility to vary antigens to evade antibod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lent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ll pathogens there is an infective dose and a lethal do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lent factors that confer pathogenicity includ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li that facilitate attachmen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sules that interfere with phagocy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otox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tox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ases that break down anti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vary antigens to evade anti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l Pathoge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xin production. Toxins fall into two categories; exotoxins and endotox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siveness, where bacteria grow to large numbers locally and produce enzymes that damage host tissu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cterial Pathogene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xin production. Toxins fall into two categories; exotoxins and endotoxi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vasiveness, where bacteria grow to large numbers locally and produce enzymes that damage host tissue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otox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 labile (60-100 degrees for 30 mins) proteins produced and released by both gram positive and gram negative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d by bacteria such as Clostridium (neurotoxins) and Bacillus (enterotoxin) (+)  and E. coli and Vibrio (enterotoxin) (-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otox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at labile (60-100 degrees for 30 mins) proteins produced and released by both gram positive and gram negative bacteri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duced by bacteria such as Clostridium (neurotoxins) and Bacillus (enterotoxin) (+)  and E. coli and Vibrio (enterotoxin) (-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tox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heat stable (100 degrees for 1 hr) lipopolysaccharide produced only by gram –ve bacteria. They remain attached to cell w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fever and shock and is of lower toxicity compared to exotox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d by bacteria such as Salmone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otox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heat stable (100 degrees for 1 hr) lipopolysaccharide produced only by gram –ve bacteria. They remain attached to cell wal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use fever and shock and is of lower toxicity compared to exotoxi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duced by bacteria such as Salmonell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ectious Disease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dem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de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e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de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h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rtun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soc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l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fectious Disease Te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pidem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em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ndem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thog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portuni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socom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rul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l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ative Agent: Vibrio choler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ptoms: severe diarrhoea up to 20 liters a day of “rice water stool”, vomiting, muscle cramps caused by loss fluid and electroly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hogenesis: Vibrio adheres to the small intestinal lining, multiply and produce the enterotoxin choleragen which causes the accumulation of cAMP. An increased secretion of water and electrolyte from the cells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usative Agent: Vibrio cholera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mptoms: severe diarrhoea up to 20 liters a day of “rice water stool”, vomiting, muscle cramps caused by loss fluid and electrolyt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thogenesis: Vibrio adheres to the small intestinal lining, multiply and produce the enterotoxin choleragen which causes the accumulation of cAMP. An increased secretion of water and electrolyte from the cells resul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l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Epidemiology: Feacally contaminated water, crabs and vegetables fertilized with human faeces. Has been eradicated most developed countries but a new strain discovered in 1992 is threatening another pandem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 Epidemiology: Feacally contaminated water, crabs and vegetables fertilized with human faeces. Has been eradicated most developed countries but a new strain discovered in 1992 is threatening another pandemi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l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ncubation period: 12-48 h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Lab diagnosis: Microscopy, culture of sample from faeces or vom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 Prevention: Purification of water, washing of ha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 Treatment: administration of solution of glucose and electrolyte orally or intravenously; tetracycline antibiotic or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Incubation period: 12-48 hou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. Lab diagnosis: Microscopy, culture of sample from faeces or vomi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. Prevention: Purification of water, washing of han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. Treatment: administration of solution of glucose and electrolyte orally or intravenously; tetracycline antibiotic oral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ative Agent: Plasmodium (4 speci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ptoms (Clinical features): fever, chills, anaemia, headache, nausea, shivering, convulsions (esp. in under 5 yr olds) enlarged sple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hogenesis: site of action of pathogen include: liver, RBC, brain. The vector, female Anopheles mosquito, transfer pathogen during fee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la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usative Agent: Plasmodium (4 specie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mptoms (Clinical features): fever, chills, anaemia, headache, nausea, shivering, convulsions (esp. in under 5 yr olds) enlarged splee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thogenesis: site of action of pathogen include: liver, RBC, brain. The vector, female Anopheles mosquito, transfer pathogen during feed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Epidemiology: Endemic in 91 tropical and subtropical countries. Invade the liver 1st and move to reproduce in RBCs resulting in their rupture and the associated chi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Incubation Period: 1 – 2 wee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Lab diagnosis: Microscop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la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 Epidemiology: Endemic in 91 tropical and subtropical countries. Invade the liver 1st and move to reproduce in RBCs resulting in their rupture and the associated chill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. Incubation Period: 1 – 2 week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. Lab diagnosis: Microscop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fected R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 Infected RB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aria - Pre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 the number of mosquitoes; destruction of larvae and adult mosquitoes by biological and chemical control meth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 being bitten; protective clothing and creams, treated bed n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of drugs to prevent infection; chemoprophylax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laria - Preven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uce the number of mosquitoes; destruction of larvae and adult mosquitoes by biological and chemical control metho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void being bitten; protective clothing and creams, treated bed ne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 of drugs to prevent infection; chemoprophylax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aria -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ination therapy: Artesunate Amodiaqu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laria -Treat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bination therapy: Artesunate Amodiaqu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bercul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hogen: M. tuberculosis (pulmonary TB); M. bovis(GI T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ssion: airborne droplets (NB MTB is dessication resistant and survives in dried sputum); unpasteurized mi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nical features: prolonged coughing sometimes with bloody sputum, shortness of breath, fever, sweating , weight l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thogen: M. tuberculosis (pulmonary TB); M. bovis(GI TB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mission: airborne droplets (NB MTB is dessication resistant and survives in dried sputum); unpasteurized milk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inical features: prolonged coughing sometimes with bloody sputum, shortness of breath, fever, sweating , weight los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bercul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No toxin production. Pathogenicty is by invasiveness that produce characteristic lesions in the lu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Epidemiology: pathogen triggers acute inflammatory response + forms tubercle – giant cells containing MTB and surrounded by epithelial cells. Tubercles heals by fibrosis and calcification. Can desseminate via bloodstream to other internal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 No toxin production. Pathogenicty is by invasiveness that produce characteristic lesions in the lung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. Epidemiology: pathogen triggers acute inflammatory response + forms tubercle – giant cells containing MTB and surrounded by epithelial cells. Tubercles heals by fibrosis and calcification. Can desseminate via bloodstream to other internal orga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Micro flora &amp; its impor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 the growth of path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mulate the immune system to produce antibodies that cross-react with invading path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d in digestion of cellulose in rumin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essential nutr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rmal Micro flora &amp; its import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vent the growth of pathoge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imulate the immune system to produce antibodies that cross-react with invading pathoge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d in digestion of cellulose in rumina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duce essential nutri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ch’s Postu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 pathogen must be  present in every case of the disea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thogen must be isolated from the diseased host and grown in pure cultur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thogen from the pure culture must cause the disease when it is introduced into a healthy but susceptible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thogen must be isolated from the inoculated animal and be shown to be the original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och’s Postula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ame pathogen must be  present in every case of the disease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athogen must be isolated from the diseased host and grown in pure culture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athogen from the pure culture must cause the disease when it is introduced into a healthy but susceptible organis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athogen must be isolated from the inoculated animal and be shown to be the original organis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ifications to Koch’s Postu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infectious agents cannot be cultured e.g. pr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athogens have non-virulent strains whose presence does not link them to a disease. E.g. non encapsulated Diplococcus pneumonia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difications to Koch’s Postula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infectious agents cannot be cultured e.g. pr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pathogens have non-virulent strains whose presence does not link them to a disease. E.g. non encapsulated Diplococcus pneumonia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Path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 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-Fast e.g. Myco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herical described as coc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d shaped described as bacil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Pathoge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cte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m positi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m negati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id-Fast e.g. Mycobacte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herical described as cocc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d shaped described as bacill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 Posi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que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ck peptidoglycan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periplasmic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outer membrane (capsu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Streptococcus pyogenes, Staphylococcus aureus, Bacillus anthracis, Clostridium tetan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m Positiv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que Fea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ck peptidoglycan 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periplasmic spa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outer membrane (capsul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.g. Streptococcus pyogenes, Staphylococcus aureus, Bacillus anthracis, Clostridium tetani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 Positive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m Positive 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 Neg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que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 peptidoglycan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periplasmic space containing different degradative enzymes such as deoxyribonucleases, -lactamases and prot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er membrane containing lipid A, an endotox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Neisseria, Salmonella typhi, E. coli, Yersinia pestis, Vibrio choler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m Negativ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que fea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n peptidoglycan 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s periplasmic space containing different degradative enzymes such as deoxyribonucleases, -lactamases and protea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er membrane containing lipid A, an endotox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.g. Neisseria, Salmonella typhi, E. coli, Yersinia pestis, Vibrio cholera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A9B4-50C1-4AEE-A1BB-3977D41DA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6CD6-0B65-4598-9CA5-A6901611D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5998-E3E1-4DE3-BDBE-E10C45200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8E98-9082-4DE1-BD86-42D647B84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4B2261-12DD-4F4A-9BED-A7234EDD8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0FCE72-D0B7-4946-B9F7-A066958BD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A92674-2DA8-4DAA-AB5F-162C59909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CF8DF3-D6C4-44EB-BEE5-9D1C7C860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74DE59-4CEC-49EA-9315-3DC63A635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00878B-5FC8-4D96-95BD-A04FDB8B6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C2BE29-602B-48BD-ABED-812AABAD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FAA6-66D7-459D-97D8-1A5057808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6397D4-35CE-4D2A-81BA-9E769624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DD3967-22AC-4440-83B9-6FCFA64D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D0E3A1-2407-4097-9FB5-FABD48260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DD4B8E-F240-42C1-B2E7-300DC9622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8244C9-C30F-49BE-B5B2-161EAAE5F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9279-4D98-4EA0-96CD-E39C60234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0283-86F1-4CAF-BB46-BCF7BDC1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1B0F-172C-4869-87DE-B9CE7916B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4A5B-7489-409E-B193-D6E68A90A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C7D5-0BF6-4C5E-AB3E-2DE4009B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E1C5-01D5-4238-BB76-FC219137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3121-40E6-4638-8271-2E1DA8C8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980AB-B0B6-4F0A-95AD-740294963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30C9B-7DEB-4CD5-82FF-77FEA874A8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17521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Infectious Diseases</a:t>
            </a:r>
            <a:br>
              <a:rPr sz="6000"/>
            </a:br>
            <a:br>
              <a:rPr sz="60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By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ndoh Wils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ram Negative wall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8" name="Picture 7" descr="E906945C"/>
          <p:cNvPicPr/>
          <p:nvPr/>
        </p:nvPicPr>
        <p:blipFill>
          <a:blip r:embed="rId1"/>
          <a:srcRect l="43654" t="10454" r="0" b="56452"/>
          <a:stretch/>
        </p:blipFill>
        <p:spPr>
          <a:xfrm>
            <a:off x="533520" y="1447920"/>
            <a:ext cx="82296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ypes of pathoge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sites (Eukaryotic Pathoge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gi e.g.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andida, Aspergill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ozoa e.g.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lasmodiu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chistoso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ms e.g.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scari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aen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ypes of pathoge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r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pieces of DNA or RNA surrounded by protein coat. The may b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apsulated e.g. HIV, HBV, measles, mumps, influenza, rab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encapsulated e.g.adenoviruses, HPV, Pol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Virus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4" name="Picture 6" descr="CB114BB6"/>
          <p:cNvPicPr/>
          <p:nvPr/>
        </p:nvPicPr>
        <p:blipFill>
          <a:blip r:embed="rId1"/>
          <a:srcRect l="58262" t="64115" r="0" b="14926"/>
          <a:stretch/>
        </p:blipFill>
        <p:spPr>
          <a:xfrm>
            <a:off x="4724280" y="1219320"/>
            <a:ext cx="4419720" cy="49068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2F89C934"/>
          <p:cNvPicPr/>
          <p:nvPr/>
        </p:nvPicPr>
        <p:blipFill>
          <a:blip r:embed="rId2"/>
          <a:srcRect l="60349" t="47319" r="0" b="38048"/>
          <a:stretch/>
        </p:blipFill>
        <p:spPr>
          <a:xfrm>
            <a:off x="0" y="1600200"/>
            <a:ext cx="4648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odes of transmiss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rect contact e.g. touching, handshaking, or sexual intercour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irect contact e.g. food, water or droplets in air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imal vectors e.g. insect bites in malaria, plague and oncho, dog bite in rab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athogenes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1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quence of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mission of causative agent to susceptible hos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herence of the agent to a target tissu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onization and invasion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mage to host by toxins or other mechanism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it from hos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vival outside host long enough for step 1 to occu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Virulent Factor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all pathogens there is an infective dose and a lethal do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rulent factors that confer pathogenicity includ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li that facilitate attachmen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sules that interfere with phagocyt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otox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dotox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eases that break down antibod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ility to vary antigens to evade antibod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Bacterial Pathogenes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xin production. Toxins fall into two categories; 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exotoxi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 endotoxins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asiveness, where bacteria grow to large numbers locally and produce enzymes that damage host tissu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xotoxi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t labile (60-100 degrees for 30 mins) proteins produced and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leas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y both gram positive and gram negative bacter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d by bacteria such a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ostridium (neurotoxins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acillus (enterotoxin) (+)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. col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Vibrio (enterotoxin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-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ndotoxi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heat stable (100 degrees for 1 hr) lipopolysaccharide produced only by gram –ve bacteria. They remain attached to cell wa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se fever and shock and is of lower toxicity compared to exotoxi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d by bacteria such a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almonel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nfectious Disease Term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pidem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em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ndem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ho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portun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socom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rul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sative Agent: Vibrio cholera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mptoms: severe diarrhoea up to 20 liters a day of “rice water stool”, vomiting, muscle cramps caused by loss fluid and electroly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hogenesis: Vibrio adheres to the small intestinal lining, multiply and produce the enterotoxin choleragen which causes the accumulation of cAMP. An increased secretion of water and electrolyte from the cells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holera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Epidemiology: Feacally contaminated water, crabs and vegetables fertilized with human faeces. Has been eradicated most developed countries but a new strain discovered in 1992 is threatening another pandem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cubation period: 12-48 hou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 Lab diagnosis: Microscopy, culture of sample from faeces or vom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. Prevention: Purification of water, washing of ha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. Treatment: administration of solution of glucose and electrolyte orally or intravenously; tetracycline antibiotic or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alari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sative Agent: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lasmodium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 speci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mptoms (Clinical features): fever, chills, anaemia, headache, nausea, shivering, convulsions (esp. in under 5 yr olds) enlarged sple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hogenesis: site of action of pathogen include: liver, RBC, brain. The vector, female Anopheles mosquito, transfer pathogen during feed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alari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Epidemiology: Endemic in 91 tropical and subtropical countries. Invade the liver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move to reproduce in RBCs resulting in their rupture and the associated chil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Incubation Period: 1 – 2 week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 Lab diagnosis: Microscop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n Infected RBC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458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alaria - Preven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e the number of mosquitoes; destruction of larvae and adult mosquitoes by biological and chemical control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oid being bitten; protective clothing and creams, treated bed n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of drugs to prevent infection; chemoprophylax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alaria -Treatmen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bination therapy: Artesunate Amodiaqu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hogen: M. tuberculosis (pulmonary TB); M. bovis(GI TB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mission: airborne droplets (NB MTB is dessication resistant and survives in dried sputum); unpasteurized mil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nical features: prolonged coughing sometimes with bloody sputum, shortness of breath, fever, sweating , weight lo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No toxin production. Pathogenicty is by invasiveness that produce characteristic lesions in the lu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Epidemiology: pathogen triggers acute inflammatory response + forms tubercle – giant cells containing MTB and surrounded by epithelial cells. Tubercles heals by fibrosis and calcification. Can desseminate via bloodstream to other internal org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Normal Micro flora &amp; its importance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vent the growth of pathoge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imulate the immune system to produce antibodies that cross-react with invading pathoge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d in digestion of cellulose in rumina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 essential nutr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Koch’s Postul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ame pathogen must be  present in every case of the diseas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athogen must be isolated from the diseased host and grown in pure cultur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athogen from the pure culture must cause the disease when it is introduced into a healthy but susceptible organis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athogen must be isolated from the inoculated animal and be shown to be the original organis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Modifications to Koch’s Postulat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infectious agents cannot be cultured e.g. pr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pathogens have non-virulent strains whose presence does not link them to a disease. E.g. non encapsulate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iplococcus pneumonia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ypes of Pathoge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c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m po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m nega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id-Fast e.g.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ycobac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herical described a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oc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d shaped described a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bacil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ram Positiv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que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ck peptidoglycan w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periplasmic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outer membrane (capsu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treptococcus pyogenes, Staphylococcus aureus, Bacillus anthracis, Clostridium tetan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ram Positive wall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3" name="Picture 6" descr="DFFD6E10"/>
          <p:cNvPicPr/>
          <p:nvPr/>
        </p:nvPicPr>
        <p:blipFill>
          <a:blip r:embed="rId1"/>
          <a:srcRect l="0" t="18664" r="74961" b="64245"/>
          <a:stretch/>
        </p:blipFill>
        <p:spPr>
          <a:xfrm>
            <a:off x="0" y="1295280"/>
            <a:ext cx="4419720" cy="51055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7574CE9E"/>
          <p:cNvPicPr/>
          <p:nvPr/>
        </p:nvPicPr>
        <p:blipFill>
          <a:blip r:embed="rId2"/>
          <a:srcRect l="25042" t="6954" r="4000" b="62404"/>
          <a:stretch/>
        </p:blipFill>
        <p:spPr>
          <a:xfrm>
            <a:off x="4419720" y="1295280"/>
            <a:ext cx="47242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ram Negativ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que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n peptidoglycan w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s periplasmic space containing different degradative enzymes such as deoxyribonucleases,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lactamases and prote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er membrane containing lipid A, an endotox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Neisseri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almonella typhi, E. coli, Yersinia pestis, Vibrio cholera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22:19:54Z</dcterms:created>
  <dc:creator>ANDOH</dc:creator>
  <dc:description/>
  <dc:language>en-US</dc:language>
  <cp:lastModifiedBy>RomaK</cp:lastModifiedBy>
  <dcterms:modified xsi:type="dcterms:W3CDTF">2015-09-04T10:48:08Z</dcterms:modified>
  <cp:revision>16</cp:revision>
  <dc:subject/>
  <dc:title>Infectious Diseases</dc:title>
</cp:coreProperties>
</file>