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E52E-0DD3-409A-862B-8A0A2D138E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A73-635A-4961-A8D4-BA467552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3C0-C59D-4002-B284-DCDE9475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1BF-4DAF-48BF-BBCD-5EBC362C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9CB-E6F6-477D-B2B1-4BBC03B8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C34-DCAC-4E54-91C3-3D8CFFD1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F52-C479-4B9D-B3E3-9BD349A4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8DC-788E-4B00-9DB0-BF5761B7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303-4F97-4E0D-8BE5-C00AE71A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22960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EA0-4B76-4964-A0CD-1FECD3C0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1FA-DF3C-468C-9BC4-B670F935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D29-12A6-4093-BC13-48E3B99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EA3-A864-4C96-9301-C3B10A55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18B0-4872-4824-A4AB-F46482936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iology 2201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it 3 – Dynamic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tion 6-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tibod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shaped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prote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gnize antigens, bind to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egion recognizes the anit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antibody_colour"/>
          <p:cNvPicPr/>
          <p:nvPr/>
        </p:nvPicPr>
        <p:blipFill>
          <a:blip r:embed="rId1"/>
          <a:stretch/>
        </p:blipFill>
        <p:spPr>
          <a:xfrm>
            <a:off x="152280" y="1649520"/>
            <a:ext cx="43434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an antibody operates/work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75" name="Picture 5" descr="antibody_antigen_complex _final"/>
          <p:cNvPicPr/>
          <p:nvPr/>
        </p:nvPicPr>
        <p:blipFill>
          <a:blip r:embed="rId1"/>
          <a:stretch/>
        </p:blipFill>
        <p:spPr>
          <a:xfrm>
            <a:off x="228600" y="1844640"/>
            <a:ext cx="8534520" cy="369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04920" y="1295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Pathway of 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152280" y="838080"/>
            <a:ext cx="8991720" cy="5724720"/>
            <a:chOff x="152280" y="838080"/>
            <a:chExt cx="8991720" cy="5724720"/>
          </a:xfrm>
        </p:grpSpPr>
        <p:pic>
          <p:nvPicPr>
            <p:cNvPr id="79" name="Picture 4" descr="antigens_samples"/>
            <p:cNvPicPr/>
            <p:nvPr/>
          </p:nvPicPr>
          <p:blipFill>
            <a:blip r:embed="rId1"/>
            <a:stretch/>
          </p:blipFill>
          <p:spPr>
            <a:xfrm>
              <a:off x="228600" y="838080"/>
              <a:ext cx="166212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5"/>
            <p:cNvSpPr/>
            <p:nvPr/>
          </p:nvSpPr>
          <p:spPr>
            <a:xfrm rot="2021400">
              <a:off x="1905120" y="182880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macrophage"/>
            <p:cNvPicPr/>
            <p:nvPr/>
          </p:nvPicPr>
          <p:blipFill>
            <a:blip r:embed="rId2"/>
            <a:stretch/>
          </p:blipFill>
          <p:spPr>
            <a:xfrm>
              <a:off x="2895480" y="2286000"/>
              <a:ext cx="21337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7"/>
            <p:cNvSpPr/>
            <p:nvPr/>
          </p:nvSpPr>
          <p:spPr>
            <a:xfrm rot="2088000">
              <a:off x="5181120" y="396216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8" descr="macrophage+helperTcell"/>
            <p:cNvPicPr/>
            <p:nvPr/>
          </p:nvPicPr>
          <p:blipFill>
            <a:blip r:embed="rId3"/>
            <a:stretch/>
          </p:blipFill>
          <p:spPr>
            <a:xfrm>
              <a:off x="5486400" y="4830840"/>
              <a:ext cx="36576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9"/>
            <p:cNvSpPr/>
            <p:nvPr/>
          </p:nvSpPr>
          <p:spPr>
            <a:xfrm>
              <a:off x="152280" y="4876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2438280" y="152388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 eaten by Macroph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5181480" y="2819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isplays portion of Pathogen on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2590920" y="58672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elper-T cell recognizes Pathoge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2438280" y="12193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5181480" y="24382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6324480" y="4343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6"/>
          <p:cNvGrpSpPr/>
          <p:nvPr/>
        </p:nvGrpSpPr>
        <p:grpSpPr>
          <a:xfrm>
            <a:off x="228600" y="0"/>
            <a:ext cx="8483760" cy="6859440"/>
            <a:chOff x="228600" y="0"/>
            <a:chExt cx="8483760" cy="6859440"/>
          </a:xfrm>
        </p:grpSpPr>
        <p:pic>
          <p:nvPicPr>
            <p:cNvPr id="92" name="Picture 4" descr="activ_helper_T_cell"/>
            <p:cNvPicPr/>
            <p:nvPr/>
          </p:nvPicPr>
          <p:blipFill>
            <a:blip r:embed="rId1"/>
            <a:stretch/>
          </p:blipFill>
          <p:spPr>
            <a:xfrm>
              <a:off x="3200400" y="0"/>
              <a:ext cx="19810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5"/>
            <p:cNvSpPr/>
            <p:nvPr/>
          </p:nvSpPr>
          <p:spPr>
            <a:xfrm rot="2260200">
              <a:off x="4571640" y="182844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rot="8301600">
              <a:off x="2057040" y="1828440"/>
              <a:ext cx="1333440" cy="177840"/>
            </a:xfrm>
            <a:prstGeom prst="rightArrow">
              <a:avLst>
                <a:gd name="adj1" fmla="val 50000"/>
                <a:gd name="adj2" fmla="val 187449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410080" y="1371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B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28600" y="1447920"/>
              <a:ext cx="2819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 Cytotox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9" descr="B-cell_crop"/>
            <p:cNvPicPr/>
            <p:nvPr/>
          </p:nvPicPr>
          <p:blipFill>
            <a:blip r:embed="rId2"/>
            <a:stretch/>
          </p:blipFill>
          <p:spPr>
            <a:xfrm>
              <a:off x="6172200" y="182880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T-cell death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9810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killer T-Cell"/>
            <p:cNvPicPr/>
            <p:nvPr/>
          </p:nvPicPr>
          <p:blipFill>
            <a:blip r:embed="rId4"/>
            <a:stretch/>
          </p:blipFill>
          <p:spPr>
            <a:xfrm>
              <a:off x="838080" y="2362320"/>
              <a:ext cx="1605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2"/>
            <p:cNvSpPr/>
            <p:nvPr/>
          </p:nvSpPr>
          <p:spPr>
            <a:xfrm>
              <a:off x="1371600" y="4038480"/>
              <a:ext cx="152280" cy="762120"/>
            </a:xfrm>
            <a:prstGeom prst="downArrow">
              <a:avLst>
                <a:gd name="adj1" fmla="val 50000"/>
                <a:gd name="adj2" fmla="val 12511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4"/>
            <p:cNvSpPr/>
            <p:nvPr/>
          </p:nvSpPr>
          <p:spPr>
            <a:xfrm rot="19292400">
              <a:off x="2324160" y="3570120"/>
              <a:ext cx="380880" cy="609840"/>
            </a:xfrm>
            <a:prstGeom prst="downArrow">
              <a:avLst>
                <a:gd name="adj1" fmla="val 31250"/>
                <a:gd name="adj2" fmla="val 3273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killer T-Cell"/>
            <p:cNvPicPr/>
            <p:nvPr/>
          </p:nvPicPr>
          <p:blipFill>
            <a:blip r:embed="rId5"/>
            <a:stretch/>
          </p:blipFill>
          <p:spPr>
            <a:xfrm>
              <a:off x="2514600" y="3886200"/>
              <a:ext cx="1604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16"/>
            <p:cNvSpPr/>
            <p:nvPr/>
          </p:nvSpPr>
          <p:spPr>
            <a:xfrm rot="1975200">
              <a:off x="6149520" y="333684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7"/>
            <p:cNvSpPr/>
            <p:nvPr/>
          </p:nvSpPr>
          <p:spPr>
            <a:xfrm rot="20688000">
              <a:off x="7467480" y="33526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8" descr="B-cell_crop"/>
            <p:cNvPicPr/>
            <p:nvPr/>
          </p:nvPicPr>
          <p:blipFill>
            <a:blip r:embed="rId6"/>
            <a:stretch/>
          </p:blipFill>
          <p:spPr>
            <a:xfrm>
              <a:off x="5029200" y="396252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lasmacell"/>
            <p:cNvPicPr/>
            <p:nvPr/>
          </p:nvPicPr>
          <p:blipFill>
            <a:blip r:embed="rId7"/>
            <a:stretch/>
          </p:blipFill>
          <p:spPr>
            <a:xfrm>
              <a:off x="7238880" y="3809880"/>
              <a:ext cx="14734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0"/>
            <p:cNvSpPr/>
            <p:nvPr/>
          </p:nvSpPr>
          <p:spPr>
            <a:xfrm>
              <a:off x="4952880" y="5486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B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438280" y="56386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Arial"/>
                </a:rPr>
                <a:t>Memory 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228600" y="6491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Kills Infected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7848720" y="54864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24" descr="antibodies_immuneresponse"/>
            <p:cNvPicPr/>
            <p:nvPr/>
          </p:nvPicPr>
          <p:blipFill>
            <a:blip r:embed="rId8"/>
            <a:stretch/>
          </p:blipFill>
          <p:spPr>
            <a:xfrm rot="16200000">
              <a:off x="7582320" y="5810400"/>
              <a:ext cx="932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5"/>
            <p:cNvSpPr/>
            <p:nvPr/>
          </p:nvSpPr>
          <p:spPr>
            <a:xfrm>
              <a:off x="5789880" y="6248520"/>
              <a:ext cx="15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ntibodies</a:t>
              </a:r>
              <a:r>
                <a:rPr b="1" lang="en-US" sz="18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ellular Immunity .vs. Antibody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4572000" y="9907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62120" y="990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ellular Immunity                                 Antibody or Humoral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Explained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Summar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22" name="Organization Chart 5"/>
          <p:cNvGrpSpPr/>
          <p:nvPr/>
        </p:nvGrpSpPr>
        <p:grpSpPr>
          <a:xfrm>
            <a:off x="0" y="1527840"/>
            <a:ext cx="9143280" cy="4435560"/>
            <a:chOff x="0" y="1527840"/>
            <a:chExt cx="9143280" cy="4435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644800" y="540792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6" name="_s1029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5645160" y="474264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8" name="_s1030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409520" y="3471120"/>
              <a:ext cx="222840" cy="121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1" name="_s1031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6224400" y="3500280"/>
              <a:ext cx="222840" cy="1156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2" name="_s103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2683080" y="3485160"/>
              <a:ext cx="222840" cy="118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5" name="_s1033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1497960" y="3486240"/>
              <a:ext cx="222840" cy="118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7" name="_s1034"/>
            <p:cNvCxnSpPr>
              <a:stCxn id="130" idx="0"/>
              <a:endCxn id="138" idx="2"/>
            </p:cNvCxnSpPr>
            <p:nvPr/>
          </p:nvCxnSpPr>
          <p:spPr>
            <a:xfrm flipV="1" rot="16200000">
              <a:off x="5631120" y="2242080"/>
              <a:ext cx="222840" cy="234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9" name="_s1035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275280" y="2228040"/>
              <a:ext cx="222840" cy="237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" name="_s1036"/>
            <p:cNvCxnSpPr>
              <a:stCxn id="138" idx="0"/>
              <a:endCxn id="141" idx="2"/>
            </p:cNvCxnSpPr>
            <p:nvPr/>
          </p:nvCxnSpPr>
          <p:spPr>
            <a:xfrm flipV="1">
              <a:off x="4571640" y="263520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2" name="_s1037"/>
            <p:cNvCxnSpPr>
              <a:stCxn id="141" idx="0"/>
              <a:endCxn id="143" idx="2"/>
            </p:cNvCxnSpPr>
            <p:nvPr/>
          </p:nvCxnSpPr>
          <p:spPr>
            <a:xfrm flipV="1">
              <a:off x="4571640" y="197028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3" name="_s1038"/>
            <p:cNvSpPr/>
            <p:nvPr/>
          </p:nvSpPr>
          <p:spPr>
            <a:xfrm>
              <a:off x="3561120" y="152784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Anti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3561120" y="2193120"/>
              <a:ext cx="202140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Macroph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312720" y="2858040"/>
              <a:ext cx="2517480" cy="4442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per T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1"/>
            <p:cNvSpPr/>
            <p:nvPr/>
          </p:nvSpPr>
          <p:spPr>
            <a:xfrm>
              <a:off x="1076040" y="3525120"/>
              <a:ext cx="225108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Cytotoxic T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42"/>
            <p:cNvSpPr/>
            <p:nvPr/>
          </p:nvSpPr>
          <p:spPr>
            <a:xfrm>
              <a:off x="5788800" y="3525120"/>
              <a:ext cx="22507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B 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3"/>
            <p:cNvSpPr/>
            <p:nvPr/>
          </p:nvSpPr>
          <p:spPr>
            <a:xfrm>
              <a:off x="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lls Infected Ce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44"/>
            <p:cNvSpPr/>
            <p:nvPr/>
          </p:nvSpPr>
          <p:spPr>
            <a:xfrm>
              <a:off x="236988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T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5"/>
            <p:cNvSpPr/>
            <p:nvPr/>
          </p:nvSpPr>
          <p:spPr>
            <a:xfrm>
              <a:off x="474012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Plasma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6"/>
            <p:cNvSpPr/>
            <p:nvPr/>
          </p:nvSpPr>
          <p:spPr>
            <a:xfrm>
              <a:off x="711036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B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7"/>
            <p:cNvSpPr/>
            <p:nvPr/>
          </p:nvSpPr>
          <p:spPr>
            <a:xfrm>
              <a:off x="4744800" y="485532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tibod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8"/>
            <p:cNvSpPr/>
            <p:nvPr/>
          </p:nvSpPr>
          <p:spPr>
            <a:xfrm>
              <a:off x="4686480" y="5520600"/>
              <a:ext cx="21409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Deactivates Antig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2"/>
          <p:cNvSpPr/>
          <p:nvPr/>
        </p:nvSpPr>
        <p:spPr>
          <a:xfrm>
            <a:off x="6019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5638320" y="13716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22860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ellular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617220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ntibody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im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cond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apid response to an invader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it invade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151" name="Picture 8" descr="Prim_sec_immunity_graph"/>
          <p:cNvPicPr/>
          <p:nvPr/>
        </p:nvPicPr>
        <p:blipFill>
          <a:blip r:embed="rId1"/>
          <a:stretch/>
        </p:blipFill>
        <p:spPr>
          <a:xfrm>
            <a:off x="380880" y="85896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ssive .vs. Active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ct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Vaccin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jection of a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weakened st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n infectious microbe (pathogen) that causes the body to undergo active immunity (produce antibod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Pass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at is Immunity?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51" name="Picture 4" descr="flu1"/>
          <p:cNvPicPr/>
          <p:nvPr/>
        </p:nvPicPr>
        <p:blipFill>
          <a:blip r:embed="rId1"/>
          <a:stretch/>
        </p:blipFill>
        <p:spPr>
          <a:xfrm>
            <a:off x="87480" y="914400"/>
            <a:ext cx="1855800" cy="29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lu_joke"/>
          <p:cNvPicPr/>
          <p:nvPr/>
        </p:nvPicPr>
        <p:blipFill>
          <a:blip r:embed="rId2"/>
          <a:stretch/>
        </p:blipFill>
        <p:spPr>
          <a:xfrm>
            <a:off x="2209680" y="696960"/>
            <a:ext cx="693432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and_position_for_vaccination"/>
          <p:cNvPicPr/>
          <p:nvPr/>
        </p:nvPicPr>
        <p:blipFill>
          <a:blip r:embed="rId3"/>
          <a:stretch/>
        </p:blipFill>
        <p:spPr>
          <a:xfrm>
            <a:off x="152280" y="4495680"/>
            <a:ext cx="319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utoimmune Disea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rippling disease of the j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u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blood and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ultiple 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se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es/Treatm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 known cures. Usually treated with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llerg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normally harmless substance that causes an allergic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Types of Allergic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ccurs within seconds and normally lasts for about 30 m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lay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akes longer to react and can last for a much long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at happens during an allergic reaction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an allergic reaction antibodies caus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histam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released from certain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ylaxis or anaphylactic sh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eatments for All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mework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Immunity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4582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lu"/>
          <p:cNvPicPr/>
          <p:nvPr/>
        </p:nvPicPr>
        <p:blipFill>
          <a:blip r:embed="rId1"/>
          <a:stretch/>
        </p:blipFill>
        <p:spPr>
          <a:xfrm>
            <a:off x="5308560" y="3041640"/>
            <a:ext cx="383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reign Invader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ff5050"/>
                </a:solidFill>
                <a:latin typeface="Arial"/>
              </a:rPr>
              <a:t>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thogens"/>
          <p:cNvPicPr/>
          <p:nvPr/>
        </p:nvPicPr>
        <p:blipFill>
          <a:blip r:embed="rId1"/>
          <a:stretch/>
        </p:blipFill>
        <p:spPr>
          <a:xfrm>
            <a:off x="5105520" y="838080"/>
            <a:ext cx="3747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rts of the Immune Syste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does the body fight infection/foreign invader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e Body’s THREE lines of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 Line of Defense –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rd to penetrate, made of indigestible ker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ars, sw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861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Second Line of Defens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Nonspecific Immune Response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agocytosis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 –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done by Macrop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atural Cell Ki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nflammation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- caused by release of Histamine from leuk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ever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– caused by histamines. The fever (high temp) kills invaders by denaturing their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47242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Macroph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phagocytic cell found in the liver, spleen, brain and lungs. Tra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nflammation"/>
          <p:cNvPicPr/>
          <p:nvPr/>
        </p:nvPicPr>
        <p:blipFill>
          <a:blip r:embed="rId1"/>
          <a:stretch/>
        </p:blipFill>
        <p:spPr>
          <a:xfrm>
            <a:off x="838080" y="17136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 involves the crea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Third Line of Defense –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4:12:23Z</dcterms:created>
  <dc:creator>M. Sceviour</dc:creator>
  <dc:description/>
  <dc:language>en-US</dc:language>
  <cp:lastModifiedBy>RomaK</cp:lastModifiedBy>
  <dcterms:modified xsi:type="dcterms:W3CDTF">2015-09-04T10:47:53Z</dcterms:modified>
  <cp:revision>39</cp:revision>
  <dc:subject/>
  <dc:title>Biology 2201</dc:title>
</cp:coreProperties>
</file>