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F9CD-A6F5-41D4-B4AF-C3CEABDEAC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2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3 – Dynamic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6-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2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3 – Dynamic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6-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shaped protein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variable and constant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Heavy and Light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ognize antigens, bind to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Variable region recognizes the anit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shaped protein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variable and constant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Heavy and Light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ognize antigens, bind to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Variable region recognizes the anit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antibody operates/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antibody operates/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way of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way of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.vs. 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                                Antibody or Humoral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.vs. 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                                Antibody or Humoral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rapid response to an invader the 2nd time it invade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rapid response to an invader the 2nd time it invade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.vs. 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jection of a weakened strain of an infectious microbe (pathogen) that causes the body to undergo active immunity (produce antibod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.vs. 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jection of a weakened strain of an infectious microbe (pathogen) that causes the body to undergo active immunity (produce antibod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umatoid Arthritis – crippling disease of the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– disease of blood and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lerosis – disease of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(s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s/Treatments:  No known cures. Usually treated with dru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umatoid Arthritis – crippling disease of the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– disease of blood and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lerosis – disease of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(s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s/Treatments:  No known cures. Usually treated with dru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en: a normally harmless substance that causes an allerg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llerg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Immediate – occurs within seconds and normally lasts for about 30 m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elayed – takes longer to react and can last for a much long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en: a normally harmless substance that causes an allerg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llerg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Immediate – occurs within seconds and normally lasts for about 30 m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elayed – takes longer to react and can last for a much long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during an allergic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n allergic reaction antibodies cause histamines to be released from certai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ylaxis or anaphylactic sho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 for 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during an allergic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n allergic reaction antibodies cause histamines to be released from certai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ylaxis or anaphylactic sho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 for 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s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s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body fight infection/foreign inva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’s THREE line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Line of Defense –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– hard to penetrate, made of indigestible ker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– tears, 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body fight infection/foreign inva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’s THREE line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Line of Defense –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– hard to penetrate, made of indigestible ker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– tears, 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 of Defense – Nonspecific Immune Respon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 – done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Cell Ki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mmation  - caused by release of Histamine from leuk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 – caused by histamines. The fever (high temp) kills invaders by denaturing thei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:  A phagocytic cell found in the liver, spleen, brain and lungs. Tra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 of Defense – Nonspecific Immune Respon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 – done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Cell Ki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mmation  - caused by release of Histamine from leuk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 – caused by histamines. The fever (high temp) kills invaders by denaturing thei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:  A phagocytic cell found in the liver, spleen, brain and lungs. Tra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onse involves the creation of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ine of Defense –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onse involves the creation of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ine of Defense –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19D-3924-46E6-A1D1-221CA5CC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4412-CD27-4F22-8EAC-414EB770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96EF-551B-4064-AD4C-278BBB77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11B-D3FA-42BD-BB66-6135C020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E3C8-1FB7-48DD-8250-D7C4D6EF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2342-7A80-4215-9305-030B9F15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4D1-2A51-4046-964A-BFBBBA36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6397-B12A-459D-A946-9112E023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822960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7369-E022-4E84-9109-5C03DE42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E9F-85EC-4DE6-A058-338B28D6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17B5-D4ED-41B4-BB6C-ED50C85B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063-6373-4F27-ADA0-D36E16AC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2DF9-2A25-4F2A-A860-1CA1F8CAF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iology 2201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nit 3 – Dynamic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tion 6- 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ntibodi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shaped 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prote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Heav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gnize antigens, bind to and deactiv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egion recognizes the anit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antibody_colour"/>
          <p:cNvPicPr/>
          <p:nvPr/>
        </p:nvPicPr>
        <p:blipFill>
          <a:blip r:embed="rId1"/>
          <a:stretch/>
        </p:blipFill>
        <p:spPr>
          <a:xfrm>
            <a:off x="152280" y="1649520"/>
            <a:ext cx="43434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an antibody operates/works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75" name="Picture 5" descr="antibody_antigen_complex _final"/>
          <p:cNvPicPr/>
          <p:nvPr/>
        </p:nvPicPr>
        <p:blipFill>
          <a:blip r:embed="rId1"/>
          <a:stretch/>
        </p:blipFill>
        <p:spPr>
          <a:xfrm>
            <a:off x="228600" y="1844640"/>
            <a:ext cx="8534520" cy="3694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304920" y="12952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Pathway of Specific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78" name="Group 16"/>
          <p:cNvGrpSpPr/>
          <p:nvPr/>
        </p:nvGrpSpPr>
        <p:grpSpPr>
          <a:xfrm>
            <a:off x="152280" y="838080"/>
            <a:ext cx="8991720" cy="5724720"/>
            <a:chOff x="152280" y="838080"/>
            <a:chExt cx="8991720" cy="5724720"/>
          </a:xfrm>
        </p:grpSpPr>
        <p:pic>
          <p:nvPicPr>
            <p:cNvPr id="79" name="Picture 4" descr="antigens_samples"/>
            <p:cNvPicPr/>
            <p:nvPr/>
          </p:nvPicPr>
          <p:blipFill>
            <a:blip r:embed="rId1"/>
            <a:stretch/>
          </p:blipFill>
          <p:spPr>
            <a:xfrm>
              <a:off x="228600" y="838080"/>
              <a:ext cx="1662120" cy="40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5"/>
            <p:cNvSpPr/>
            <p:nvPr/>
          </p:nvSpPr>
          <p:spPr>
            <a:xfrm rot="2021400">
              <a:off x="1905120" y="1828800"/>
              <a:ext cx="1066680" cy="228600"/>
            </a:xfrm>
            <a:prstGeom prst="rightArrow">
              <a:avLst>
                <a:gd name="adj1" fmla="val 50000"/>
                <a:gd name="adj2" fmla="val 116654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6" descr="macrophage"/>
            <p:cNvPicPr/>
            <p:nvPr/>
          </p:nvPicPr>
          <p:blipFill>
            <a:blip r:embed="rId2"/>
            <a:stretch/>
          </p:blipFill>
          <p:spPr>
            <a:xfrm>
              <a:off x="2895480" y="2286000"/>
              <a:ext cx="213372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AutoShape 7"/>
            <p:cNvSpPr/>
            <p:nvPr/>
          </p:nvSpPr>
          <p:spPr>
            <a:xfrm rot="2088000">
              <a:off x="5181120" y="3962160"/>
              <a:ext cx="1067040" cy="228600"/>
            </a:xfrm>
            <a:prstGeom prst="rightArrow">
              <a:avLst>
                <a:gd name="adj1" fmla="val 50000"/>
                <a:gd name="adj2" fmla="val 116693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8" descr="macrophage+helperTcell"/>
            <p:cNvPicPr/>
            <p:nvPr/>
          </p:nvPicPr>
          <p:blipFill>
            <a:blip r:embed="rId3"/>
            <a:stretch/>
          </p:blipFill>
          <p:spPr>
            <a:xfrm>
              <a:off x="5486400" y="4830840"/>
              <a:ext cx="36576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9"/>
            <p:cNvSpPr/>
            <p:nvPr/>
          </p:nvSpPr>
          <p:spPr>
            <a:xfrm>
              <a:off x="152280" y="4876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athog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0"/>
            <p:cNvSpPr/>
            <p:nvPr/>
          </p:nvSpPr>
          <p:spPr>
            <a:xfrm>
              <a:off x="2438280" y="152388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athogens eaten by Macroph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1"/>
            <p:cNvSpPr/>
            <p:nvPr/>
          </p:nvSpPr>
          <p:spPr>
            <a:xfrm>
              <a:off x="5181480" y="28195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Displays portion of Pathogen on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2"/>
            <p:cNvSpPr/>
            <p:nvPr/>
          </p:nvSpPr>
          <p:spPr>
            <a:xfrm>
              <a:off x="2590920" y="586728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Helper-T cell recognizes Pathoge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3"/>
            <p:cNvSpPr/>
            <p:nvPr/>
          </p:nvSpPr>
          <p:spPr>
            <a:xfrm>
              <a:off x="2438280" y="121932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4"/>
            <p:cNvSpPr/>
            <p:nvPr/>
          </p:nvSpPr>
          <p:spPr>
            <a:xfrm>
              <a:off x="5181480" y="243828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5"/>
            <p:cNvSpPr/>
            <p:nvPr/>
          </p:nvSpPr>
          <p:spPr>
            <a:xfrm>
              <a:off x="6324480" y="4343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6"/>
          <p:cNvGrpSpPr/>
          <p:nvPr/>
        </p:nvGrpSpPr>
        <p:grpSpPr>
          <a:xfrm>
            <a:off x="228600" y="0"/>
            <a:ext cx="8483760" cy="6859440"/>
            <a:chOff x="228600" y="0"/>
            <a:chExt cx="8483760" cy="6859440"/>
          </a:xfrm>
        </p:grpSpPr>
        <p:pic>
          <p:nvPicPr>
            <p:cNvPr id="92" name="Picture 4" descr="activ_helper_T_cell"/>
            <p:cNvPicPr/>
            <p:nvPr/>
          </p:nvPicPr>
          <p:blipFill>
            <a:blip r:embed="rId1"/>
            <a:stretch/>
          </p:blipFill>
          <p:spPr>
            <a:xfrm>
              <a:off x="3200400" y="0"/>
              <a:ext cx="198108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AutoShape 5"/>
            <p:cNvSpPr/>
            <p:nvPr/>
          </p:nvSpPr>
          <p:spPr>
            <a:xfrm rot="2260200">
              <a:off x="4571640" y="1828440"/>
              <a:ext cx="1600200" cy="228600"/>
            </a:xfrm>
            <a:prstGeom prst="rightArrow">
              <a:avLst>
                <a:gd name="adj1" fmla="val 50000"/>
                <a:gd name="adj2" fmla="val 17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 rot="8301600">
              <a:off x="2057040" y="1828440"/>
              <a:ext cx="1333440" cy="177840"/>
            </a:xfrm>
            <a:prstGeom prst="rightArrow">
              <a:avLst>
                <a:gd name="adj1" fmla="val 50000"/>
                <a:gd name="adj2" fmla="val 187449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5410080" y="1371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ctivates B-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228600" y="1447920"/>
              <a:ext cx="28195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ctivates  Cytotoxi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T-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9" descr="B-cell_crop"/>
            <p:cNvPicPr/>
            <p:nvPr/>
          </p:nvPicPr>
          <p:blipFill>
            <a:blip r:embed="rId2"/>
            <a:stretch/>
          </p:blipFill>
          <p:spPr>
            <a:xfrm>
              <a:off x="6172200" y="1828800"/>
              <a:ext cx="18795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0" descr="T-cell death"/>
            <p:cNvPicPr/>
            <p:nvPr/>
          </p:nvPicPr>
          <p:blipFill>
            <a:blip r:embed="rId3"/>
            <a:stretch/>
          </p:blipFill>
          <p:spPr>
            <a:xfrm>
              <a:off x="457200" y="4952880"/>
              <a:ext cx="19810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1" descr="killer T-Cell"/>
            <p:cNvPicPr/>
            <p:nvPr/>
          </p:nvPicPr>
          <p:blipFill>
            <a:blip r:embed="rId4"/>
            <a:stretch/>
          </p:blipFill>
          <p:spPr>
            <a:xfrm>
              <a:off x="838080" y="2362320"/>
              <a:ext cx="16052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12"/>
            <p:cNvSpPr/>
            <p:nvPr/>
          </p:nvSpPr>
          <p:spPr>
            <a:xfrm>
              <a:off x="1371600" y="4038480"/>
              <a:ext cx="152280" cy="762120"/>
            </a:xfrm>
            <a:prstGeom prst="downArrow">
              <a:avLst>
                <a:gd name="adj1" fmla="val 50000"/>
                <a:gd name="adj2" fmla="val 12511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4"/>
            <p:cNvSpPr/>
            <p:nvPr/>
          </p:nvSpPr>
          <p:spPr>
            <a:xfrm rot="19292400">
              <a:off x="2324160" y="3570120"/>
              <a:ext cx="380880" cy="609840"/>
            </a:xfrm>
            <a:prstGeom prst="downArrow">
              <a:avLst>
                <a:gd name="adj1" fmla="val 31250"/>
                <a:gd name="adj2" fmla="val 32734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5" descr="killer T-Cell"/>
            <p:cNvPicPr/>
            <p:nvPr/>
          </p:nvPicPr>
          <p:blipFill>
            <a:blip r:embed="rId5"/>
            <a:stretch/>
          </p:blipFill>
          <p:spPr>
            <a:xfrm>
              <a:off x="2514600" y="3886200"/>
              <a:ext cx="1604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AutoShape 16"/>
            <p:cNvSpPr/>
            <p:nvPr/>
          </p:nvSpPr>
          <p:spPr>
            <a:xfrm rot="1975200">
              <a:off x="6149520" y="333684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7"/>
            <p:cNvSpPr/>
            <p:nvPr/>
          </p:nvSpPr>
          <p:spPr>
            <a:xfrm rot="20688000">
              <a:off x="7467480" y="335268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18" descr="B-cell_crop"/>
            <p:cNvPicPr/>
            <p:nvPr/>
          </p:nvPicPr>
          <p:blipFill>
            <a:blip r:embed="rId6"/>
            <a:stretch/>
          </p:blipFill>
          <p:spPr>
            <a:xfrm>
              <a:off x="5029200" y="3962520"/>
              <a:ext cx="18795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lasmacell"/>
            <p:cNvPicPr/>
            <p:nvPr/>
          </p:nvPicPr>
          <p:blipFill>
            <a:blip r:embed="rId7"/>
            <a:stretch/>
          </p:blipFill>
          <p:spPr>
            <a:xfrm>
              <a:off x="7238880" y="3809880"/>
              <a:ext cx="14734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20"/>
            <p:cNvSpPr/>
            <p:nvPr/>
          </p:nvSpPr>
          <p:spPr>
            <a:xfrm>
              <a:off x="4952880" y="54864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emory B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2438280" y="56386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Arial"/>
                </a:rPr>
                <a:t>Memory T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2"/>
            <p:cNvSpPr/>
            <p:nvPr/>
          </p:nvSpPr>
          <p:spPr>
            <a:xfrm>
              <a:off x="228600" y="6491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Kills Infected Ce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3"/>
            <p:cNvSpPr/>
            <p:nvPr/>
          </p:nvSpPr>
          <p:spPr>
            <a:xfrm>
              <a:off x="7848720" y="54864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24" descr="antibodies_immuneresponse"/>
            <p:cNvPicPr/>
            <p:nvPr/>
          </p:nvPicPr>
          <p:blipFill>
            <a:blip r:embed="rId8"/>
            <a:stretch/>
          </p:blipFill>
          <p:spPr>
            <a:xfrm rot="16200000">
              <a:off x="7582320" y="5810400"/>
              <a:ext cx="93204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5"/>
            <p:cNvSpPr/>
            <p:nvPr/>
          </p:nvSpPr>
          <p:spPr>
            <a:xfrm>
              <a:off x="5789880" y="6248520"/>
              <a:ext cx="159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ntibodies</a:t>
              </a:r>
              <a:r>
                <a:rPr b="1" lang="en-US" sz="18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ellular Immunity .vs. Antibody Immunit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V="1">
            <a:off x="4572000" y="9907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762120" y="13716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762120" y="9907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ellular Immunity                                 Antibody or Humoral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mune Response Explained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mune Response Summar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22" name="Organization Chart 5"/>
          <p:cNvGrpSpPr/>
          <p:nvPr/>
        </p:nvGrpSpPr>
        <p:grpSpPr>
          <a:xfrm>
            <a:off x="0" y="1527840"/>
            <a:ext cx="9143280" cy="4435560"/>
            <a:chOff x="0" y="1527840"/>
            <a:chExt cx="9143280" cy="4435560"/>
          </a:xfrm>
        </p:grpSpPr>
        <p:cxnSp>
          <p:nvCxnSpPr>
            <p:cNvPr id="123" name="_s1028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644800" y="5407920"/>
              <a:ext cx="2228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26" name="_s1029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5645160" y="4742640"/>
              <a:ext cx="2228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28" name="_s1030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7409520" y="3471120"/>
              <a:ext cx="222840" cy="121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1" name="_s1031"/>
            <p:cNvCxnSpPr>
              <a:stCxn id="127" idx="0"/>
              <a:endCxn id="130" idx="2"/>
            </p:cNvCxnSpPr>
            <p:nvPr/>
          </p:nvCxnSpPr>
          <p:spPr>
            <a:xfrm flipH="1" flipV="1" rot="5400000">
              <a:off x="6224400" y="3500280"/>
              <a:ext cx="222840" cy="1156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2" name="_s1032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2683080" y="3485160"/>
              <a:ext cx="222840" cy="1186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5" name="_s1033"/>
            <p:cNvCxnSpPr>
              <a:stCxn id="136" idx="0"/>
              <a:endCxn id="134" idx="2"/>
            </p:cNvCxnSpPr>
            <p:nvPr/>
          </p:nvCxnSpPr>
          <p:spPr>
            <a:xfrm flipH="1" flipV="1" rot="5400000">
              <a:off x="1497960" y="3486240"/>
              <a:ext cx="222840" cy="1184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7" name="_s1034"/>
            <p:cNvCxnSpPr>
              <a:stCxn id="130" idx="0"/>
              <a:endCxn id="138" idx="2"/>
            </p:cNvCxnSpPr>
            <p:nvPr/>
          </p:nvCxnSpPr>
          <p:spPr>
            <a:xfrm flipV="1" rot="16200000">
              <a:off x="5631120" y="2242080"/>
              <a:ext cx="222840" cy="234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9" name="_s1035"/>
            <p:cNvCxnSpPr>
              <a:stCxn id="134" idx="0"/>
              <a:endCxn id="138" idx="2"/>
            </p:cNvCxnSpPr>
            <p:nvPr/>
          </p:nvCxnSpPr>
          <p:spPr>
            <a:xfrm flipH="1" flipV="1" rot="5400000">
              <a:off x="3275280" y="2228040"/>
              <a:ext cx="222840" cy="2370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0" name="_s1036"/>
            <p:cNvCxnSpPr>
              <a:stCxn id="138" idx="0"/>
              <a:endCxn id="141" idx="2"/>
            </p:cNvCxnSpPr>
            <p:nvPr/>
          </p:nvCxnSpPr>
          <p:spPr>
            <a:xfrm flipV="1">
              <a:off x="4571640" y="2635200"/>
              <a:ext cx="2520" cy="2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2" name="_s1037"/>
            <p:cNvCxnSpPr>
              <a:stCxn id="141" idx="0"/>
              <a:endCxn id="143" idx="2"/>
            </p:cNvCxnSpPr>
            <p:nvPr/>
          </p:nvCxnSpPr>
          <p:spPr>
            <a:xfrm flipV="1">
              <a:off x="4571640" y="1970280"/>
              <a:ext cx="2520" cy="2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43" name="_s1038"/>
            <p:cNvSpPr/>
            <p:nvPr/>
          </p:nvSpPr>
          <p:spPr>
            <a:xfrm>
              <a:off x="3561120" y="1527840"/>
              <a:ext cx="202140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Anti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9"/>
            <p:cNvSpPr/>
            <p:nvPr/>
          </p:nvSpPr>
          <p:spPr>
            <a:xfrm>
              <a:off x="3561120" y="2193120"/>
              <a:ext cx="202140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Arial"/>
                </a:rPr>
                <a:t>Macroph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40"/>
            <p:cNvSpPr/>
            <p:nvPr/>
          </p:nvSpPr>
          <p:spPr>
            <a:xfrm>
              <a:off x="3312720" y="2858040"/>
              <a:ext cx="2517480" cy="4442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lper T 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1"/>
            <p:cNvSpPr/>
            <p:nvPr/>
          </p:nvSpPr>
          <p:spPr>
            <a:xfrm>
              <a:off x="1076040" y="3525120"/>
              <a:ext cx="225108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ctive Cytotoxic T-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42"/>
            <p:cNvSpPr/>
            <p:nvPr/>
          </p:nvSpPr>
          <p:spPr>
            <a:xfrm>
              <a:off x="5788800" y="3525120"/>
              <a:ext cx="225072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ctive B  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43"/>
            <p:cNvSpPr/>
            <p:nvPr/>
          </p:nvSpPr>
          <p:spPr>
            <a:xfrm>
              <a:off x="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lls Infected Ce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44"/>
            <p:cNvSpPr/>
            <p:nvPr/>
          </p:nvSpPr>
          <p:spPr>
            <a:xfrm>
              <a:off x="236988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T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5"/>
            <p:cNvSpPr/>
            <p:nvPr/>
          </p:nvSpPr>
          <p:spPr>
            <a:xfrm>
              <a:off x="474012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Arial"/>
                </a:rPr>
                <a:t>Plasma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46"/>
            <p:cNvSpPr/>
            <p:nvPr/>
          </p:nvSpPr>
          <p:spPr>
            <a:xfrm>
              <a:off x="711036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B-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47"/>
            <p:cNvSpPr/>
            <p:nvPr/>
          </p:nvSpPr>
          <p:spPr>
            <a:xfrm>
              <a:off x="4744800" y="4855320"/>
              <a:ext cx="202140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tibod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8"/>
            <p:cNvSpPr/>
            <p:nvPr/>
          </p:nvSpPr>
          <p:spPr>
            <a:xfrm>
              <a:off x="4686480" y="5520600"/>
              <a:ext cx="214092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Deactivates Antige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32"/>
          <p:cNvSpPr/>
          <p:nvPr/>
        </p:nvSpPr>
        <p:spPr>
          <a:xfrm>
            <a:off x="6019920" y="838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5"/>
          <p:cNvSpPr/>
          <p:nvPr/>
        </p:nvSpPr>
        <p:spPr>
          <a:xfrm flipH="1">
            <a:off x="5638320" y="13716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6"/>
          <p:cNvSpPr/>
          <p:nvPr/>
        </p:nvSpPr>
        <p:spPr>
          <a:xfrm>
            <a:off x="228600" y="3048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ellular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617220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ntibody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imary .vs. Secondary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rimary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condary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rapid response to an invader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 it invades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imary .vs. Secondary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151" name="Picture 8" descr="Prim_sec_immunity_graph"/>
          <p:cNvPicPr/>
          <p:nvPr/>
        </p:nvPicPr>
        <p:blipFill>
          <a:blip r:embed="rId1"/>
          <a:stretch/>
        </p:blipFill>
        <p:spPr>
          <a:xfrm>
            <a:off x="380880" y="85896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assive .vs. Active Immunit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ctiv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Vaccin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jection of a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weakened str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n infectious microbe (pathogen) that causes the body to undergo active immunity (produce antibodi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Passiv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at is Immunity?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51" name="Picture 4" descr="flu1"/>
          <p:cNvPicPr/>
          <p:nvPr/>
        </p:nvPicPr>
        <p:blipFill>
          <a:blip r:embed="rId1"/>
          <a:stretch/>
        </p:blipFill>
        <p:spPr>
          <a:xfrm>
            <a:off x="87480" y="914400"/>
            <a:ext cx="1855800" cy="29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Flu_joke"/>
          <p:cNvPicPr/>
          <p:nvPr/>
        </p:nvPicPr>
        <p:blipFill>
          <a:blip r:embed="rId2"/>
          <a:stretch/>
        </p:blipFill>
        <p:spPr>
          <a:xfrm>
            <a:off x="2209680" y="696960"/>
            <a:ext cx="6934320" cy="4267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and_position_for_vaccination"/>
          <p:cNvPicPr/>
          <p:nvPr/>
        </p:nvPicPr>
        <p:blipFill>
          <a:blip r:embed="rId3"/>
          <a:stretch/>
        </p:blipFill>
        <p:spPr>
          <a:xfrm>
            <a:off x="152280" y="4495680"/>
            <a:ext cx="3194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utoimmune Disea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heumatoid Arthri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rippling disease of the j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up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ease of blood and org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ultiple Scler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ease of nerv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use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res/Treatmen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o known cures. Usually treated with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llergi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All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Aller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normally harmless substance that causes an allergic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Types of Allergic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mmedi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occurs within seconds and normally lasts for about 30 m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elay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akes longer to react and can last for a much long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at happens during an allergic reaction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an allergic reaction antibodies cause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histam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released from certain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aphylaxis or anaphylactic sh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eatments for Aller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mework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Immunity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533160"/>
            <a:ext cx="84582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lu"/>
          <p:cNvPicPr/>
          <p:nvPr/>
        </p:nvPicPr>
        <p:blipFill>
          <a:blip r:embed="rId1"/>
          <a:stretch/>
        </p:blipFill>
        <p:spPr>
          <a:xfrm>
            <a:off x="5308560" y="3041640"/>
            <a:ext cx="383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oreign Invader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800" spc="-1" strike="noStrike">
                <a:solidFill>
                  <a:srgbClr val="ff5050"/>
                </a:solidFill>
                <a:latin typeface="Arial"/>
              </a:rPr>
              <a:t>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athogens"/>
          <p:cNvPicPr/>
          <p:nvPr/>
        </p:nvPicPr>
        <p:blipFill>
          <a:blip r:embed="rId1"/>
          <a:stretch/>
        </p:blipFill>
        <p:spPr>
          <a:xfrm>
            <a:off x="5105520" y="838080"/>
            <a:ext cx="3747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arts of the Immune System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does the body fight infection/foreign invaders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he Body’s THREE lines of 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rst Line of Defense –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The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ard to penetrate, made of indigestible kera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ears, swe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3861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Second Line of Defense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Nonspecific Immune Response</a:t>
            </a:r>
            <a:br>
              <a:rPr sz="2400"/>
            </a:b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Phagocytosis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 –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done by Macroph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atural Cell Ki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Inflammation 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- caused by release of Histamine from leukoc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Fever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– caused by histamines. The fever (high temp) kills invaders by denaturing their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04920" y="472428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Macroph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 phagocytic cell found in the liver, spleen, brain and lungs. Tra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nflammation"/>
          <p:cNvPicPr/>
          <p:nvPr/>
        </p:nvPicPr>
        <p:blipFill>
          <a:blip r:embed="rId1"/>
          <a:stretch/>
        </p:blipFill>
        <p:spPr>
          <a:xfrm>
            <a:off x="838080" y="17136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ponse involves the crea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ibo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Third Line of Defense –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Specific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4:12:23Z</dcterms:created>
  <dc:creator>M. Sceviour</dc:creator>
  <dc:description/>
  <dc:language>en-US</dc:language>
  <cp:lastModifiedBy>RomaK</cp:lastModifiedBy>
  <dcterms:modified xsi:type="dcterms:W3CDTF">2015-09-04T10:47:53Z</dcterms:modified>
  <cp:revision>39</cp:revision>
  <dc:subject/>
  <dc:title>Biology 2201</dc:title>
</cp:coreProperties>
</file>