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686E-7A7F-4C82-8588-712B16F85C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2 - AS Bi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th Novembe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52D0-826C-4829-A48E-2F7C7938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49D-B943-4EF7-AEC1-5FEFBF2C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F612-43E3-4802-B4C0-81DB58BE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DA6-5356-4BDB-838F-B5514218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B38-BD82-4995-ABF5-A43B107A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AC9-C35F-4F49-A6EA-FB63071D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B871-9340-4EAD-B222-6C04B93A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3C5E-85D3-472A-A776-F37F3005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256-868A-482A-8F8C-D8B44522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215-E69A-440B-A653-4250C95E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2CEE-F47C-4418-871F-43BF5DF0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73C-DBFB-4F80-AFB6-71A59961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74C6-14A1-4A7E-82A2-0C4A9BE6F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YEAR 12 - AS Biolog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29</a:t>
            </a:r>
            <a:r>
              <a:rPr b="0" lang="en-GB" sz="3200" spc="-1" strike="noStrike" baseline="30000">
                <a:solidFill>
                  <a:srgbClr val="000000"/>
                </a:solidFill>
                <a:latin typeface="Bauhaus 93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 Novembe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Mr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86-f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enzyme4"/>
          <p:cNvPicPr/>
          <p:nvPr/>
        </p:nvPicPr>
        <p:blipFill>
          <a:blip r:embed="rId1"/>
          <a:stretch/>
        </p:blipFill>
        <p:spPr>
          <a:xfrm>
            <a:off x="1403280" y="1198440"/>
            <a:ext cx="6454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enzyme8"/>
          <p:cNvPicPr/>
          <p:nvPr/>
        </p:nvPicPr>
        <p:blipFill>
          <a:blip r:embed="rId1"/>
          <a:stretch/>
        </p:blipFill>
        <p:spPr>
          <a:xfrm>
            <a:off x="5003640" y="2533680"/>
            <a:ext cx="33847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ctivation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controls thei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ate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ubstrate/enzyme concen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emperature, 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zyme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hib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actical to demonstrate “Catalase” activity in different tissue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enzymes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Globular Prote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act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cataly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their catalytic action in terms of lower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factors affect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reaction rat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in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9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Up to 10</a:t>
            </a:r>
            <a:r>
              <a:rPr b="0" lang="en-GB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f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ess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active s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ch as a cleft in the molecule onto which other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olecules can bind to form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‘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q10"/>
          <p:cNvPicPr/>
          <p:nvPr/>
        </p:nvPicPr>
        <p:blipFill>
          <a:blip r:embed="rId1"/>
          <a:stretch/>
        </p:blipFill>
        <p:spPr>
          <a:xfrm>
            <a:off x="1403280" y="1341360"/>
            <a:ext cx="597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enzyme3"/>
          <p:cNvPicPr/>
          <p:nvPr/>
        </p:nvPicPr>
        <p:blipFill>
          <a:blip r:embed="rId1"/>
          <a:stretch/>
        </p:blipFill>
        <p:spPr>
          <a:xfrm>
            <a:off x="1547640" y="1428840"/>
            <a:ext cx="5904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y chemical reaction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ubst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converted into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du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enzyme1"/>
          <p:cNvPicPr/>
          <p:nvPr/>
        </p:nvPicPr>
        <p:blipFill>
          <a:blip r:embed="rId1"/>
          <a:stretch/>
        </p:blipFill>
        <p:spPr>
          <a:xfrm>
            <a:off x="1332000" y="2752560"/>
            <a:ext cx="803124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8:15:51Z</dcterms:created>
  <dc:creator>Potter</dc:creator>
  <dc:description/>
  <dc:language>en-US</dc:language>
  <cp:lastModifiedBy>RomaK</cp:lastModifiedBy>
  <dcterms:modified xsi:type="dcterms:W3CDTF">2015-09-04T10:47:36Z</dcterms:modified>
  <cp:revision>28</cp:revision>
  <dc:subject/>
  <dc:title>YEAR 12 AS Biology 19th October 2005</dc:title>
</cp:coreProperties>
</file>