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7AC4-F36D-486B-BF50-4CC2C74805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examine what enzymes 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hey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examine what enzymes 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hey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duc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of th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duc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of th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rite a paragraph in your own words describing how enzymes act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rite a paragraph in your own words describing how enzymes act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F07-E1EC-4BA8-A432-6084F410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EB6-2A7C-48AB-B154-17FE5C1C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C18-F6FF-4AA6-A409-6556D1E0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7BD-DC74-4000-B718-80559FBE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5E1-976A-4C0D-BAE6-9960B894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415-5CF8-4F4B-8FDB-B1CD347A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9880-F610-4EEE-92F2-86C59FB3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AB7-8FF8-4FB7-9FD2-C9F4A1EB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6EC-4206-43A5-B430-AB60F0D7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CB4-9B0C-441C-8479-00EF0714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273-9DBC-4EEC-86E3-C874E10B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1EE-04B7-486C-9D9D-94585F57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0164-CB72-41AD-98FD-96E8858D58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264840" y="836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12720" y="1978200"/>
            <a:ext cx="802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objec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o examine what enzymes a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be how they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" y="3380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377720" y="620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 Ar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301040" y="1892160"/>
            <a:ext cx="639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zyme binds to the substrates by it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olypeptide"/>
          <p:cNvPicPr/>
          <p:nvPr/>
        </p:nvPicPr>
        <p:blipFill>
          <a:blip r:embed="rId1"/>
          <a:stretch/>
        </p:blipFill>
        <p:spPr>
          <a:xfrm>
            <a:off x="468360" y="3716280"/>
            <a:ext cx="3600360" cy="3044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ribozyme"/>
          <p:cNvPicPr/>
          <p:nvPr/>
        </p:nvPicPr>
        <p:blipFill>
          <a:blip r:embed="rId2"/>
          <a:stretch/>
        </p:blipFill>
        <p:spPr>
          <a:xfrm>
            <a:off x="4932360" y="3645000"/>
            <a:ext cx="38448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1900_fs"/>
          <p:cNvPicPr/>
          <p:nvPr/>
        </p:nvPicPr>
        <p:blipFill>
          <a:blip r:embed="rId1"/>
          <a:stretch/>
        </p:blipFill>
        <p:spPr>
          <a:xfrm>
            <a:off x="250920" y="620640"/>
            <a:ext cx="4464000" cy="3468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hymotrypsin_mechanism_3"/>
          <p:cNvPicPr/>
          <p:nvPr/>
        </p:nvPicPr>
        <p:blipFill>
          <a:blip r:embed="rId2"/>
          <a:stretch/>
        </p:blipFill>
        <p:spPr>
          <a:xfrm>
            <a:off x="5435640" y="692280"/>
            <a:ext cx="2724120" cy="39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2958480" y="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ctive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03720" y="4797360"/>
            <a:ext cx="82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46600" y="549360"/>
            <a:ext cx="670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3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7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5071320" y="192096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482360" y="4221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071320" y="192096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482360" y="4221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4500720" y="1700280"/>
            <a:ext cx="3887640" cy="115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V="1">
            <a:off x="6804000" y="112536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095240" y="6922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4284720" y="4076640"/>
            <a:ext cx="4032360" cy="9349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6443640" y="508464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805440" y="57992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91960" y="476280"/>
            <a:ext cx="839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For a reaction to occur the 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and water would have to collid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nough energy to break and form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91960" y="476280"/>
            <a:ext cx="8390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For a reaction to occur the 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and water would have to collid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nough energy to break and form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is is the activ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5"/>
          <p:cNvSpPr/>
          <p:nvPr/>
        </p:nvSpPr>
        <p:spPr>
          <a:xfrm>
            <a:off x="1187280" y="198900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2411280" y="2133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3564000" y="2421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08760" y="76500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10"/>
          <p:cNvGraphicFramePr/>
          <p:nvPr/>
        </p:nvGraphicFramePr>
        <p:xfrm>
          <a:off x="5219640" y="1773360"/>
          <a:ext cx="13510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13510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1"/>
          <p:cNvGraphicFramePr/>
          <p:nvPr/>
        </p:nvGraphicFramePr>
        <p:xfrm>
          <a:off x="6948360" y="1879560"/>
          <a:ext cx="144000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1879560"/>
                    <a:ext cx="14400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12"/>
          <p:cNvSpPr/>
          <p:nvPr/>
        </p:nvSpPr>
        <p:spPr>
          <a:xfrm>
            <a:off x="4987080" y="765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3635280" y="105264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560640" y="2133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1909080" y="2060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1261080" y="33577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6229440" y="3357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5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50" name="Group 6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51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14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54" name="Freeform 9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2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3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16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1160" y="216216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 flipV="1">
            <a:off x="3132000" y="155700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194720" y="12891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3132000" y="2565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43600" y="23493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3132000" y="2852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070880" y="3278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60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61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64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75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76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79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95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96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99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218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219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222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3348000" y="3357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3"/>
          <p:cNvSpPr/>
          <p:nvPr/>
        </p:nvSpPr>
        <p:spPr>
          <a:xfrm flipV="1">
            <a:off x="3851280" y="256500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2367360" y="1989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971640" y="119700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= The Activ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244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245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248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3348000" y="3357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3"/>
          <p:cNvSpPr/>
          <p:nvPr/>
        </p:nvSpPr>
        <p:spPr>
          <a:xfrm flipV="1">
            <a:off x="3851280" y="256500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2367360" y="1989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rc 25"/>
          <p:cNvSpPr/>
          <p:nvPr/>
        </p:nvSpPr>
        <p:spPr>
          <a:xfrm>
            <a:off x="4067280" y="3357720"/>
            <a:ext cx="1368360" cy="1079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6"/>
          <p:cNvSpPr/>
          <p:nvPr/>
        </p:nvSpPr>
        <p:spPr>
          <a:xfrm flipV="1">
            <a:off x="4932360" y="292392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6138360" y="2440080"/>
            <a:ext cx="23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zymes reduc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eight of the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2987640" y="1413000"/>
            <a:ext cx="3240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667680" y="35388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564120" y="2762280"/>
            <a:ext cx="859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Write a paragraph i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our own word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cribing how enzymes act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208320" y="155736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86880" y="2637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882000" y="445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82000" y="445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 flipV="1">
            <a:off x="2268360" y="436572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28520" y="4168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2268360" y="4797360"/>
            <a:ext cx="3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706120" y="4797360"/>
            <a:ext cx="54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377720" y="620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 Ar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301040" y="1892160"/>
            <a:ext cx="639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zyme binds to the substrates by it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9:09:45Z</dcterms:created>
  <dc:creator>LFT User</dc:creator>
  <dc:description/>
  <dc:language>en-US</dc:language>
  <cp:lastModifiedBy>RomaK</cp:lastModifiedBy>
  <dcterms:modified xsi:type="dcterms:W3CDTF">2015-09-04T10:47:20Z</dcterms:modified>
  <cp:revision>15</cp:revision>
  <dc:subject/>
  <dc:title>Enzymes what are they</dc:title>
</cp:coreProperties>
</file>