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BB39-95C6-4D81-A512-378E3D3852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examine what enzymes ar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hey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eaction to occur the suc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ter would have to collide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ough energy to break and form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crose +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he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reduc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of the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rite a paragraph in your own words describing how enzymes act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 binds to the substrates by its active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A166-02A3-4760-B157-DF5E1F2A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C70A-A037-4332-B3E3-996696A9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E4A-D340-4E8E-B1B8-BF888565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EE5-BE3F-4B6F-9D8D-9D996FB7C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8943-0223-485A-AE62-6D7A4136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ACD-468D-452D-A813-B8CE25D2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24B-7B78-4303-8845-349EFFE3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DF4-D205-4810-B679-26919CFE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5BD-5153-40D8-9E81-17051B43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DFA-AAEE-46A6-8975-57BD0CE0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7BD-9608-4F1D-9031-1B3D894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514-FE7C-4F2B-BDDD-D0778BA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CB57-1BF5-4C6B-B42B-663A8D8435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64840" y="836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12720" y="1978200"/>
            <a:ext cx="802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examine what enzymes are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they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olypeptide"/>
          <p:cNvPicPr/>
          <p:nvPr/>
        </p:nvPicPr>
        <p:blipFill>
          <a:blip r:embed="rId1"/>
          <a:stretch/>
        </p:blipFill>
        <p:spPr>
          <a:xfrm>
            <a:off x="468360" y="3716280"/>
            <a:ext cx="3600360" cy="3044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ribozyme"/>
          <p:cNvPicPr/>
          <p:nvPr/>
        </p:nvPicPr>
        <p:blipFill>
          <a:blip r:embed="rId2"/>
          <a:stretch/>
        </p:blipFill>
        <p:spPr>
          <a:xfrm>
            <a:off x="4932360" y="3645000"/>
            <a:ext cx="384480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1900_fs"/>
          <p:cNvPicPr/>
          <p:nvPr/>
        </p:nvPicPr>
        <p:blipFill>
          <a:blip r:embed="rId1"/>
          <a:stretch/>
        </p:blipFill>
        <p:spPr>
          <a:xfrm>
            <a:off x="250920" y="620640"/>
            <a:ext cx="4464000" cy="3468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hymotrypsin_mechanism_3"/>
          <p:cNvPicPr/>
          <p:nvPr/>
        </p:nvPicPr>
        <p:blipFill>
          <a:blip r:embed="rId2"/>
          <a:stretch/>
        </p:blipFill>
        <p:spPr>
          <a:xfrm>
            <a:off x="5435640" y="692280"/>
            <a:ext cx="2724120" cy="390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2958480" y="0"/>
            <a:ext cx="308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ctive 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03720" y="4797360"/>
            <a:ext cx="823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nvolves a small number of key residues that actually bi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est of the protein structure is needed to maintain these residues in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146600" y="549360"/>
            <a:ext cx="670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3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7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772000" y="40464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mage461"/>
          <p:cNvPicPr/>
          <p:nvPr/>
        </p:nvPicPr>
        <p:blipFill>
          <a:blip r:embed="rId1"/>
          <a:stretch/>
        </p:blipFill>
        <p:spPr>
          <a:xfrm>
            <a:off x="611280" y="1528920"/>
            <a:ext cx="3647880" cy="36576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071320" y="192096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482360" y="4221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500720" y="1700280"/>
            <a:ext cx="3887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6804000" y="1125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95240" y="69228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4284720" y="4076640"/>
            <a:ext cx="4032360" cy="934920"/>
          </a:xfrm>
          <a:prstGeom prst="ellipse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6443640" y="508464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6805440" y="57992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91960" y="476280"/>
            <a:ext cx="839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91960" y="476280"/>
            <a:ext cx="839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For a reaction to occur the suc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nd water would have to collid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enough energy to break and form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This is the activation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5"/>
          <p:cNvSpPr/>
          <p:nvPr/>
        </p:nvSpPr>
        <p:spPr>
          <a:xfrm>
            <a:off x="1187280" y="198900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2411280" y="2133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3564000" y="2421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08760" y="765000"/>
            <a:ext cx="261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Sucrose + 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10"/>
          <p:cNvGraphicFramePr/>
          <p:nvPr/>
        </p:nvGraphicFramePr>
        <p:xfrm>
          <a:off x="5219640" y="1773360"/>
          <a:ext cx="13510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773360"/>
                    <a:ext cx="13510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11"/>
          <p:cNvGraphicFramePr/>
          <p:nvPr/>
        </p:nvGraphicFramePr>
        <p:xfrm>
          <a:off x="6948360" y="1879560"/>
          <a:ext cx="144000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879560"/>
                    <a:ext cx="1440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12"/>
          <p:cNvSpPr/>
          <p:nvPr/>
        </p:nvSpPr>
        <p:spPr>
          <a:xfrm>
            <a:off x="4987080" y="76500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Comic Sans MS"/>
              </a:rPr>
              <a:t>Glucose + Fruc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635280" y="105264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560640" y="2133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1909080" y="2060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1261080" y="33577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6229440" y="3357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15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50" name="Group 6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5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4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54" name="Freeform 9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2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3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16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1160" y="216216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 flipV="1">
            <a:off x="3132000" y="1557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194720" y="12891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3132000" y="25653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143600" y="2349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do we need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3132000" y="2852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070880" y="3278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some exampl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60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61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64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7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7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195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196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199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3564000" y="335772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18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19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22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971640" y="1197000"/>
            <a:ext cx="71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e minimum amount of energy needed to start the reaction, leading to the formation of a high energy intermed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The Activation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2268360" y="1197000"/>
            <a:ext cx="4606560" cy="4752360"/>
            <a:chOff x="2268360" y="1197000"/>
            <a:chExt cx="4606560" cy="4752360"/>
          </a:xfrm>
        </p:grpSpPr>
        <p:grpSp>
          <p:nvGrpSpPr>
            <p:cNvPr id="244" name="Group 3"/>
            <p:cNvGrpSpPr/>
            <p:nvPr/>
          </p:nvGrpSpPr>
          <p:grpSpPr>
            <a:xfrm>
              <a:off x="2268360" y="1197000"/>
              <a:ext cx="4606560" cy="4752360"/>
              <a:chOff x="2268360" y="1197000"/>
              <a:chExt cx="4606560" cy="4752360"/>
            </a:xfrm>
          </p:grpSpPr>
          <p:sp>
            <p:nvSpPr>
              <p:cNvPr id="245" name="Line 4"/>
              <p:cNvSpPr/>
              <p:nvPr/>
            </p:nvSpPr>
            <p:spPr>
              <a:xfrm>
                <a:off x="2268360" y="1197000"/>
                <a:ext cx="0" cy="47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5"/>
              <p:cNvSpPr/>
              <p:nvPr/>
            </p:nvSpPr>
            <p:spPr>
              <a:xfrm>
                <a:off x="2268360" y="5949360"/>
                <a:ext cx="460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6"/>
            <p:cNvGrpSpPr/>
            <p:nvPr/>
          </p:nvGrpSpPr>
          <p:grpSpPr>
            <a:xfrm>
              <a:off x="2802240" y="2380680"/>
              <a:ext cx="3966480" cy="3164400"/>
              <a:chOff x="2802240" y="2380680"/>
              <a:chExt cx="3966480" cy="3164400"/>
            </a:xfrm>
          </p:grpSpPr>
          <p:sp>
            <p:nvSpPr>
              <p:cNvPr id="248" name="Freeform 7"/>
              <p:cNvSpPr/>
              <p:nvPr/>
            </p:nvSpPr>
            <p:spPr>
              <a:xfrm>
                <a:off x="3980880" y="2380680"/>
                <a:ext cx="1715040" cy="3164400"/>
              </a:xfrm>
              <a:custGeom>
                <a:avLst/>
                <a:gdLst/>
                <a:ahLst/>
                <a:rect l="l" t="t" r="r" b="b"/>
                <a:pathLst>
                  <a:path w="726" h="1420">
                    <a:moveTo>
                      <a:pt x="0" y="650"/>
                    </a:moveTo>
                    <a:cubicBezTo>
                      <a:pt x="60" y="449"/>
                      <a:pt x="121" y="249"/>
                      <a:pt x="181" y="151"/>
                    </a:cubicBezTo>
                    <a:cubicBezTo>
                      <a:pt x="241" y="53"/>
                      <a:pt x="310" y="53"/>
                      <a:pt x="363" y="60"/>
                    </a:cubicBezTo>
                    <a:cubicBezTo>
                      <a:pt x="416" y="67"/>
                      <a:pt x="446" y="0"/>
                      <a:pt x="499" y="196"/>
                    </a:cubicBezTo>
                    <a:cubicBezTo>
                      <a:pt x="552" y="392"/>
                      <a:pt x="642" y="1058"/>
                      <a:pt x="680" y="1239"/>
                    </a:cubicBezTo>
                    <a:cubicBezTo>
                      <a:pt x="718" y="1420"/>
                      <a:pt x="718" y="1277"/>
                      <a:pt x="726" y="1285"/>
                    </a:cubicBezTo>
                  </a:path>
                </a:pathLst>
              </a:custGeom>
              <a:noFill/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8"/>
              <p:cNvSpPr/>
              <p:nvPr/>
            </p:nvSpPr>
            <p:spPr>
              <a:xfrm>
                <a:off x="5590080" y="53110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"/>
              <p:cNvSpPr/>
              <p:nvPr/>
            </p:nvSpPr>
            <p:spPr>
              <a:xfrm>
                <a:off x="2802240" y="3795480"/>
                <a:ext cx="1178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 Box 10"/>
          <p:cNvSpPr/>
          <p:nvPr/>
        </p:nvSpPr>
        <p:spPr>
          <a:xfrm>
            <a:off x="901800" y="2990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278520" y="62308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2"/>
          <p:cNvSpPr/>
          <p:nvPr/>
        </p:nvSpPr>
        <p:spPr>
          <a:xfrm>
            <a:off x="2627280" y="3059280"/>
            <a:ext cx="53820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3348000" y="3357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2842920" y="422100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ubst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6200000">
            <a:off x="3310560" y="3682080"/>
            <a:ext cx="144720" cy="647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5796000" y="638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17"/>
          <p:cNvGraphicFramePr/>
          <p:nvPr/>
        </p:nvGraphicFramePr>
        <p:xfrm>
          <a:off x="5651640" y="4581360"/>
          <a:ext cx="703080" cy="6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4581360"/>
                    <a:ext cx="703080" cy="6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8"/>
          <p:cNvGraphicFramePr/>
          <p:nvPr/>
        </p:nvGraphicFramePr>
        <p:xfrm>
          <a:off x="6372360" y="4653000"/>
          <a:ext cx="8636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653000"/>
                    <a:ext cx="8636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19"/>
          <p:cNvSpPr/>
          <p:nvPr/>
        </p:nvSpPr>
        <p:spPr>
          <a:xfrm>
            <a:off x="5867640" y="4292640"/>
            <a:ext cx="9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20"/>
          <p:cNvSpPr/>
          <p:nvPr/>
        </p:nvSpPr>
        <p:spPr>
          <a:xfrm>
            <a:off x="4500720" y="1773360"/>
            <a:ext cx="537840" cy="596880"/>
          </a:xfrm>
          <a:custGeom>
            <a:avLst/>
            <a:gdLst/>
            <a:ahLst/>
            <a:rect l="l" t="t" r="r" b="b"/>
            <a:pathLst>
              <a:path w="531" h="479">
                <a:moveTo>
                  <a:pt x="45" y="159"/>
                </a:moveTo>
                <a:cubicBezTo>
                  <a:pt x="58" y="200"/>
                  <a:pt x="85" y="218"/>
                  <a:pt x="109" y="251"/>
                </a:cubicBezTo>
                <a:cubicBezTo>
                  <a:pt x="151" y="309"/>
                  <a:pt x="103" y="269"/>
                  <a:pt x="155" y="306"/>
                </a:cubicBezTo>
                <a:cubicBezTo>
                  <a:pt x="174" y="364"/>
                  <a:pt x="239" y="444"/>
                  <a:pt x="292" y="479"/>
                </a:cubicBezTo>
                <a:cubicBezTo>
                  <a:pt x="399" y="445"/>
                  <a:pt x="459" y="406"/>
                  <a:pt x="530" y="315"/>
                </a:cubicBezTo>
                <a:cubicBezTo>
                  <a:pt x="527" y="291"/>
                  <a:pt x="531" y="264"/>
                  <a:pt x="521" y="242"/>
                </a:cubicBezTo>
                <a:cubicBezTo>
                  <a:pt x="517" y="233"/>
                  <a:pt x="501" y="238"/>
                  <a:pt x="493" y="233"/>
                </a:cubicBezTo>
                <a:cubicBezTo>
                  <a:pt x="429" y="194"/>
                  <a:pt x="527" y="231"/>
                  <a:pt x="448" y="205"/>
                </a:cubicBezTo>
                <a:cubicBezTo>
                  <a:pt x="427" y="185"/>
                  <a:pt x="404" y="171"/>
                  <a:pt x="384" y="150"/>
                </a:cubicBezTo>
                <a:cubicBezTo>
                  <a:pt x="347" y="159"/>
                  <a:pt x="310" y="166"/>
                  <a:pt x="274" y="178"/>
                </a:cubicBezTo>
                <a:cubicBezTo>
                  <a:pt x="255" y="196"/>
                  <a:pt x="241" y="218"/>
                  <a:pt x="210" y="214"/>
                </a:cubicBezTo>
                <a:cubicBezTo>
                  <a:pt x="182" y="210"/>
                  <a:pt x="119" y="134"/>
                  <a:pt x="100" y="105"/>
                </a:cubicBezTo>
                <a:cubicBezTo>
                  <a:pt x="90" y="75"/>
                  <a:pt x="107" y="32"/>
                  <a:pt x="82" y="13"/>
                </a:cubicBezTo>
                <a:cubicBezTo>
                  <a:pt x="65" y="0"/>
                  <a:pt x="39" y="19"/>
                  <a:pt x="18" y="22"/>
                </a:cubicBezTo>
                <a:cubicBezTo>
                  <a:pt x="12" y="28"/>
                  <a:pt x="0" y="32"/>
                  <a:pt x="0" y="41"/>
                </a:cubicBezTo>
                <a:cubicBezTo>
                  <a:pt x="0" y="60"/>
                  <a:pt x="14" y="77"/>
                  <a:pt x="18" y="95"/>
                </a:cubicBezTo>
                <a:cubicBezTo>
                  <a:pt x="21" y="107"/>
                  <a:pt x="18" y="123"/>
                  <a:pt x="27" y="132"/>
                </a:cubicBezTo>
                <a:cubicBezTo>
                  <a:pt x="36" y="141"/>
                  <a:pt x="57" y="130"/>
                  <a:pt x="64" y="141"/>
                </a:cubicBezTo>
                <a:cubicBezTo>
                  <a:pt x="69" y="148"/>
                  <a:pt x="51" y="153"/>
                  <a:pt x="45" y="159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1"/>
          <p:cNvSpPr/>
          <p:nvPr/>
        </p:nvSpPr>
        <p:spPr>
          <a:xfrm>
            <a:off x="4643280" y="170028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5075640" y="1268280"/>
            <a:ext cx="125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 flipV="1">
            <a:off x="3851280" y="256500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367360" y="198900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>
            <a:off x="4067280" y="3357720"/>
            <a:ext cx="1368360" cy="1079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V="1">
            <a:off x="4932360" y="292392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138360" y="2440080"/>
            <a:ext cx="23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nzymes reduc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height of the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987640" y="1413000"/>
            <a:ext cx="3240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667680" y="35388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564120" y="2762280"/>
            <a:ext cx="859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a definition for the following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Explain how the structure of the protein is linked to its ability to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n enzy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How does heating a mixture increase the chance that a chemical re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occur? Why can’t this approach be used in cel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Write a paragraph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our own wo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cribing how enzymes act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talysts by lowering activation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3208320" y="155736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 page 57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686880" y="2637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61160" y="620640"/>
            <a:ext cx="26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71400" y="157644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obular proteins that catalyse chemical reactions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6880" y="2708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 flipV="1">
            <a:off x="1908000" y="2491920"/>
            <a:ext cx="43200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486880" y="2276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190800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58880" y="2708280"/>
            <a:ext cx="30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rate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908000" y="30686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33320" y="31734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changed at the end of the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82000" y="44560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2268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828520" y="4168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ctions too slow to maintain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2268360" y="479736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706120" y="4797360"/>
            <a:ext cx="54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’t increase temperatures/pressure in cells (fa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377720" y="620640"/>
            <a:ext cx="620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s Are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1301040" y="1892160"/>
            <a:ext cx="639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nzyme binds to the substrates by it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ctiv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ctive site is a pocket formed by the folding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the substrates bi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9:09:45Z</dcterms:created>
  <dc:creator>LFT User</dc:creator>
  <dc:description/>
  <dc:language>en-US</dc:language>
  <cp:lastModifiedBy>RomaK</cp:lastModifiedBy>
  <dcterms:modified xsi:type="dcterms:W3CDTF">2015-09-04T10:47:20Z</dcterms:modified>
  <cp:revision>15</cp:revision>
  <dc:subject/>
  <dc:title>Enzymes what are they</dc:title>
</cp:coreProperties>
</file>