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1404-B3DF-4404-9BD8-1258E4EFD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AF8-2DEB-48CB-8173-3F1AD2BF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E36-AC6B-4195-8DEC-9F0BF336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571-2CDA-4C35-8E0F-60227CC0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21D-AB4C-4B54-9191-A0211E71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EA8-E85C-46BC-99D9-1DF4FB0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217-6612-419B-8368-842C06A1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958-17E5-41EC-AF11-CF42BA88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F5C-21D8-4448-B3D7-2F3FF721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47A-7A17-4709-84D4-E2F72F3B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3AC-4F9C-425C-8FD9-5EE834E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92F-DC4C-41C0-89AA-7DD5ADF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6E7-D7E5-4C8F-BB02-EFB8E33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587-F2E4-4716-8F26-35ACB3A5A9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64840" y="836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1978200"/>
            <a:ext cx="802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examine what enzymes a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olypeptide"/>
          <p:cNvPicPr/>
          <p:nvPr/>
        </p:nvPicPr>
        <p:blipFill>
          <a:blip r:embed="rId1"/>
          <a:stretch/>
        </p:blipFill>
        <p:spPr>
          <a:xfrm>
            <a:off x="468360" y="3716280"/>
            <a:ext cx="3600360" cy="3044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bozyme"/>
          <p:cNvPicPr/>
          <p:nvPr/>
        </p:nvPicPr>
        <p:blipFill>
          <a:blip r:embed="rId2"/>
          <a:stretch/>
        </p:blipFill>
        <p:spPr>
          <a:xfrm>
            <a:off x="4932360" y="3645000"/>
            <a:ext cx="3844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900_fs"/>
          <p:cNvPicPr/>
          <p:nvPr/>
        </p:nvPicPr>
        <p:blipFill>
          <a:blip r:embed="rId1"/>
          <a:stretch/>
        </p:blipFill>
        <p:spPr>
          <a:xfrm>
            <a:off x="250920" y="620640"/>
            <a:ext cx="4464000" cy="346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ymotrypsin_mechanism_3"/>
          <p:cNvPicPr/>
          <p:nvPr/>
        </p:nvPicPr>
        <p:blipFill>
          <a:blip r:embed="rId2"/>
          <a:stretch/>
        </p:blipFill>
        <p:spPr>
          <a:xfrm>
            <a:off x="5435640" y="692280"/>
            <a:ext cx="2724120" cy="39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958480" y="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ctiv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3720" y="47973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6600" y="54936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3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7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500720" y="1700280"/>
            <a:ext cx="3887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6804000" y="1125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95240" y="692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284720" y="4076640"/>
            <a:ext cx="403236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443640" y="508464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05440" y="57992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91960" y="476280"/>
            <a:ext cx="839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91960" y="476280"/>
            <a:ext cx="839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is is the activ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"/>
          <p:cNvSpPr/>
          <p:nvPr/>
        </p:nvSpPr>
        <p:spPr>
          <a:xfrm>
            <a:off x="1187280" y="198900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411280" y="2133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8760" y="76500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5219640" y="1773360"/>
          <a:ext cx="135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135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6948360" y="1879560"/>
          <a:ext cx="144000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79560"/>
                    <a:ext cx="1440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498708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635280" y="10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56064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90908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261080" y="3357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229440" y="3357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5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50" name="Group 6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5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4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54" name="Freeform 9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3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16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1160" y="21621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3132000" y="1557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4720" y="1289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3600" y="2349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13200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70880" y="3278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60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6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7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9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9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9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18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19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22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971640" y="1197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The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44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45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48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>
            <a:off x="4067280" y="3357720"/>
            <a:ext cx="1368360" cy="107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932360" y="292392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38360" y="244008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zymes reduc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ight of the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987640" y="141300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667680" y="3538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64120" y="2762280"/>
            <a:ext cx="85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Write a paragraph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r own wo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ing how enzymes act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08320" y="15573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6880" y="2637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2268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28520" y="4168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268360" y="4797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06120" y="479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09:45Z</dcterms:created>
  <dc:creator>LFT User</dc:creator>
  <dc:description/>
  <dc:language>en-US</dc:language>
  <cp:lastModifiedBy>RomaK</cp:lastModifiedBy>
  <dcterms:modified xsi:type="dcterms:W3CDTF">2015-09-04T10:47:20Z</dcterms:modified>
  <cp:revision>15</cp:revision>
  <dc:subject/>
  <dc:title>Enzymes what are they</dc:title>
</cp:coreProperties>
</file>