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3F55-B323-47CB-92A6-21DE7CB640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 revisited (and e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going further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3 Carboxylic acids and their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 revisited (and e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going further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3 Carboxylic acids and their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ing pract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 these stru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c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nt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-1,2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pract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se stru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-1,2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series containing the OH hydroxyl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ames end in ol eg methanol, ethanol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mers are possible for alcohols containing 3 or more carb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position of OH group so that it has the lowest number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hydric alcohols contain more than one OH group eg propane- 1,2,3,tri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 groups attached to benzene rings are called phen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series containing the OH hydroxyl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ames end in ol eg methanol, ethanol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mers are possible for alcohols containing 3 or more carb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position of OH group so that it has the lowest number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hydric alcohols contain more than one OH group eg propane- 1,2,3,tri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 groups attached to benzene rings are called phen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re polar, in the O-H bond, O is - and H is 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have attractive forces between the molecules called hydrogen bonds, not as strong as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oiling point than corresponding alk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form between alcohol and water molecules therefore they are miscible /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chain alcohols are less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re polar, in the O-H bond, O is - and H is 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have attractive forces between the molecules called hydrogen bonds, not as strong as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oiling point than corresponding alk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form between alcohol and water molecules therefore they are miscible /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chain alcohols are less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ral formula R-O-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-R’ alkoxy group substituted for H e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2-CH2-O-CH3 methoxyprop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nger hydrocarbon chain is parent alkane for na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formula R-O-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-R’ alkoxy group substituted for H e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2-CH2-O-CH3 methoxyprop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hydrocarbon chain is parent alkane for na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eth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only slightly po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ydrogen on the oxygen atoms to form hydrogen bonds – only weak forces of attraction between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s similar to corresponding alk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ethers, very volatile, highly flamm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slightly soluble in water, mix well with other non-polar solvents eg alkanes. (Like dissolves lik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eth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only slightly po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ydrogen on the oxygen atoms to form hydrogen bonds – only weak forces of attraction between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s similar to corresponding alk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ethers, very volatile, highly flamm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slightly soluble in water, mix well with other non-polar solvents eg alkanes. (Like dissolves lik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-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s not join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formula when rest of structure is an      alkyl group R-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-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s not join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formula when rest of structure is an      alkyl group R-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ing 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4 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 -CH3 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2-CH3 pro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(CH3)-CH2-CH3  2-methylbut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-COOH m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 -COOH ethanoic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2-COOH prop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(CH3)-CH2-COOH 3-methyl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4 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 -CH3 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2-CH3 pro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(CH3)-CH2-CH3  2-methylbut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-COOH m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 -COOH ethanoic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2-COOH prop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(CH3)-CH2-COOH 3-methyl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ing more complex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wo carboxylic acid groups -dio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boxyl group can be attached to a benzene ring eg benzenecarboxyl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th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p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carboxylic acid  (benzoic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-1,4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more complex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arboxylic acid groups -dio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 can be attached to a benzene ring eg benzenecarboxyl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carboxylic acid  (benzoic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-1,4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-OH group is replaced carboxylic acid derivatives ar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-OH group is replaced carboxylic acid derivatives ar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6DC1-8222-47BD-ADB7-7161CE09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6BD0-13D6-47AD-AF4D-A19E59EB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29B-3D1B-4B56-A020-7C9CC88F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F020-50D3-416D-A77B-48699139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44F5-A89E-46D1-8255-3328B2B4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25FA-49CF-4A98-974A-42E27956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B145-24A7-418E-8CB9-D03EF975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A51D-2E65-4385-9374-C42A269C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F7E7-B52A-4CF0-BE4A-D2CBFBC3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8F44-5315-4BB3-885A-9EE3D697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631D-B2B1-45C8-B904-522EF6A1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228D-03BA-48B2-99AB-3105DFD2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1F2F-2AF4-48B3-8D4F-69F8AFE0B4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cohols revisited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nd eth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going further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13.3 Carboxylic acids and their deriv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609480" y="1600200"/>
          <a:ext cx="21337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21337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5"/>
          <p:cNvGraphicFramePr/>
          <p:nvPr/>
        </p:nvGraphicFramePr>
        <p:xfrm>
          <a:off x="6477120" y="4114800"/>
          <a:ext cx="163512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4114800"/>
                    <a:ext cx="1635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ing practi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me these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structure a"/>
          <p:cNvPicPr/>
          <p:nvPr/>
        </p:nvPicPr>
        <p:blipFill>
          <a:blip r:embed="rId1"/>
          <a:stretch/>
        </p:blipFill>
        <p:spPr>
          <a:xfrm>
            <a:off x="914400" y="2209680"/>
            <a:ext cx="2681280" cy="1019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143000" y="3200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6" descr="structur b"/>
          <p:cNvPicPr/>
          <p:nvPr/>
        </p:nvPicPr>
        <p:blipFill>
          <a:blip r:embed="rId2"/>
          <a:stretch/>
        </p:blipFill>
        <p:spPr>
          <a:xfrm>
            <a:off x="4267080" y="2170080"/>
            <a:ext cx="3962520" cy="10065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5410080" y="3200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ct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8" descr="structure c"/>
          <p:cNvPicPr/>
          <p:nvPr/>
        </p:nvPicPr>
        <p:blipFill>
          <a:blip r:embed="rId3"/>
          <a:stretch/>
        </p:blipFill>
        <p:spPr>
          <a:xfrm>
            <a:off x="380880" y="3962520"/>
            <a:ext cx="3810240" cy="12650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>
            <a:off x="1447920" y="5334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ntanedi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structure d"/>
          <p:cNvPicPr/>
          <p:nvPr/>
        </p:nvPicPr>
        <p:blipFill>
          <a:blip r:embed="rId4"/>
          <a:stretch/>
        </p:blipFill>
        <p:spPr>
          <a:xfrm>
            <a:off x="5105520" y="3886200"/>
            <a:ext cx="2590560" cy="1787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1"/>
          <p:cNvSpPr/>
          <p:nvPr/>
        </p:nvSpPr>
        <p:spPr>
          <a:xfrm>
            <a:off x="5257800" y="56386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nzene-1,2-dicarboxyl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homologous series containing the OH hydroxyl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all names end in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ol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eg methanol, ethanol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isomers are possible for alcohols containing 3 or more carb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label position of OH group so that it has the lowest number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polyhydric alcohols contain more than one OH group eg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propane- 1,2,3,tri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OH groups attached to benzene rings are called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phen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hysical properties of alcoh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lecules are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polar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the O-H bond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 i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 i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lecules have attractive forces between the molecules called hydrogen bonds, not as strong as covalent b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Higher boiling point than corresponding alka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Hydrogen bonds form between alcohol and water molecules therefore they are miscible / solu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Long chain alcohols are less solu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eneral formula R-O-R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O-R’ alkoxy group substituted for H e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-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-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-O-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3 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methoxyprop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Longer hydrocarbon chain is parent alkane for nam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hysical properties of ether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Molecules only slightly po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No hydrogen on the oxygen atoms to form hydrogen bonds – only weak forces of attraction between molecu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oiling points similar to corresponding alkan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ower ethers, very volatile, highly flammab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Only slightly soluble in water, mix well with other non-polar solvents eg alkanes. (Like dissolves like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rboxylic acid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mula -CO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xygen atoms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oined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eral formula when rest of structure is an      alkyl group R-COO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5181480" y="2133720"/>
            <a:ext cx="2895480" cy="3047760"/>
            <a:chOff x="5181480" y="2133720"/>
            <a:chExt cx="2895480" cy="3047760"/>
          </a:xfrm>
        </p:grpSpPr>
        <p:sp>
          <p:nvSpPr>
            <p:cNvPr id="65" name="WordArt 6"/>
            <p:cNvSpPr txBox="1"/>
            <p:nvPr/>
          </p:nvSpPr>
          <p:spPr>
            <a:xfrm>
              <a:off x="6035760" y="3373560"/>
              <a:ext cx="438840" cy="87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6" name="WordArt 7"/>
            <p:cNvSpPr txBox="1"/>
            <p:nvPr/>
          </p:nvSpPr>
          <p:spPr>
            <a:xfrm>
              <a:off x="6890400" y="2133720"/>
              <a:ext cx="474480" cy="87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7032960" y="4303440"/>
              <a:ext cx="1044000" cy="878040"/>
              <a:chOff x="7032960" y="4303440"/>
              <a:chExt cx="1044000" cy="878040"/>
            </a:xfrm>
          </p:grpSpPr>
          <p:sp>
            <p:nvSpPr>
              <p:cNvPr id="68" name="WordArt 9"/>
              <p:cNvSpPr txBox="1"/>
              <p:nvPr/>
            </p:nvSpPr>
            <p:spPr>
              <a:xfrm>
                <a:off x="7032960" y="4303440"/>
                <a:ext cx="474480" cy="87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</a:rPr>
                  <a:t>O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9" name="WordArt 10"/>
              <p:cNvSpPr txBox="1"/>
              <p:nvPr/>
            </p:nvSpPr>
            <p:spPr>
              <a:xfrm>
                <a:off x="7602480" y="4303440"/>
                <a:ext cx="474480" cy="87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</a:rPr>
                  <a:t>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70" name="Line 11"/>
            <p:cNvSpPr/>
            <p:nvPr/>
          </p:nvSpPr>
          <p:spPr>
            <a:xfrm>
              <a:off x="5181480" y="3683520"/>
              <a:ext cx="71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12"/>
            <p:cNvGrpSpPr/>
            <p:nvPr/>
          </p:nvGrpSpPr>
          <p:grpSpPr>
            <a:xfrm>
              <a:off x="6462720" y="2908440"/>
              <a:ext cx="484920" cy="549720"/>
              <a:chOff x="6462720" y="2908440"/>
              <a:chExt cx="484920" cy="549720"/>
            </a:xfrm>
          </p:grpSpPr>
          <p:sp>
            <p:nvSpPr>
              <p:cNvPr id="72" name="Line 13"/>
              <p:cNvSpPr/>
              <p:nvPr/>
            </p:nvSpPr>
            <p:spPr>
              <a:xfrm flipH="1">
                <a:off x="6462720" y="2908440"/>
                <a:ext cx="427320" cy="46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Line 14"/>
              <p:cNvSpPr/>
              <p:nvPr/>
            </p:nvSpPr>
            <p:spPr>
              <a:xfrm flipH="1">
                <a:off x="6520680" y="2993400"/>
                <a:ext cx="426960" cy="46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Line 15"/>
            <p:cNvSpPr/>
            <p:nvPr/>
          </p:nvSpPr>
          <p:spPr>
            <a:xfrm>
              <a:off x="6544440" y="4159440"/>
              <a:ext cx="427320" cy="46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16"/>
          <p:cNvSpPr/>
          <p:nvPr/>
        </p:nvSpPr>
        <p:spPr>
          <a:xfrm>
            <a:off x="5715000" y="54100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arboxyl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ing carboxylic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lk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eth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h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pa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(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methylbut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Times New Roman"/>
              </a:rPr>
              <a:t>Carboxylic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-COOH methano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OOH ethanoic acid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OOH propano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(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OOH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hylbutano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ing more complex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 carboxylic acid groups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-dio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boxyl group can be attached to a benzene ring eg benzenecarboxylic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7162920" y="1905120"/>
            <a:ext cx="990000" cy="806040"/>
            <a:chOff x="7162920" y="1905120"/>
            <a:chExt cx="990000" cy="806040"/>
          </a:xfrm>
        </p:grpSpPr>
        <p:sp>
          <p:nvSpPr>
            <p:cNvPr id="82" name="WordArt 5"/>
            <p:cNvSpPr txBox="1"/>
            <p:nvPr/>
          </p:nvSpPr>
          <p:spPr>
            <a:xfrm>
              <a:off x="7170120" y="1905120"/>
              <a:ext cx="982800" cy="273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COO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" name="WordArt 6"/>
            <p:cNvSpPr txBox="1"/>
            <p:nvPr/>
          </p:nvSpPr>
          <p:spPr>
            <a:xfrm>
              <a:off x="7162920" y="2437560"/>
              <a:ext cx="982800" cy="273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COO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" name="Line 7"/>
            <p:cNvSpPr/>
            <p:nvPr/>
          </p:nvSpPr>
          <p:spPr>
            <a:xfrm>
              <a:off x="7277400" y="2230560"/>
              <a:ext cx="0" cy="15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9"/>
          <p:cNvSpPr/>
          <p:nvPr/>
        </p:nvSpPr>
        <p:spPr>
          <a:xfrm>
            <a:off x="6858000" y="2743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ethanedio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19"/>
          <p:cNvGrpSpPr/>
          <p:nvPr/>
        </p:nvGrpSpPr>
        <p:grpSpPr>
          <a:xfrm>
            <a:off x="4495680" y="4343400"/>
            <a:ext cx="1054080" cy="1066320"/>
            <a:chOff x="4495680" y="4343400"/>
            <a:chExt cx="1054080" cy="1066320"/>
          </a:xfrm>
        </p:grpSpPr>
        <p:grpSp>
          <p:nvGrpSpPr>
            <p:cNvPr id="87" name="Group 17"/>
            <p:cNvGrpSpPr/>
            <p:nvPr/>
          </p:nvGrpSpPr>
          <p:grpSpPr>
            <a:xfrm>
              <a:off x="4495680" y="4343400"/>
              <a:ext cx="1054080" cy="1066320"/>
              <a:chOff x="4495680" y="4343400"/>
              <a:chExt cx="1054080" cy="1066320"/>
            </a:xfrm>
          </p:grpSpPr>
          <p:sp>
            <p:nvSpPr>
              <p:cNvPr id="88" name="WordArt 12"/>
              <p:cNvSpPr txBox="1"/>
              <p:nvPr/>
            </p:nvSpPr>
            <p:spPr>
              <a:xfrm>
                <a:off x="4495680" y="4343400"/>
                <a:ext cx="1054080" cy="238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COO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9" name="WordArt 13"/>
              <p:cNvSpPr txBox="1"/>
              <p:nvPr/>
            </p:nvSpPr>
            <p:spPr>
              <a:xfrm>
                <a:off x="4495680" y="5171400"/>
                <a:ext cx="1054080" cy="238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COO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0" name="Line 14"/>
              <p:cNvSpPr/>
              <p:nvPr/>
            </p:nvSpPr>
            <p:spPr>
              <a:xfrm>
                <a:off x="4628880" y="460224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WordArt 15"/>
              <p:cNvSpPr txBox="1"/>
              <p:nvPr/>
            </p:nvSpPr>
            <p:spPr>
              <a:xfrm>
                <a:off x="4495680" y="4757400"/>
                <a:ext cx="532440" cy="217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C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2" name="Line 16"/>
              <p:cNvSpPr/>
              <p:nvPr/>
            </p:nvSpPr>
            <p:spPr>
              <a:xfrm>
                <a:off x="4628880" y="501624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WordArt 18"/>
            <p:cNvSpPr txBox="1"/>
            <p:nvPr/>
          </p:nvSpPr>
          <p:spPr>
            <a:xfrm>
              <a:off x="5094720" y="4912920"/>
              <a:ext cx="13176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4" name="Text Box 20"/>
          <p:cNvSpPr/>
          <p:nvPr/>
        </p:nvSpPr>
        <p:spPr>
          <a:xfrm>
            <a:off x="4191120" y="55627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ropanedio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37"/>
          <p:cNvGrpSpPr/>
          <p:nvPr/>
        </p:nvGrpSpPr>
        <p:grpSpPr>
          <a:xfrm>
            <a:off x="4419000" y="1600200"/>
            <a:ext cx="1448280" cy="1823040"/>
            <a:chOff x="4419000" y="1600200"/>
            <a:chExt cx="1448280" cy="1823040"/>
          </a:xfrm>
        </p:grpSpPr>
        <p:grpSp>
          <p:nvGrpSpPr>
            <p:cNvPr id="96" name="Group 35"/>
            <p:cNvGrpSpPr/>
            <p:nvPr/>
          </p:nvGrpSpPr>
          <p:grpSpPr>
            <a:xfrm>
              <a:off x="4419000" y="1600200"/>
              <a:ext cx="1448280" cy="1514160"/>
              <a:chOff x="4419000" y="1600200"/>
              <a:chExt cx="1448280" cy="1514160"/>
            </a:xfrm>
          </p:grpSpPr>
          <p:grpSp>
            <p:nvGrpSpPr>
              <p:cNvPr id="97" name="Group 33"/>
              <p:cNvGrpSpPr/>
              <p:nvPr/>
            </p:nvGrpSpPr>
            <p:grpSpPr>
              <a:xfrm>
                <a:off x="4419000" y="1904760"/>
                <a:ext cx="687240" cy="1209600"/>
                <a:chOff x="4419000" y="1904760"/>
                <a:chExt cx="687240" cy="1209600"/>
              </a:xfrm>
            </p:grpSpPr>
            <p:grpSp>
              <p:nvGrpSpPr>
                <p:cNvPr id="98" name="Group 28"/>
                <p:cNvGrpSpPr/>
                <p:nvPr/>
              </p:nvGrpSpPr>
              <p:grpSpPr>
                <a:xfrm>
                  <a:off x="4419000" y="2132640"/>
                  <a:ext cx="687240" cy="763560"/>
                  <a:chOff x="4419000" y="2132640"/>
                  <a:chExt cx="687240" cy="763560"/>
                </a:xfrm>
              </p:grpSpPr>
              <p:sp>
                <p:nvSpPr>
                  <p:cNvPr id="99" name="AutoShape 24"/>
                  <p:cNvSpPr/>
                  <p:nvPr/>
                </p:nvSpPr>
                <p:spPr>
                  <a:xfrm rot="16207200">
                    <a:off x="4381560" y="2171160"/>
                    <a:ext cx="762120" cy="685800"/>
                  </a:xfrm>
                  <a:prstGeom prst="hexagon">
                    <a:avLst>
                      <a:gd name="adj" fmla="val 27782"/>
                      <a:gd name="vf" fmla="val 11547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 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Oval 25"/>
                  <p:cNvSpPr/>
                  <p:nvPr/>
                </p:nvSpPr>
                <p:spPr>
                  <a:xfrm rot="16207200">
                    <a:off x="4532400" y="2285640"/>
                    <a:ext cx="457200" cy="4572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" name="Line 30"/>
                <p:cNvSpPr/>
                <p:nvPr/>
              </p:nvSpPr>
              <p:spPr>
                <a:xfrm flipV="1">
                  <a:off x="4772160" y="19047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32"/>
                <p:cNvSpPr/>
                <p:nvPr/>
              </p:nvSpPr>
              <p:spPr>
                <a:xfrm flipV="1">
                  <a:off x="4775040" y="28857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Text Box 34"/>
              <p:cNvSpPr/>
              <p:nvPr/>
            </p:nvSpPr>
            <p:spPr>
              <a:xfrm>
                <a:off x="4648320" y="1600200"/>
                <a:ext cx="12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O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36"/>
            <p:cNvSpPr/>
            <p:nvPr/>
          </p:nvSpPr>
          <p:spPr>
            <a:xfrm>
              <a:off x="4635360" y="30243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O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48"/>
          <p:cNvGrpSpPr/>
          <p:nvPr/>
        </p:nvGrpSpPr>
        <p:grpSpPr>
          <a:xfrm>
            <a:off x="6933600" y="3505320"/>
            <a:ext cx="1448280" cy="1295640"/>
            <a:chOff x="6933600" y="3505320"/>
            <a:chExt cx="1448280" cy="1295640"/>
          </a:xfrm>
        </p:grpSpPr>
        <p:grpSp>
          <p:nvGrpSpPr>
            <p:cNvPr id="106" name="Group 41"/>
            <p:cNvGrpSpPr/>
            <p:nvPr/>
          </p:nvGrpSpPr>
          <p:grpSpPr>
            <a:xfrm>
              <a:off x="6933600" y="4037400"/>
              <a:ext cx="687240" cy="763560"/>
              <a:chOff x="6933600" y="4037400"/>
              <a:chExt cx="687240" cy="763560"/>
            </a:xfrm>
          </p:grpSpPr>
          <p:sp>
            <p:nvSpPr>
              <p:cNvPr id="107" name="AutoShape 42"/>
              <p:cNvSpPr/>
              <p:nvPr/>
            </p:nvSpPr>
            <p:spPr>
              <a:xfrm rot="16207200">
                <a:off x="6896160" y="4075920"/>
                <a:ext cx="762120" cy="685800"/>
              </a:xfrm>
              <a:prstGeom prst="hexagon">
                <a:avLst>
                  <a:gd name="adj" fmla="val 27782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Oval 43"/>
              <p:cNvSpPr/>
              <p:nvPr/>
            </p:nvSpPr>
            <p:spPr>
              <a:xfrm rot="16207200">
                <a:off x="7047000" y="419040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Line 44"/>
            <p:cNvSpPr/>
            <p:nvPr/>
          </p:nvSpPr>
          <p:spPr>
            <a:xfrm flipV="1">
              <a:off x="7286760" y="380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46"/>
            <p:cNvSpPr/>
            <p:nvPr/>
          </p:nvSpPr>
          <p:spPr>
            <a:xfrm>
              <a:off x="7162920" y="350532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O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Text Box 49"/>
          <p:cNvSpPr/>
          <p:nvPr/>
        </p:nvSpPr>
        <p:spPr>
          <a:xfrm>
            <a:off x="6553080" y="49528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benzenecarboxylic acid  (benzoic ac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0"/>
          <p:cNvSpPr/>
          <p:nvPr/>
        </p:nvSpPr>
        <p:spPr>
          <a:xfrm>
            <a:off x="4038480" y="34290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benzene-1,4-dicarboxyl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rboxylic acid deriv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-OH group is replaced carboxylic acid derivatives are for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derivatives"/>
          <p:cNvPicPr/>
          <p:nvPr/>
        </p:nvPicPr>
        <p:blipFill>
          <a:blip r:embed="rId1"/>
          <a:stretch/>
        </p:blipFill>
        <p:spPr>
          <a:xfrm>
            <a:off x="380880" y="2247840"/>
            <a:ext cx="83822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19:56:30Z</dcterms:created>
  <dc:creator>M Tyrrell</dc:creator>
  <dc:description/>
  <dc:language>en-US</dc:language>
  <cp:lastModifiedBy>RomaK</cp:lastModifiedBy>
  <dcterms:modified xsi:type="dcterms:W3CDTF">2015-09-01T16:19:51Z</dcterms:modified>
  <cp:revision>18</cp:revision>
  <dc:subject/>
  <dc:title>Alcohols and ethers</dc:title>
</cp:coreProperties>
</file>