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3471-D198-4F9C-93AC-246E0B7A17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5F7-4015-40AB-B54D-0A688ED3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019-C5C0-409F-A4B6-E1E35316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B42-241B-4653-B754-AF0C2752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CB8-981F-46A8-A11B-D246C85E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126-E95B-4263-8DE2-AF723465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840-286C-4057-A9F8-2E6AABF2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FE6-754F-420D-8419-E9AA134C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C02-E4A3-4AE2-878C-EC00948C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54A-E487-4D4B-85B7-CB0EB162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D49-8BA6-4EC7-A9A6-D671C557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E01-44DC-4FCB-9033-F60D63A1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7F7-BC70-4CB0-82A3-E521AFE8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78B2-0908-4A4F-B439-1D417B2861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408760" y="836640"/>
            <a:ext cx="42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48760" y="1978200"/>
            <a:ext cx="855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describe different model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zyme action and to investigate factors which control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e of an enzym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4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81400" y="501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998520" y="1574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997800" y="2131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7800" y="270828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997800" y="342756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5292720" y="1628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217200" y="143208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de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H="1" flipV="1">
            <a:off x="2195280" y="1412640"/>
            <a:ext cx="187164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42160" y="692280"/>
            <a:ext cx="20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- 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1476360" y="4365360"/>
            <a:ext cx="15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31560" y="5445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in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82160" y="1052640"/>
            <a:ext cx="82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eat the protein  above it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ptimal tempera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ribozyme"/>
          <p:cNvPicPr/>
          <p:nvPr/>
        </p:nvPicPr>
        <p:blipFill>
          <a:blip r:embed="rId1"/>
          <a:stretch/>
        </p:blipFill>
        <p:spPr>
          <a:xfrm>
            <a:off x="684360" y="2787480"/>
            <a:ext cx="3097080" cy="2225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olypeptide"/>
          <p:cNvPicPr/>
          <p:nvPr/>
        </p:nvPicPr>
        <p:blipFill>
          <a:blip r:embed="rId2"/>
          <a:stretch/>
        </p:blipFill>
        <p:spPr>
          <a:xfrm>
            <a:off x="5940360" y="307512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48" name="Line 6"/>
          <p:cNvSpPr/>
          <p:nvPr/>
        </p:nvSpPr>
        <p:spPr>
          <a:xfrm>
            <a:off x="3995640" y="39402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2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462400" y="393372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7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73560" y="342900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600280" y="4221000"/>
            <a:ext cx="39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03200" y="5156280"/>
            <a:ext cx="83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n if temperature lowered 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nzyme can’t regain its correct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ock_key1"/>
          <p:cNvPicPr/>
          <p:nvPr/>
        </p:nvPicPr>
        <p:blipFill>
          <a:blip r:embed="rId1"/>
          <a:stretch/>
        </p:blipFill>
        <p:spPr>
          <a:xfrm>
            <a:off x="1243080" y="1881360"/>
            <a:ext cx="6657840" cy="30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6426360" y="25779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2"/>
          <p:cNvSpPr/>
          <p:nvPr/>
        </p:nvSpPr>
        <p:spPr>
          <a:xfrm>
            <a:off x="971640" y="472428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 flipV="1">
            <a:off x="9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 rot="16200000">
            <a:off x="-43164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8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2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3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6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05000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125892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6"/>
          <p:cNvSpPr/>
          <p:nvPr/>
        </p:nvSpPr>
        <p:spPr>
          <a:xfrm>
            <a:off x="298764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7"/>
          <p:cNvSpPr/>
          <p:nvPr/>
        </p:nvSpPr>
        <p:spPr>
          <a:xfrm flipV="1">
            <a:off x="3492360" y="191592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412308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4213440" y="249228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isrupt Ionic bonds -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4286520" y="3116160"/>
            <a:ext cx="46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ffect charged residues at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495960" y="50133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 flipV="1">
            <a:off x="2771640" y="2276280"/>
            <a:ext cx="3168720" cy="24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 flipV="1">
            <a:off x="3924360" y="206028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4287960" y="170028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69240" y="1647720"/>
            <a:ext cx="77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roper3"/>
          <p:cNvPicPr/>
          <p:nvPr/>
        </p:nvPicPr>
        <p:blipFill>
          <a:blip r:embed="rId1"/>
          <a:stretch/>
        </p:blipFill>
        <p:spPr>
          <a:xfrm>
            <a:off x="1116000" y="1341360"/>
            <a:ext cx="6913440" cy="4454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828520" y="260280"/>
            <a:ext cx="33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Induced 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341440" y="4051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3564000" y="42926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234400" y="407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437080" y="292428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 +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53800" y="29955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4211640" y="32115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592600" y="3835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 +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295880" y="41180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505680" y="38354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38920" y="13413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209920" y="13413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3780000" y="155268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484360" y="203040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3706920" y="227160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5377320" y="2055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lock_key1"/>
          <p:cNvPicPr/>
          <p:nvPr/>
        </p:nvPicPr>
        <p:blipFill>
          <a:blip r:embed="rId1"/>
          <a:stretch/>
        </p:blipFill>
        <p:spPr>
          <a:xfrm>
            <a:off x="3276720" y="4581360"/>
            <a:ext cx="289692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02280" y="2571840"/>
            <a:ext cx="80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Amount of substrate changed (or amount product form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2:02:41Z</dcterms:created>
  <dc:creator>LFT User</dc:creator>
  <dc:description/>
  <dc:language>en-US</dc:language>
  <cp:lastModifiedBy>RomaK</cp:lastModifiedBy>
  <dcterms:modified xsi:type="dcterms:W3CDTF">2015-09-04T10:47:10Z</dcterms:modified>
  <cp:revision>11</cp:revision>
  <dc:subject/>
  <dc:title>enzymes models of action</dc:title>
</cp:coreProperties>
</file>