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2222-215B-41CA-8D03-8D711E62D2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517-490C-4C46-9383-DAEC1368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089-C83C-4A86-AF4D-F90FB449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F21-21F2-4B63-84CE-56CA8BD8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C4F-6B54-4D66-8992-87BA8CAF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066-31D7-4272-86C8-DBD54CBE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13B-EF04-46C2-9376-601DC298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762-BE6E-4A4C-B456-40632FA0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3B3-E491-4B68-A633-9BD6FC2F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B65-F0AD-482E-A781-8944DB68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D2D-E525-4530-9C3F-109CD19C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1C9-1224-4CC8-AD62-46F58B5A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CE4-C139-408C-9CBE-2EF04D3D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A50C-2C4C-4DD1-B687-F57AD2A5BA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408760" y="836640"/>
            <a:ext cx="42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48760" y="1978200"/>
            <a:ext cx="855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describe different model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zyme action and to investigate factors which control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e of an enzym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4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81400" y="501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998520" y="1574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997800" y="2131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7800" y="270828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997800" y="342756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5292720" y="1628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217200" y="14320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de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H="1" flipV="1">
            <a:off x="2195280" y="1412640"/>
            <a:ext cx="18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42160" y="69228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- 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1476360" y="4365360"/>
            <a:ext cx="15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31560" y="5445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in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2160" y="1052640"/>
            <a:ext cx="82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eat the protein  above it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ptimal tempera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ribozyme"/>
          <p:cNvPicPr/>
          <p:nvPr/>
        </p:nvPicPr>
        <p:blipFill>
          <a:blip r:embed="rId1"/>
          <a:stretch/>
        </p:blipFill>
        <p:spPr>
          <a:xfrm>
            <a:off x="684360" y="2787480"/>
            <a:ext cx="3097080" cy="2225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olypeptide"/>
          <p:cNvPicPr/>
          <p:nvPr/>
        </p:nvPicPr>
        <p:blipFill>
          <a:blip r:embed="rId2"/>
          <a:stretch/>
        </p:blipFill>
        <p:spPr>
          <a:xfrm>
            <a:off x="5940360" y="307512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48" name="Line 6"/>
          <p:cNvSpPr/>
          <p:nvPr/>
        </p:nvSpPr>
        <p:spPr>
          <a:xfrm>
            <a:off x="3995640" y="39402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2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462400" y="393372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7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73560" y="342900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600280" y="4221000"/>
            <a:ext cx="39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03200" y="5156280"/>
            <a:ext cx="83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n if temperature lowered 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nzyme can’t regain its correct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ock_key1"/>
          <p:cNvPicPr/>
          <p:nvPr/>
        </p:nvPicPr>
        <p:blipFill>
          <a:blip r:embed="rId1"/>
          <a:stretch/>
        </p:blipFill>
        <p:spPr>
          <a:xfrm>
            <a:off x="1243080" y="1881360"/>
            <a:ext cx="6657840" cy="30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6426360" y="25779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2"/>
          <p:cNvSpPr/>
          <p:nvPr/>
        </p:nvSpPr>
        <p:spPr>
          <a:xfrm>
            <a:off x="971640" y="472428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 flipV="1">
            <a:off x="9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 rot="16200000">
            <a:off x="-43164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8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2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3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6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05000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125892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6"/>
          <p:cNvSpPr/>
          <p:nvPr/>
        </p:nvSpPr>
        <p:spPr>
          <a:xfrm>
            <a:off x="298764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7"/>
          <p:cNvSpPr/>
          <p:nvPr/>
        </p:nvSpPr>
        <p:spPr>
          <a:xfrm flipV="1">
            <a:off x="3492360" y="191592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412308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4213440" y="249228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isrupt Ionic bonds -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4286520" y="3116160"/>
            <a:ext cx="46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ffect charged residues at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495960" y="50133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 flipV="1">
            <a:off x="2771640" y="2276280"/>
            <a:ext cx="3168720" cy="24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 flipV="1">
            <a:off x="3924360" y="206028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287960" y="170028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69240" y="1647720"/>
            <a:ext cx="77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roper3"/>
          <p:cNvPicPr/>
          <p:nvPr/>
        </p:nvPicPr>
        <p:blipFill>
          <a:blip r:embed="rId1"/>
          <a:stretch/>
        </p:blipFill>
        <p:spPr>
          <a:xfrm>
            <a:off x="1116000" y="1341360"/>
            <a:ext cx="6913440" cy="4454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828520" y="260280"/>
            <a:ext cx="33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Induced 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341440" y="4051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3564000" y="42926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234400" y="407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437080" y="292428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 +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53800" y="29955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4211640" y="32115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592600" y="3835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 +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295880" y="41180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505680" y="38354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38920" y="13413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209920" y="13413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3780000" y="155268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484360" y="203040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3706920" y="227160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5377320" y="2055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lock_key1"/>
          <p:cNvPicPr/>
          <p:nvPr/>
        </p:nvPicPr>
        <p:blipFill>
          <a:blip r:embed="rId1"/>
          <a:stretch/>
        </p:blipFill>
        <p:spPr>
          <a:xfrm>
            <a:off x="3276720" y="4581360"/>
            <a:ext cx="289692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02280" y="2571840"/>
            <a:ext cx="80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Amount of substrate changed (or amount product form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2:02:41Z</dcterms:created>
  <dc:creator>LFT User</dc:creator>
  <dc:description/>
  <dc:language>en-US</dc:language>
  <cp:lastModifiedBy>RomaK</cp:lastModifiedBy>
  <dcterms:modified xsi:type="dcterms:W3CDTF">2015-09-04T10:47:10Z</dcterms:modified>
  <cp:revision>11</cp:revision>
  <dc:subject/>
  <dc:title>enzymes models of action</dc:title>
</cp:coreProperties>
</file>