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59806-5529-4408-92CC-8C81786C36E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: B2b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on: 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tle: Enzymes and diges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ms: Explain how enzymes are involved in diges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ter: Write down everything you can remember from key stage 3 about digestion, eg. what it is; where it takes place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: B2b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on: 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tle: Enzymes and 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ms: Explain how enzymes are involved in 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ter: Write down everything you can remember from key stage 3 about digestion, eg. what it is; where it takes plac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are villi specialised to carry out their job of absorbing digested food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are villi specialised to carry out their job of absorbing digested foo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llions provide large surface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villus has many microvilli to further increase surface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ch blood supply for absorbed nutrients to pass into and be taken around bo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nch of lymphatic system takes absorbed fatty acids and glycerol away to be used or sto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lli wall one cell thick for rapid passing through of nutri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llions provide large surface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villus has many microvilli to further increase surface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ch blood supply for absorbed nutrients to pass into and be taken around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nch of lymphatic system takes absorbed fatty acids and glycerol away to be used or sto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lli wall one cell thick for rapid passing through of nutr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gestive system summ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livary glands produce 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r produces 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mach produces ________ + 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ll bladder stores 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creas  and small intestine both produce ________, ________, and 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gestive system 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livary glands produce 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r produces 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mach produces ________ + 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ll bladder stores 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creas  and small intestine both produce ________, ________, and 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 people have their stomachs stapl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mach b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 people have their stomachs stapl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mach b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diges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eaking down large, insoluble molecules into smaller, soluble molecules that can be absorbed through the wall of the small intest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breaks down the large molecul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gestive enzymes made by specialised cells inside gla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diges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eaking down large, insoluble molecules into smaller, soluble molecules that can be absorbed through the wall of the 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breaks down the large molecul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gestive enzymes made by specialised cells inside gl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enzymes involved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arbohydrates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Simple sug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oteins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     Amino 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ipids (fats)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 Fatty acids + glycer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enzymes involved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arbohydrates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Simple sug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oteins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     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ipids (fats)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 Fatty acids + glyc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gestion animation (First 5 mins 15 sec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en carefully and make notes in your book. You will be quizzed after the animation so liste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gestion animation (First 5 mins 15 sec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en carefully and make notes in your book. You will be quizzed after the animation so liste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ini test on digestive enzymes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ere are the following digeste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arbohydrates        mouth and small intest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oteins         stomach and small intest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ats        small intest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. What are the following broken down into by digestive enzym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arbohydrates  simple sug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oteins  amino 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ats  fatty acids + glycer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. Where are most enzymes produced?     Pancre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ini test on digestive enzym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ere are the following digest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arbohydrates        mouth and 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oteins         stomach and 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ats        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. What are the following broken down into by digestive enzym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arbohydrates  simple sug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oteins  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ats  fatty acids + glyc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. Where are most enzymes produced?     Panc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 you think there is acid in the stomac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lls bacteria in food – protects 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atures proteins – makes digestion easi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ivates stomach enzymes – these only work in acidic cond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 wondered why PEPSIN (stomach enzyme) doesn’t digest our own stomac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psin is inactive when first made and is only activated by HCL to start digesting protein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 you think there is acid in the stomac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lls bacteria in food – protects 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atures proteins – makes digestion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ivates stomach enzymes – these only work in acidic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 wondered why PEPSIN (stomach enzyme) doesn’t digest our own stomac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psin is inactive when first made and is only activated by HCL to start digesting protein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es bile d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e is produced in the liver and stored in the gall bladd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zymes in the small intestine need an alkaline pH to work best, so bile passes into the small intestine and neutralises acid from the stomach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e also emulsifies fat droplets to increase their surface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es bile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e is produced in the liver and stored in the gall blad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zymes in the small intestine need an alkaline pH to work best, so bile passes into the small intestine and neutralises acid from the stomac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e also emulsifies fat droplets to increase their surface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are villi in the small intestine adapted to absorb foo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are villi in the small intestine adapted to absorb foo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60A0-DCA8-4B82-BFC1-27654FDF5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B9F1-51B7-4CED-A849-4D122BB1F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8EE6-CCE0-4B79-9549-CF024DD23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45AF-45BA-4125-AF44-53B05EF10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CF16-1B12-45C8-BBE3-D99D553DF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8012-68AC-4160-BE8D-FD5FBE951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DC63-9A78-4FD5-AECA-7CDA63A4A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B40C-9F05-4DC9-A400-CC1BF1D11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2BEC-C624-4FC6-B0B3-3C72C8BD5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F07C-0D52-4E60-9878-8EED985F9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04AC-3969-4A05-BE2B-35CE3F9AA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0788-7789-4844-B500-F759B2692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F4633-CDAC-4FCB-9E43-E5CCC2DB262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news.bbc.co.uk/1/hi/health/1372832.st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k.youtube.com/watch?v=AFbPHlhI13g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1680" y="499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opic: B2b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Lesson: 2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itle: Enzymes and diges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71320" y="2714400"/>
            <a:ext cx="778644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ims: Explain how enzymes are involved in diges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Starter: Write down everything you can remember from key stage 3 about digestion, eg. what it is; where it takes place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ow are villi specialised to carry out their job of absorbing digested food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http://www.wikieducator.org/images/4/4d/Villus_labeled_and_coloured.JPG"/>
          <p:cNvPicPr/>
          <p:nvPr/>
        </p:nvPicPr>
        <p:blipFill>
          <a:blip r:embed="rId1"/>
          <a:stretch/>
        </p:blipFill>
        <p:spPr>
          <a:xfrm>
            <a:off x="785880" y="285840"/>
            <a:ext cx="78404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nsw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Millions provide </a:t>
            </a: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large surface are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Each villus has many </a:t>
            </a: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microvilli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to further increase surface are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Rich blood supply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for absorbed nutrients to pass into and be taken around bod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Branch of lymphatic system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takes absorbed fatty acids and glycerol away to be used or store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Villi wall </a:t>
            </a: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one cell thick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for rapid passing through of nutrien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igestive system 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6840" y="1600200"/>
            <a:ext cx="3614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alivary glands produce 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Liver produces 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tomach produces ________ + 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all bladder stores 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ancreas  and small intestine both produce ________, ________, and 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://www.llu.edu/llumc/transplant/images/liver-abdomen.jpg"/>
          <p:cNvPicPr/>
          <p:nvPr/>
        </p:nvPicPr>
        <p:blipFill>
          <a:blip r:embed="rId1"/>
          <a:stretch/>
        </p:blipFill>
        <p:spPr>
          <a:xfrm>
            <a:off x="4143240" y="1357200"/>
            <a:ext cx="500076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Why do people have their stomachs stapled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stomach b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What is diges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reaking down 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large, insoluble molecules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to 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smaller, soluble molecules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at can be absorbed through the wall of the small intest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What breaks down the large molecul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Digestive enzymes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ade by specialised cells inside gla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e enzymes involved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85480" y="1600200"/>
            <a:ext cx="864396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arbohydrates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Simple sug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roteins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     Amino aci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ipids (fats)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 Fatty acids + glycer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4" name="Straight Arrow Connector 4"/>
          <p:cNvCxnSpPr/>
          <p:nvPr/>
        </p:nvCxnSpPr>
        <p:spPr>
          <a:xfrm>
            <a:off x="3429000" y="1928880"/>
            <a:ext cx="235800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5" name="Straight Arrow Connector 6"/>
          <p:cNvCxnSpPr/>
          <p:nvPr/>
        </p:nvCxnSpPr>
        <p:spPr>
          <a:xfrm>
            <a:off x="3071880" y="3714840"/>
            <a:ext cx="235800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6" name="Straight Arrow Connector 7"/>
          <p:cNvCxnSpPr/>
          <p:nvPr/>
        </p:nvCxnSpPr>
        <p:spPr>
          <a:xfrm>
            <a:off x="2857680" y="5428800"/>
            <a:ext cx="207180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Digestion animation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(First 5 mins 15 sec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Listen carefully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d make notes in your book. You will be quizzed after the animation so listen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ini test on digestive enzymes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Where are the following digested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Carbohydrates        mouth and small intestin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Proteins         stomach and small intestin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Fats        small intestin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2. What are the following broken down into by digestive enzyme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Carbohydrates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simple suga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Proteins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amino aci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Fats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fatty acids + glycero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3. Where are most enzymes produced?     Pancre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4000680" y="2071800"/>
            <a:ext cx="4214520" cy="428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3000240" y="2571840"/>
            <a:ext cx="44294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2286000" y="3000240"/>
            <a:ext cx="2428920" cy="357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3857760" y="4286160"/>
            <a:ext cx="20714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2786040" y="4714920"/>
            <a:ext cx="207180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8"/>
          <p:cNvSpPr/>
          <p:nvPr/>
        </p:nvSpPr>
        <p:spPr>
          <a:xfrm>
            <a:off x="2214720" y="5214960"/>
            <a:ext cx="32144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9"/>
          <p:cNvSpPr/>
          <p:nvPr/>
        </p:nvSpPr>
        <p:spPr>
          <a:xfrm>
            <a:off x="6715080" y="5643720"/>
            <a:ext cx="207180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Why do you think there is acid in the stomach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Kills bacteria in food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– protects u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Denatures proteins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– makes digestion easi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Activates stomach enzymes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– these only work in acidic condi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Ever wondered why PEPSIN (stomach enzyme) doesn’t digest our own stomach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Pepsin is inactive when first made and is only activated by HCL to start digesting proteins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does bile d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ile is produced in the </a:t>
            </a: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liver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and stored in the g</a:t>
            </a: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all bladd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enzymes in the small intestine need an alkaline pH to work best, so bile passes into the small intestine and </a:t>
            </a: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neutralises acid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rom the stomach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ile also </a:t>
            </a: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emulsifie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fat droplets to increase their surface are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How are villi in the small intestine adapted to absorb food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http://biology.touchspin.com/images/villi.jpg"/>
          <p:cNvPicPr/>
          <p:nvPr/>
        </p:nvPicPr>
        <p:blipFill>
          <a:blip r:embed="rId1"/>
          <a:stretch/>
        </p:blipFill>
        <p:spPr>
          <a:xfrm>
            <a:off x="1071720" y="1714680"/>
            <a:ext cx="728640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http://www.bbc.co.uk/schools/ks3bitesize/science/images/villi.gif"/>
          <p:cNvPicPr/>
          <p:nvPr/>
        </p:nvPicPr>
        <p:blipFill>
          <a:blip r:embed="rId1"/>
          <a:stretch/>
        </p:blipFill>
        <p:spPr>
          <a:xfrm>
            <a:off x="1071720" y="214200"/>
            <a:ext cx="7715160" cy="617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9T15:21:45Z</dcterms:created>
  <dc:creator>ICT Technical Services</dc:creator>
  <dc:description/>
  <dc:language>en-US</dc:language>
  <cp:lastModifiedBy>RomaK</cp:lastModifiedBy>
  <dcterms:modified xsi:type="dcterms:W3CDTF">2015-09-04T10:47:04Z</dcterms:modified>
  <cp:revision>14</cp:revision>
  <dc:subject/>
  <dc:title>Topic: B2b Lesson: 2 Title: Enzymes and digestion</dc:title>
</cp:coreProperties>
</file>