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BAB90-7193-4284-AA6C-7722B93B2B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, is the examination of internal body cavities using a specialized medical instrument called an endoscop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s use endoscopy to diagnose, monitor, and surgically treat various medical problem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. 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, is the examination of internal body cavities using a specialized medical instrument called an endosc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ians use endoscopy to diagnose, monitor, and surgically treat various medical probl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. 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is a slender, flexible tube equipped with lenses and a light  source. Illumination is done by the help of a number of optical fibr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ed light rays are collected by CCD( Charge coupled device) and electrical signals are produced, which are fed to the video monitor to get imag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 one channel of endoscope water and air is conducted to wash and dry the surgical site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is a slender, flexible tube equipped with lenses and a light  source. Illumination is done by the help of a number of optical fib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lected light rays are collected by CCD( Charge coupled device) and electrical signals are produced, which are fed to the video monitor to get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rough one channel of endoscope water and air is conducted to wash and dry the surgical si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also has a channel through which surgeons can manipulate tiny instruments, such as forceps, surgical scissors, and suction devic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instruments can be fitted to the endoscope for different purposes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geon introduces the endoscope into the body either through a body opening, such as the mouth or the anus, or through a small incision in the skin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also has a channel through which surgeons can manipulate tiny instruments, such as forceps, surgical scissors, and suction de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ariety of instruments can be fitted to the endoscope for different purpo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urgeon introduces the endoscope into the body either through a body opening, such as the mouth or the anus, or through a small incision in the sk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gives  visual evidence of the problem, such as ulceration or inflammation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used to collect a sample of tissue; remove problematic tissue, such as polyp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take photograph of the hollow internal organ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oscope gives  visual evidence of the problem, such as ulceration or inflamm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used to collect a sample of tissue; remove problematic tissue, such as poly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used to take photograph of the hollow internal org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ing on the body part, each type of endoscopy has its own special term, such as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paroscopy (abdomen, uterus, fallopian tube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yngoscopy (vocal cords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oscopy (lungs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oscopy (colon)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scopy (joint) and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oscopy (Stomach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DOSCOP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pending on the body part, each type of endoscopy has its own special term,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paroscopy (abdomen, uterus, fallopian tube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ryngoscopy (vocal cords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onchoscopy (lungs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onoscopy (colon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throscopy (joint)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astroscopy (Stomac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rendranaduthila@g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493C0-5DAF-412A-85F8-153BB5BE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F0DF-A1F3-4565-80BA-FBC520B1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744-6FC2-44C1-9A1F-4B7EC5E95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2AFB-58B2-4FFF-A773-829275BA2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EFD4F9-D9D6-4BE6-9175-101ED4F0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E34D9-1332-4DE2-AE6E-3935C841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58AD28-4452-4323-A11E-5814255DC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A30A95-35A3-4931-BCDB-8F662C000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E431CC-6CC3-4B95-A9CF-0AE56E833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BDA410-925D-4AAF-B62F-B0E1E8FD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9F7CF-896C-478C-912C-857AB6E1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54A8-A1F6-486C-88BB-D6AB9152A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812CAB-1E38-4AB4-8CF9-162A3F31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98BE1-0B95-45F9-810A-91CEBB7C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F3064-B5D6-4BD7-88DD-A67E6772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D1B40-FEC5-416F-8666-D3836D634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535F2-2810-4710-B79F-C0749ADD9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E1C09-2A69-409C-BA21-C7861C83A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64805E-D408-4975-8939-D6F51764F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DECB1-31EA-44A7-AE78-BA2F648C2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99B5F9-ACD8-424A-8EEE-23207EAE5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A80C39-2A87-4A5C-8153-FC5903C6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459C-0947-47EA-9B02-83111B58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49D04-8BFA-4460-8CE6-B85FABD63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7EFDA5-D110-460D-9EE5-B4702F31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587993-D2F7-44F5-AE98-E9C0C16E9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071B55-4D1C-48BE-B8EF-00EAC17DB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DA4630-972A-47E3-92D4-600AF54DC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66C99-53E9-482D-BD8E-7AAD72112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ED28B-0E02-4706-AD89-4CCC7829B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6CC4E-83DA-42CD-9E8C-0FDCD466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CD477A-4192-456A-8E8A-B299E27A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EC816-884A-4A96-9D9C-990043E59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493C-5423-4FC5-9AF0-DC88E2D19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7891B-B63A-4403-A2B4-D2A8ECBE5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F81F2C-A75F-4A04-A3F3-859ED02A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DE913-05FD-42D1-845A-68CF07FC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F6B14-58AD-4480-942F-E3F812557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B56E1-7391-4649-A07A-0839F7D5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75A22A-271D-4882-A654-7C44624FE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B78A9-5E9C-4E30-AFBD-AC7F84084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134AF-61B8-408D-890A-009EF9AB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814279-EA53-4C5B-8939-5E692D8A6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F940-57AD-478B-A8F1-EFEA6E2A2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DFD2-B6FE-4A00-83C9-44BD98416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69A6-2A94-4E69-AA01-693CF63EE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6853-A049-4E91-9DBE-0D8B1A674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7C18-BF70-48A9-8051-A47B9D10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59DA9-1E8B-489A-81F3-2D212FFB3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1EC9A-7E84-46A8-9B1A-C2CB154023D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9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0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" name="Group 6"/>
            <p:cNvGrpSpPr/>
            <p:nvPr/>
          </p:nvGrpSpPr>
          <p:grpSpPr>
            <a:xfrm>
              <a:off x="414360" y="2968560"/>
              <a:ext cx="738000" cy="474840"/>
              <a:chOff x="414360" y="2968560"/>
              <a:chExt cx="738000" cy="474840"/>
            </a:xfrm>
          </p:grpSpPr>
          <p:sp>
            <p:nvSpPr>
              <p:cNvPr id="10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8"/>
              <p:cNvSpPr/>
              <p:nvPr/>
            </p:nvSpPr>
            <p:spPr>
              <a:xfrm>
                <a:off x="784440" y="2968560"/>
                <a:ext cx="36792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0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744E-5169-412C-BB41-CD5B8585FB0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50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51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2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dt" idx="10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ftr" idx="11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CE1B-3089-409E-9EDC-4BA9A33376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rcRect l="20758" t="18521" r="19093" b="208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817560" y="2666880"/>
            <a:ext cx="779292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cc0000"/>
                </a:solidFill>
                <a:latin typeface="Garamond"/>
              </a:rPr>
              <a:t>ENDOSCOPY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3505320" y="6172200"/>
            <a:ext cx="541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1" name="Picture 7" descr=""/>
          <p:cNvPicPr/>
          <p:nvPr/>
        </p:nvPicPr>
        <p:blipFill>
          <a:blip r:embed="rId1"/>
          <a:srcRect l="20758" t="18521" r="19093" b="20869"/>
          <a:stretch/>
        </p:blipFill>
        <p:spPr>
          <a:xfrm>
            <a:off x="533520" y="1944720"/>
            <a:ext cx="4343400" cy="394812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140440" y="1600200"/>
            <a:ext cx="3814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oscopy, is the examination of internal body cavities using a specialized medical instrument called an endoscop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ians use endoscopy to diagnose, monitor, and surgically treat various medical problem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838080" y="6078600"/>
            <a:ext cx="5410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. 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3962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endoscope is a slender, flexible tube equipped with lenses and a light  source. Illumination is done by the help of a number of optical fibr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flected light rays are collected by CCD( Charge coupled device) and electrical signals are produced, which are fed to the video monitor to get imag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orough one channel of endoscope water and air is conducted to wash and dry the surgical si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16" name="Picture 6" descr="GIFXP10"/>
          <p:cNvPicPr/>
          <p:nvPr/>
        </p:nvPicPr>
        <p:blipFill>
          <a:blip r:embed="rId1"/>
          <a:stretch/>
        </p:blipFill>
        <p:spPr>
          <a:xfrm>
            <a:off x="5029200" y="152280"/>
            <a:ext cx="4038480" cy="308628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7" descr="Noso-endoscopy"/>
          <p:cNvPicPr/>
          <p:nvPr/>
        </p:nvPicPr>
        <p:blipFill>
          <a:blip r:embed="rId2"/>
          <a:stretch/>
        </p:blipFill>
        <p:spPr>
          <a:xfrm>
            <a:off x="5867280" y="3352680"/>
            <a:ext cx="3043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4"/>
          <p:cNvSpPr/>
          <p:nvPr/>
        </p:nvSpPr>
        <p:spPr>
          <a:xfrm>
            <a:off x="685800" y="2133720"/>
            <a:ext cx="42670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ndoscope also has a channel through which surgeons can manipulate tiny instruments, such as forceps, surgical scissors, and suction devic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variety of instruments can be fitted to the endoscope for different purpos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surgeon introduces the endoscope into the body either through a body opening, such as the mouth or the anus, or through a small incision in the ski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0" name="Picture 8" descr="endoscope"/>
          <p:cNvPicPr/>
          <p:nvPr/>
        </p:nvPicPr>
        <p:blipFill>
          <a:blip r:embed="rId1"/>
          <a:stretch/>
        </p:blipFill>
        <p:spPr>
          <a:xfrm>
            <a:off x="5164200" y="457200"/>
            <a:ext cx="3751200" cy="37512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9" descr="Lower%20Endoscopy"/>
          <p:cNvPicPr/>
          <p:nvPr/>
        </p:nvPicPr>
        <p:blipFill>
          <a:blip r:embed="rId2"/>
          <a:srcRect l="0" t="0" r="0" b="10000"/>
          <a:stretch/>
        </p:blipFill>
        <p:spPr>
          <a:xfrm>
            <a:off x="5334120" y="4114800"/>
            <a:ext cx="3733560" cy="26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3" name="Picture 4" descr="Stomach_endoscopy_2"/>
          <p:cNvPicPr/>
          <p:nvPr/>
        </p:nvPicPr>
        <p:blipFill>
          <a:blip r:embed="rId1"/>
          <a:stretch/>
        </p:blipFill>
        <p:spPr>
          <a:xfrm>
            <a:off x="685800" y="2305080"/>
            <a:ext cx="5029200" cy="38671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714640" y="801720"/>
            <a:ext cx="3048120" cy="57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doscope gives  visual evidence of the problem, such as ulceration or inflammati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can be used to collect a sample of tissue; remove problematic tissue, such as poly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used to take photograph of the hollow internal org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NDOSCO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ing on the body part, each type of endoscopy has its own special term, such 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aroscopy (abdomen, uterus, fallopian tube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yngoscopy (vocal cords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nchoscopy (lungs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onoscopy (colon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roscopy (joint) and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stroscopy (Stomach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4572000" y="6078600"/>
            <a:ext cx="5410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rendranaduthila@gmail.co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05:07:05Z</dcterms:created>
  <dc:creator>SURENDRAN. K</dc:creator>
  <dc:description/>
  <dc:language>en-US</dc:language>
  <cp:lastModifiedBy>RomaK</cp:lastModifiedBy>
  <dcterms:modified xsi:type="dcterms:W3CDTF">2015-09-04T10:41:50Z</dcterms:modified>
  <cp:revision>11</cp:revision>
  <dc:subject/>
  <dc:title>Slide 1</dc:title>
</cp:coreProperties>
</file>