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27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A004-8AE5-485C-99D4-4E7E66709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777-4C09-41C1-BE93-559EAEC4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2B9-1765-492C-A9A0-7CF9149D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6AC-B444-40B1-AF33-6633521E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4BF-411A-4353-ACB5-9B52B344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224-AACD-4E1A-B690-F9EFF8A7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7FF-38EC-4591-BF34-AC57D4A7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D76-F107-4E53-81BB-F20DDC40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C31-E76E-4633-9977-A61CA485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D61-F863-40BF-B858-2676B824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F1E-174D-47CC-A317-C7F2D88D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B29-3B3F-44DC-8599-8E7E36D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242-C406-42E3-A278-25107987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0BB2-940D-4E31-B888-513811B40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omer_dead.wav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mergence of the Animal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 “Rise of the Chord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lum Chor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d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phylum Vertebrata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p 33 – Rise of th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moeother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ning that mamm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e their own bod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ammary tiss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Hair Folli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internal fert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arboring of young, however, this is only a generality beca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all young are “cooked” to term in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otremes – an Order of Class Mam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319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38480" cy="2116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228600" y="4114800"/>
            <a:ext cx="8915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. The Platypus, which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ay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G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t still has mammary glands and produc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young.  This suggests a relationship betwe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T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mmals.  Imagine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62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he Kangaroo, which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.  Here, the development of the young is ve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baby kangaroo is born 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oked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ust crawl into the mother’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latch onto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p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cei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inue development.  You might say, baby Kangaroos or “Joey’s” get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b with a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3200400" cy="24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320040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248520" y="8380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3124080" y="3809880"/>
            <a:ext cx="3124440" cy="235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6"/>
          <a:stretch/>
        </p:blipFill>
        <p:spPr>
          <a:xfrm>
            <a:off x="6248520" y="3809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6477120" y="6400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800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You – well if you’re female, anyway. 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nternal Fert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elopment of young to a high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62940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28600" y="190512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200320" y="1257480"/>
            <a:ext cx="4743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sunlit-dolphins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skeleton"/>
          <p:cNvPicPr/>
          <p:nvPr/>
        </p:nvPicPr>
        <p:blipFill>
          <a:blip r:embed="rId1"/>
          <a:stretch/>
        </p:blipFill>
        <p:spPr>
          <a:xfrm>
            <a:off x="1752480" y="91440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8" descr="Poster%20Muscular%20System"/>
          <p:cNvPicPr/>
          <p:nvPr/>
        </p:nvPicPr>
        <p:blipFill>
          <a:blip r:embed="rId1"/>
          <a:stretch/>
        </p:blipFill>
        <p:spPr>
          <a:xfrm>
            <a:off x="2362320" y="685800"/>
            <a:ext cx="474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torso"/>
          <p:cNvPicPr/>
          <p:nvPr/>
        </p:nvPicPr>
        <p:blipFill>
          <a:blip r:embed="rId1"/>
          <a:stretch/>
        </p:blipFill>
        <p:spPr>
          <a:xfrm>
            <a:off x="1828800" y="1143000"/>
            <a:ext cx="528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p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phib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9828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ervous"/>
          <p:cNvPicPr/>
          <p:nvPr/>
        </p:nvPicPr>
        <p:blipFill>
          <a:blip r:embed="rId1"/>
          <a:stretch/>
        </p:blipFill>
        <p:spPr>
          <a:xfrm>
            <a:off x="1676520" y="1542960"/>
            <a:ext cx="515448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295280" y="304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kidsys"/>
          <p:cNvPicPr/>
          <p:nvPr/>
        </p:nvPicPr>
        <p:blipFill>
          <a:blip r:embed="rId1"/>
          <a:stretch/>
        </p:blipFill>
        <p:spPr>
          <a:xfrm>
            <a:off x="304920" y="2057400"/>
            <a:ext cx="3770280" cy="382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4BKD"/>
          <p:cNvPicPr/>
          <p:nvPr/>
        </p:nvPicPr>
        <p:blipFill>
          <a:blip r:embed="rId2"/>
          <a:stretch/>
        </p:blipFill>
        <p:spPr>
          <a:xfrm>
            <a:off x="4572000" y="2819520"/>
            <a:ext cx="4038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ndocrinebig"/>
          <p:cNvPicPr/>
          <p:nvPr/>
        </p:nvPicPr>
        <p:blipFill>
          <a:blip r:embed="rId1"/>
          <a:stretch/>
        </p:blipFill>
        <p:spPr>
          <a:xfrm>
            <a:off x="2514600" y="1371600"/>
            <a:ext cx="454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ammals in the Simpson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pic08"/>
          <p:cNvPicPr/>
          <p:nvPr/>
        </p:nvPicPr>
        <p:blipFill>
          <a:blip r:embed="rId1"/>
          <a:stretch/>
        </p:blipFill>
        <p:spPr>
          <a:xfrm>
            <a:off x="1371600" y="91440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omer-king-homer"/>
          <p:cNvPicPr/>
          <p:nvPr/>
        </p:nvPicPr>
        <p:blipFill>
          <a:blip r:embed="rId2"/>
          <a:stretch/>
        </p:blipFill>
        <p:spPr>
          <a:xfrm>
            <a:off x="5334120" y="121932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impsons183"/>
          <p:cNvPicPr/>
          <p:nvPr/>
        </p:nvPicPr>
        <p:blipFill>
          <a:blip r:embed="rId3"/>
          <a:stretch/>
        </p:blipFill>
        <p:spPr>
          <a:xfrm>
            <a:off x="1349280" y="3938760"/>
            <a:ext cx="2765520" cy="26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animals"/>
          <p:cNvPicPr/>
          <p:nvPr/>
        </p:nvPicPr>
        <p:blipFill>
          <a:blip r:embed="rId4"/>
          <a:stretch/>
        </p:blipFill>
        <p:spPr>
          <a:xfrm>
            <a:off x="4876920" y="3276720"/>
            <a:ext cx="321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062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4-02-Tunicate"/>
          <p:cNvPicPr/>
          <p:nvPr/>
        </p:nvPicPr>
        <p:blipFill>
          <a:blip r:embed="rId1"/>
          <a:srcRect l="26973" t="0" r="0" b="0"/>
          <a:stretch/>
        </p:blipFill>
        <p:spPr>
          <a:xfrm>
            <a:off x="1219320" y="2666880"/>
            <a:ext cx="76960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4-01-ChordateCharacters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43000" y="824040"/>
            <a:ext cx="6858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-02-Tunicate"/>
          <p:cNvPicPr/>
          <p:nvPr/>
        </p:nvPicPr>
        <p:blipFill>
          <a:blip r:embed="rId1"/>
          <a:srcRect l="0" t="0" r="73969" b="0"/>
          <a:stretch/>
        </p:blipFill>
        <p:spPr>
          <a:xfrm>
            <a:off x="4572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1371600"/>
            <a:ext cx="4572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a Squi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88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cets (a primitive fish like organis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ly resembles the idealized chor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0" r="0" b="9191"/>
          <a:stretch/>
        </p:blipFill>
        <p:spPr>
          <a:xfrm>
            <a:off x="228600" y="2209680"/>
            <a:ext cx="4809960" cy="464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rcRect l="0" t="1713" r="0" b="0"/>
          <a:stretch/>
        </p:blipFill>
        <p:spPr>
          <a:xfrm>
            <a:off x="5029200" y="2286000"/>
            <a:ext cx="385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ntogency Recapituates Evolution”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volution Playing out in Fetus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6:29:48Z</dcterms:created>
  <dc:creator>Jerry</dc:creator>
  <dc:description/>
  <dc:language>en-US</dc:language>
  <cp:lastModifiedBy>RomaK</cp:lastModifiedBy>
  <dcterms:modified xsi:type="dcterms:W3CDTF">2015-09-04T10:52:21Z</dcterms:modified>
  <cp:revision>50</cp:revision>
  <dc:subject/>
  <dc:title>Emergence of the Animal Kingdom</dc:title>
</cp:coreProperties>
</file>