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applause.wav" ContentType="audio/x-wav"/>
  <Override PartName="/ppt/media/image27.jpeg" ContentType="image/jpe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5F3-1C35-4A4E-AB35-86F446868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the Anima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“Rise of the Chordat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phylum Vertebrata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p 33 – Rise of th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eothermic – meaning that mammals produce their own body h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ry tissue - for the production of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 Follicles - for the production of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, internal fertilization and harboring of young, however, this is only a generality because not all young are “cooked” to term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 – an Order of Class Mamm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Platypus, which has a BILL, lays EGGS, but still has mammary glands and produces MILK for young.  This suggests a relationship between REPTILES, BIRDS and mammals.  Imagine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The Kangaroo, which is a non-placental mammal.  Here, the development of the young is very complex, and a baby kangaroo is born very “uncooked”, and must crawl into the mother’s pouch and latch onto a nipple to receive milk to continue development.  You might say, baby Kangaroos or “Joey’s” get a womb with a view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You – well if you’re female, anyway.  Internal Fertilization development of young to a highly Advanced st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mmals in the Simpsons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Squ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cets (a primitive fish like organism) closely resembles the idealized chor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gency Recapituates Evolution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Playing out in Fetus…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426-A0BB-4D49-87D9-15147232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73F-4785-4B32-B1EC-08251CE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A79B-3E87-437F-B6AB-7C9FC424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D8B-F862-4F7F-B037-C096ACB1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1BC-5BA2-4F63-8D58-FEB666BC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2F0-157D-4C62-870D-12B83DAB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FD0-F8B4-4DDF-A922-B5F1D4B9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E17-0100-4A85-A7FE-594C1BF2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317-6E29-40BA-831D-7ACEE5D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F5B-AD2F-452A-B7CF-BB91DEC2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0D3-99B7-4C2D-BD4E-B6148E5B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DB3-8D0E-44F9-985C-35B6278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2269-CA2A-415B-AFDD-B47DCBD6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r_dead.wav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mergence of the Animal King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r “Rise of the Chord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lum Chor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d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bphylum Vertebrata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p 33 – Rise of th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a Mam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moeother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eaning that mammal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e their own body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Mammary tiss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Arial"/>
              </a:rPr>
              <a:t>Hair Follic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 the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internal fertil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arboring of young, however, this is only a generality becau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 all young are “cooked” to term intern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otremes – an Order of Class Mam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3193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38480" cy="2116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228600" y="4114800"/>
            <a:ext cx="8915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. The Platypus, which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lay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GG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ut still has mammary glands and produc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young.  This suggests a relationship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TI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mammals.  Imagine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862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up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The Kangaroo, which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.  Here, the development of the young is ve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baby kangaroo is born ve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oked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ust crawl into the mother’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u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latch onto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p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ecei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inue development.  You might say, baby Kangaroos or “Joey’s” get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b with a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ngaroo Bi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3200400" cy="241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200400" y="838080"/>
            <a:ext cx="3200400" cy="23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6248520" y="838080"/>
            <a:ext cx="2895480" cy="236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3124080" y="3809880"/>
            <a:ext cx="3124440" cy="235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6"/>
          <a:stretch/>
        </p:blipFill>
        <p:spPr>
          <a:xfrm>
            <a:off x="6248520" y="380988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6477120" y="6400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ntal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4800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You – well if you’re female, anyway.  </a:t>
            </a:r>
            <a:r>
              <a:rPr b="1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Internal 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velopment of young to a high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0195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62940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228600" y="1905120"/>
            <a:ext cx="2362320" cy="685800"/>
          </a:xfrm>
          <a:prstGeom prst="rightArrow">
            <a:avLst>
              <a:gd name="adj1" fmla="val 50000"/>
              <a:gd name="adj2" fmla="val 8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ammals, all the Major Body Systems are online and advanc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00320" y="1257480"/>
            <a:ext cx="4743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sunlit-dolphins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7" descr="skeleton"/>
          <p:cNvPicPr/>
          <p:nvPr/>
        </p:nvPicPr>
        <p:blipFill>
          <a:blip r:embed="rId1"/>
          <a:stretch/>
        </p:blipFill>
        <p:spPr>
          <a:xfrm>
            <a:off x="1752480" y="914400"/>
            <a:ext cx="5867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Poster%20Muscular%20System"/>
          <p:cNvPicPr/>
          <p:nvPr/>
        </p:nvPicPr>
        <p:blipFill>
          <a:blip r:embed="rId1"/>
          <a:stretch/>
        </p:blipFill>
        <p:spPr>
          <a:xfrm>
            <a:off x="2362320" y="685800"/>
            <a:ext cx="47480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orso"/>
          <p:cNvPicPr/>
          <p:nvPr/>
        </p:nvPicPr>
        <p:blipFill>
          <a:blip r:embed="rId1"/>
          <a:stretch/>
        </p:blipFill>
        <p:spPr>
          <a:xfrm>
            <a:off x="1828800" y="1143000"/>
            <a:ext cx="52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s include the follow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pt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mphib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9828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ervous"/>
          <p:cNvPicPr/>
          <p:nvPr/>
        </p:nvPicPr>
        <p:blipFill>
          <a:blip r:embed="rId1"/>
          <a:stretch/>
        </p:blipFill>
        <p:spPr>
          <a:xfrm>
            <a:off x="1676520" y="1542960"/>
            <a:ext cx="5154480" cy="5315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295280" y="304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rvous System is online and advanc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retory System – ooo look, Kidney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kidsys"/>
          <p:cNvPicPr/>
          <p:nvPr/>
        </p:nvPicPr>
        <p:blipFill>
          <a:blip r:embed="rId1"/>
          <a:stretch/>
        </p:blipFill>
        <p:spPr>
          <a:xfrm>
            <a:off x="304920" y="2057400"/>
            <a:ext cx="3770280" cy="382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4BKD"/>
          <p:cNvPicPr/>
          <p:nvPr/>
        </p:nvPicPr>
        <p:blipFill>
          <a:blip r:embed="rId2"/>
          <a:stretch/>
        </p:blipFill>
        <p:spPr>
          <a:xfrm>
            <a:off x="4572000" y="2819520"/>
            <a:ext cx="40384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crine System – Controls you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endocrinebig"/>
          <p:cNvPicPr/>
          <p:nvPr/>
        </p:nvPicPr>
        <p:blipFill>
          <a:blip r:embed="rId1"/>
          <a:stretch/>
        </p:blipFill>
        <p:spPr>
          <a:xfrm>
            <a:off x="2514600" y="1371600"/>
            <a:ext cx="4540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ts of Mammals in the Simpsons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pic08"/>
          <p:cNvPicPr/>
          <p:nvPr/>
        </p:nvPicPr>
        <p:blipFill>
          <a:blip r:embed="rId1"/>
          <a:stretch/>
        </p:blipFill>
        <p:spPr>
          <a:xfrm>
            <a:off x="1371600" y="91440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omer-king-homer"/>
          <p:cNvPicPr/>
          <p:nvPr/>
        </p:nvPicPr>
        <p:blipFill>
          <a:blip r:embed="rId2"/>
          <a:stretch/>
        </p:blipFill>
        <p:spPr>
          <a:xfrm>
            <a:off x="5334120" y="1219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simpsons183"/>
          <p:cNvPicPr/>
          <p:nvPr/>
        </p:nvPicPr>
        <p:blipFill>
          <a:blip r:embed="rId3"/>
          <a:stretch/>
        </p:blipFill>
        <p:spPr>
          <a:xfrm>
            <a:off x="1349280" y="3938760"/>
            <a:ext cx="276552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animals"/>
          <p:cNvPicPr/>
          <p:nvPr/>
        </p:nvPicPr>
        <p:blipFill>
          <a:blip r:embed="rId4"/>
          <a:stretch/>
        </p:blipFill>
        <p:spPr>
          <a:xfrm>
            <a:off x="4876920" y="3276720"/>
            <a:ext cx="3217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ly, we can Learn Important Lessons from Mammals like Ho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295280"/>
            <a:ext cx="4062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ochord -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anal 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geal gill sl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hollow nerve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4-02-Tunicate"/>
          <p:cNvPicPr/>
          <p:nvPr/>
        </p:nvPicPr>
        <p:blipFill>
          <a:blip r:embed="rId1"/>
          <a:srcRect l="26973" t="0" r="0" b="0"/>
          <a:stretch/>
        </p:blipFill>
        <p:spPr>
          <a:xfrm>
            <a:off x="1219320" y="2666880"/>
            <a:ext cx="76960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4-01-ChordateCharacters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rd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ls in Humans! – check it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3000" y="824040"/>
            <a:ext cx="6858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icates are Chordat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34-02-Tunicate"/>
          <p:cNvPicPr/>
          <p:nvPr/>
        </p:nvPicPr>
        <p:blipFill>
          <a:blip r:embed="rId1"/>
          <a:srcRect l="0" t="0" r="73969" b="0"/>
          <a:stretch/>
        </p:blipFill>
        <p:spPr>
          <a:xfrm>
            <a:off x="4572000" y="12193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1371600"/>
            <a:ext cx="4572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a Squi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ge like - filter fe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va free swimming,  bilateral with all Chordate 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188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cets (a primitive fish like organism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ly resembles the idealized chor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ochord, dorsal nerve cord, numerous gill slits, and post-anal tail all persist in the adul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0" r="0" b="9191"/>
          <a:stretch/>
        </p:blipFill>
        <p:spPr>
          <a:xfrm>
            <a:off x="228600" y="2209680"/>
            <a:ext cx="4809960" cy="464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0" t="1713" r="0" b="0"/>
          <a:stretch/>
        </p:blipFill>
        <p:spPr>
          <a:xfrm>
            <a:off x="5029200" y="2286000"/>
            <a:ext cx="385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togency Recapituates Evolution”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volution Playing out in Fetus…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all these Chordates (birds, mammals, reptiles, fish, ha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kingly simila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ryonic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6:29:48Z</dcterms:created>
  <dc:creator>Jerry</dc:creator>
  <dc:description/>
  <dc:language>en-US</dc:language>
  <cp:lastModifiedBy>RomaK</cp:lastModifiedBy>
  <dcterms:modified xsi:type="dcterms:W3CDTF">2015-09-04T10:52:21Z</dcterms:modified>
  <cp:revision>50</cp:revision>
  <dc:subject/>
  <dc:title>Emergence of the Animal Kingdom</dc:title>
</cp:coreProperties>
</file>