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27EC-D735-4047-A061-725BB2ABDD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1AB-B609-4C00-A4C6-7E00A74E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F8F-98AB-40F1-A6B4-DF4F61A9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7CE-40A9-45E3-96C8-6B3F3078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A4C-F18E-4D43-8E2E-8723AD94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3D6-E25E-4F62-9B20-9ABFA06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D4A-82A5-402D-B57E-A813467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898-E214-459C-902C-A71BCFA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07C-EC06-48B2-9A3E-356AF5E6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E15-9693-42F0-B503-B36C3E24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81D-C130-440B-A9F1-94B521A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039-A44E-4B1E-9A0D-A562DD60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45F-0BB0-4F1E-AD5F-EB69025D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B8D8-11CD-48FE-B749-C9418702C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r_dead.wav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mergence of the Animal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“Rise of the Chord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lum 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phylum Vertebrata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p 33 – Rise of th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moeother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ning that mamm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e their own bod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ammary 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Hair Folli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internal 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arboring of young, however, this is only a generality 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 young are “cooked” to term in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otremes – an Order of Class Mam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211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228600" y="4114800"/>
            <a:ext cx="8915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. The Platypus, which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ay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G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still has mammary glands and produ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young.  This suggests a relationship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T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mmals.  Imagin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he Kangaroo, which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.  Here, the development of the young is ve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baby kangaroo is born 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oked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crawl into the mother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ch onto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cei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inue development.  You might say, baby Kangaroos or “Joey’s” get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b with a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2004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6"/>
          <a:stretch/>
        </p:blipFill>
        <p:spPr>
          <a:xfrm>
            <a:off x="6248520" y="3809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47712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You – well if you’re female, anyway.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ment of young to a high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62940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" y="190512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00320" y="1257480"/>
            <a:ext cx="4743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sunlit-dolphins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skeleton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Poster%20Muscular%20System"/>
          <p:cNvPicPr/>
          <p:nvPr/>
        </p:nvPicPr>
        <p:blipFill>
          <a:blip r:embed="rId1"/>
          <a:stretch/>
        </p:blipFill>
        <p:spPr>
          <a:xfrm>
            <a:off x="2362320" y="685800"/>
            <a:ext cx="474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orso"/>
          <p:cNvPicPr/>
          <p:nvPr/>
        </p:nvPicPr>
        <p:blipFill>
          <a:blip r:embed="rId1"/>
          <a:stretch/>
        </p:blipFill>
        <p:spPr>
          <a:xfrm>
            <a:off x="1828800" y="1143000"/>
            <a:ext cx="52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phib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828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ervous"/>
          <p:cNvPicPr/>
          <p:nvPr/>
        </p:nvPicPr>
        <p:blipFill>
          <a:blip r:embed="rId1"/>
          <a:stretch/>
        </p:blipFill>
        <p:spPr>
          <a:xfrm>
            <a:off x="1676520" y="1542960"/>
            <a:ext cx="515448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295280" y="304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kidsys"/>
          <p:cNvPicPr/>
          <p:nvPr/>
        </p:nvPicPr>
        <p:blipFill>
          <a:blip r:embed="rId1"/>
          <a:stretch/>
        </p:blipFill>
        <p:spPr>
          <a:xfrm>
            <a:off x="304920" y="2057400"/>
            <a:ext cx="3770280" cy="382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4BKD"/>
          <p:cNvPicPr/>
          <p:nvPr/>
        </p:nvPicPr>
        <p:blipFill>
          <a:blip r:embed="rId2"/>
          <a:stretch/>
        </p:blipFill>
        <p:spPr>
          <a:xfrm>
            <a:off x="4572000" y="2819520"/>
            <a:ext cx="4038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ndocrinebig"/>
          <p:cNvPicPr/>
          <p:nvPr/>
        </p:nvPicPr>
        <p:blipFill>
          <a:blip r:embed="rId1"/>
          <a:stretch/>
        </p:blipFill>
        <p:spPr>
          <a:xfrm>
            <a:off x="2514600" y="1371600"/>
            <a:ext cx="454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ammals in the Simpson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ic08"/>
          <p:cNvPicPr/>
          <p:nvPr/>
        </p:nvPicPr>
        <p:blipFill>
          <a:blip r:embed="rId1"/>
          <a:stretch/>
        </p:blipFill>
        <p:spPr>
          <a:xfrm>
            <a:off x="1371600" y="9144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omer-king-homer"/>
          <p:cNvPicPr/>
          <p:nvPr/>
        </p:nvPicPr>
        <p:blipFill>
          <a:blip r:embed="rId2"/>
          <a:stretch/>
        </p:blipFill>
        <p:spPr>
          <a:xfrm>
            <a:off x="5334120" y="1219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impsons183"/>
          <p:cNvPicPr/>
          <p:nvPr/>
        </p:nvPicPr>
        <p:blipFill>
          <a:blip r:embed="rId3"/>
          <a:stretch/>
        </p:blipFill>
        <p:spPr>
          <a:xfrm>
            <a:off x="1349280" y="3938760"/>
            <a:ext cx="276552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mals"/>
          <p:cNvPicPr/>
          <p:nvPr/>
        </p:nvPicPr>
        <p:blipFill>
          <a:blip r:embed="rId4"/>
          <a:stretch/>
        </p:blipFill>
        <p:spPr>
          <a:xfrm>
            <a:off x="4876920" y="3276720"/>
            <a:ext cx="321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062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02-Tunicate"/>
          <p:cNvPicPr/>
          <p:nvPr/>
        </p:nvPicPr>
        <p:blipFill>
          <a:blip r:embed="rId1"/>
          <a:srcRect l="26973" t="0" r="0" b="0"/>
          <a:stretch/>
        </p:blipFill>
        <p:spPr>
          <a:xfrm>
            <a:off x="1219320" y="2666880"/>
            <a:ext cx="7696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4-01-ChordateCharacters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3000" y="824040"/>
            <a:ext cx="685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02-Tunicate"/>
          <p:cNvPicPr/>
          <p:nvPr/>
        </p:nvPicPr>
        <p:blipFill>
          <a:blip r:embed="rId1"/>
          <a:srcRect l="0" t="0" r="73969" b="0"/>
          <a:stretch/>
        </p:blipFill>
        <p:spPr>
          <a:xfrm>
            <a:off x="4572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371600"/>
            <a:ext cx="457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 Squ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88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cets (a primitive fish like organis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sembles the idealized chor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9191"/>
          <a:stretch/>
        </p:blipFill>
        <p:spPr>
          <a:xfrm>
            <a:off x="228600" y="2209680"/>
            <a:ext cx="480996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0" t="1713" r="0" b="0"/>
          <a:stretch/>
        </p:blipFill>
        <p:spPr>
          <a:xfrm>
            <a:off x="5029200" y="2286000"/>
            <a:ext cx="38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togency Recapituates Evolution”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volution Playing out in Fetus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6:29:48Z</dcterms:created>
  <dc:creator>Jerry</dc:creator>
  <dc:description/>
  <dc:language>en-US</dc:language>
  <cp:lastModifiedBy>RomaK</cp:lastModifiedBy>
  <dcterms:modified xsi:type="dcterms:W3CDTF">2015-09-04T10:52:21Z</dcterms:modified>
  <cp:revision>50</cp:revision>
  <dc:subject/>
  <dc:title>Emergence of the Animal Kingdom</dc:title>
</cp:coreProperties>
</file>