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960-184F-4AE0-9474-7DDC8F00F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fertiliz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Describe the process of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rm enters an ovum, and the nuclei combine to form one with 46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tually form a 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it becomes a 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next, a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gents Diagram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(fertilized ovu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  What happens after cleavage beg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How does a single celled zygote become a gastrul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(Organogen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ogenesis is the formation of the organs (Organo = organs, genesis = cre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s from the layering of cells that occurs during gastrula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yers are germ layers; they have specific fates in the developing embry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nermost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muscles, circulatory system, blood and many different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es on to form the skin and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of Primary Germ Layers (from the gastrul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uman Developmen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 makes sperm in males and ovum in 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ovum unite nuclei to form a zyg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undergoes cleavage and becomes gastrula with 3 germ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and nourish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four 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from the germ layers, but are not part of the embryo and are lost at bi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and amnion enclose th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rion surrounds the entire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n encloses the embryo and forms an open volume between the embryo &amp; the amnion called the amniotic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cavity fills with amniotic fluid, which envelops the embryo and cushion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niotic fluid can be sampled to test for developmental abnormal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antois is an outgrowth of the g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ptiles and birds, it stores nitrogenous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olk sac encloses the yolk in vertebrates with yolk-rich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umans, there is no yolk sac, but the yolk aids in formation of red blood ce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: Four Major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contact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or its nucleus enters the e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becomes activated and development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and egg nuclei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embryonic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renatal Develo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ation lasts 266 days from fertilization to bi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begins in the ovi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4 hours after fertilization, the zygote has divided to form a 2-cell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passes down the oviduct by cilia and peristal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ona pellucida has dissolved by the 5th day, when the embryo enters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floats free for several days, nourished by fluids from glands in the uterine 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is point, it is called a blastocy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a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mbryo implants in the wall of the uterus on about the 7th day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day Human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is all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is the site of nutrient, gas, and waste ex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s hormones that maintain pregn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hoblast cells release human chorionic gonadotropin (hCG) which signals the corpus luteum to enlarge and produce proge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centa develops from the embryonic chorion and maternal uteri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ionic villi are formed from the chorion, and project into the endometrium of the 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mbilical cord, containing two umbilical arteries and one umbilical vein connects the embryo and the placen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of the Plac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etus at Ten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know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- to physically joi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um – egg cell (female game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– process of cell division during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iation – the process of forming different kinds of cells from similar cells of the early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bryo – an organism in an early stage of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ula – solid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stula – hollow ball of cells formed from cleav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trula – a hollow ball of cells with an “in pushing” and 3 layers (germ lay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uclei Fu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of the zygote, the study of which is known as embryology or developmental bi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ygote undergoes a series of mitotic cell divisions called cleav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development are:  Fertilized ovum (zygote)  2-cell stage  4-cell stage  8-cell stage  Morula  Blastula  Early Gastrula  Late Gastr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(divide via mitosis) forms the 2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lit again to form the 4 cell s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 to form the 8 cell stag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E95-5424-4185-9FA6-D0E4059F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3ED4-9023-4807-883B-56B828AD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7A4-FA0D-4EBA-BD5C-CFF16A7A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99D-1665-4590-906E-EFF90E41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CA7-BDB0-4A01-8E4D-35410FB1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AEB-0907-41E0-9FCD-95CE517A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11-C92E-4217-9410-CFF7959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6FC-F9B7-4381-A813-89D6730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C2A-B7C6-41F6-BE36-9AF9E2F6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11C-F075-4846-972C-D459713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C09-4844-4FD8-92F8-DFDA73E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559-C2CB-48F2-BBB2-A37993A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D5E1-888F-49B6-932E-2D378CD9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 rot="16201800">
            <a:off x="-2522880" y="3240720"/>
            <a:ext cx="52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Copyright </a:t>
            </a:r>
            <a:r>
              <a:rPr b="1" lang="en-US" sz="1000" spc="-1" strike="noStrike">
                <a:solidFill>
                  <a:srgbClr val="000066"/>
                </a:solidFill>
                <a:latin typeface="Symbol"/>
                <a:ea typeface="Symbol"/>
              </a:rPr>
              <a:t></a:t>
            </a:r>
            <a:r>
              <a:rPr b="1" lang="en-US" sz="1000" spc="-1" strike="noStrike">
                <a:solidFill>
                  <a:srgbClr val="000066"/>
                </a:solidFill>
                <a:latin typeface="Tahoma"/>
              </a:rPr>
              <a:t> 2002 by Harcourt College Publishers, a division of Thomson Lear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:  What happens after ferti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Describe the process of fertiliz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perm enters an ovum, and the nuclei combine to form one with 46 chromoso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eventually form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orula"/>
          <p:cNvPicPr/>
          <p:nvPr/>
        </p:nvPicPr>
        <p:blipFill>
          <a:blip r:embed="rId1"/>
          <a:stretch/>
        </p:blipFill>
        <p:spPr>
          <a:xfrm>
            <a:off x="1981080" y="1523880"/>
            <a:ext cx="464832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it becomes a blast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rog10"/>
          <p:cNvPicPr/>
          <p:nvPr/>
        </p:nvPicPr>
        <p:blipFill>
          <a:blip r:embed="rId1"/>
          <a:stretch/>
        </p:blipFill>
        <p:spPr>
          <a:xfrm>
            <a:off x="1371600" y="1905120"/>
            <a:ext cx="6162840" cy="465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next, a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astrula"/>
          <p:cNvPicPr/>
          <p:nvPr/>
        </p:nvPicPr>
        <p:blipFill>
          <a:blip r:embed="rId1"/>
          <a:stretch/>
        </p:blipFill>
        <p:spPr>
          <a:xfrm>
            <a:off x="1523880" y="1738440"/>
            <a:ext cx="5486400" cy="495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gents Diagra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ov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ygote (fertilized ov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cel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388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E0603018"/>
          <p:cNvPicPr/>
          <p:nvPr/>
        </p:nvPicPr>
        <p:blipFill>
          <a:blip r:embed="rId1"/>
          <a:stretch/>
        </p:blipFill>
        <p:spPr>
          <a:xfrm>
            <a:off x="609480" y="1523880"/>
            <a:ext cx="7696440" cy="10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:  What happens after cleavage beg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now:  How does a single celled zygote become a gastr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Differentiation (Organogenes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Organogenesi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ormation of the organs (Organo = organs, genesis = creation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Arises from the layering of cells that occurs during gastrula st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yers are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germ layer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; they have specific fates in the developing embryo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d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nermost lay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g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sode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midd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oes on to form the muscles, circulatory system, blood and many different org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tod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uterm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es on to form the skin and nervou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Gastr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astrula"/>
          <p:cNvPicPr/>
          <p:nvPr/>
        </p:nvPicPr>
        <p:blipFill>
          <a:blip r:embed="rId1"/>
          <a:stretch/>
        </p:blipFill>
        <p:spPr>
          <a:xfrm>
            <a:off x="1295280" y="1486080"/>
            <a:ext cx="5953320" cy="5371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 flipH="1">
            <a:off x="5333760" y="3048120"/>
            <a:ext cx="243828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4380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H="1">
            <a:off x="4343400" y="1981080"/>
            <a:ext cx="32004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7391520" y="1523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t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on of Primary Germ Layers (from the gastr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5800" y="1981080"/>
          <a:ext cx="7772400" cy="60642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t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der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vous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let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estive trac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dermis of sk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ory syste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, pancre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ad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dd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Human Developmen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iosis makes sperm in males and ovum in fem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rm and ovum unite nuclei to form a zyg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ygote undergoes cleavage and becomes gastrula with 3 germ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and nourish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four embryonic membr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from the germ layers, but are not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embryo and are los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r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mn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 the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orion surrounds the entire embr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nion encloses the embryo and forms an open volume between the embryo &amp; the amnion called the amniot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niotic cavity fills with amniotic fluid, which envelops the embryo and cushions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niotic fluid can be sampled to test for developmental abnorma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anto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utgrowth of the g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nd birds, it stores nitrogenous wa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lk s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loses the yolk in vertebrates with yolk-rich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humans, there is no yolk sac, but the yolk aids in formation of red blood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: Four Major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ct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or its nucleus enters the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becomes activated and developmen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and egg nuclei f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781680" y="457200"/>
            <a:ext cx="1752840" cy="60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So49_14x"/>
          <p:cNvPicPr/>
          <p:nvPr/>
        </p:nvPicPr>
        <p:blipFill>
          <a:blip r:embed="rId1"/>
          <a:stretch/>
        </p:blipFill>
        <p:spPr>
          <a:xfrm>
            <a:off x="1600200" y="457200"/>
            <a:ext cx="5302080" cy="6400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2800" y="274680"/>
            <a:ext cx="4032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embryonic Membr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  <a:ea typeface="Times New Roman"/>
              </a:rPr>
              <a:t>Human Prenat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Times New Roman"/>
              </a:rPr>
              <a:t>Gestation lasts 266 days from fertilization to bir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74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80"/>
                </a:solidFill>
                <a:latin typeface="Arial"/>
              </a:rPr>
              <a:t>Development begins in the oviduc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About 24 hours after fertilization, the zygote has divided to form a 2-celled embry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passes down the oviduct by cilia and peristal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80"/>
                </a:solidFill>
                <a:latin typeface="Arial"/>
              </a:rPr>
              <a:t>zona pellucida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has dissolved by the 5th day, when the embryo enters the uter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4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The embryo floats free for several days, nourished by fluids from glands in the uterine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550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At this point, it is called a </a:t>
            </a:r>
            <a:r>
              <a:rPr b="0" i="1" lang="en-US" sz="2200" spc="-1" strike="noStrike">
                <a:solidFill>
                  <a:srgbClr val="000080"/>
                </a:solidFill>
                <a:latin typeface="Arial"/>
              </a:rPr>
              <a:t>blastoc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a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92504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embryo implants in the wall of the ute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n about the 7th day of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477120" cy="427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-day Human 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533520" y="1676520"/>
            <a:ext cx="8181720" cy="4616280"/>
            <a:chOff x="533520" y="1676520"/>
            <a:chExt cx="8181720" cy="4616280"/>
          </a:xfrm>
        </p:grpSpPr>
        <p:graphicFrame>
          <p:nvGraphicFramePr>
            <p:cNvPr id="112" name="Object 4"/>
            <p:cNvGraphicFramePr/>
            <p:nvPr/>
          </p:nvGraphicFramePr>
          <p:xfrm>
            <a:off x="533520" y="1676520"/>
            <a:ext cx="8181720" cy="4616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1676520"/>
                      <a:ext cx="8181720" cy="46162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14" name="Line 5"/>
            <p:cNvSpPr/>
            <p:nvPr/>
          </p:nvSpPr>
          <p:spPr>
            <a:xfrm>
              <a:off x="2362320" y="4343400"/>
              <a:ext cx="3200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6"/>
            <p:cNvSpPr/>
            <p:nvPr/>
          </p:nvSpPr>
          <p:spPr>
            <a:xfrm>
              <a:off x="2819520" y="2971800"/>
              <a:ext cx="99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2743200" y="2209680"/>
              <a:ext cx="243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is all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zygote_stages"/>
          <p:cNvPicPr/>
          <p:nvPr/>
        </p:nvPicPr>
        <p:blipFill>
          <a:blip r:embed="rId1"/>
          <a:stretch/>
        </p:blipFill>
        <p:spPr>
          <a:xfrm>
            <a:off x="1447920" y="1752480"/>
            <a:ext cx="5638680" cy="475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placenta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is the site of nutrient, gas, and waste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retes hormones that maintain pregn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rophobla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cells release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human chorionic gonadotropin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(hCG) which signals the corpus luteum to enlarge and produce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e placenta develops from the embryonic chorion and mater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uterine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ic villi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are formed from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chorio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and project into 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endometrium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f the ute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he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umbilical co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, containing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two umbilical arteries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one umbilical vein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connects the embryo and the place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9200" y="655200"/>
            <a:ext cx="806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the Plac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So49_19x"/>
          <p:cNvPicPr/>
          <p:nvPr/>
        </p:nvPicPr>
        <p:blipFill>
          <a:blip r:embed="rId1"/>
          <a:srcRect l="0" t="9011" r="0" b="4727"/>
          <a:stretch/>
        </p:blipFill>
        <p:spPr>
          <a:xfrm>
            <a:off x="3200400" y="990720"/>
            <a:ext cx="5403960" cy="5562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2819160"/>
            <a:ext cx="2514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Fetus at Ten Wee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03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s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e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hysically join toge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gg cell (female game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rocess of cell division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forming different kinds of cells from similar cells of the early embr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n organism in an early stage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olid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st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ollow ball of cells formed from clea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r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hollow ball of cells with an “in pushing” and 3 layers (germ lay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01600" y="1600200"/>
            <a:ext cx="758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9" descr="1204_fertilization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uclei Fus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zygoteedit"/>
          <p:cNvPicPr/>
          <p:nvPr/>
        </p:nvPicPr>
        <p:blipFill>
          <a:blip r:embed="rId1"/>
          <a:stretch/>
        </p:blipFill>
        <p:spPr>
          <a:xfrm>
            <a:off x="1676520" y="1676520"/>
            <a:ext cx="6933960" cy="485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345960"/>
            <a:ext cx="799488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happens n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the zygote, the study of which is known a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mbry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ment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zygote undergoes a series of mitotic cell divisions called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eav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ges of development are: 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rtilized ovum (zygote)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2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4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8-cell stage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Mo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Blast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Early Gastrula </a:t>
            </a:r>
            <a:r>
              <a:rPr b="1" i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Late Gastr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vage (divide via mitosis) forms the 2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cell"/>
          <p:cNvPicPr/>
          <p:nvPr/>
        </p:nvPicPr>
        <p:blipFill>
          <a:blip r:embed="rId1"/>
          <a:stretch/>
        </p:blipFill>
        <p:spPr>
          <a:xfrm>
            <a:off x="1523880" y="1714680"/>
            <a:ext cx="6172200" cy="514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plit again to form the 4 cell s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embryos.jpg (9821 bytes)"/>
          <p:cNvPicPr/>
          <p:nvPr/>
        </p:nvPicPr>
        <p:blipFill>
          <a:blip r:embed="rId1"/>
          <a:stretch/>
        </p:blipFill>
        <p:spPr>
          <a:xfrm>
            <a:off x="1523880" y="1758960"/>
            <a:ext cx="5715000" cy="454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gain to form the 8 cell stag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cell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22:35:07Z</dcterms:created>
  <dc:creator>F. Essig</dc:creator>
  <dc:description/>
  <dc:language>en-US</dc:language>
  <cp:lastModifiedBy>RomaK</cp:lastModifiedBy>
  <cp:lastPrinted>2001-04-20T17:23:54Z</cp:lastPrinted>
  <dcterms:modified xsi:type="dcterms:W3CDTF">2015-09-04T10:41:36Z</dcterms:modified>
  <cp:revision>257</cp:revision>
  <dc:subject/>
  <dc:title>development</dc:title>
</cp:coreProperties>
</file>