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361B9-A4D7-4F25-8234-E9E58F6873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:  What happens after fertiliz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Describe the process of fertil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rm enters an ovum, and the nuclei combine to form one with 46 chromoso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:  What happens after fertiliz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Describe the process of fertiliz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rm enters an ovum, and the nuclei combine to form one with 46 chromos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eventually form a Mo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eventually form a Mo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it becomes a bla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it becomes a blast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next, a gast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d next, a gast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gents Diagra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ov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(fertilized ov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gents Diagram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ov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(fertilized ovu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:  What happens after cleavage begi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 How does a single celled zygote become a gastr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:  What happens after cleavage begi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 How does a single celled zygote become a gastrul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(Organogenes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ogenesis is the formation of the organs (Organo = organs, genesis = cre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ises from the layering of cells that occurs during gastrula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yers are germ layers; they have specific fates in the developing embryo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nermost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g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muscles, circulatory system, blood and many different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uterm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skin and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(Organogenes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ogenesis is the formation of the organs (Organo = organs, genesis = cre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ises from the layering of cells that occurs during gastrula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yers are germ layers; they have specific fates in the developing embryo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nermost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g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mid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muscles, circulatory system, blood and many different org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uterm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skin and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 Gast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ate Gast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of Primary Germ Layers (from the gastrul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of Primary Germ Layers (from the gastrul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Human Development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 makes sperm in males and ovum in fe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ovum unite nuclei to form a zyg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undergoes cleavage and becomes gastrula with 3 germ lay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Human Development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 makes sperm in males and ovum in fem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ovum unite nuclei to form a zyg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undergoes cleavage and becomes gastrula with 3 germ lay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nic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ct and nourish the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four embryonic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 from the germ layers, but are not part of the embryo and are lost at 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orion and amnion enclose the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orion surrounds the entire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n encloses the embryo and forms an open volume between the embryo &amp; the amnion called the amniotic c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tic cavity fills with amniotic fluid, which envelops the embryo and cushion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tic fluid can be sampled to test for developmental abnormali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lantois is an outgrowth of the g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ptiles and birds, it stores nitrogenous was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yolk sac encloses the yolk in vertebrates with yolk-rich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humans, there is no yolk sac, but the yolk aids in formation of red blood ce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nic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ct and nourish the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four embryonic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 from the germ layers, but are not part of the embryo and are lost at bi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orion and amnion enclose the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orion surrounds the entire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n encloses the embryo and forms an open volume between the embryo &amp; the amnion called the amniotic 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tic cavity fills with amniotic fluid, which envelops the embryo and cushions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tic fluid can be sampled to test for developmental abnormalit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lantois is an outgrowth of the g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ptiles and birds, it stores nitrogenous was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yolk sac encloses the yolk in vertebrates with yolk-rich eg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humans, there is no yolk sac, but the yolk aids in formation of red blood ce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zation: Four Major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contacts the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or its nucleus enters the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g becomes activated and development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be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egg nuclei f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zation: Four Major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contacts the eg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or its nucleus enters the eg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g becomes activated and development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egg nuclei f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aembryonic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traembryonic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Prenatal Develop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ation lasts 266 days from fertilization to bi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begins in the ovi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4 hours after fertilization, the zygote has divided to form a 2-celled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passes down the oviduct by cilia and 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zona pellucida has dissolved by the 5th day, when the embryo enters the ut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floats free for several days, nourished by fluids from glands in the uterine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is point, it is called a blastocy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Prenatal Develop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ation lasts 266 days from fertilization to bi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begins in the ovi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4 hours after fertilization, the zygote has divided to form a 2-celled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passes down the oviduct by cilia and peristal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zona pellucida has dissolved by the 5th day, when the embryo enters the ute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floats free for several days, nourished by fluids from glands in the uterine 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is point, it is called a blastocy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ant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implants in the wall of the uterus on about the 7th day of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ant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implants in the wall of the uterus on about the 7th day of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-day Human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-day Human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is all take pla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is all take pl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 is the site of nutrient, gas, and waste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retes hormones that maintain pregna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hoblast cells release human chorionic gonadotropin (hCG) which signals the corpus luteum to enlarge and produce progeste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 develops from the embryonic chorion and maternal uterine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ionic villi are formed from the chorion, and project into the endometrium of the ut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mbilical cord, containing two umbilical arteries and one umbilical vein connects the embryo and the placen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 is the site of nutrient, gas, and waste ex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retes hormones that maintain pregna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hoblast cells release human chorionic gonadotropin (hCG) which signals the corpus luteum to enlarge and produce progester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 develops from the embryonic chorion and maternal uterine t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ionic villi are formed from the chorion, and project into the endometrium of the ute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mbilical cord, containing two umbilical arteries and one umbilical vein connects the embryo and the placen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of the Plac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velopment of the Place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Fetus at Ten We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Fetus at Ten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s to know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- to physically join toge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um – egg cell (female game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– process of cell division during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– the process of forming different kinds of cells from similar cells of the early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 – an organism in an early stage of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ula – solid ball of cells formed from 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 – hollow ball of cells formed from 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 – a hollow ball of cells with an “in pushing” and 3 layers (germ lay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s to know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- to physically join toge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um – egg cell (female game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– process of cell division during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– the process of forming different kinds of cells from similar cells of the early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 – an organism in an early stage of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ula – solid ball of cells formed from cleav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 – hollow ball of cells formed from cleav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 – a hollow ball of cells with an “in pushing” and 3 layers (germ lay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i Fuse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Nuclei Fuse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of the zygote, the study of which is known as embryology or developmental biolo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zygote undergoes a series of mitotic cell divisions called cleav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ges of development are:  Fertilized ovum (zygote)  2-cell stage  4-cell stage  8-cell stage  Morula  Blastula  Early Gastrula  Late Gast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of the zygote, the study of which is known as embryology or developmental biolog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zygote undergoes a series of mitotic cell divisions called cleav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ges of development are:  Fertilized ovum (zygote)  2-cell stage  4-cell stage  8-cell stage  Morula  Blastula  Early Gastrula  Late Gast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(divide via mitosis) forms the 2 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(divide via mitosis) forms the 2 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split again to form the 4 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split again to form the 4 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 to form the 8 cell stag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 to form the 8 cell stag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5913-0A31-4EA3-996B-E0B8C7FB4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282F-4388-493F-83DC-59CD223BD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FFC1-7E6E-42B1-921A-4B1AEA7FF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45A1-F7BA-4048-89A7-2A7477218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36B0-180D-4747-9DBA-7C439C218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9393-B9E2-4A83-9925-D8A91FD8B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6C97-2E80-4085-9F93-7B7C523E3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2763-F3FA-48AF-9225-E7736265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8CDE-54A6-4111-8CB2-D2BDD90D8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5663-9468-4C57-81B1-C6C5746B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A3CC-1F65-4A4E-A1B9-BCE96C5F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E904-95FA-404B-8038-866332BA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0A26F-5571-4204-AD89-0866E69C3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 rot="16201800">
            <a:off x="-2522880" y="3240720"/>
            <a:ext cx="52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Tahoma"/>
              </a:rPr>
              <a:t>Copyright </a:t>
            </a:r>
            <a:r>
              <a:rPr b="1" lang="en-US" sz="1000" spc="-1" strike="noStrike">
                <a:solidFill>
                  <a:srgbClr val="000066"/>
                </a:solidFill>
                <a:latin typeface="Symbol"/>
                <a:ea typeface="Symbol"/>
              </a:rPr>
              <a:t></a:t>
            </a:r>
            <a:r>
              <a:rPr b="1" lang="en-US" sz="1000" spc="-1" strike="noStrike">
                <a:solidFill>
                  <a:srgbClr val="000066"/>
                </a:solidFill>
                <a:latin typeface="Tahoma"/>
              </a:rPr>
              <a:t> 2002 by Harcourt College Publishers, a division of Thomson Lear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im:  What happens after fertiliz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w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Describe the process of fertiliz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sperm enters an ovum, and the nuclei combine to form one with 46 chromoso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eventually form a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or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morula"/>
          <p:cNvPicPr/>
          <p:nvPr/>
        </p:nvPicPr>
        <p:blipFill>
          <a:blip r:embed="rId1"/>
          <a:stretch/>
        </p:blipFill>
        <p:spPr>
          <a:xfrm>
            <a:off x="1981080" y="1523880"/>
            <a:ext cx="4648320" cy="533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it becomes a blast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frog10"/>
          <p:cNvPicPr/>
          <p:nvPr/>
        </p:nvPicPr>
        <p:blipFill>
          <a:blip r:embed="rId1"/>
          <a:stretch/>
        </p:blipFill>
        <p:spPr>
          <a:xfrm>
            <a:off x="1371600" y="1905120"/>
            <a:ext cx="6162840" cy="4655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next, a gastr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gastrula"/>
          <p:cNvPicPr/>
          <p:nvPr/>
        </p:nvPicPr>
        <p:blipFill>
          <a:blip r:embed="rId1"/>
          <a:stretch/>
        </p:blipFill>
        <p:spPr>
          <a:xfrm>
            <a:off x="1523880" y="1738440"/>
            <a:ext cx="5486400" cy="4951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gents Diagram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and ov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ygote (fertilized ovu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-cell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-cell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st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tr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LE0603018"/>
          <p:cNvPicPr/>
          <p:nvPr/>
        </p:nvPicPr>
        <p:blipFill>
          <a:blip r:embed="rId1"/>
          <a:stretch/>
        </p:blipFill>
        <p:spPr>
          <a:xfrm>
            <a:off x="609480" y="1523880"/>
            <a:ext cx="7696440" cy="109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m:  What happens after cleavage begi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now:  How does a single celled zygote become a gastrul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Differentiation (Organogenesi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Organogenesi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 is the formation of the organs (Organo = organs, genesis = creation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Arises from the layering of cells that occurs during gastrula stag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The layers are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germ layer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; they have specific fates in the developing embryo: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Endode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he innermost lay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Goes on to form the g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Mesode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n the midd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Goes on to form the muscles, circulatory system, blood and many different org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Ectoder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outerm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s on to form the skin and nervous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e Gastr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gastrula"/>
          <p:cNvPicPr/>
          <p:nvPr/>
        </p:nvPicPr>
        <p:blipFill>
          <a:blip r:embed="rId1"/>
          <a:stretch/>
        </p:blipFill>
        <p:spPr>
          <a:xfrm>
            <a:off x="1295280" y="1486080"/>
            <a:ext cx="5953320" cy="5371920"/>
          </a:xfrm>
          <a:prstGeom prst="rect">
            <a:avLst/>
          </a:prstGeom>
          <a:ln w="0">
            <a:noFill/>
          </a:ln>
        </p:spPr>
      </p:pic>
      <p:sp>
        <p:nvSpPr>
          <p:cNvPr id="90" name="Line 9"/>
          <p:cNvSpPr/>
          <p:nvPr/>
        </p:nvSpPr>
        <p:spPr>
          <a:xfrm flipH="1">
            <a:off x="5333760" y="3048120"/>
            <a:ext cx="243828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754380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1"/>
          <p:cNvSpPr/>
          <p:nvPr/>
        </p:nvSpPr>
        <p:spPr>
          <a:xfrm flipH="1">
            <a:off x="4343400" y="1981080"/>
            <a:ext cx="320040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2"/>
          <p:cNvSpPr/>
          <p:nvPr/>
        </p:nvSpPr>
        <p:spPr>
          <a:xfrm>
            <a:off x="7391520" y="15238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3"/>
          <p:cNvSpPr/>
          <p:nvPr/>
        </p:nvSpPr>
        <p:spPr>
          <a:xfrm>
            <a:off x="914400" y="2895480"/>
            <a:ext cx="1371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iation of Primary Germ Layers (from the gastrul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85800" y="1981080"/>
          <a:ext cx="7772400" cy="60642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31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toder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soder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oder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rvous syste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eleto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gestive trac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dermis of ski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cle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iratory syste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rculatory syste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ver, pancrea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nad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dde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ly Human Development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iosis makes sperm in males and ovum in fem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rm and ovum unite nuclei to form a zygo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ygote undergoes cleavage and becomes gastrula with 3 germ lay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0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bryonic Membra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79246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 and nourish the embr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four embryonic membr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from the germ layers, but are not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 embryo and are lost at bi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or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mn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close the embr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orion surrounds the entire embry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nion encloses the embryo and forms an open volume between the embryo &amp; the amnion called the amniotic ca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mniotic cavity fills with amniotic fluid, which envelops the embryo and cushions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amniotic fluid can be sampled to test for developmental abnormali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lanto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n outgrowth of the g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tiles and birds, it stores nitrogenous was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lk sa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closes the yolk in vertebrates with yolk-rich eg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 humans, there is no yolk sac, but the yolk aids in formation of red blood cel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rtilization: Four Major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contacts the e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or its nucleus enters the e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g becomes activated and development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and egg nuclei f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5"/>
          <p:cNvSpPr/>
          <p:nvPr/>
        </p:nvSpPr>
        <p:spPr>
          <a:xfrm>
            <a:off x="6781680" y="457200"/>
            <a:ext cx="175284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So49_14x"/>
          <p:cNvPicPr/>
          <p:nvPr/>
        </p:nvPicPr>
        <p:blipFill>
          <a:blip r:embed="rId1"/>
          <a:stretch/>
        </p:blipFill>
        <p:spPr>
          <a:xfrm>
            <a:off x="1600200" y="457200"/>
            <a:ext cx="5302080" cy="64008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492800" y="274680"/>
            <a:ext cx="4032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embryonic Membra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  <a:ea typeface="Times New Roman"/>
              </a:rPr>
              <a:t>Human Prenatal Develop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74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80"/>
                </a:solidFill>
                <a:latin typeface="Arial"/>
                <a:ea typeface="Times New Roman"/>
              </a:rPr>
              <a:t>Gestation lasts 266 days from fertilization to birth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74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80"/>
                </a:solidFill>
                <a:latin typeface="Arial"/>
              </a:rPr>
              <a:t>Development begins in the oviduc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4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About 24 hours after fertilization, the zygote has divided to form a 2-celled embry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4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The embryo passes down the oviduct by cilia and peristal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4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The </a:t>
            </a:r>
            <a:r>
              <a:rPr b="0" i="1" lang="en-US" sz="2600" spc="-1" strike="noStrike">
                <a:solidFill>
                  <a:srgbClr val="000080"/>
                </a:solidFill>
                <a:latin typeface="Arial"/>
              </a:rPr>
              <a:t>zona pellucida</a:t>
            </a: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 has dissolved by the 5th day, when the embryo enters the uter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4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The embryo floats free for several days, nourished by fluids from glands in the uterine w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50"/>
              </a:spcBef>
              <a:buClr>
                <a:srgbClr val="000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80"/>
                </a:solidFill>
                <a:latin typeface="Arial"/>
              </a:rPr>
              <a:t>At this point, it is called a </a:t>
            </a:r>
            <a:r>
              <a:rPr b="0" i="1" lang="en-US" sz="2200" spc="-1" strike="noStrike">
                <a:solidFill>
                  <a:srgbClr val="000080"/>
                </a:solidFill>
                <a:latin typeface="Arial"/>
              </a:rPr>
              <a:t>blastocy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ant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92504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The embryo implants in the wall of the ute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on about the 7th day of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477120" cy="4270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2-day Human Embry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9"/>
          <p:cNvGrpSpPr/>
          <p:nvPr/>
        </p:nvGrpSpPr>
        <p:grpSpPr>
          <a:xfrm>
            <a:off x="533520" y="1676520"/>
            <a:ext cx="8181720" cy="4616280"/>
            <a:chOff x="533520" y="1676520"/>
            <a:chExt cx="8181720" cy="4616280"/>
          </a:xfrm>
        </p:grpSpPr>
        <p:graphicFrame>
          <p:nvGraphicFramePr>
            <p:cNvPr id="112" name="Object 4"/>
            <p:cNvGraphicFramePr/>
            <p:nvPr/>
          </p:nvGraphicFramePr>
          <p:xfrm>
            <a:off x="533520" y="1676520"/>
            <a:ext cx="8181720" cy="4616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3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1676520"/>
                      <a:ext cx="8181720" cy="46162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14" name="Line 5"/>
            <p:cNvSpPr/>
            <p:nvPr/>
          </p:nvSpPr>
          <p:spPr>
            <a:xfrm>
              <a:off x="2362320" y="434340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6"/>
            <p:cNvSpPr/>
            <p:nvPr/>
          </p:nvSpPr>
          <p:spPr>
            <a:xfrm>
              <a:off x="2819520" y="2971800"/>
              <a:ext cx="99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7"/>
            <p:cNvSpPr/>
            <p:nvPr/>
          </p:nvSpPr>
          <p:spPr>
            <a:xfrm>
              <a:off x="2743200" y="2209680"/>
              <a:ext cx="2438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does this all take pla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zygote_stages"/>
          <p:cNvPicPr/>
          <p:nvPr/>
        </p:nvPicPr>
        <p:blipFill>
          <a:blip r:embed="rId1"/>
          <a:stretch/>
        </p:blipFill>
        <p:spPr>
          <a:xfrm>
            <a:off x="1447920" y="1752480"/>
            <a:ext cx="5638680" cy="4759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lac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360" y="144792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</a:rPr>
              <a:t>placenta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 is the site of nutrient, gas, and waste ex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retes hormones that maintain pregna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Arial"/>
              </a:rPr>
              <a:t>Trophoblast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 cells release </a:t>
            </a:r>
            <a:r>
              <a:rPr b="0" i="1" lang="en-US" sz="2800" spc="-1" strike="noStrike">
                <a:solidFill>
                  <a:srgbClr val="000080"/>
                </a:solidFill>
                <a:latin typeface="Arial"/>
              </a:rPr>
              <a:t>human chorionic gonadotropin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 (hCG) which signals the corpus luteum to enlarge and produce progester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e placenta develops from the embryonic chorion and matern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uterine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Arial"/>
              </a:rPr>
              <a:t>Chorionic villi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 are formed from the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</a:rPr>
              <a:t>chorion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, and project into the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</a:rPr>
              <a:t>endometrium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 of the ute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The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umbilical cord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, containing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two umbilical arteries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and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one umbilical vein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connects the embryo and the placen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9200" y="655200"/>
            <a:ext cx="8067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elopment of the Plac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6858000" cy="4143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So49_19x"/>
          <p:cNvPicPr/>
          <p:nvPr/>
        </p:nvPicPr>
        <p:blipFill>
          <a:blip r:embed="rId1"/>
          <a:srcRect l="0" t="9011" r="0" b="4727"/>
          <a:stretch/>
        </p:blipFill>
        <p:spPr>
          <a:xfrm>
            <a:off x="3200400" y="990720"/>
            <a:ext cx="5403960" cy="55623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2819160"/>
            <a:ext cx="2514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Fetus at Ten Wee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03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s to k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se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physically join toget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egg cell (female game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eav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process of cell division during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fferenti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the process of forming different kinds of cells from similar cells of the early embry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bry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an organism in an early stage of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ru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solid ball of cells formed from cleav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astu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hollow ball of cells formed from cleav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astru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a hollow ball of cells with an “in pushing” and 3 layers (germ lay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01600" y="1600200"/>
            <a:ext cx="758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29" descr="1204_fertilization"/>
          <p:cNvPicPr/>
          <p:nvPr/>
        </p:nvPicPr>
        <p:blipFill>
          <a:blip r:embed="rId1"/>
          <a:stretch/>
        </p:blipFill>
        <p:spPr>
          <a:xfrm>
            <a:off x="1219320" y="1523880"/>
            <a:ext cx="6629400" cy="4972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uclei Fuse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zygoteedit"/>
          <p:cNvPicPr/>
          <p:nvPr/>
        </p:nvPicPr>
        <p:blipFill>
          <a:blip r:embed="rId1"/>
          <a:stretch/>
        </p:blipFill>
        <p:spPr>
          <a:xfrm>
            <a:off x="1676520" y="1676520"/>
            <a:ext cx="6933960" cy="485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3560" y="345960"/>
            <a:ext cx="7994880" cy="107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at happens now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the zygote, the study of which is known as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mbryolog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development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biolog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zygote undergoes a series of mitotic cell divisions called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leavag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tages of development are: 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rtilized ovum (zygote)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2-cell stage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4-cell stage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8-cell stage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Morula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Blastula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Early Gastrula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Late Gastru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eavage (divide via mitosis) forms the 2 cell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2cell"/>
          <p:cNvPicPr/>
          <p:nvPr/>
        </p:nvPicPr>
        <p:blipFill>
          <a:blip r:embed="rId1"/>
          <a:stretch/>
        </p:blipFill>
        <p:spPr>
          <a:xfrm>
            <a:off x="1523880" y="1714680"/>
            <a:ext cx="6172200" cy="5143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y split again to form the 4 cell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embryos.jpg (9821 bytes)"/>
          <p:cNvPicPr/>
          <p:nvPr/>
        </p:nvPicPr>
        <p:blipFill>
          <a:blip r:embed="rId1"/>
          <a:stretch/>
        </p:blipFill>
        <p:spPr>
          <a:xfrm>
            <a:off x="1523880" y="1758960"/>
            <a:ext cx="5715000" cy="4540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again to form the 8 cell stag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8cell"/>
          <p:cNvPicPr/>
          <p:nvPr/>
        </p:nvPicPr>
        <p:blipFill>
          <a:blip r:embed="rId1"/>
          <a:stretch/>
        </p:blipFill>
        <p:spPr>
          <a:xfrm>
            <a:off x="1752480" y="19051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7T22:35:07Z</dcterms:created>
  <dc:creator>F. Essig</dc:creator>
  <dc:description/>
  <dc:language>en-US</dc:language>
  <cp:lastModifiedBy>RomaK</cp:lastModifiedBy>
  <cp:lastPrinted>2001-04-20T17:23:54Z</cp:lastPrinted>
  <dcterms:modified xsi:type="dcterms:W3CDTF">2015-09-04T10:41:36Z</dcterms:modified>
  <cp:revision>257</cp:revision>
  <dc:subject/>
  <dc:title>development</dc:title>
</cp:coreProperties>
</file>