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SPKGLISS.WAV" ContentType="audio/x-wav"/>
  <Override PartName="/ppt/media/image9.jpeg" ContentType="image/jpeg"/>
  <Override PartName="/ppt/media/image14.gif" ContentType="image/gif"/>
  <Override PartName="/ppt/media/image13.gif" ContentType="image/gif"/>
  <Override PartName="/ppt/media/image1.gif" ContentType="image/gif"/>
  <Override PartName="/ppt/media/image2.jpeg" ContentType="image/jpeg"/>
  <Override PartName="/ppt/media/image3.gif" ContentType="image/gif"/>
  <Override PartName="/ppt/media/image11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15.gif" ContentType="image/gif"/>
  <Override PartName="/ppt/media/image6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400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P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F60F7A-AFC2-4504-9DC0-C61DB3F536EC}" type="slidenum"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Yolanda Ramos S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ndrea Arias Garc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cinto Universitario Mayagu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estudiantes construyen su propi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icio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scripción de rúbr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tividades de Desarro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tapa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actica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xperiencias con los estudi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 encanta inven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el día mas feliz de mi v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No creí que podía hace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odos nos vimos presntando todos pudimos wa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Actividades de Cier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¡Gracia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 Zitzewitz Paul W., Ph.D. (2004). Física Principios y Problemas. McGraw-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.Gómez de Orengo Nancy.(1997). Descubrimiento Ciencia Integrada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urphy, James, Zitzeruitz, Paul, Max, Hallon, James. (1898).Física: U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ciencia para todos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athjen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Microsoft Corporation. (1993-2003). Enciclopedia Encart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PR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l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ánd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Ciencia y la 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iotecnología Marina y Administración de Empre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ítulo de la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ducción de Peces Comerciales a partir de la identificación de sus larvas mediante Biotecnolog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jetivos de la 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 terminar la lección el estudi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entificarán especies de peces en etapa haciendo us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cuencias de una porción de adn mitocondrial de larvas y adul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mpararan las secuencias para determiar cual larva corresponde al pez adu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efinirán en forma operacional los conceptos dna mitocondrial, pcr, secuen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vivero ideal para la producción en masa de p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un plan o modelo comercial de la venta y producción de peces a gran esc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anejaran presupuesto y realizarán toma de deciciones al formar una nueva e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pararán organizadores gráf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aran anuncios comer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ocesos y Destrez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s procesos y destrezas s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definiciones opera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edi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relaciones de espacio y tiem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ón de mode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di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terpretación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 diversas fuentes de 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ormulacion de pregu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Uso del método cientí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Registro de d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rabajo en gru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cusión socializ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0040" cy="3479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écnicas 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iseñ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516-151C-4EFF-8519-236A251A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7FA-AF3C-4832-B840-5F40776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836-6CED-46C5-9513-7C712A5A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E07-E92C-4D41-952A-097BBC40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1415-0224-4B9C-9C57-81FEA3B3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F9F-CCAD-4E9E-85B4-0BC10495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B92-FFD7-4F38-8C20-C1E47CB8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0D9-909E-4F39-9B8E-19C2295A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84A-1E29-4A75-84D9-F69B98AA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FF1-7FB8-4EDE-A854-B22B3B3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FA32-7D83-4F7D-BF9C-F73C1EB5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1FE-C81C-44A0-A82B-47C67FC9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A1B-7390-4271-B000-64DE72EF5FEB}" type="slidenum">
              <a:rPr b="0" lang="es-P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endshow"/>
          </p:cNvPr>
          <p:cNvSpPr/>
          <p:nvPr/>
        </p:nvSpPr>
        <p:spPr>
          <a:xfrm>
            <a:off x="7467480" y="64771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S" sz="2400" spc="-1" strike="noStrike">
                <a:solidFill>
                  <a:srgbClr val="000000"/>
                </a:solidFill>
                <a:latin typeface="Times New Roman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previousslide"/>
          </p:cNvPr>
          <p:cNvSpPr/>
          <p:nvPr/>
        </p:nvSpPr>
        <p:spPr>
          <a:xfrm>
            <a:off x="5638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10800"/>
                </a:moveTo>
                <a:lnTo>
                  <a:pt x="24293" y="3794"/>
                </a:lnTo>
                <a:lnTo>
                  <a:pt x="24293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0">
            <a:hlinkClick r:id="" action="ppaction://hlinkshowjump?jump=previousslide"/>
          </p:cNvPr>
          <p:cNvSpPr/>
          <p:nvPr/>
        </p:nvSpPr>
        <p:spPr>
          <a:xfrm>
            <a:off x="6248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7493"/>
                </a:moveTo>
                <a:lnTo>
                  <a:pt x="13777" y="7493"/>
                </a:lnTo>
                <a:lnTo>
                  <a:pt x="13777" y="12828"/>
                </a:lnTo>
                <a:cubicBezTo>
                  <a:pt x="13777" y="13751"/>
                  <a:pt x="14578" y="14482"/>
                  <a:pt x="15614" y="14482"/>
                </a:cubicBezTo>
                <a:lnTo>
                  <a:pt x="17276" y="14482"/>
                </a:lnTo>
                <a:cubicBezTo>
                  <a:pt x="18312" y="14482"/>
                  <a:pt x="19112" y="13751"/>
                  <a:pt x="19112" y="12828"/>
                </a:cubicBezTo>
                <a:lnTo>
                  <a:pt x="19112" y="7493"/>
                </a:lnTo>
                <a:lnTo>
                  <a:pt x="17276" y="7493"/>
                </a:lnTo>
                <a:lnTo>
                  <a:pt x="20784" y="3985"/>
                </a:lnTo>
                <a:lnTo>
                  <a:pt x="24456" y="7493"/>
                </a:lnTo>
                <a:lnTo>
                  <a:pt x="22620" y="7493"/>
                </a:lnTo>
                <a:lnTo>
                  <a:pt x="22620" y="12828"/>
                </a:lnTo>
                <a:cubicBezTo>
                  <a:pt x="22620" y="15596"/>
                  <a:pt x="20044" y="18155"/>
                  <a:pt x="17276" y="18155"/>
                </a:cubicBezTo>
                <a:lnTo>
                  <a:pt x="15614" y="18155"/>
                </a:lnTo>
                <a:cubicBezTo>
                  <a:pt x="12846" y="18155"/>
                  <a:pt x="10269" y="15596"/>
                  <a:pt x="10269" y="12828"/>
                </a:cubicBez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SPKGLI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SPKGLIS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SPKGLIS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PKGLI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7"/>
          <p:cNvSpPr/>
          <p:nvPr/>
        </p:nvSpPr>
        <p:spPr>
          <a:xfrm>
            <a:off x="838080" y="36576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Biotecnología Marina y Administración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038480" y="4648320"/>
            <a:ext cx="4494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olanda Ramos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rea Arias Garc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1143000" y="304920"/>
            <a:ext cx="815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rendiendo Biotecnología en Equipo y a través de Investigación y Centros Interdicipl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cinto Universitario Maya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0">
            <a:hlinkClick r:id="" action="ppaction://hlinkshowjump?jump=nextslide"/>
          </p:cNvPr>
          <p:cNvSpPr/>
          <p:nvPr/>
        </p:nvSpPr>
        <p:spPr>
          <a:xfrm>
            <a:off x="6858000" y="6477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59" h="21600">
                <a:moveTo>
                  <a:pt x="36173" y="3794"/>
                </a:moveTo>
                <a:lnTo>
                  <a:pt x="50186" y="10800"/>
                </a:lnTo>
                <a:lnTo>
                  <a:pt x="36173" y="17806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estudiantes construyen su propio cono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200400" y="647712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PR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cio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418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rúb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37" descr="woman_teacher_blackboard_md_wht"/>
          <p:cNvPicPr/>
          <p:nvPr/>
        </p:nvPicPr>
        <p:blipFill>
          <a:blip r:embed="rId1"/>
          <a:stretch/>
        </p:blipFill>
        <p:spPr>
          <a:xfrm>
            <a:off x="5915160" y="3094200"/>
            <a:ext cx="2184120" cy="1823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actic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j0288978"/>
          <p:cNvPicPr/>
          <p:nvPr/>
        </p:nvPicPr>
        <p:blipFill>
          <a:blip r:embed="rId1"/>
          <a:stretch/>
        </p:blipFill>
        <p:spPr>
          <a:xfrm>
            <a:off x="5345280" y="4334040"/>
            <a:ext cx="2643120" cy="1395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756560" y="186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arlie_reading_to_grandson_md_wht"/>
          <p:cNvPicPr/>
          <p:nvPr/>
        </p:nvPicPr>
        <p:blipFill>
          <a:blip r:embed="rId2"/>
          <a:stretch/>
        </p:blipFill>
        <p:spPr>
          <a:xfrm>
            <a:off x="6419880" y="2505240"/>
            <a:ext cx="2014560" cy="1630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3" name="SPKGLI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ias con los estudi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a22430"/>
          <p:cNvPicPr/>
          <p:nvPr/>
        </p:nvPicPr>
        <p:blipFill>
          <a:blip r:embed="rId1"/>
          <a:stretch/>
        </p:blipFill>
        <p:spPr>
          <a:xfrm>
            <a:off x="457200" y="1752480"/>
            <a:ext cx="2971800" cy="1974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arfield gang"/>
          <p:cNvPicPr/>
          <p:nvPr/>
        </p:nvPicPr>
        <p:blipFill>
          <a:blip r:embed="rId2"/>
          <a:stretch/>
        </p:blipFill>
        <p:spPr>
          <a:xfrm>
            <a:off x="3505320" y="22096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00111716-002"/>
          <p:cNvPicPr/>
          <p:nvPr/>
        </p:nvPicPr>
        <p:blipFill>
          <a:blip r:embed="rId3"/>
          <a:stretch/>
        </p:blipFill>
        <p:spPr>
          <a:xfrm>
            <a:off x="6400800" y="3505320"/>
            <a:ext cx="2120760" cy="2158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533520" y="3962520"/>
            <a:ext cx="487656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 encanta inv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 el día mas feliz de mi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 creí que podí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dos nos vimos presntando todos pudimos wa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4" name="SPKGLIS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200135310-004"/>
          <p:cNvPicPr/>
          <p:nvPr/>
        </p:nvPicPr>
        <p:blipFill>
          <a:blip r:embed="rId1"/>
          <a:stretch/>
        </p:blipFill>
        <p:spPr>
          <a:xfrm>
            <a:off x="2514600" y="1447920"/>
            <a:ext cx="2558880" cy="2590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dades de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j0278804"/>
          <p:cNvPicPr/>
          <p:nvPr/>
        </p:nvPicPr>
        <p:blipFill>
          <a:blip r:embed="rId1"/>
          <a:stretch/>
        </p:blipFill>
        <p:spPr>
          <a:xfrm>
            <a:off x="6670800" y="3863880"/>
            <a:ext cx="1211040" cy="16146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4">
            <a:hlinkClick r:id="" action="ppaction://hlinkshowjump?jump=nextslide"/>
          </p:cNvPr>
          <p:cNvSpPr/>
          <p:nvPr/>
        </p:nvSpPr>
        <p:spPr>
          <a:xfrm>
            <a:off x="685800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613560" y="1335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graduation boy"/>
          <p:cNvPicPr/>
          <p:nvPr/>
        </p:nvPicPr>
        <p:blipFill>
          <a:blip r:embed="rId2"/>
          <a:stretch/>
        </p:blipFill>
        <p:spPr>
          <a:xfrm>
            <a:off x="7162920" y="228600"/>
            <a:ext cx="1704960" cy="1704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bkmchinese001-FFCC00"/>
          <p:cNvPicPr/>
          <p:nvPr/>
        </p:nvPicPr>
        <p:blipFill>
          <a:blip r:embed="rId3"/>
          <a:stretch/>
        </p:blipFill>
        <p:spPr>
          <a:xfrm>
            <a:off x="4952880" y="4648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4" name="SPKGLIS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Subway"/>
              </a:rPr>
              <a:t>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ag00052_"/>
          <p:cNvPicPr/>
          <p:nvPr/>
        </p:nvPicPr>
        <p:blipFill>
          <a:blip r:embed="rId1"/>
          <a:stretch/>
        </p:blipFill>
        <p:spPr>
          <a:xfrm>
            <a:off x="2438280" y="1752480"/>
            <a:ext cx="5105520" cy="3372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3807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. Zitzewitz Paul W., Ph.D. (2004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ísica Principios y Problema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ramericana.México.Pág.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Gómez de Orengo Nancy.(1997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Descubrimiento Ciencia Integrada 8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Ediciones Santillana, Inc. Puerto Rico. Pág. 531-53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urphy, James, Zitzeruitz, Paul, Max, Hallon, James.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(1898).Física: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U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ciencia para todo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Ohio: Merill Publishing Co. Pág. 367-3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PR" sz="1200" spc="-1" strike="noStrike">
                <a:solidFill>
                  <a:srgbClr val="000000"/>
                </a:solidFill>
                <a:latin typeface="Arial"/>
                <a:ea typeface="MS PGothic"/>
              </a:rPr>
              <a:t>Rathj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Don, Doherty, and the Exploration Teasher Institute. (200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queare Wheels And Other Easy-build Hends-On Sinc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an Francisco, Co. explorations. Pág.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Microsoft Corporation. (1993-2003). </a:t>
            </a: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Enciclopedia Encarta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MS P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pullcart_library_book_open_md_wht"/>
          <p:cNvPicPr/>
          <p:nvPr/>
        </p:nvPicPr>
        <p:blipFill>
          <a:blip r:embed="rId1"/>
          <a:stretch/>
        </p:blipFill>
        <p:spPr>
          <a:xfrm>
            <a:off x="5830920" y="3486240"/>
            <a:ext cx="2519280" cy="2262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our_butterfly_hg"/>
          <p:cNvPicPr/>
          <p:nvPr/>
        </p:nvPicPr>
        <p:blipFill>
          <a:blip r:embed="rId1"/>
          <a:stretch/>
        </p:blipFill>
        <p:spPr>
          <a:xfrm>
            <a:off x="2824200" y="2293920"/>
            <a:ext cx="3495600" cy="31384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2" name="SPKGLI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000000"/>
                </a:solidFill>
                <a:latin typeface="Arial"/>
              </a:rPr>
              <a:t>La Ciencia y la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Biotecnología Marina y Administración de Empr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e la 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Producción de Peces Comerciales a partir de la identificación de sus larvas mediante Bio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0176891"/>
          <p:cNvPicPr/>
          <p:nvPr/>
        </p:nvPicPr>
        <p:blipFill>
          <a:blip r:embed="rId1"/>
          <a:stretch/>
        </p:blipFill>
        <p:spPr>
          <a:xfrm>
            <a:off x="6324480" y="1752480"/>
            <a:ext cx="2316240" cy="3517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de la l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979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terminar la lección el estu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rán especies de peces en etapa haciendo us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encias de una porción de adn mitocondrial de larvas y adul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ran las secuencias para determiar cual larva corresponde al pez adu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rán en forma operacional los conceptos dna mitocondrial, pcr, secue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vivero ideal para la producción en masa de pe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un plan o modelo comercial de la venta y producción de peces a gran esc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ejaran presupuesto y realizarán toma de deciciones al formar una nuev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arán organizadores gráf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aran anuncios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afficcop_goleft_hw"/>
          <p:cNvPicPr/>
          <p:nvPr/>
        </p:nvPicPr>
        <p:blipFill>
          <a:blip r:embed="rId1"/>
          <a:stretch/>
        </p:blipFill>
        <p:spPr>
          <a:xfrm>
            <a:off x="457200" y="5791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  <p:sndAc>
      <p:stSnd>
        <p:snd r:embed="rId2" name="SPKGLI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s y Destr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Los procesos y destreza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definiciones oper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Clasif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Uso de relaciones de espacio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Formulación de mode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Predi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800" spc="-1" strike="noStrike">
                <a:solidFill>
                  <a:srgbClr val="ff0000"/>
                </a:solidFill>
                <a:latin typeface="Arial"/>
              </a:rPr>
              <a:t>Interpretación d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 diversas fuentes de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cion de pregu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o del método 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en gru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ión sociali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de enseñ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Dise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3200" spc="-1" strike="noStrike">
                <a:solidFill>
                  <a:srgbClr val="000000"/>
                </a:solidFill>
                <a:latin typeface="Arial"/>
              </a:rPr>
              <a:t>jue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>
            <a:hlinkClick r:id="" action="ppaction://hlinkshowjump?jump=nextslide"/>
          </p:cNvPr>
          <p:cNvSpPr/>
          <p:nvPr/>
        </p:nvSpPr>
        <p:spPr>
          <a:xfrm>
            <a:off x="678168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00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  <p:sndAc>
      <p:stSnd>
        <p:snd r:embed="rId1" name="SPKGLI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2:40:53Z</dcterms:created>
  <dc:creator>Yolanda Ramos, Elba Sepulveda y Rosa Olivencia</dc:creator>
  <dc:description/>
  <dc:language>en-US</dc:language>
  <cp:lastModifiedBy>RomaK</cp:lastModifiedBy>
  <dcterms:modified xsi:type="dcterms:W3CDTF">2015-09-04T10:41:28Z</dcterms:modified>
  <cp:revision>64</cp:revision>
  <dc:subject>Actividad de Logros</dc:subject>
  <dc:title>PlanesAlACiM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5 febrero de 2005</vt:lpwstr>
  </property>
  <property fmtid="{D5CDD505-2E9C-101B-9397-08002B2CF9AE}" pid="3" name="Project">
    <vt:lpwstr>Plantilla de planes AlACiMa</vt:lpwstr>
  </property>
</Properties>
</file>