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C45D8-8019-4BE0-A9B3-3FCB0FB489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How do changes in the environment affect organisms?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changes in the environment affect organism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ilderbeast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ilderbeast migrate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They travel hundreds of miles every winter looking for grass to eat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Grass will only grow where it rains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derb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derbeast mig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travel hundreds of miles every winter looking for grass to e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ss will only grow where it r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ome insects spend winter in protective cases called pupua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This butterfly is emerging from a pupa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insects spend winter in protective cases called pupu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butterfly is emerging from a pup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ome plants store their food for winter underground in their roots and stems. 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lants store their food for winter underground in their roots and ste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quirrels store foods like nuts in the autumn to eat during the winter when there is not much food around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irrels store foods like nuts in the autumn to eat during the winter when there is not much food a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ome animals like tortoises, hedgehogs and bears, cannot store food to keep them warm. Instead they go to sleep in a warm sheltered place, such as undera pile of old leaves or inside an old tree trunk. This is called hibernation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animals like tortoises, hedgehogs and bears, cannot store food to keep them warm. Instead they go to sleep in a warm sheltered place, such as undera pile of old leaves or inside an old tree trunk. This is called hibern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Living things are adapted to daily changes in their habitat……………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are adapted to daily changes in their habitat…………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Daily changes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Flowers open and close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ily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ers open and c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Daily changes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ea anemones pull in their tentacles when the tide goes out to stop them drying out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ily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 anemones pull in their tentacles when the tide goes out to stop them drying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Living things are adapted to seasonal changes in their habitat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are adapted to seasonal changes in their 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easonal changes in a garden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A garden in 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the summer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sonal changes in a gar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arden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m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A woodland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A woodland 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in sprin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ood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oodl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Arial"/>
              </a:rPr>
              <a:t>The Arctic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c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Arial"/>
              </a:rPr>
              <a:t>The Seashore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ash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C595-D51C-4432-B0DD-84F3F0395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CAA8-8D1F-420E-94BA-878699727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C27A-6FF4-4E39-AEA9-494B78439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22F3-5E21-476C-9B3D-76C23B2F4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2A25D-7F2F-4602-ACCD-B8E26837D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C6333-62EC-40C5-983B-F802D3B53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FDD20-F0DD-40F9-AE16-2FAD9BE94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6D456-9E01-469E-B9D4-5D5DC6102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95048-D993-467B-B350-CD1DE31B7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E0DE0-7565-4058-9E14-098823C25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DE720-DEA4-4675-AC04-0724EA460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F1F3-E374-4E37-80AC-17337752A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F8D51-64E4-46A6-BDEF-EDD9A7337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ECF50-AFA7-4299-A917-0C3731FF7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D23F8-6D2B-423B-83DF-320BB5F52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9BD71-18AA-49D8-9A98-F5273E543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A7DAB-5DFD-4195-B081-79812A317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9631-095E-4BE8-ACBC-99081C2EB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F985-3772-4E62-943A-2BCA756F6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38A7-9F12-4BB5-BAD9-9482640E7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E374-BD57-4265-B268-82DC70BAA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92B0-B374-475F-9F90-009214B55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BC4D-A201-4C74-8CB9-1ACE86613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3562-237C-46A1-BFB6-0C961C3E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d7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07542-29CA-4286-B8AE-F6FCA93E922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1ddd4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808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d7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1ddd4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808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02DCB-4826-4B1D-833A-B12C6F643EE0}" type="slidenum"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100" spc="-1" strike="noStrike">
                <a:solidFill>
                  <a:srgbClr val="d1ddd4"/>
                </a:solidFill>
                <a:latin typeface="Comic Sans MS"/>
              </a:rPr>
              <a:t>How do changes in the environment affect organisms?</a:t>
            </a:r>
            <a:endParaRPr b="0" lang="en-US" sz="5100" spc="-1" strike="noStrike">
              <a:solidFill>
                <a:srgbClr val="d1ddd4"/>
              </a:solidFill>
              <a:latin typeface="Arial"/>
            </a:endParaRPr>
          </a:p>
        </p:txBody>
      </p:sp>
      <p:pic>
        <p:nvPicPr>
          <p:cNvPr id="122" name="Picture 6" descr="j0299587"/>
          <p:cNvPicPr/>
          <p:nvPr/>
        </p:nvPicPr>
        <p:blipFill>
          <a:blip r:embed="rId1"/>
          <a:stretch/>
        </p:blipFill>
        <p:spPr>
          <a:xfrm>
            <a:off x="3693960" y="3733920"/>
            <a:ext cx="17560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Comic Sans MS"/>
              </a:rPr>
              <a:t>Wilderbeast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341964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Wilderbeast </a:t>
            </a:r>
            <a:r>
              <a:rPr b="0" lang="en-GB" sz="3200" spc="-1" strike="noStrike" u="sng">
                <a:solidFill>
                  <a:srgbClr val="cc0000"/>
                </a:solidFill>
                <a:uFillTx/>
                <a:latin typeface="Comic Sans MS"/>
              </a:rPr>
              <a:t>migrate.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They travel hundreds of miles every winter looking for grass to eat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Grass will only grow where it rains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50" name="Picture 4" descr="mso8EF63"/>
          <p:cNvPicPr/>
          <p:nvPr/>
        </p:nvPicPr>
        <p:blipFill>
          <a:blip r:embed="rId1"/>
          <a:stretch/>
        </p:blipFill>
        <p:spPr>
          <a:xfrm>
            <a:off x="3492360" y="1341360"/>
            <a:ext cx="525636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403848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Some insects spend winter in protective cases called pupua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This butterfly is emerging from a pupa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54" name="Picture 4" descr="mso9F5D1"/>
          <p:cNvPicPr/>
          <p:nvPr/>
        </p:nvPicPr>
        <p:blipFill>
          <a:blip r:embed="rId1"/>
          <a:stretch/>
        </p:blipFill>
        <p:spPr>
          <a:xfrm>
            <a:off x="0" y="1341360"/>
            <a:ext cx="4859280" cy="47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280" y="552600"/>
            <a:ext cx="793116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1ddd4"/>
                </a:solidFill>
                <a:latin typeface="Comic Sans MS"/>
              </a:rPr>
              <a:t>Some plants store their food for winter underground in their roots and stems.</a:t>
            </a:r>
            <a:r>
              <a:rPr b="0" lang="en-GB" sz="4000" spc="-1" strike="noStrike">
                <a:solidFill>
                  <a:srgbClr val="d1ddd4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57" name="Picture 4" descr="msoC90F"/>
          <p:cNvPicPr/>
          <p:nvPr/>
        </p:nvPicPr>
        <p:blipFill>
          <a:blip r:embed="rId1"/>
          <a:stretch/>
        </p:blipFill>
        <p:spPr>
          <a:xfrm>
            <a:off x="1042920" y="1773360"/>
            <a:ext cx="6913800" cy="48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Squirrels store foods like nuts in the autumn to eat during the winter when there is not much food around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61" name="Picture 4" descr="mso3389D"/>
          <p:cNvPicPr/>
          <p:nvPr/>
        </p:nvPicPr>
        <p:blipFill>
          <a:blip r:embed="rId1"/>
          <a:stretch/>
        </p:blipFill>
        <p:spPr>
          <a:xfrm>
            <a:off x="324000" y="981000"/>
            <a:ext cx="46638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d1ddd4"/>
                </a:solidFill>
                <a:latin typeface="Comic Sans MS"/>
              </a:rPr>
              <a:t>Some animals like tortoises, hedgehogs and bears, cannot store food to keep them warm. Instead they go to sleep in a warm sheltered place, such as undera pile of old leaves or inside an old tree trunk. This is called </a:t>
            </a:r>
            <a:r>
              <a:rPr b="0" lang="en-GB" sz="2000" spc="-1" strike="noStrike">
                <a:solidFill>
                  <a:srgbClr val="cc0000"/>
                </a:solidFill>
                <a:latin typeface="Comic Sans MS"/>
              </a:rPr>
              <a:t>hibernation.</a:t>
            </a:r>
            <a:endParaRPr b="0" lang="en-US" sz="2000" spc="-1" strike="noStrike">
              <a:solidFill>
                <a:srgbClr val="d1ddd4"/>
              </a:solidFill>
              <a:latin typeface="Arial"/>
            </a:endParaRPr>
          </a:p>
        </p:txBody>
      </p:sp>
      <p:pic>
        <p:nvPicPr>
          <p:cNvPr id="163" name="Picture 4" descr="mso627FB"/>
          <p:cNvPicPr/>
          <p:nvPr/>
        </p:nvPicPr>
        <p:blipFill>
          <a:blip r:embed="rId1"/>
          <a:stretch/>
        </p:blipFill>
        <p:spPr>
          <a:xfrm>
            <a:off x="496800" y="1628640"/>
            <a:ext cx="3697200" cy="4608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mso66EA9"/>
          <p:cNvPicPr/>
          <p:nvPr/>
        </p:nvPicPr>
        <p:blipFill>
          <a:blip r:embed="rId2"/>
          <a:stretch/>
        </p:blipFill>
        <p:spPr>
          <a:xfrm>
            <a:off x="4400640" y="1557360"/>
            <a:ext cx="37162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100" spc="-1" strike="noStrike">
                <a:solidFill>
                  <a:srgbClr val="d1ddd4"/>
                </a:solidFill>
                <a:latin typeface="Arial"/>
              </a:rPr>
              <a:t>Living things are adapted to daily changes in their habitat…………….</a:t>
            </a:r>
            <a:endParaRPr b="0" lang="en-US" sz="51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Daily changes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8f8f8"/>
                </a:solidFill>
                <a:latin typeface="Verdana"/>
              </a:rPr>
              <a:t>Flowers open and close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27" name="Picture 4" descr="msoEB827"/>
          <p:cNvPicPr/>
          <p:nvPr/>
        </p:nvPicPr>
        <p:blipFill>
          <a:blip r:embed="rId1"/>
          <a:stretch/>
        </p:blipFill>
        <p:spPr>
          <a:xfrm>
            <a:off x="539640" y="1341360"/>
            <a:ext cx="820908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Daily changes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8f8f8"/>
                </a:solidFill>
                <a:latin typeface="Verdana"/>
              </a:rPr>
              <a:t>Sea anemones pull in their tentacles when the tide goes out to stop them drying out.</a:t>
            </a: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30" name="Picture 4" descr="mso263F5"/>
          <p:cNvPicPr/>
          <p:nvPr/>
        </p:nvPicPr>
        <p:blipFill>
          <a:blip r:embed="rId1"/>
          <a:stretch/>
        </p:blipFill>
        <p:spPr>
          <a:xfrm rot="21466200">
            <a:off x="971640" y="1268280"/>
            <a:ext cx="7200720" cy="36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55640" y="206064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100" spc="-1" strike="noStrike">
                <a:solidFill>
                  <a:srgbClr val="d1ddd4"/>
                </a:solidFill>
                <a:latin typeface="Comic Sans MS"/>
              </a:rPr>
              <a:t>Living things are adapted to seasonal changes in their habitat</a:t>
            </a:r>
            <a:endParaRPr b="0" lang="en-US" sz="51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Seasonal changes in a garden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Verdana"/>
              </a:rPr>
              <a:t>A garden in 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Verdana"/>
              </a:rPr>
              <a:t>the summer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35" name="Picture 4" descr="mso9AC54"/>
          <p:cNvPicPr/>
          <p:nvPr/>
        </p:nvPicPr>
        <p:blipFill>
          <a:blip r:embed="rId1"/>
          <a:stretch/>
        </p:blipFill>
        <p:spPr>
          <a:xfrm>
            <a:off x="250920" y="1773360"/>
            <a:ext cx="4427280" cy="4427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mso2D81E"/>
          <p:cNvPicPr/>
          <p:nvPr/>
        </p:nvPicPr>
        <p:blipFill>
          <a:blip r:embed="rId2"/>
          <a:stretch/>
        </p:blipFill>
        <p:spPr>
          <a:xfrm>
            <a:off x="4716360" y="1700280"/>
            <a:ext cx="4284720" cy="42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A woodland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Verdana"/>
              </a:rPr>
              <a:t>A woodland 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Verdana"/>
              </a:rPr>
              <a:t>in spring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39" name="Picture 4" descr="msoAA8ED"/>
          <p:cNvPicPr/>
          <p:nvPr/>
        </p:nvPicPr>
        <p:blipFill>
          <a:blip r:embed="rId1"/>
          <a:stretch/>
        </p:blipFill>
        <p:spPr>
          <a:xfrm>
            <a:off x="395280" y="1700280"/>
            <a:ext cx="4194360" cy="4392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msoC89DF"/>
          <p:cNvPicPr/>
          <p:nvPr/>
        </p:nvPicPr>
        <p:blipFill>
          <a:blip r:embed="rId2"/>
          <a:stretch/>
        </p:blipFill>
        <p:spPr>
          <a:xfrm>
            <a:off x="4716360" y="1687680"/>
            <a:ext cx="4176720" cy="43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The Arctic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pic>
        <p:nvPicPr>
          <p:cNvPr id="142" name="Picture 4" descr="mso259F9"/>
          <p:cNvPicPr/>
          <p:nvPr/>
        </p:nvPicPr>
        <p:blipFill>
          <a:blip r:embed="rId1"/>
          <a:stretch/>
        </p:blipFill>
        <p:spPr>
          <a:xfrm>
            <a:off x="4788000" y="1557360"/>
            <a:ext cx="4106880" cy="4392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msoD5BCB"/>
          <p:cNvPicPr/>
          <p:nvPr/>
        </p:nvPicPr>
        <p:blipFill>
          <a:blip r:embed="rId2"/>
          <a:stretch/>
        </p:blipFill>
        <p:spPr>
          <a:xfrm>
            <a:off x="468360" y="1630440"/>
            <a:ext cx="417672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The Seashore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pic>
        <p:nvPicPr>
          <p:cNvPr id="145" name="Picture 4" descr="mso31A45"/>
          <p:cNvPicPr/>
          <p:nvPr/>
        </p:nvPicPr>
        <p:blipFill>
          <a:blip r:embed="rId1"/>
          <a:stretch/>
        </p:blipFill>
        <p:spPr>
          <a:xfrm>
            <a:off x="250920" y="1557360"/>
            <a:ext cx="4392360" cy="4392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mso22EF7"/>
          <p:cNvPicPr/>
          <p:nvPr/>
        </p:nvPicPr>
        <p:blipFill>
          <a:blip r:embed="rId2"/>
          <a:stretch/>
        </p:blipFill>
        <p:spPr>
          <a:xfrm>
            <a:off x="4716360" y="1557360"/>
            <a:ext cx="41958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3T20:31:09Z</dcterms:created>
  <dc:creator>Bella Griffiths</dc:creator>
  <dc:description/>
  <dc:language>en-US</dc:language>
  <cp:lastModifiedBy>RomaK</cp:lastModifiedBy>
  <dcterms:modified xsi:type="dcterms:W3CDTF">2015-09-04T10:41:22Z</dcterms:modified>
  <cp:revision>46</cp:revision>
  <dc:subject/>
  <dc:title>Slide 1</dc:title>
</cp:coreProperties>
</file>