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3F49-59CA-46BF-9993-B98DFFAFD8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EBD-FF41-46A6-9D71-C4B5424C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531-E9BB-49D9-8405-C5192F56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C2F-093F-47AE-8381-DA163030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1CA-C0A2-4628-9F9F-F71C0CB5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7DCC-F6D5-49EF-8757-5958B793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572E-B364-4BA2-B5FB-AB295CEE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EAAB-0B8A-4D4B-AB79-F373CADA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F893-A8C4-48F8-92B1-4C66BD25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8FD1-FAE0-4394-A1E7-8DADDDD6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338C-B212-4ACF-9796-0FBEA171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2567-5F54-46EE-BA2F-20D21808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767-70D6-4910-AAFB-2A7F784C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9205-47CA-421C-9E7E-52A7C56C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E0BA-FB4D-4C79-BED3-71D20DD0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146F-5C4D-4B91-95DD-AF4778EA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780F-A2AB-4364-983B-89B582AB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9FC5-ECFF-4977-96DB-A4D60C95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DB2-281A-46B8-A8AC-0E9DB3BB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EFE-A84A-4AF4-8D3A-0BD2EA3C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2C1-3A53-46A2-885A-5C39D210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A5F-477A-46EC-8DD4-E98A47AA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DE30-2176-44A5-9C9D-BDC5E99F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19E9-5452-400F-A6FF-82BD134C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348-BACE-4F62-AE12-371F977A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AF63-C44C-4DC0-8300-BC3B77E101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3407-B929-4C94-908D-59042828D2FE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0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7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1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63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7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0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5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9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2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5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RomaK</cp:lastModifiedBy>
  <dcterms:modified xsi:type="dcterms:W3CDTF">2015-09-04T10:41:22Z</dcterms:modified>
  <cp:revision>46</cp:revision>
  <dc:subject/>
  <dc:title>Slide 1</dc:title>
</cp:coreProperties>
</file>