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6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F8656-B95D-480B-942A-E79C114A80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aracteristics of Living Thing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racteristics of Living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Things are made of units called ce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are made of units call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Things reprodu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xual reproduction- cells from 2 different parents unite to form the first cell of  the new organis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exual reproduction- new organism is formed from a single par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reprod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- cells from 2 different parents unite to form the first cell of  the new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- new organism is formed from a single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things are based on a universal genetic co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are based on a universal genetic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things grow and develo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grow and devel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things obtain and use materials and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obtain and use materials and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things respond to their environ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ternal stimuli – Come from outside the organis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rnal stimuli – Come from inside the organis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respond to their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rnal stimuli – Come from outside the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stimuli – Come from inside the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things maintain a stable internal environ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maintain a stable internal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en as a group, living things change over tim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n as a group, living things change over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BEA7-B879-42FB-905B-9E806F8D9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96FE-EF94-4ED4-A392-112549153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06C91D0-DE33-4CAE-AB3F-13BDD566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57ABFB-903D-4048-97AA-8539316BD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BB7158-A6E7-4920-A284-113FC3BC9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780608-71C8-4406-BA0D-7D93C643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33B919-4BAA-447F-A2CA-85E8F5DE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2027BC-BF11-48EF-943C-66B1D990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E08CD3-C912-4710-9A6B-0A4A5BA35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298675-6F01-451D-8D3F-96D5A75D5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4D0F40-18C4-4F4A-94A8-BF97617BE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42A837-8AE6-4919-A5BA-2D08920DC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6B90-BC01-43AC-8E2E-F2180C4B8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F4898F-F8E2-4D3A-80D0-27B72A1EB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853620-4AE1-4316-AED8-0C0DD7701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0347F1-4D5D-4323-AC55-70C5F1C43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684641-9F1E-4B17-8D5A-4C7EEEB61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DF2CDA-CC47-4A8F-8C0A-758AB1284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571B5F-C874-436D-BF9D-A745F44D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32DCB0-11D2-4296-B4CC-7769F351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934331-7216-45DB-9000-328C03E6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273AEF-CEE7-4DC0-A966-A276B5E39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698D24-C79E-4B11-8FDB-92CE8F696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8B40-BF3D-4087-8AC5-C02635740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CE9499-3F56-4909-900F-FEEE7716E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C4B644-FE53-4638-BEA7-2B712558F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8BB2EB-55C4-4D05-B87A-9504DAEF4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1E086B-790F-46F9-ADD0-D0264554A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FEF420-81E7-4CF8-8C12-503A38B6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B996EE-90CD-47BA-88A7-166540CBA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42233A-9AF6-4F3C-B5F0-B7F34134B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AB73C5-06B5-4726-B05D-0D69B400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004356-CB98-4FB8-81A2-AD322DF1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D2B8F6-7ADC-4771-8C42-D6800A7B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F1D54-C264-4C6E-9A01-B887D91E3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E7A2EE-F323-4CA2-B151-7B5E59FC6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E5DEBC-DD41-412C-80DD-300F59E18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754410-3869-4FA6-984B-E93B7A3C6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A0320B-0ABE-44D3-80C6-FF9FAE93A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2DE0B3-42BF-4C2B-8FF5-BB17CC470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68119B-4565-4801-AD74-43642C8AD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76704C-2040-4801-A56A-3630CCA85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5A50B4-73EA-41EB-B6CC-47B1CEC1F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7E062E-E342-4AAB-8D2C-95A734C11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11A622-D6A5-48AD-82EA-F7808048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A693D-1D53-4A55-9855-93D0F5AEA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F7B8D1-9453-44F7-9B3A-FAFF18FB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955754-E108-4D71-9A69-5C541673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C5C8FB-BB09-422B-8CCC-99ED6F9E1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34AE03-9BDD-43F6-A92D-E007545DD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7D3D9A-F242-4A2C-9F53-AD1D40280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408F9C-8145-4547-924A-861656A69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240B08-63D7-48F5-807A-4A42D4FD0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BB79B8-AE8B-4784-B186-B96DE1939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8B9879-C4FE-4293-958F-19051E24C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E9A820-2D98-429F-914D-3DB88C086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05B0C-FE1A-4D74-ABD2-F0292EEDF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F88B8B-659D-4060-BF16-27C66DFE5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9C4DE8-23C1-4842-B34D-3669C4D9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CFDAEB-3715-4834-8F29-66F95253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639D5D-F96C-4E7A-A1E0-A91F5B81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10B324-D65D-43A8-9165-3809EAABC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D0946A-C364-4816-8F58-015DE64BD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E9D0D8-4694-4A52-BAEF-C1EC8EFAB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BD875B-14DA-4B19-8BC4-CFA9DB6CF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6732F9-7F3E-4DDF-84FE-75FB3EA34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1385DB-6239-4FAE-9B56-E6682608D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E4DA8-5F88-4014-A772-E877D01B2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18EEF2-8044-47FF-A5DF-F4110078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A082B9-F715-48E7-B38F-B33989926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73B496-F21C-4CE4-BB2E-16B7015BB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A9B2D8-BB52-4699-A1A0-C9A63634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D8B9A7-E907-4D4E-A6C0-23FA0D01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945293-E668-4D13-9182-142D9795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7DBA38-7710-4967-BDC5-7622BB3B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494913-77F1-499F-A7B5-99BBB0D4A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6F44B6-9055-4F81-9E73-A5E1C12E8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1F44EA-C778-4D35-8FC6-2E47DBFB9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864CF-8A8E-40E8-95D4-41349F6CC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7AB6D5-CA84-4801-975E-15151D745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2C0F8F-215A-459B-A194-F96EE7A01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B887C7-9FC4-47BA-AE20-5A67EC99C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B931A5-2229-492D-9627-A84C3C147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6A0ADF-9419-447A-AD48-4B323CE7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E9FC19-E062-47ED-8232-EDC49124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E98F7B-1525-425D-BD0F-D62BE3DE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70193D-7AAF-4025-8B65-03C8C84A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1276A8-C9E0-405E-8D4F-00A91205D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263D73-AEFF-4DC3-BAD9-9D69207CB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680BE-8EF5-4E04-B071-F3852A7B4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1097B4-43D7-48EA-9327-E547F4D18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857D2DB-3594-4F19-8A53-C31E8A4C6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0EF5D11-D1E1-45E2-8252-FC0C6CC91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CEE5D97-716A-4D7D-A97E-EE42E1361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7815900-7AAD-420E-847B-F84A41EA9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67208DA-FA31-404A-9C6B-7FFDABC2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48D1485-8269-4C66-9B25-2B2172DCA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B122B8F-BD53-4997-8AA5-106B4DA7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1C012F9-2DF4-40A3-9EA6-981DC324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51E6724-253A-45F9-B08B-DAB7B00E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35AE9-F928-4B27-88E8-C2CA5042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FEA6F17-CADB-48EC-B62B-6C70BB21E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6413832-291E-401F-B22C-CB1DE4491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F53A39E-1958-4F03-9467-C87FDBB82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8BBD5E-526C-4585-A49F-269CBAE37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AB3092-D1F3-4D09-B33F-BEB5AC694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01683A-98C5-4961-B8C7-8C711E846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1EA97D-4214-461B-AFA4-0A8701615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B7A780-17EB-41B1-9F1F-F0089A8BF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416109-ADC9-4894-8E28-6C6ED5840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4D0B4C-2180-4451-B5DC-DF5201EE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FFDD-D665-43D8-9DE9-A9BFA556F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09D5F-5051-4246-B635-78675FEF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A49E98-AAFD-412D-B7FC-E39B20E9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65CB8E-B7F7-4279-8AE8-D8A2FF70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E15E5D-10BF-473C-90D6-65E3309AB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FE7EDB-D7F0-4339-8AF1-3717C4CBF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B1BE5C-E0DB-4CC0-AEB9-67CE14D51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96CE4-1BA5-4730-A99E-5F94E734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0E5F4-600C-4AEE-9747-BB64C4707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43FB5-9BB5-49F6-8FC8-7FA55BB1D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53DB4-AA5A-4B9F-99A4-09BD64F76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2A8FF-EFEE-41B9-8472-000EF823C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BF496-F18F-4916-91D8-0D667CD2E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A9411-6A03-4658-8F8C-6DE2D84D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4546C-3FBF-488A-8F0E-DFEAD54FF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14002-082B-47B7-B7D8-8AA71F2DC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2E7B-96B9-426D-93FE-0714FAAC3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360F4-98D1-4523-A9FA-1D05C827D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01D92-2AB1-45B3-8706-E4A56490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6D1FD-F0B4-48C8-A378-8FC9C605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D3B6F-33E3-45CD-9FC5-5FE92640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30E30-AF92-4FB0-96D1-0DDC31F2C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71B00-38AF-46F2-9C51-AC3F18369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52D9C-8FCB-4025-9914-270C6E766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C8588-13C7-4451-B0F9-9602E4AD7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BD844-9D83-4F42-B125-FDFEC96C2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E5C93-2981-4C94-844B-D80EDD0E1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FD1F-B82A-45F7-8F1B-CC05E31ED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8D9BB-0805-47F7-8346-B2A6E4BE6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31B49-6837-4D11-BE9A-1FCD51F8C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096CB-218A-4853-AE6A-90BAD6A27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7C451-45C0-4FA6-A133-5E26BB0F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1A494-43A9-495B-904B-5EE1AAB7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59506-C49F-4F51-A50B-52CB91B6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5CAA3-6E28-4DFB-BCF9-C1F0CA093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D3643-0AA4-410D-9DE6-37FA3E973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5105F-99E1-4248-A2DE-3F704B337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C0D56-9932-42CA-B4B9-3D01D6113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9E69-99ED-4F47-BE48-42FEC4D98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9E4F8-736D-4CA4-9E74-6EB35A7FF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97EDB-6F70-4D58-B9FF-CB177717C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05BAA-9A4F-4EF5-A0AF-8698C0C35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6C0F7-19A9-40D0-87A1-E22C24A7D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B9EB1-E525-4901-A9B1-2DD49223B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F3184-3D98-4431-8265-5E8ECE74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A87A9-0BC8-4D72-B726-C2B8ADAF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67AE4-9A0C-4331-9B22-17F9489AB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2B4EA-A67D-47A0-A428-964AF6017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B26F7-2F1F-4328-9A7F-7B0616AC4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1344-AFD2-4815-9D69-4E306D41D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30A6A-5196-4DAF-8967-9C7465950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CBBE3-10CD-45CB-B8AA-3A21F69D5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FCD45-67DD-4A8D-B02B-B52F0E393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9C16F-82AB-4CD6-B484-DF05310BE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FA259-EC60-4FDA-8B0E-1BE8F8489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E769A-F585-4DB4-AA15-77D5DE8D8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0314B-C434-4FB2-8CA4-F4C02D46B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E361E-1784-4683-989C-04D1E2F8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680FCC-CA55-4A9B-960A-2D277859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65F71-2583-46F3-9FD0-28F58D2A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BDBF-C82C-4A41-BFE8-1C25EBB3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E47FD-FC69-4A88-A4F1-38252DECB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3D95A-6861-41A8-973B-F675005E2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7A3D8-27EC-41AC-98CD-44344A74E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0BD1E7-E2A7-4D5F-A4D1-F0CDB44C9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DB4C5B-C6CD-4F27-8124-A81353758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C751F-3747-4859-A6A6-494269032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5E729-6A50-43B1-BDF0-B58080354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76985-9F83-4526-A167-8D6B6F237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73F563-5CE0-4E71-B87B-5279543F2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4D20FB-DF7F-4C25-870C-577C73F4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7A10-D28C-462F-8571-96750CC0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CBC562-61D0-4893-9054-830D75D4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1D9D5-F8D7-4C4C-A9BF-F1179B47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E93D6-DFBA-46D9-819F-6765718C9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B5D82-6425-43B9-AB33-8B2058B02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854A95-67AE-4178-88DC-0A7A31B45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342C12-E3BF-441E-AA4E-7382F694F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8BBA88-BAD0-4ACD-9392-2DA601532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E3C267-D7F8-41E6-ADCE-9FA3AF643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DE08FF-ED23-4744-86D9-71F031346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4F0675-F112-40B6-B930-94105FD69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A665-2835-49EC-A159-DFE12FDF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A623F1-1AE6-4740-985B-F00AD4587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7545F6-EC0A-4C53-8995-4BCF6183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128CB2-A045-4427-8170-351BFD2B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BD8812-7BC1-4996-AC44-4E6515B7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95F614-5158-45E4-902F-34FEA142F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3874B3-21F4-4694-A009-12F476B72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40436E-52B5-4306-B78A-BAC72F38C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9FBBBF-9A84-4E25-958B-1C3034A80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415A01-D755-40D5-B52B-2B15720D5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2AFD33-C130-45B3-98AC-78CDB70E7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80385-1B54-446D-AD32-F88C48CFB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66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dt" idx="2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ftr" idx="2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90E63-15FC-4011-B2AE-3AF31B4C8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709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0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1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2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3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4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5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6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7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8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9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0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1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2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3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4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5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6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52DB6-7326-4024-BBFD-1525B1F860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6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77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77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78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79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79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80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9DD96-7E5F-4A1F-990D-2C71DA0ABDB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847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48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849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0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1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852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853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4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 type="dt" idx="3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 type="ftr" idx="3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 type="sldNum" idx="3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993E4-7702-482C-9461-AAC9B6F63E6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6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97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8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9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0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1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2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3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4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5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6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7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8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9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0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1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2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3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4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5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6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7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8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9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0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1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2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3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4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5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6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7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8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9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0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1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2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33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934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5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B78C8-53AC-48E4-BF4A-B555B26EF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7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978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979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0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1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2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3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4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5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6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7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8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9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0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1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992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993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4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5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6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7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8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9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0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1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2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3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4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5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6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7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8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9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0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1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2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3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4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5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6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7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8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9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0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1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2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3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4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5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6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7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8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9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0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1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2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3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4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5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6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7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8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9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0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1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2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3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4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5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6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7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8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9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0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1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2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3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4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5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6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7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8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9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0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1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2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3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4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5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6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7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8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9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0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1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2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3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4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5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6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7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8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9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0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1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2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3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4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5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6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7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8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9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0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1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2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3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4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5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6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7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8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9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0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1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2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3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4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5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6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7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8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9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0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1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2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3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4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5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6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7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8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9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0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1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2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3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4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5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6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7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 type="dt" idx="43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2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5BE97-7F25-469A-A2BF-469F8C7D1F2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9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170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1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72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73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174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175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176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7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8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9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0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181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82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83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4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5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6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7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8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sldNum" idx="4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D66DA-A486-4259-9F8B-000E9DBE8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ftr" idx="4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23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23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23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 type="dt" idx="49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 type="ftr" idx="50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3" name="PlaceHolder 5"/>
          <p:cNvSpPr>
            <a:spLocks noGrp="1"/>
          </p:cNvSpPr>
          <p:nvPr>
            <p:ph type="sldNum" idx="51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2847E-A5E6-48E5-9B74-71D9CF4E332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A0B18-51DE-4DD4-A970-0D2774E645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1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1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1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2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3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4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4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2F68C-19F7-46D4-9CB6-34AC557D3E6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8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9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9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32289-0E18-48A1-8079-10B970AB4E9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36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7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8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9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0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1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2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3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4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5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6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7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8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9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0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1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2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3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4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5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6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7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8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9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0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1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2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3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4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5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6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7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8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9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0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1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72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73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63C8B-01D1-4116-B3C6-42B451063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317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318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31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332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3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4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5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6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7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8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9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0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1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2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3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4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5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6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7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8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9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0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1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2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3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4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5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6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7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8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9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0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1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2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3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4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5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6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7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8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9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0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1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2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3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4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5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6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7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8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9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0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1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2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3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4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5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6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7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8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9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0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1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2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3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4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5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6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7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8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9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0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1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2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3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4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5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6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7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8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9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0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1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2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3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4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5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6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7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8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9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0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1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2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3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4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5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6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7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8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9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0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1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2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3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4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5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6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7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8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9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0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1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2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3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4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5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6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7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8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9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0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1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2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3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4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5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6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BC5C7-F06C-4222-A922-0FFA313729C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19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4C50-16B2-419D-A362-CE4094F7E0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50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1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52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53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54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55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556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7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8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9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0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61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62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63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4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5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6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7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8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75740-6434-426C-A27D-9520CCDD8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dt" idx="25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ldNum" idx="26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DC3EB-6B01-40A2-9826-126F66A30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61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61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61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2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ftr" idx="2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haracteristics of Living Thing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Century Gothic"/>
              </a:rPr>
              <a:t>Living Things are made of units called cell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98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Bookman Old Style"/>
              </a:rPr>
              <a:t>Living Things reproduc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xual reproduction- cells from 2 different parents unite to form the first cell of  the new organ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exual reproduction- new organism is formed from a single par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551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0033"/>
                </a:solidFill>
                <a:latin typeface="Book Antiqua"/>
              </a:rPr>
              <a:t>Living things are based on a universal genetic code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6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Franklin Gothic Medium"/>
              </a:rPr>
              <a:t>Living things grow and develop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98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563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iving things obtain and use materials and energ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250" autoRev="1" fill="hold"/>
                                        <p:tgtEl>
                                          <p:spTgt spid="12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01c4d"/>
                </a:solidFill>
                <a:latin typeface="Century"/>
              </a:rPr>
              <a:t>Living things respond to their environment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ernal stimuli – Come from outside the organ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al stimuli – Come from inside the organ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Book Antiqua"/>
              </a:rPr>
              <a:t>Living things maintain a stable internal environmen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5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250" autoRev="1" fill="hold"/>
                                        <p:tgtEl>
                                          <p:spTgt spid="12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Sylfaen"/>
              </a:rPr>
              <a:t>Taken as a group, living things change over time.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7T19:14:01Z</dcterms:created>
  <dc:creator>Don Little</dc:creator>
  <dc:description/>
  <dc:language>en-US</dc:language>
  <cp:lastModifiedBy>RomaK</cp:lastModifiedBy>
  <dcterms:modified xsi:type="dcterms:W3CDTF">2015-09-04T10:52:03Z</dcterms:modified>
  <cp:revision>6</cp:revision>
  <dc:subject/>
  <dc:title>Characteristics of Living Things</dc:title>
</cp:coreProperties>
</file>