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0.jpeg" ContentType="image/jpeg"/>
  <Override PartName="/ppt/media/image29.jpeg" ContentType="image/jpeg"/>
  <Override PartName="/ppt/media/image5.png" ContentType="image/png"/>
  <Override PartName="/ppt/media/image43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34.jpeg" ContentType="image/jpeg"/>
  <Override PartName="/ppt/media/image28.jpeg" ContentType="image/jpeg"/>
  <Override PartName="/ppt/media/image37.jpeg" ContentType="image/jpeg"/>
  <Override PartName="/ppt/media/image12.jpeg" ContentType="image/jpeg"/>
  <Override PartName="/ppt/media/image7.jpeg" ContentType="image/jpeg"/>
  <Override PartName="/ppt/media/image38.jpeg" ContentType="image/jpeg"/>
  <Override PartName="/ppt/media/image40.jpeg" ContentType="image/jpeg"/>
  <Override PartName="/ppt/media/image13.jpeg" ContentType="image/jpeg"/>
  <Override PartName="/ppt/media/image6.png" ContentType="image/png"/>
  <Override PartName="/ppt/media/image3.png" ContentType="image/png"/>
  <Override PartName="/ppt/media/image17.jpeg" ContentType="image/jpeg"/>
  <Override PartName="/ppt/media/image35.jpeg" ContentType="image/jpeg"/>
  <Override PartName="/ppt/media/image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C26E5-033F-4954-B59C-A912FAC73C7B}" type="slidenum">
              <a:rPr b="0" lang="en-GB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DER +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cientific Rules for being considered Liv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living things Ne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elter – a place to liv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 – whether they eat or make it themsel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– H2O without hydration you will d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 – O2 whether you breath or get it out of water you will die without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– Organized by Cell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are living you are made of one or more c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– Responds to Stimuli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are living you have to react to the outside wor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– Develop and Gr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are living you have to get bigger and develop into a more complex be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– Energy /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are a living animal you get your energy from eating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are a living plant you make your energy from a process called photosynthe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– Reproduc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are living you have to be able to make copies of yourse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A – Adapt to Environmen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are living you must be able to change to the outside wor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DER +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be living you must be able to do all of these things by yourself. If you don’t do all those things you are not alive according to scie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the following things ALIV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ing vs. Non-Liv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ing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perform all of the activities of    ORDER +A at the current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-Living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ad – you were once able to perform all the activities of ORDER+A but can not n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-Made – you were made by man and could never do ORDER+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ver Alive – you were made by nature and could never do ORDER+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0111-9907-4010-A355-7464CF8DF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7133-7EE7-400B-8E40-0112A4C09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A8E6-9A28-41C8-BD8D-7350DCE69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894D-BB0C-495A-87AA-2C455DA4D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370B6-DCED-4690-ADCB-D7BD231C8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339F8-932B-474D-852F-05EF2B345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E04B1-5294-4DF0-95DB-61560D70D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76B29-9975-4DE4-8D7D-F5A549B19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4D8E4-E587-4D9D-AA22-80C52BD34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95A10-9F72-42D6-A2BD-0678EDA5C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E3378-0C5F-461E-AF61-01946F748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8836-B63D-437C-B289-1F19DB2A9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F03A5-9494-49C8-B8EB-8FA42ECB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17474-2E20-438F-9E5B-C99155B6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834F7-8988-4D60-93F4-0B40BDDF4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7F0A4-B927-42E4-92D2-81FD15AC2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65851-7F34-4C53-9CEB-E04F414B1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61538-A7AA-4AC6-888D-1C5DEDA91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62FDB-3170-4A34-88EE-8D2E94099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7274F-5353-422C-942C-ED1BB6A3D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85701-BF09-4233-99E6-54A1FF798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CD20E-E607-44AF-8F62-54C1EC5EE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FAAA-0A38-41BA-93A7-B477DC200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ED804-AB5D-4C3C-95F3-D09B50ADE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A59D1-BC2C-4AD2-A916-C3A036B91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930CF-3B35-4E26-B3CF-80EBAEF8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05DF0-1A23-4AA5-A1C4-99B145E6E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22DDD-3E02-4E6B-8874-5F41F046F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F00CE-13B4-4451-BA20-04C79998F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FFC99-1F64-4C1F-986E-007B42C25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751DC-9998-4973-A472-5B01241B5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7803F-14B5-4CB5-ACE6-68FD23660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14C27-70F9-4762-8B73-FE2B954DE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3C34-F975-4BFB-8EB6-A2F58E062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BFDB6-5C55-4C5D-A9BF-13298591D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97D86-1433-4EF7-871E-934F8B3BA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AF439-335B-44B3-917F-3F34464E3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37D04-83C6-4C78-B034-7554D7F23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41FDE-CA04-4948-8D82-676A0E7B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47692-0A0B-4B0A-AF08-5613D18C4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AB58A-9FC5-48AE-8A80-B999DEAFF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F24F1-1AE1-4277-84FC-8A3EA559C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F6E19-9960-4DAF-A5CD-B4A2CE193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9254-B72D-4731-B5E0-983641AAA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8F9A-2BE2-4D1E-9B1C-2A1E49E75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8172-C328-4696-9533-7EAA0872D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1649-5052-4733-80AA-28F1EBB3D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E994-76EA-41D8-96AD-0124F273F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55DA8-63AF-4ED1-BD06-4A433C9A7B1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33B62-02A7-4922-8883-053152581F31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8DBBB-95DB-4542-9DF2-2E9E34D66DD6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E5502-E923-46D0-A815-01BA5EA788A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536400" y="1371600"/>
            <a:ext cx="8302680" cy="23223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Scientific Rules for being considered Living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522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ll living things Nee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helter – a place to live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od – whether they eat or make it themselv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ater – H2O without hydration you will di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ir – O2 whether you breath or get it out of water you will die without i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1" name="Picture 4" descr="C:\Documents and Settings\ZakemJ\Local Settings\Temporary Internet Files\Content.IE5\GDIJKLMN\MPj04437780000[1].jpg"/>
          <p:cNvPicPr/>
          <p:nvPr/>
        </p:nvPicPr>
        <p:blipFill>
          <a:blip r:embed="rId1"/>
          <a:stretch/>
        </p:blipFill>
        <p:spPr>
          <a:xfrm>
            <a:off x="5715000" y="1143000"/>
            <a:ext cx="1974960" cy="13222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6" descr="C:\Documents and Settings\ZakemJ\Local Settings\Temporary Internet Files\Content.IE5\OLQNSPQV\MPj04226920000[1].jpg"/>
          <p:cNvPicPr/>
          <p:nvPr/>
        </p:nvPicPr>
        <p:blipFill>
          <a:blip r:embed="rId2"/>
          <a:stretch/>
        </p:blipFill>
        <p:spPr>
          <a:xfrm>
            <a:off x="7658280" y="1066680"/>
            <a:ext cx="1485720" cy="19814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8" descr="C:\Documents and Settings\ZakemJ\Local Settings\Temporary Internet Files\Content.IE5\G5IJG9QZ\MPj04442250000[1].jpg"/>
          <p:cNvPicPr/>
          <p:nvPr/>
        </p:nvPicPr>
        <p:blipFill>
          <a:blip r:embed="rId3"/>
          <a:stretch/>
        </p:blipFill>
        <p:spPr>
          <a:xfrm>
            <a:off x="457200" y="4267080"/>
            <a:ext cx="2895480" cy="19274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9" descr="C:\Documents and Settings\ZakemJ\Local Settings\Temporary Internet Files\Content.IE5\89A7CDEF\MPj04222740000[1].jpg"/>
          <p:cNvPicPr/>
          <p:nvPr/>
        </p:nvPicPr>
        <p:blipFill>
          <a:blip r:embed="rId4"/>
          <a:stretch/>
        </p:blipFill>
        <p:spPr>
          <a:xfrm>
            <a:off x="3733920" y="3962520"/>
            <a:ext cx="2590560" cy="25905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C:\Documents and Settings\ZakemJ\Local Settings\Temporary Internet Files\Content.IE5\G5IJG9QZ\MPj03876970000[1].jpg"/>
          <p:cNvPicPr/>
          <p:nvPr/>
        </p:nvPicPr>
        <p:blipFill>
          <a:blip r:embed="rId5"/>
          <a:stretch/>
        </p:blipFill>
        <p:spPr>
          <a:xfrm>
            <a:off x="6705720" y="4419720"/>
            <a:ext cx="2055600" cy="14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O – Organized by Cells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If you are living you are made of one or more cells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Picture 3" descr="C:\Documents and Settings\ZakemJ\Local Settings\Temporary Internet Files\Content.IE5\GDIJKLMN\MPj04387380000[1].jpg"/>
          <p:cNvPicPr/>
          <p:nvPr/>
        </p:nvPicPr>
        <p:blipFill>
          <a:blip r:embed="rId1"/>
          <a:stretch/>
        </p:blipFill>
        <p:spPr>
          <a:xfrm>
            <a:off x="304920" y="2743200"/>
            <a:ext cx="2057400" cy="15429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C:\Documents and Settings\ZakemJ\Local Settings\Temporary Internet Files\Content.IE5\89A7CDEF\MPj04331490000[1].jpg"/>
          <p:cNvPicPr/>
          <p:nvPr/>
        </p:nvPicPr>
        <p:blipFill>
          <a:blip r:embed="rId2"/>
          <a:stretch/>
        </p:blipFill>
        <p:spPr>
          <a:xfrm>
            <a:off x="3124080" y="3200400"/>
            <a:ext cx="2133720" cy="14223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C:\Documents and Settings\ZakemJ\Local Settings\Temporary Internet Files\Content.IE5\89A7CDEF\MPj04330590000[1].jpg"/>
          <p:cNvPicPr/>
          <p:nvPr/>
        </p:nvPicPr>
        <p:blipFill>
          <a:blip r:embed="rId3"/>
          <a:stretch/>
        </p:blipFill>
        <p:spPr>
          <a:xfrm>
            <a:off x="6172200" y="2743200"/>
            <a:ext cx="2362320" cy="17352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C:\Documents and Settings\ZakemJ\Local Settings\Temporary Internet Files\Content.IE5\OLQNSPQV\MPj04389220000[1].jpg"/>
          <p:cNvPicPr/>
          <p:nvPr/>
        </p:nvPicPr>
        <p:blipFill>
          <a:blip r:embed="rId4"/>
          <a:stretch/>
        </p:blipFill>
        <p:spPr>
          <a:xfrm>
            <a:off x="3352680" y="4724280"/>
            <a:ext cx="18306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 – Responds to Stimuli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If you are living you have to react to the outside world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Picture 3" descr="C:\Documents and Settings\ZakemJ\Local Settings\Temporary Internet Files\Content.IE5\89A7CDEF\MPj04243780000[1].jpg"/>
          <p:cNvPicPr/>
          <p:nvPr/>
        </p:nvPicPr>
        <p:blipFill>
          <a:blip r:embed="rId1"/>
          <a:stretch/>
        </p:blipFill>
        <p:spPr>
          <a:xfrm>
            <a:off x="304920" y="373392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C:\Documents and Settings\ZakemJ\Local Settings\Temporary Internet Files\Content.IE5\G5IJG9QZ\MPj04392970000[1].jpg"/>
          <p:cNvPicPr/>
          <p:nvPr/>
        </p:nvPicPr>
        <p:blipFill>
          <a:blip r:embed="rId2"/>
          <a:stretch/>
        </p:blipFill>
        <p:spPr>
          <a:xfrm>
            <a:off x="3352680" y="3429000"/>
            <a:ext cx="2286000" cy="30672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C:\Documents and Settings\ZakemJ\Local Settings\Temporary Internet Files\Content.IE5\G5IJG9QZ\MPj04442520000[1].jpg"/>
          <p:cNvPicPr/>
          <p:nvPr/>
        </p:nvPicPr>
        <p:blipFill>
          <a:blip r:embed="rId3"/>
          <a:stretch/>
        </p:blipFill>
        <p:spPr>
          <a:xfrm>
            <a:off x="5867280" y="3962520"/>
            <a:ext cx="289080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 – Develop and Grow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If you are living you have to get bigger and develop into a more complex being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2" descr="C:\Documents and Settings\ZakemJ\Local Settings\Temporary Internet Files\Content.IE5\OLQNSPQV\MPj04441630000[1].jpg"/>
          <p:cNvPicPr/>
          <p:nvPr/>
        </p:nvPicPr>
        <p:blipFill>
          <a:blip r:embed="rId1"/>
          <a:stretch/>
        </p:blipFill>
        <p:spPr>
          <a:xfrm>
            <a:off x="228600" y="3200400"/>
            <a:ext cx="1295280" cy="1523880"/>
          </a:xfrm>
          <a:prstGeom prst="rect">
            <a:avLst/>
          </a:prstGeom>
          <a:ln w="0">
            <a:noFill/>
          </a:ln>
        </p:spPr>
      </p:pic>
      <p:cxnSp>
        <p:nvCxnSpPr>
          <p:cNvPr id="218" name="Straight Arrow Connector 5"/>
          <p:cNvCxnSpPr/>
          <p:nvPr/>
        </p:nvCxnSpPr>
        <p:spPr>
          <a:xfrm>
            <a:off x="1523880" y="3962520"/>
            <a:ext cx="991440" cy="2160"/>
          </a:xfrm>
          <a:prstGeom prst="straightConnector1">
            <a:avLst/>
          </a:prstGeom>
          <a:ln w="25560">
            <a:solidFill>
              <a:srgbClr val="065093"/>
            </a:solidFill>
            <a:miter/>
            <a:tailEnd len="med" type="arrow" w="med"/>
          </a:ln>
        </p:spPr>
      </p:cxnSp>
      <p:pic>
        <p:nvPicPr>
          <p:cNvPr id="219" name="Picture 3" descr="C:\Documents and Settings\ZakemJ\Local Settings\Temporary Internet Files\Content.IE5\89A7CDEF\MPj04464860000[1].jpg"/>
          <p:cNvPicPr/>
          <p:nvPr/>
        </p:nvPicPr>
        <p:blipFill>
          <a:blip r:embed="rId2"/>
          <a:stretch/>
        </p:blipFill>
        <p:spPr>
          <a:xfrm>
            <a:off x="2590920" y="3276720"/>
            <a:ext cx="1066680" cy="1600200"/>
          </a:xfrm>
          <a:prstGeom prst="rect">
            <a:avLst/>
          </a:prstGeom>
          <a:ln w="0">
            <a:noFill/>
          </a:ln>
        </p:spPr>
      </p:pic>
      <p:cxnSp>
        <p:nvCxnSpPr>
          <p:cNvPr id="220" name="Straight Arrow Connector 7"/>
          <p:cNvCxnSpPr/>
          <p:nvPr/>
        </p:nvCxnSpPr>
        <p:spPr>
          <a:xfrm>
            <a:off x="3657600" y="3962520"/>
            <a:ext cx="991440" cy="2160"/>
          </a:xfrm>
          <a:prstGeom prst="straightConnector1">
            <a:avLst/>
          </a:prstGeom>
          <a:ln w="25560">
            <a:solidFill>
              <a:srgbClr val="065093"/>
            </a:solidFill>
            <a:miter/>
            <a:tailEnd len="med" type="arrow" w="med"/>
          </a:ln>
        </p:spPr>
      </p:cxnSp>
      <p:pic>
        <p:nvPicPr>
          <p:cNvPr id="221" name="Picture 5" descr="C:\Documents and Settings\ZakemJ\Local Settings\Temporary Internet Files\Content.IE5\GDIJKLMN\MPj04438980000[1].jpg"/>
          <p:cNvPicPr/>
          <p:nvPr/>
        </p:nvPicPr>
        <p:blipFill>
          <a:blip r:embed="rId3"/>
          <a:stretch/>
        </p:blipFill>
        <p:spPr>
          <a:xfrm>
            <a:off x="4648320" y="3276720"/>
            <a:ext cx="1284120" cy="1600200"/>
          </a:xfrm>
          <a:prstGeom prst="rect">
            <a:avLst/>
          </a:prstGeom>
          <a:ln w="0">
            <a:noFill/>
          </a:ln>
        </p:spPr>
      </p:pic>
      <p:cxnSp>
        <p:nvCxnSpPr>
          <p:cNvPr id="222" name="Straight Arrow Connector 10"/>
          <p:cNvCxnSpPr/>
          <p:nvPr/>
        </p:nvCxnSpPr>
        <p:spPr>
          <a:xfrm>
            <a:off x="6019560" y="3962520"/>
            <a:ext cx="991080" cy="2160"/>
          </a:xfrm>
          <a:prstGeom prst="straightConnector1">
            <a:avLst/>
          </a:prstGeom>
          <a:ln w="25560">
            <a:solidFill>
              <a:srgbClr val="065093"/>
            </a:solidFill>
            <a:miter/>
            <a:tailEnd len="med" type="arrow" w="med"/>
          </a:ln>
        </p:spPr>
      </p:cxnSp>
      <p:pic>
        <p:nvPicPr>
          <p:cNvPr id="223" name="Picture 2" descr="C:\Documents and Settings\ZakemJ\Local Settings\Temporary Internet Files\Content.IE5\OLQNSPQV\MPj04464570000[1].jpg"/>
          <p:cNvPicPr/>
          <p:nvPr/>
        </p:nvPicPr>
        <p:blipFill>
          <a:blip r:embed="rId4"/>
          <a:stretch/>
        </p:blipFill>
        <p:spPr>
          <a:xfrm>
            <a:off x="7162920" y="3276720"/>
            <a:ext cx="1269720" cy="16761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C:\Documents and Settings\ZakemJ\Local Settings\Temporary Internet Files\Content.IE5\89A7CDEF\MPj04426700000[1].jpg"/>
          <p:cNvPicPr/>
          <p:nvPr/>
        </p:nvPicPr>
        <p:blipFill>
          <a:blip r:embed="rId5"/>
          <a:stretch/>
        </p:blipFill>
        <p:spPr>
          <a:xfrm>
            <a:off x="228600" y="5181480"/>
            <a:ext cx="1066680" cy="1422360"/>
          </a:xfrm>
          <a:prstGeom prst="rect">
            <a:avLst/>
          </a:prstGeom>
          <a:ln w="0">
            <a:noFill/>
          </a:ln>
        </p:spPr>
      </p:pic>
      <p:cxnSp>
        <p:nvCxnSpPr>
          <p:cNvPr id="225" name="Straight Arrow Connector 11"/>
          <p:cNvCxnSpPr/>
          <p:nvPr/>
        </p:nvCxnSpPr>
        <p:spPr>
          <a:xfrm>
            <a:off x="1295280" y="5791320"/>
            <a:ext cx="991440" cy="2160"/>
          </a:xfrm>
          <a:prstGeom prst="straightConnector1">
            <a:avLst/>
          </a:prstGeom>
          <a:ln w="25560">
            <a:solidFill>
              <a:srgbClr val="065093"/>
            </a:solidFill>
            <a:miter/>
            <a:tailEnd len="med" type="arrow" w="med"/>
          </a:ln>
        </p:spPr>
      </p:cxnSp>
      <p:pic>
        <p:nvPicPr>
          <p:cNvPr id="226" name="Picture 4" descr="C:\Documents and Settings\ZakemJ\Local Settings\Temporary Internet Files\Content.IE5\89A7CDEF\MPj04385240000[1].jpg"/>
          <p:cNvPicPr/>
          <p:nvPr/>
        </p:nvPicPr>
        <p:blipFill>
          <a:blip r:embed="rId6"/>
          <a:stretch/>
        </p:blipFill>
        <p:spPr>
          <a:xfrm>
            <a:off x="2286000" y="5181480"/>
            <a:ext cx="2133720" cy="14097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C:\Documents and Settings\ZakemJ\Local Settings\Temporary Internet Files\Content.IE5\G5IJG9QZ\MPj04386010000[1].jpg"/>
          <p:cNvPicPr/>
          <p:nvPr/>
        </p:nvPicPr>
        <p:blipFill>
          <a:blip r:embed="rId7"/>
          <a:stretch/>
        </p:blipFill>
        <p:spPr>
          <a:xfrm>
            <a:off x="5486400" y="5181480"/>
            <a:ext cx="2209680" cy="1467000"/>
          </a:xfrm>
          <a:prstGeom prst="rect">
            <a:avLst/>
          </a:prstGeom>
          <a:ln w="0">
            <a:noFill/>
          </a:ln>
        </p:spPr>
      </p:pic>
      <p:cxnSp>
        <p:nvCxnSpPr>
          <p:cNvPr id="228" name="Straight Arrow Connector 15"/>
          <p:cNvCxnSpPr/>
          <p:nvPr/>
        </p:nvCxnSpPr>
        <p:spPr>
          <a:xfrm>
            <a:off x="4190760" y="5943600"/>
            <a:ext cx="991080" cy="2160"/>
          </a:xfrm>
          <a:prstGeom prst="straightConnector1">
            <a:avLst/>
          </a:prstGeom>
          <a:ln w="25560">
            <a:solidFill>
              <a:srgbClr val="06509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 – Energy /E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f you are a living animal you get your energy from eating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f you are a living plant you make your energy from a process called photosynthe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2" name="Picture 2" descr="C:\Documents and Settings\ZakemJ\Local Settings\Temporary Internet Files\Content.IE5\G5IJG9QZ\MPj04395760000[1].jpg"/>
          <p:cNvPicPr/>
          <p:nvPr/>
        </p:nvPicPr>
        <p:blipFill>
          <a:blip r:embed="rId1"/>
          <a:stretch/>
        </p:blipFill>
        <p:spPr>
          <a:xfrm>
            <a:off x="990720" y="3581280"/>
            <a:ext cx="2286000" cy="21592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C:\Documents and Settings\ZakemJ\Local Settings\Temporary Internet Files\Content.IE5\89A7CDEF\MPj04373010000[1].jpg"/>
          <p:cNvPicPr/>
          <p:nvPr/>
        </p:nvPicPr>
        <p:blipFill>
          <a:blip r:embed="rId2"/>
          <a:stretch/>
        </p:blipFill>
        <p:spPr>
          <a:xfrm>
            <a:off x="5943600" y="3733920"/>
            <a:ext cx="17812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 – Reproduce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If you are living you have to be able to make copies of yourself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6" name="Picture 2" descr="C:\Documents and Settings\ZakemJ\Local Settings\Temporary Internet Files\Content.IE5\89A7CDEF\MPj04477710000[1].jpg"/>
          <p:cNvPicPr/>
          <p:nvPr/>
        </p:nvPicPr>
        <p:blipFill>
          <a:blip r:embed="rId1"/>
          <a:stretch/>
        </p:blipFill>
        <p:spPr>
          <a:xfrm>
            <a:off x="609480" y="2590920"/>
            <a:ext cx="2845080" cy="18986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C:\Documents and Settings\ZakemJ\Local Settings\Temporary Internet Files\Content.IE5\GDIJKLMN\MPj04464650000[1].jpg"/>
          <p:cNvPicPr/>
          <p:nvPr/>
        </p:nvPicPr>
        <p:blipFill>
          <a:blip r:embed="rId2"/>
          <a:stretch/>
        </p:blipFill>
        <p:spPr>
          <a:xfrm>
            <a:off x="3733920" y="2438280"/>
            <a:ext cx="2862000" cy="23180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4" descr="C:\Documents and Settings\ZakemJ\Local Settings\Temporary Internet Files\Content.IE5\G5IJG9QZ\MPj04465820000[1].jpg"/>
          <p:cNvPicPr/>
          <p:nvPr/>
        </p:nvPicPr>
        <p:blipFill>
          <a:blip r:embed="rId3"/>
          <a:stretch/>
        </p:blipFill>
        <p:spPr>
          <a:xfrm>
            <a:off x="6858000" y="2590920"/>
            <a:ext cx="1947960" cy="25146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6" descr="C:\Documents and Settings\ZakemJ\Local Settings\Temporary Internet Files\Content.IE5\89A7CDEF\MPj04478020000[1].jpg"/>
          <p:cNvPicPr/>
          <p:nvPr/>
        </p:nvPicPr>
        <p:blipFill>
          <a:blip r:embed="rId4"/>
          <a:stretch/>
        </p:blipFill>
        <p:spPr>
          <a:xfrm>
            <a:off x="685800" y="4648320"/>
            <a:ext cx="2743200" cy="18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+A – Adapt to Environment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If you are living you must be able to change to the outside world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2" name="Picture 4" descr="C:\Documents and Settings\ZakemJ\Local Settings\Temporary Internet Files\Content.IE5\OLQNSPQV\MPj04442440000[1].jpg"/>
          <p:cNvPicPr/>
          <p:nvPr/>
        </p:nvPicPr>
        <p:blipFill>
          <a:blip r:embed="rId1"/>
          <a:stretch/>
        </p:blipFill>
        <p:spPr>
          <a:xfrm>
            <a:off x="3200400" y="3809880"/>
            <a:ext cx="1725480" cy="25844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C:\Documents and Settings\ZakemJ\Local Settings\Temporary Internet Files\Content.IE5\89A7CDEF\MPj04438300000[1].jpg"/>
          <p:cNvPicPr/>
          <p:nvPr/>
        </p:nvPicPr>
        <p:blipFill>
          <a:blip r:embed="rId2"/>
          <a:stretch/>
        </p:blipFill>
        <p:spPr>
          <a:xfrm>
            <a:off x="5943600" y="3200400"/>
            <a:ext cx="2155680" cy="32306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C:\Documents and Settings\ZakemJ\Local Settings\Temporary Internet Files\Content.IE5\GDIJKLMN\MPj03169020000[1].jpg"/>
          <p:cNvPicPr/>
          <p:nvPr/>
        </p:nvPicPr>
        <p:blipFill>
          <a:blip r:embed="rId3"/>
          <a:stretch/>
        </p:blipFill>
        <p:spPr>
          <a:xfrm>
            <a:off x="887400" y="3505320"/>
            <a:ext cx="20718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ORDER +A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294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o be living you must be able to do all of these things by yourself. If you don’t do all those things you are not alive according to science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re the following things ALIVE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7" name="Picture 3" descr="C:\Documents and Settings\ZakemJ\Local Settings\Temporary Internet Files\Content.IE5\OLQNSPQV\MPj04392920000[1].jpg"/>
          <p:cNvPicPr/>
          <p:nvPr/>
        </p:nvPicPr>
        <p:blipFill>
          <a:blip r:embed="rId1"/>
          <a:stretch/>
        </p:blipFill>
        <p:spPr>
          <a:xfrm>
            <a:off x="762120" y="3276720"/>
            <a:ext cx="2476440" cy="16588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4" descr="C:\Documents and Settings\ZakemJ\Local Settings\Temporary Internet Files\Content.IE5\GDIJKLMN\MPj04425000000[1].jpg"/>
          <p:cNvPicPr/>
          <p:nvPr/>
        </p:nvPicPr>
        <p:blipFill>
          <a:blip r:embed="rId2"/>
          <a:stretch/>
        </p:blipFill>
        <p:spPr>
          <a:xfrm>
            <a:off x="3352680" y="3276720"/>
            <a:ext cx="2514600" cy="16761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" descr="C:\Documents and Settings\ZakemJ\Local Settings\Temporary Internet Files\Content.IE5\G5IJG9QZ\MPj04439020000[1].jpg"/>
          <p:cNvPicPr/>
          <p:nvPr/>
        </p:nvPicPr>
        <p:blipFill>
          <a:blip r:embed="rId3"/>
          <a:stretch/>
        </p:blipFill>
        <p:spPr>
          <a:xfrm>
            <a:off x="6172200" y="3276720"/>
            <a:ext cx="2217600" cy="14763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8" descr="C:\Documents and Settings\ZakemJ\Local Settings\Temporary Internet Files\Content.IE5\89A7CDEF\MPj04478830000[1].jpg"/>
          <p:cNvPicPr/>
          <p:nvPr/>
        </p:nvPicPr>
        <p:blipFill>
          <a:blip r:embed="rId4"/>
          <a:stretch/>
        </p:blipFill>
        <p:spPr>
          <a:xfrm>
            <a:off x="762120" y="5029200"/>
            <a:ext cx="2463840" cy="16444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9" descr="C:\Documents and Settings\ZakemJ\Local Settings\Temporary Internet Files\Content.IE5\89A7CDEF\MPj04478070000[1].jpg"/>
          <p:cNvPicPr/>
          <p:nvPr/>
        </p:nvPicPr>
        <p:blipFill>
          <a:blip r:embed="rId5"/>
          <a:stretch/>
        </p:blipFill>
        <p:spPr>
          <a:xfrm>
            <a:off x="5791320" y="5105520"/>
            <a:ext cx="2314440" cy="15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iving vs. Non-Liv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523520"/>
            <a:ext cx="236232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iving –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You can perform all of the activities of    ORDER +A at the current tim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648320" y="1447920"/>
            <a:ext cx="4038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n-Living –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ad – you were once able to perform all the activities of ORDER+A but can not now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n-Made – you were made by man and could never do ORDER+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ever Alive – you were made by nature and could never do ORDER+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5" name="Picture 3" descr="C:\Documents and Settings\ZakemJ\Local Settings\Temporary Internet Files\Content.IE5\OLQNSPQV\MPj04364260000[1].jpg"/>
          <p:cNvPicPr/>
          <p:nvPr/>
        </p:nvPicPr>
        <p:blipFill>
          <a:blip r:embed="rId1"/>
          <a:stretch/>
        </p:blipFill>
        <p:spPr>
          <a:xfrm>
            <a:off x="7467480" y="0"/>
            <a:ext cx="1487520" cy="19810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4" descr="C:\Documents and Settings\ZakemJ\Local Settings\Temporary Internet Files\Content.IE5\G5IJG9QZ\MPj04387360000[1].jpg"/>
          <p:cNvPicPr/>
          <p:nvPr/>
        </p:nvPicPr>
        <p:blipFill>
          <a:blip r:embed="rId2"/>
          <a:stretch/>
        </p:blipFill>
        <p:spPr>
          <a:xfrm>
            <a:off x="3048120" y="2971800"/>
            <a:ext cx="2006640" cy="15048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C:\Documents and Settings\ZakemJ\Local Settings\Temporary Internet Files\Content.IE5\89A7CDEF\MPj04477360000[1].jpg"/>
          <p:cNvPicPr/>
          <p:nvPr/>
        </p:nvPicPr>
        <p:blipFill>
          <a:blip r:embed="rId3"/>
          <a:stretch/>
        </p:blipFill>
        <p:spPr>
          <a:xfrm>
            <a:off x="3581280" y="4572000"/>
            <a:ext cx="1525680" cy="2286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C:\Documents and Settings\ZakemJ\Local Settings\Temporary Internet Files\Content.IE5\89A7CDEF\MPj04464710000[1].jpg"/>
          <p:cNvPicPr/>
          <p:nvPr/>
        </p:nvPicPr>
        <p:blipFill>
          <a:blip r:embed="rId4"/>
          <a:stretch/>
        </p:blipFill>
        <p:spPr>
          <a:xfrm>
            <a:off x="685800" y="49528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8T16:20:51Z</dcterms:created>
  <dc:creator>CCSD</dc:creator>
  <dc:description/>
  <cp:keywords>Characterisitcs of Life</cp:keywords>
  <dc:language>en-US</dc:language>
  <cp:lastModifiedBy>RomaK</cp:lastModifiedBy>
  <dcterms:modified xsi:type="dcterms:W3CDTF">2015-09-04T10:51:53Z</dcterms:modified>
  <cp:revision>16</cp:revision>
  <dc:subject>Characterisitcs of Life</dc:subject>
  <dc:title>Characterisitcs of Life</dc:title>
</cp:coreProperties>
</file>