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0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37.jpeg" ContentType="image/jpeg"/>
  <Override PartName="/ppt/media/image12.jpeg" ContentType="image/jpeg"/>
  <Override PartName="/ppt/media/image7.jpeg" ContentType="image/jpeg"/>
  <Override PartName="/ppt/media/image38.jpeg" ContentType="image/jpeg"/>
  <Override PartName="/ppt/media/image40.jpeg" ContentType="image/jpeg"/>
  <Override PartName="/ppt/media/image13.jpeg" ContentType="image/jpeg"/>
  <Override PartName="/ppt/media/image6.png" ContentType="image/pn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186DD-E333-481F-93F3-6FDD32465A6D}" type="slidenum">
              <a:rPr b="0" lang="en-GB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DER +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cientific Rules for being considered Liv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living things N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lter – a place to liv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 – whether they eat or make it themsel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– H2O without hydration you will d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 – O2 whether you breath or get it out of water you will die without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– Organized by Cell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are living you are made of one or more 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– Responds to Stimuli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are living you have to react to the outside wor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– Develop and Gr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are living you have to get bigger and develop into a more complex be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– Energy /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are a living animal you get your energy from eatin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are a living plant you make your energy from a process called photosynthe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– Reproduc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are living you have to be able to make copies of yourse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A – Adapt to Environmen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are living you must be able to change to the outside wor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DER +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be living you must be able to do all of these things by yourself. If you don’t do all those things you are not alive according to scie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the following things ALIV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ing vs. Non-Liv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ing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perform all of the activities of    ORDER +A at the current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-Living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ad – you were once able to perform all the activities of ORDER+A but can not n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-Made – you were made by man and could never do ORDER+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ver Alive – you were made by nature and could never do ORDER+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992A-0A06-49E7-BF91-60B5FE996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1720-51F2-436A-83A9-9373C363F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A64B-4D79-4F4E-BE5F-6AE485826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67DB-83F2-4C95-88DD-DFCAA3228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C1FB2-E0A8-437F-A52E-253999CD8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0DD26-0388-4A8C-9B59-0A4759FBB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FD3BE-7C0B-461B-B4D9-FA0C9FBAC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3D8F1-EA2F-4B3A-AE9C-39716444C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315D3-49E5-448F-B50D-685C80356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0ACBD-2F32-40D1-84A2-1CB832871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B631A-A81A-4F00-B2A7-41B79FA56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E7F9-A195-4BD4-B656-42B4CD594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0E92F-446B-451F-9B01-089E75F2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65BFF-668E-4C86-B0F2-B920BD3E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C4F28-3B2A-48EF-A7F1-26F07E044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0CA1F-3007-4637-AE97-23DC46E16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2DBA4-7438-4379-990C-1B7111376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234C6-17F8-4A3A-802B-FAB66BAAB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05112-64BD-40CE-830B-D9FA1FC2F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E2E8F-D845-4B44-9837-20ACCEFC5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3B7F8-4296-4E64-B077-990ADB736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32548-2914-4745-BA23-B30B17E67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8EA0-7C96-4578-B727-1857B9CB8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4AAD7-161D-4669-BF6A-FCC46E860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740B4-FD54-4B28-A3BB-77FB90CA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90AC5-B936-4571-8132-484990DE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D53F7-22BC-494B-8292-3742D212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D9EFB-CAC9-4E0D-8AD1-8F54B1288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24C7B-DD4F-4AAE-815A-43D3E52FA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2D193-D7A1-4A31-B7BE-40BE528E4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ACF91-D12E-4EF6-8198-DDB561270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F8EF2-4824-4636-937F-DAB0397D7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113B3-1737-42F2-BDF2-D6F21D14D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8B0A-D498-4D76-8458-3028C6DCB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99006-DDAE-4A19-BF6F-67D88E611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864EC-0A12-481C-ACEA-C30186EEB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884C6-5BA0-4F66-8C8B-1E987F4FC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4958E-C18A-422D-939B-45D48F02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3DF17-3C13-4286-9686-5789A6CE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7EDAE-54EB-4E4B-B9E1-3AFA52FF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EF75E-1602-4F7A-BAB9-488A50D72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36C87-24C7-447E-812A-B562AE2FC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484A2-9568-4075-8500-3E5DACA0F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5720-0CE3-4170-AC22-AECC3F9C5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37E0-8F0A-4D23-8CE7-54D218FFB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0596-B00D-4762-AEDD-A3E41D2C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CBF0-7815-4B43-9C68-EACA9EAB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1CCB-720A-4E46-AD48-4C63175F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C2FC7-3FB9-4D75-B2D9-02CA574AF95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58AD1-DB72-448E-A18D-F2E2F8288999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8CD0E-1D02-4753-8D00-008478480651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E4554-923B-4DA5-A784-137AE435715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536400" y="1371600"/>
            <a:ext cx="8302680" cy="23223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Scientific Rules for being considered Living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22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ll living things Nee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helter – a place to liv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od – whether they eat or make it themselv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ater – H2O without hydration you will di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ir – O2 whether you breath or get it out of water you will die without i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1" name="Picture 4" descr="C:\Documents and Settings\ZakemJ\Local Settings\Temporary Internet Files\Content.IE5\GDIJKLMN\MPj04437780000[1].jpg"/>
          <p:cNvPicPr/>
          <p:nvPr/>
        </p:nvPicPr>
        <p:blipFill>
          <a:blip r:embed="rId1"/>
          <a:stretch/>
        </p:blipFill>
        <p:spPr>
          <a:xfrm>
            <a:off x="5715000" y="1143000"/>
            <a:ext cx="1974960" cy="13222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C:\Documents and Settings\ZakemJ\Local Settings\Temporary Internet Files\Content.IE5\OLQNSPQV\MPj04226920000[1].jpg"/>
          <p:cNvPicPr/>
          <p:nvPr/>
        </p:nvPicPr>
        <p:blipFill>
          <a:blip r:embed="rId2"/>
          <a:stretch/>
        </p:blipFill>
        <p:spPr>
          <a:xfrm>
            <a:off x="7658280" y="1066680"/>
            <a:ext cx="1485720" cy="19814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8" descr="C:\Documents and Settings\ZakemJ\Local Settings\Temporary Internet Files\Content.IE5\G5IJG9QZ\MPj04442250000[1].jpg"/>
          <p:cNvPicPr/>
          <p:nvPr/>
        </p:nvPicPr>
        <p:blipFill>
          <a:blip r:embed="rId3"/>
          <a:stretch/>
        </p:blipFill>
        <p:spPr>
          <a:xfrm>
            <a:off x="457200" y="4267080"/>
            <a:ext cx="2895480" cy="19274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9" descr="C:\Documents and Settings\ZakemJ\Local Settings\Temporary Internet Files\Content.IE5\89A7CDEF\MPj04222740000[1].jpg"/>
          <p:cNvPicPr/>
          <p:nvPr/>
        </p:nvPicPr>
        <p:blipFill>
          <a:blip r:embed="rId4"/>
          <a:stretch/>
        </p:blipFill>
        <p:spPr>
          <a:xfrm>
            <a:off x="3733920" y="3962520"/>
            <a:ext cx="2590560" cy="25905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C:\Documents and Settings\ZakemJ\Local Settings\Temporary Internet Files\Content.IE5\G5IJG9QZ\MPj03876970000[1].jpg"/>
          <p:cNvPicPr/>
          <p:nvPr/>
        </p:nvPicPr>
        <p:blipFill>
          <a:blip r:embed="rId5"/>
          <a:stretch/>
        </p:blipFill>
        <p:spPr>
          <a:xfrm>
            <a:off x="6705720" y="4419720"/>
            <a:ext cx="2055600" cy="14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 – Organized by Cells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If you are living you are made of one or more cells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Picture 3" descr="C:\Documents and Settings\ZakemJ\Local Settings\Temporary Internet Files\Content.IE5\GDIJKLMN\MPj04387380000[1].jpg"/>
          <p:cNvPicPr/>
          <p:nvPr/>
        </p:nvPicPr>
        <p:blipFill>
          <a:blip r:embed="rId1"/>
          <a:stretch/>
        </p:blipFill>
        <p:spPr>
          <a:xfrm>
            <a:off x="304920" y="2743200"/>
            <a:ext cx="2057400" cy="15429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C:\Documents and Settings\ZakemJ\Local Settings\Temporary Internet Files\Content.IE5\89A7CDEF\MPj04331490000[1].jpg"/>
          <p:cNvPicPr/>
          <p:nvPr/>
        </p:nvPicPr>
        <p:blipFill>
          <a:blip r:embed="rId2"/>
          <a:stretch/>
        </p:blipFill>
        <p:spPr>
          <a:xfrm>
            <a:off x="3124080" y="3200400"/>
            <a:ext cx="2133720" cy="14223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C:\Documents and Settings\ZakemJ\Local Settings\Temporary Internet Files\Content.IE5\89A7CDEF\MPj04330590000[1].jpg"/>
          <p:cNvPicPr/>
          <p:nvPr/>
        </p:nvPicPr>
        <p:blipFill>
          <a:blip r:embed="rId3"/>
          <a:stretch/>
        </p:blipFill>
        <p:spPr>
          <a:xfrm>
            <a:off x="6172200" y="2743200"/>
            <a:ext cx="2362320" cy="17352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C:\Documents and Settings\ZakemJ\Local Settings\Temporary Internet Files\Content.IE5\OLQNSPQV\MPj04389220000[1].jpg"/>
          <p:cNvPicPr/>
          <p:nvPr/>
        </p:nvPicPr>
        <p:blipFill>
          <a:blip r:embed="rId4"/>
          <a:stretch/>
        </p:blipFill>
        <p:spPr>
          <a:xfrm>
            <a:off x="3352680" y="4724280"/>
            <a:ext cx="18306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 – Responds to Stimuli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If you are living you have to react to the outside world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Picture 3" descr="C:\Documents and Settings\ZakemJ\Local Settings\Temporary Internet Files\Content.IE5\89A7CDEF\MPj04243780000[1].jpg"/>
          <p:cNvPicPr/>
          <p:nvPr/>
        </p:nvPicPr>
        <p:blipFill>
          <a:blip r:embed="rId1"/>
          <a:stretch/>
        </p:blipFill>
        <p:spPr>
          <a:xfrm>
            <a:off x="304920" y="37339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C:\Documents and Settings\ZakemJ\Local Settings\Temporary Internet Files\Content.IE5\G5IJG9QZ\MPj04392970000[1].jpg"/>
          <p:cNvPicPr/>
          <p:nvPr/>
        </p:nvPicPr>
        <p:blipFill>
          <a:blip r:embed="rId2"/>
          <a:stretch/>
        </p:blipFill>
        <p:spPr>
          <a:xfrm>
            <a:off x="3352680" y="3429000"/>
            <a:ext cx="2286000" cy="30672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C:\Documents and Settings\ZakemJ\Local Settings\Temporary Internet Files\Content.IE5\G5IJG9QZ\MPj04442520000[1].jpg"/>
          <p:cNvPicPr/>
          <p:nvPr/>
        </p:nvPicPr>
        <p:blipFill>
          <a:blip r:embed="rId3"/>
          <a:stretch/>
        </p:blipFill>
        <p:spPr>
          <a:xfrm>
            <a:off x="5867280" y="3962520"/>
            <a:ext cx="289080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 – Develop and Grow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If you are living you have to get bigger and develop into a more complex being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2" descr="C:\Documents and Settings\ZakemJ\Local Settings\Temporary Internet Files\Content.IE5\OLQNSPQV\MPj04441630000[1].jpg"/>
          <p:cNvPicPr/>
          <p:nvPr/>
        </p:nvPicPr>
        <p:blipFill>
          <a:blip r:embed="rId1"/>
          <a:stretch/>
        </p:blipFill>
        <p:spPr>
          <a:xfrm>
            <a:off x="228600" y="3200400"/>
            <a:ext cx="1295280" cy="1523880"/>
          </a:xfrm>
          <a:prstGeom prst="rect">
            <a:avLst/>
          </a:prstGeom>
          <a:ln w="0">
            <a:noFill/>
          </a:ln>
        </p:spPr>
      </p:pic>
      <p:cxnSp>
        <p:nvCxnSpPr>
          <p:cNvPr id="218" name="Straight Arrow Connector 5"/>
          <p:cNvCxnSpPr/>
          <p:nvPr/>
        </p:nvCxnSpPr>
        <p:spPr>
          <a:xfrm>
            <a:off x="1523880" y="3962520"/>
            <a:ext cx="991440" cy="2160"/>
          </a:xfrm>
          <a:prstGeom prst="straightConnector1">
            <a:avLst/>
          </a:prstGeom>
          <a:ln w="25560">
            <a:solidFill>
              <a:srgbClr val="065093"/>
            </a:solidFill>
            <a:miter/>
            <a:tailEnd len="med" type="arrow" w="med"/>
          </a:ln>
        </p:spPr>
      </p:cxnSp>
      <p:pic>
        <p:nvPicPr>
          <p:cNvPr id="219" name="Picture 3" descr="C:\Documents and Settings\ZakemJ\Local Settings\Temporary Internet Files\Content.IE5\89A7CDEF\MPj04464860000[1].jpg"/>
          <p:cNvPicPr/>
          <p:nvPr/>
        </p:nvPicPr>
        <p:blipFill>
          <a:blip r:embed="rId2"/>
          <a:stretch/>
        </p:blipFill>
        <p:spPr>
          <a:xfrm>
            <a:off x="2590920" y="3276720"/>
            <a:ext cx="1066680" cy="1600200"/>
          </a:xfrm>
          <a:prstGeom prst="rect">
            <a:avLst/>
          </a:prstGeom>
          <a:ln w="0">
            <a:noFill/>
          </a:ln>
        </p:spPr>
      </p:pic>
      <p:cxnSp>
        <p:nvCxnSpPr>
          <p:cNvPr id="220" name="Straight Arrow Connector 7"/>
          <p:cNvCxnSpPr/>
          <p:nvPr/>
        </p:nvCxnSpPr>
        <p:spPr>
          <a:xfrm>
            <a:off x="3657600" y="3962520"/>
            <a:ext cx="991440" cy="2160"/>
          </a:xfrm>
          <a:prstGeom prst="straightConnector1">
            <a:avLst/>
          </a:prstGeom>
          <a:ln w="25560">
            <a:solidFill>
              <a:srgbClr val="065093"/>
            </a:solidFill>
            <a:miter/>
            <a:tailEnd len="med" type="arrow" w="med"/>
          </a:ln>
        </p:spPr>
      </p:cxnSp>
      <p:pic>
        <p:nvPicPr>
          <p:cNvPr id="221" name="Picture 5" descr="C:\Documents and Settings\ZakemJ\Local Settings\Temporary Internet Files\Content.IE5\GDIJKLMN\MPj04438980000[1].jpg"/>
          <p:cNvPicPr/>
          <p:nvPr/>
        </p:nvPicPr>
        <p:blipFill>
          <a:blip r:embed="rId3"/>
          <a:stretch/>
        </p:blipFill>
        <p:spPr>
          <a:xfrm>
            <a:off x="4648320" y="3276720"/>
            <a:ext cx="1284120" cy="1600200"/>
          </a:xfrm>
          <a:prstGeom prst="rect">
            <a:avLst/>
          </a:prstGeom>
          <a:ln w="0">
            <a:noFill/>
          </a:ln>
        </p:spPr>
      </p:pic>
      <p:cxnSp>
        <p:nvCxnSpPr>
          <p:cNvPr id="222" name="Straight Arrow Connector 10"/>
          <p:cNvCxnSpPr/>
          <p:nvPr/>
        </p:nvCxnSpPr>
        <p:spPr>
          <a:xfrm>
            <a:off x="6019560" y="3962520"/>
            <a:ext cx="991080" cy="2160"/>
          </a:xfrm>
          <a:prstGeom prst="straightConnector1">
            <a:avLst/>
          </a:prstGeom>
          <a:ln w="25560">
            <a:solidFill>
              <a:srgbClr val="065093"/>
            </a:solidFill>
            <a:miter/>
            <a:tailEnd len="med" type="arrow" w="med"/>
          </a:ln>
        </p:spPr>
      </p:cxnSp>
      <p:pic>
        <p:nvPicPr>
          <p:cNvPr id="223" name="Picture 2" descr="C:\Documents and Settings\ZakemJ\Local Settings\Temporary Internet Files\Content.IE5\OLQNSPQV\MPj04464570000[1].jpg"/>
          <p:cNvPicPr/>
          <p:nvPr/>
        </p:nvPicPr>
        <p:blipFill>
          <a:blip r:embed="rId4"/>
          <a:stretch/>
        </p:blipFill>
        <p:spPr>
          <a:xfrm>
            <a:off x="7162920" y="3276720"/>
            <a:ext cx="1269720" cy="16761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C:\Documents and Settings\ZakemJ\Local Settings\Temporary Internet Files\Content.IE5\89A7CDEF\MPj04426700000[1].jpg"/>
          <p:cNvPicPr/>
          <p:nvPr/>
        </p:nvPicPr>
        <p:blipFill>
          <a:blip r:embed="rId5"/>
          <a:stretch/>
        </p:blipFill>
        <p:spPr>
          <a:xfrm>
            <a:off x="228600" y="5181480"/>
            <a:ext cx="1066680" cy="1422360"/>
          </a:xfrm>
          <a:prstGeom prst="rect">
            <a:avLst/>
          </a:prstGeom>
          <a:ln w="0">
            <a:noFill/>
          </a:ln>
        </p:spPr>
      </p:pic>
      <p:cxnSp>
        <p:nvCxnSpPr>
          <p:cNvPr id="225" name="Straight Arrow Connector 11"/>
          <p:cNvCxnSpPr/>
          <p:nvPr/>
        </p:nvCxnSpPr>
        <p:spPr>
          <a:xfrm>
            <a:off x="1295280" y="5791320"/>
            <a:ext cx="991440" cy="2160"/>
          </a:xfrm>
          <a:prstGeom prst="straightConnector1">
            <a:avLst/>
          </a:prstGeom>
          <a:ln w="25560">
            <a:solidFill>
              <a:srgbClr val="065093"/>
            </a:solidFill>
            <a:miter/>
            <a:tailEnd len="med" type="arrow" w="med"/>
          </a:ln>
        </p:spPr>
      </p:cxnSp>
      <p:pic>
        <p:nvPicPr>
          <p:cNvPr id="226" name="Picture 4" descr="C:\Documents and Settings\ZakemJ\Local Settings\Temporary Internet Files\Content.IE5\89A7CDEF\MPj04385240000[1].jpg"/>
          <p:cNvPicPr/>
          <p:nvPr/>
        </p:nvPicPr>
        <p:blipFill>
          <a:blip r:embed="rId6"/>
          <a:stretch/>
        </p:blipFill>
        <p:spPr>
          <a:xfrm>
            <a:off x="2286000" y="5181480"/>
            <a:ext cx="2133720" cy="14097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C:\Documents and Settings\ZakemJ\Local Settings\Temporary Internet Files\Content.IE5\G5IJG9QZ\MPj04386010000[1].jpg"/>
          <p:cNvPicPr/>
          <p:nvPr/>
        </p:nvPicPr>
        <p:blipFill>
          <a:blip r:embed="rId7"/>
          <a:stretch/>
        </p:blipFill>
        <p:spPr>
          <a:xfrm>
            <a:off x="5486400" y="5181480"/>
            <a:ext cx="2209680" cy="1467000"/>
          </a:xfrm>
          <a:prstGeom prst="rect">
            <a:avLst/>
          </a:prstGeom>
          <a:ln w="0">
            <a:noFill/>
          </a:ln>
        </p:spPr>
      </p:pic>
      <p:cxnSp>
        <p:nvCxnSpPr>
          <p:cNvPr id="228" name="Straight Arrow Connector 15"/>
          <p:cNvCxnSpPr/>
          <p:nvPr/>
        </p:nvCxnSpPr>
        <p:spPr>
          <a:xfrm>
            <a:off x="4190760" y="5943600"/>
            <a:ext cx="991080" cy="2160"/>
          </a:xfrm>
          <a:prstGeom prst="straightConnector1">
            <a:avLst/>
          </a:prstGeom>
          <a:ln w="25560">
            <a:solidFill>
              <a:srgbClr val="0650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 – Energy /E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f you are a living animal you get your energy from eating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f you are a living plant you make your energy from a process called photosynthe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2" name="Picture 2" descr="C:\Documents and Settings\ZakemJ\Local Settings\Temporary Internet Files\Content.IE5\G5IJG9QZ\MPj04395760000[1].jpg"/>
          <p:cNvPicPr/>
          <p:nvPr/>
        </p:nvPicPr>
        <p:blipFill>
          <a:blip r:embed="rId1"/>
          <a:stretch/>
        </p:blipFill>
        <p:spPr>
          <a:xfrm>
            <a:off x="990720" y="3581280"/>
            <a:ext cx="2286000" cy="21592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C:\Documents and Settings\ZakemJ\Local Settings\Temporary Internet Files\Content.IE5\89A7CDEF\MPj04373010000[1].jpg"/>
          <p:cNvPicPr/>
          <p:nvPr/>
        </p:nvPicPr>
        <p:blipFill>
          <a:blip r:embed="rId2"/>
          <a:stretch/>
        </p:blipFill>
        <p:spPr>
          <a:xfrm>
            <a:off x="5943600" y="3733920"/>
            <a:ext cx="17812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 – Reproduce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If you are living you have to be able to make copies of yourself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6" name="Picture 2" descr="C:\Documents and Settings\ZakemJ\Local Settings\Temporary Internet Files\Content.IE5\89A7CDEF\MPj04477710000[1].jpg"/>
          <p:cNvPicPr/>
          <p:nvPr/>
        </p:nvPicPr>
        <p:blipFill>
          <a:blip r:embed="rId1"/>
          <a:stretch/>
        </p:blipFill>
        <p:spPr>
          <a:xfrm>
            <a:off x="609480" y="2590920"/>
            <a:ext cx="2845080" cy="18986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C:\Documents and Settings\ZakemJ\Local Settings\Temporary Internet Files\Content.IE5\GDIJKLMN\MPj04464650000[1].jpg"/>
          <p:cNvPicPr/>
          <p:nvPr/>
        </p:nvPicPr>
        <p:blipFill>
          <a:blip r:embed="rId2"/>
          <a:stretch/>
        </p:blipFill>
        <p:spPr>
          <a:xfrm>
            <a:off x="3733920" y="2438280"/>
            <a:ext cx="2862000" cy="23180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" descr="C:\Documents and Settings\ZakemJ\Local Settings\Temporary Internet Files\Content.IE5\G5IJG9QZ\MPj04465820000[1].jpg"/>
          <p:cNvPicPr/>
          <p:nvPr/>
        </p:nvPicPr>
        <p:blipFill>
          <a:blip r:embed="rId3"/>
          <a:stretch/>
        </p:blipFill>
        <p:spPr>
          <a:xfrm>
            <a:off x="6858000" y="2590920"/>
            <a:ext cx="1947960" cy="25146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C:\Documents and Settings\ZakemJ\Local Settings\Temporary Internet Files\Content.IE5\89A7CDEF\MPj04478020000[1].jpg"/>
          <p:cNvPicPr/>
          <p:nvPr/>
        </p:nvPicPr>
        <p:blipFill>
          <a:blip r:embed="rId4"/>
          <a:stretch/>
        </p:blipFill>
        <p:spPr>
          <a:xfrm>
            <a:off x="685800" y="4648320"/>
            <a:ext cx="2743200" cy="18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+A – Adapt to Environment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If you are living you must be able to change to the outside world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2" name="Picture 4" descr="C:\Documents and Settings\ZakemJ\Local Settings\Temporary Internet Files\Content.IE5\OLQNSPQV\MPj04442440000[1].jpg"/>
          <p:cNvPicPr/>
          <p:nvPr/>
        </p:nvPicPr>
        <p:blipFill>
          <a:blip r:embed="rId1"/>
          <a:stretch/>
        </p:blipFill>
        <p:spPr>
          <a:xfrm>
            <a:off x="3200400" y="3809880"/>
            <a:ext cx="1725480" cy="25844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C:\Documents and Settings\ZakemJ\Local Settings\Temporary Internet Files\Content.IE5\89A7CDEF\MPj04438300000[1].jpg"/>
          <p:cNvPicPr/>
          <p:nvPr/>
        </p:nvPicPr>
        <p:blipFill>
          <a:blip r:embed="rId2"/>
          <a:stretch/>
        </p:blipFill>
        <p:spPr>
          <a:xfrm>
            <a:off x="5943600" y="3200400"/>
            <a:ext cx="2155680" cy="32306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C:\Documents and Settings\ZakemJ\Local Settings\Temporary Internet Files\Content.IE5\GDIJKLMN\MPj03169020000[1].jpg"/>
          <p:cNvPicPr/>
          <p:nvPr/>
        </p:nvPicPr>
        <p:blipFill>
          <a:blip r:embed="rId3"/>
          <a:stretch/>
        </p:blipFill>
        <p:spPr>
          <a:xfrm>
            <a:off x="887400" y="3505320"/>
            <a:ext cx="20718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RDER +A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294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o be living you must be able to do all of these things by yourself. If you don’t do all those things you are not alive according to scienc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re the following things ALIVE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7" name="Picture 3" descr="C:\Documents and Settings\ZakemJ\Local Settings\Temporary Internet Files\Content.IE5\OLQNSPQV\MPj04392920000[1].jpg"/>
          <p:cNvPicPr/>
          <p:nvPr/>
        </p:nvPicPr>
        <p:blipFill>
          <a:blip r:embed="rId1"/>
          <a:stretch/>
        </p:blipFill>
        <p:spPr>
          <a:xfrm>
            <a:off x="762120" y="3276720"/>
            <a:ext cx="2476440" cy="16588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C:\Documents and Settings\ZakemJ\Local Settings\Temporary Internet Files\Content.IE5\GDIJKLMN\MPj04425000000[1].jpg"/>
          <p:cNvPicPr/>
          <p:nvPr/>
        </p:nvPicPr>
        <p:blipFill>
          <a:blip r:embed="rId2"/>
          <a:stretch/>
        </p:blipFill>
        <p:spPr>
          <a:xfrm>
            <a:off x="3352680" y="3276720"/>
            <a:ext cx="2514600" cy="16761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C:\Documents and Settings\ZakemJ\Local Settings\Temporary Internet Files\Content.IE5\G5IJG9QZ\MPj04439020000[1].jpg"/>
          <p:cNvPicPr/>
          <p:nvPr/>
        </p:nvPicPr>
        <p:blipFill>
          <a:blip r:embed="rId3"/>
          <a:stretch/>
        </p:blipFill>
        <p:spPr>
          <a:xfrm>
            <a:off x="6172200" y="3276720"/>
            <a:ext cx="2217600" cy="14763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C:\Documents and Settings\ZakemJ\Local Settings\Temporary Internet Files\Content.IE5\89A7CDEF\MPj04478830000[1].jpg"/>
          <p:cNvPicPr/>
          <p:nvPr/>
        </p:nvPicPr>
        <p:blipFill>
          <a:blip r:embed="rId4"/>
          <a:stretch/>
        </p:blipFill>
        <p:spPr>
          <a:xfrm>
            <a:off x="762120" y="5029200"/>
            <a:ext cx="2463840" cy="16444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9" descr="C:\Documents and Settings\ZakemJ\Local Settings\Temporary Internet Files\Content.IE5\89A7CDEF\MPj04478070000[1].jpg"/>
          <p:cNvPicPr/>
          <p:nvPr/>
        </p:nvPicPr>
        <p:blipFill>
          <a:blip r:embed="rId5"/>
          <a:stretch/>
        </p:blipFill>
        <p:spPr>
          <a:xfrm>
            <a:off x="5791320" y="5105520"/>
            <a:ext cx="2314440" cy="15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iving vs. Non-Liv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523520"/>
            <a:ext cx="236232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ving –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You can perform all of the activities of    ORDER +A at the current tim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648320" y="1447920"/>
            <a:ext cx="4038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n-Living –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ad – you were once able to perform all the activities of ORDER+A but can not now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n-Made – you were made by man and could never do ORDER+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ever Alive – you were made by nature and could never do ORDER+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5" name="Picture 3" descr="C:\Documents and Settings\ZakemJ\Local Settings\Temporary Internet Files\Content.IE5\OLQNSPQV\MPj04364260000[1].jpg"/>
          <p:cNvPicPr/>
          <p:nvPr/>
        </p:nvPicPr>
        <p:blipFill>
          <a:blip r:embed="rId1"/>
          <a:stretch/>
        </p:blipFill>
        <p:spPr>
          <a:xfrm>
            <a:off x="7467480" y="0"/>
            <a:ext cx="1487520" cy="19810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C:\Documents and Settings\ZakemJ\Local Settings\Temporary Internet Files\Content.IE5\G5IJG9QZ\MPj04387360000[1].jpg"/>
          <p:cNvPicPr/>
          <p:nvPr/>
        </p:nvPicPr>
        <p:blipFill>
          <a:blip r:embed="rId2"/>
          <a:stretch/>
        </p:blipFill>
        <p:spPr>
          <a:xfrm>
            <a:off x="3048120" y="2971800"/>
            <a:ext cx="2006640" cy="15048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C:\Documents and Settings\ZakemJ\Local Settings\Temporary Internet Files\Content.IE5\89A7CDEF\MPj04477360000[1].jpg"/>
          <p:cNvPicPr/>
          <p:nvPr/>
        </p:nvPicPr>
        <p:blipFill>
          <a:blip r:embed="rId3"/>
          <a:stretch/>
        </p:blipFill>
        <p:spPr>
          <a:xfrm>
            <a:off x="3581280" y="4572000"/>
            <a:ext cx="1525680" cy="2286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C:\Documents and Settings\ZakemJ\Local Settings\Temporary Internet Files\Content.IE5\89A7CDEF\MPj04464710000[1].jpg"/>
          <p:cNvPicPr/>
          <p:nvPr/>
        </p:nvPicPr>
        <p:blipFill>
          <a:blip r:embed="rId4"/>
          <a:stretch/>
        </p:blipFill>
        <p:spPr>
          <a:xfrm>
            <a:off x="685800" y="49528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8T16:20:51Z</dcterms:created>
  <dc:creator>CCSD</dc:creator>
  <dc:description/>
  <cp:keywords>Characterisitcs of Life</cp:keywords>
  <dc:language>en-US</dc:language>
  <cp:lastModifiedBy>RomaK</cp:lastModifiedBy>
  <dcterms:modified xsi:type="dcterms:W3CDTF">2015-09-04T10:51:53Z</dcterms:modified>
  <cp:revision>16</cp:revision>
  <dc:subject>Characterisitcs of Life</dc:subject>
  <dc:title>Characterisitcs of Life</dc:title>
</cp:coreProperties>
</file>