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6.wmf" ContentType="image/x-wmf"/>
  <Override PartName="/ppt/media/image7.png" ContentType="image/png"/>
  <Override PartName="/ppt/media/image11.jpeg" ContentType="image/jpeg"/>
  <Override PartName="/ppt/media/image12.jpeg" ContentType="image/jpeg"/>
  <Override PartName="/ppt/media/image13.wmf" ContentType="image/x-wmf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B3B4-CE39-4989-AA06-8AC8D5261A9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ure have lots of bon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wborn baby has more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 an adult. A baby is born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0 bones. An adult only has 2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jawbone is the hardest i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uman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bone not broken so far du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ki accident is one locat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your inner 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break your wrist as a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ult it will take you 8 weeks 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five year old child 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ks their wrist only takes 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s to h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ig toes have 2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, while all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toes have 3 b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ones also manufa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cells and sto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ful minera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hand has 27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ace has 14 bon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est and The Longes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est bone in your body is the stirrup bone in your ear which can measure only 1/10 of an in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and giraffes have the same number of b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ir necks? A Giraffe’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ck vertebrae are just much, much longer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Femur (thigh bone)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is stronger than concr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e is stronger, inch for inch than the steel used in skyscrap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bies are bo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 patella (knee bo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develops betwe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es 2 and 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fourth of your bones are located in your fee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backbone is really thirty-three bones that run down the middle of your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C21C-F9A4-4948-A3F3-A3FD29EEB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CBF1-F0A4-483A-BB39-BEE103D1A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AE5-76BA-44DA-B46D-5772188D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3D40-5369-4ACB-936A-F3EFF5C5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758-961A-4419-AC3D-6B929B41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17E5-44D7-4DC5-BA15-3FDB15B56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1EE3-8F46-4F47-84CD-ACE94873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1630-E05C-4933-8495-929F6764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1455-EB38-456F-A877-4C2A6E7A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AC72-1366-4A3B-9288-300742D6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A4D0-DAB7-47D9-8C77-8CF4A2FDA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06EC-9DE0-4E1E-B259-374E6ECF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24097-EFB8-4F8F-9307-9E0020842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30800" y="83808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1"/>
          <p:cNvSpPr/>
          <p:nvPr/>
        </p:nvSpPr>
        <p:spPr>
          <a:xfrm>
            <a:off x="734040" y="457200"/>
            <a:ext cx="8059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We sure have lots of bones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0" y="1776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3"/>
          <p:cNvSpPr/>
          <p:nvPr/>
        </p:nvSpPr>
        <p:spPr>
          <a:xfrm>
            <a:off x="252720" y="2378160"/>
            <a:ext cx="864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A newborn baby has more b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than an adult. A baby is born wi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923da"/>
                </a:solidFill>
                <a:latin typeface="Arial"/>
              </a:rPr>
              <a:t>300 bones. An adult only has 20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5"/>
          <p:cNvSpPr/>
          <p:nvPr/>
        </p:nvSpPr>
        <p:spPr>
          <a:xfrm>
            <a:off x="-1093680" y="12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MPj0385801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799920" y="747720"/>
            <a:ext cx="80506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jawbone is the hardest i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the human body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-4495680" y="151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MPj0385793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6"/>
          <p:cNvSpPr/>
          <p:nvPr/>
        </p:nvSpPr>
        <p:spPr>
          <a:xfrm>
            <a:off x="250200" y="1539720"/>
            <a:ext cx="860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The only bone not broken so far du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 </a:t>
            </a: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any ski accident is one locat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ff33"/>
                </a:solidFill>
                <a:latin typeface="Verdana"/>
                <a:ea typeface="Times New Roman"/>
              </a:rPr>
              <a:t>in your inner ea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5"/>
          <p:cNvSpPr/>
          <p:nvPr/>
        </p:nvSpPr>
        <p:spPr>
          <a:xfrm>
            <a:off x="-3670200" y="96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MPj0305704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6"/>
          <p:cNvSpPr/>
          <p:nvPr/>
        </p:nvSpPr>
        <p:spPr>
          <a:xfrm>
            <a:off x="602280" y="306720"/>
            <a:ext cx="85032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If you break your wrist as a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dult it will take you 8 weeks t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heal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A five year old child who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breaks their wrist only takes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Verdana"/>
                <a:ea typeface="Times New Roman"/>
              </a:rPr>
              <a:t>weeks to heal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-4159080" y="16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MCHM00251_0000[1]"/>
          <p:cNvPicPr/>
          <p:nvPr/>
        </p:nvPicPr>
        <p:blipFill>
          <a:blip r:embed="rId1"/>
          <a:stretch/>
        </p:blipFill>
        <p:spPr>
          <a:xfrm rot="5400000">
            <a:off x="3800880" y="2522880"/>
            <a:ext cx="1808280" cy="483876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36960" y="535320"/>
            <a:ext cx="8082720" cy="33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ig toes have 2 bon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, while all your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other toes have 3 bon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in them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5"/>
          <p:cNvSpPr/>
          <p:nvPr/>
        </p:nvSpPr>
        <p:spPr>
          <a:xfrm>
            <a:off x="-4560840" y="7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j0211494"/>
          <p:cNvPicPr/>
          <p:nvPr/>
        </p:nvPicPr>
        <p:blipFill>
          <a:blip r:embed="rId1"/>
          <a:stretch/>
        </p:blipFill>
        <p:spPr>
          <a:xfrm>
            <a:off x="2209680" y="2757600"/>
            <a:ext cx="4648320" cy="39672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259920" y="168840"/>
            <a:ext cx="8614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Your bones also manufactur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blood cells and store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  <a:ea typeface="Times New Roman"/>
              </a:rPr>
              <a:t>useful minerals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1539360" y="1164960"/>
            <a:ext cx="1448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MPj0385818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990360" y="166680"/>
            <a:ext cx="690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Verdana"/>
                <a:ea typeface="Times New Roman"/>
              </a:rPr>
              <a:t>Your hand has 27 bones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  <a:ea typeface="Times New Roman"/>
              </a:rPr>
              <a:t>.</a:t>
            </a:r>
            <a:r>
              <a:rPr b="0" lang="en-US" sz="3600" spc="-1" strike="noStrike">
                <a:solidFill>
                  <a:srgbClr val="ff0000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6994440" y="4896000"/>
            <a:ext cx="130320" cy="34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2286000" y="2988000"/>
            <a:ext cx="5654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r>
              <a:rPr b="0" lang="en-US" sz="4800" spc="-1" strike="noStrike">
                <a:solidFill>
                  <a:srgbClr val="ff0000"/>
                </a:solidFill>
                <a:latin typeface="Verdana"/>
                <a:ea typeface="Times New Roman"/>
              </a:rPr>
              <a:t>	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-92160" y="5281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MPj03960060000[1]"/>
          <p:cNvPicPr/>
          <p:nvPr/>
        </p:nvPicPr>
        <p:blipFill>
          <a:blip r:embed="rId1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9"/>
          <p:cNvSpPr/>
          <p:nvPr/>
        </p:nvSpPr>
        <p:spPr>
          <a:xfrm>
            <a:off x="1828800" y="182880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ff33"/>
                </a:solidFill>
                <a:latin typeface="Arial"/>
              </a:rPr>
              <a:t>Your face has 14 bones.</a:t>
            </a:r>
            <a:r>
              <a:rPr b="0" lang="en-US" sz="1800" spc="-1" strike="noStrike">
                <a:solidFill>
                  <a:srgbClr val="66ff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Arial"/>
              </a:rPr>
              <a:t>Smallest and The Longest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longest bone in your body is your thigh bone, the femur it is about 1/4 of your h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The smallest bone in your body is the stirrup bone in your ear which can measure only 1/10 of an inch.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6" descr="MCj03504550000[1]"/>
          <p:cNvPicPr/>
          <p:nvPr/>
        </p:nvPicPr>
        <p:blipFill>
          <a:blip r:embed="rId1"/>
          <a:stretch/>
        </p:blipFill>
        <p:spPr>
          <a:xfrm rot="2623200">
            <a:off x="1828440" y="5181480"/>
            <a:ext cx="717480" cy="114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MCj03504550000[1]"/>
          <p:cNvPicPr/>
          <p:nvPr/>
        </p:nvPicPr>
        <p:blipFill>
          <a:blip r:embed="rId2"/>
          <a:stretch/>
        </p:blipFill>
        <p:spPr>
          <a:xfrm rot="4693800">
            <a:off x="5701320" y="4350240"/>
            <a:ext cx="13780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MPj038579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2835000" y="0"/>
            <a:ext cx="4431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923da"/>
                </a:solidFill>
                <a:latin typeface="Verdana"/>
                <a:ea typeface="Times New Roman"/>
              </a:rPr>
              <a:t>Did You Know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914400" y="1820520"/>
            <a:ext cx="73152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Humans and giraffes have the same number of bon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in their necks? A Giraffe’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ff"/>
                </a:solidFill>
                <a:latin typeface="Verdana"/>
                <a:ea typeface="Times New Roman"/>
              </a:rPr>
              <a:t>neck vertebrae are just much, much longer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-3587760" y="21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MCj03710220000[1]"/>
          <p:cNvPicPr/>
          <p:nvPr/>
        </p:nvPicPr>
        <p:blipFill>
          <a:blip r:embed="rId1"/>
          <a:stretch/>
        </p:blipFill>
        <p:spPr>
          <a:xfrm rot="5400000">
            <a:off x="167040" y="2270520"/>
            <a:ext cx="4438800" cy="29448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6"/>
          <p:cNvSpPr/>
          <p:nvPr/>
        </p:nvSpPr>
        <p:spPr>
          <a:xfrm>
            <a:off x="3962520" y="1765800"/>
            <a:ext cx="4572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Your Femur (thigh bone)</a:t>
            </a:r>
            <a:br>
              <a:rPr sz="4000"/>
            </a:b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 is stronger than concret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Bone is stronger, inch for inch than the steel used in skyscraper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5"/>
          <p:cNvSpPr/>
          <p:nvPr/>
        </p:nvSpPr>
        <p:spPr>
          <a:xfrm>
            <a:off x="-3214800" y="115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ttp://www.human-anatomy.net/images/knee_anatomy/knee6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6"/>
          <p:cNvSpPr/>
          <p:nvPr/>
        </p:nvSpPr>
        <p:spPr>
          <a:xfrm>
            <a:off x="811080" y="1219680"/>
            <a:ext cx="775332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Babies are bor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without the patella (knee bone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it develops betwee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Verdana"/>
                <a:ea typeface="Times New Roman"/>
              </a:rPr>
              <a:t>ages 2 and 5.</a:t>
            </a:r>
            <a:r>
              <a:rPr b="0" lang="en-US" sz="3600" spc="-1" strike="noStrike">
                <a:solidFill>
                  <a:srgbClr val="0066ff"/>
                </a:solidFill>
                <a:latin typeface="Verdana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5"/>
          <p:cNvSpPr/>
          <p:nvPr/>
        </p:nvSpPr>
        <p:spPr>
          <a:xfrm>
            <a:off x="-120348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MPj03858150000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6"/>
          <p:cNvSpPr/>
          <p:nvPr/>
        </p:nvSpPr>
        <p:spPr>
          <a:xfrm>
            <a:off x="914400" y="685080"/>
            <a:ext cx="7391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  <a:ea typeface="Times New Roman"/>
              </a:rPr>
              <a:t>One fourth of your bones are located in your fee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hm00355_"/>
          <p:cNvPicPr/>
          <p:nvPr/>
        </p:nvPicPr>
        <p:blipFill>
          <a:blip r:embed="rId1"/>
          <a:stretch/>
        </p:blipFill>
        <p:spPr>
          <a:xfrm>
            <a:off x="3809880" y="1371600"/>
            <a:ext cx="1648080" cy="50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762120" y="762840"/>
            <a:ext cx="782784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Your ba</a:t>
            </a:r>
            <a:r>
              <a:rPr b="0" lang="en-US" sz="4800" spc="-1" strike="noStrike">
                <a:solidFill>
                  <a:srgbClr val="0000ff"/>
                </a:solidFill>
                <a:latin typeface="Verdana"/>
                <a:ea typeface="Times New Roman"/>
              </a:rPr>
              <a:t>ckbone is really thirty-three bones that run down the middle of your body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3T23:23:15Z</dcterms:created>
  <dc:creator> </dc:creator>
  <dc:description/>
  <dc:language>en-US</dc:language>
  <cp:lastModifiedBy>RomaK</cp:lastModifiedBy>
  <dcterms:modified xsi:type="dcterms:W3CDTF">2015-09-04T10:46:50Z</dcterms:modified>
  <cp:revision>35</cp:revision>
  <dc:subject/>
  <dc:title>facts on bones</dc:title>
</cp:coreProperties>
</file>