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5C51-8AD6-474E-8C90-3A5C82900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619-BE37-4CDE-808A-F7EE8ADF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2DF-5F53-4B07-9EA3-67DD0591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FF1-2391-4AF4-BCAF-4B46F1A4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611-71E7-418D-B520-5AF6B624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16A-66ED-4109-90AE-7EE6BF19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D8D-A231-4507-888E-58CB837D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150-0336-4EF1-8581-ABF28590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E59-BB6D-4C1D-A13C-99DDA3B3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A24-DDAF-47AA-9AA5-5ADDE387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824-665D-4A81-9BB4-5D9687D7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041-748E-4404-BFB2-E397F1CD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442-9EC2-4B84-B86E-C3FADDB7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28A8-B541-413D-BF98-95637D515D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at is meant by the ter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944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rgets"/>
          <p:cNvPicPr/>
          <p:nvPr/>
        </p:nvPicPr>
        <p:blipFill>
          <a:blip r:embed="rId1"/>
          <a:stretch/>
        </p:blipFill>
        <p:spPr>
          <a:xfrm>
            <a:off x="380880" y="17924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ormone_2"/>
          <p:cNvPicPr/>
          <p:nvPr/>
        </p:nvPicPr>
        <p:blipFill>
          <a:blip r:embed="rId1"/>
          <a:stretch/>
        </p:blipFill>
        <p:spPr>
          <a:xfrm>
            <a:off x="152280" y="1050840"/>
            <a:ext cx="88394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arget ce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target cell responds to a hormone because it bears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sulin"/>
          <p:cNvPicPr/>
          <p:nvPr/>
        </p:nvPicPr>
        <p:blipFill>
          <a:blip r:embed="rId1"/>
          <a:stretch/>
        </p:blipFill>
        <p:spPr>
          <a:xfrm>
            <a:off x="990720" y="282600"/>
            <a:ext cx="71625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108240" y="1023840"/>
            <a:ext cx="5000760" cy="268200"/>
            <a:chOff x="3108240" y="1023840"/>
            <a:chExt cx="5000760" cy="268200"/>
          </a:xfrm>
        </p:grpSpPr>
        <p:sp>
          <p:nvSpPr>
            <p:cNvPr id="51" name="Rectangle 6"/>
            <p:cNvSpPr/>
            <p:nvPr/>
          </p:nvSpPr>
          <p:spPr>
            <a:xfrm>
              <a:off x="3108240" y="1023840"/>
              <a:ext cx="50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108240" y="10238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illu_endocrine_system"/>
          <p:cNvPicPr/>
          <p:nvPr/>
        </p:nvPicPr>
        <p:blipFill>
          <a:blip r:embed="rId1"/>
          <a:stretch/>
        </p:blipFill>
        <p:spPr>
          <a:xfrm>
            <a:off x="2303640" y="15228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igure19c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4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0492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externally through a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hormones into the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ancreas has an exocrine portion that secretes digestive enzymes that are carried through a duct to the duodenum. The endocrine portion consists of the pancreatic islets, which secrete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glucagon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insuli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gar"/>
          <p:cNvPicPr/>
          <p:nvPr/>
        </p:nvPicPr>
        <p:blipFill>
          <a:blip r:embed="rId1"/>
          <a:stretch/>
        </p:blipFill>
        <p:spPr>
          <a:xfrm>
            <a:off x="2392200" y="152280"/>
            <a:ext cx="4361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4304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743040" y="1085760"/>
            <a:ext cx="7659720" cy="4541760"/>
            <a:chOff x="743040" y="1085760"/>
            <a:chExt cx="7659720" cy="4541760"/>
          </a:xfrm>
        </p:grpSpPr>
        <p:sp>
          <p:nvSpPr>
            <p:cNvPr id="66" name="Rectangle 3"/>
            <p:cNvSpPr/>
            <p:nvPr/>
          </p:nvSpPr>
          <p:spPr>
            <a:xfrm>
              <a:off x="743040" y="108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743040" y="1085760"/>
              <a:ext cx="7659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  </a:t>
              </a:r>
              <a:r>
                <a:rPr b="0" lang="en-GB" sz="292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</a:t>
              </a: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Blood glucose regulation"/>
          <p:cNvPicPr/>
          <p:nvPr/>
        </p:nvPicPr>
        <p:blipFill>
          <a:blip r:embed="rId1"/>
          <a:stretch/>
        </p:blipFill>
        <p:spPr>
          <a:xfrm>
            <a:off x="228600" y="351000"/>
            <a:ext cx="87631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omeos4"/>
          <p:cNvPicPr/>
          <p:nvPr/>
        </p:nvPicPr>
        <p:blipFill>
          <a:blip r:embed="rId1"/>
          <a:stretch/>
        </p:blipFill>
        <p:spPr>
          <a:xfrm>
            <a:off x="152280" y="1355760"/>
            <a:ext cx="883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53:37Z</dcterms:created>
  <dc:creator>Sarah</dc:creator>
  <dc:description/>
  <dc:language>en-US</dc:language>
  <cp:lastModifiedBy>RomaK</cp:lastModifiedBy>
  <dcterms:modified xsi:type="dcterms:W3CDTF">2015-09-04T10:46:37Z</dcterms:modified>
  <cp:revision>17</cp:revision>
  <dc:subject/>
  <dc:title>Objectives</dc:title>
</cp:coreProperties>
</file>