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27.wmf" ContentType="image/x-wmf"/>
  <Override PartName="/ppt/media/image3.png" ContentType="image/png"/>
  <Override PartName="/ppt/media/image17.jpeg" ContentType="image/jpeg"/>
  <Override PartName="/ppt/media/image5.jpeg" ContentType="image/jpeg"/>
  <Override PartName="/ppt/media/image10.jpeg" ContentType="image/jpeg"/>
  <Override PartName="/ppt/media/image28.wmf" ContentType="image/x-wmf"/>
  <Override PartName="/ppt/media/image30.wmf" ContentType="image/x-wmf"/>
  <Override PartName="/ppt/media/image7.png" ContentType="image/png"/>
  <Override PartName="/ppt/media/image4.png" ContentType="image/png"/>
  <Override PartName="/ppt/media/image12.jpeg" ContentType="image/jpeg"/>
  <Override PartName="/ppt/media/image13.png" ContentType="image/png"/>
  <Override PartName="/ppt/media/image8.wmf" ContentType="image/x-wmf"/>
  <Override PartName="/ppt/media/image11.png" ContentType="image/png"/>
  <Override PartName="/ppt/media/image9.png" ContentType="image/png"/>
  <Override PartName="/ppt/media/image2.png" ContentType="image/png"/>
  <Override PartName="/ppt/media/image1.png" ContentType="image/png"/>
  <Override PartName="/ppt/media/image14.wmf" ContentType="image/x-wmf"/>
  <Override PartName="/ppt/media/image29.png" ContentType="image/png"/>
  <Override PartName="/ppt/media/image15.png" ContentType="image/png"/>
  <Override PartName="/ppt/media/image16.png" ContentType="image/png"/>
  <Override PartName="/ppt/media/image20.png" ContentType="image/png"/>
  <Override PartName="/ppt/media/image19.wmf" ContentType="image/x-wmf"/>
  <Override PartName="/ppt/media/image6.jpeg" ContentType="image/jpeg"/>
  <Override PartName="/ppt/media/image18.png" ContentType="image/png"/>
  <Override PartName="/ppt/media/image21.wmf" ContentType="image/x-wmf"/>
  <Override PartName="/ppt/media/image22.wmf" ContentType="image/x-wmf"/>
  <Override PartName="/ppt/media/image23.wmf" ContentType="image/x-wmf"/>
  <Override PartName="/ppt/media/image24.wmf" ContentType="image/x-wmf"/>
  <Override PartName="/ppt/media/image25.wmf" ContentType="image/x-wmf"/>
  <Override PartName="/ppt/media/image26.wmf" ContentType="image/x-wmf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37464-1628-4B06-A77B-2E6257BE7BE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oy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oyancy is the ability of an object to floa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related to the object’s density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oya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oyancy is the ability of an object to floa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related to the object’s densit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nsity is the amount of matter in a given volume or sp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sses are the least dense form of mat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quids are more dense than gasses, but less dense than sol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ids are the most dense form of mat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ns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nsity is the amount of matter in a given volume or 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sses are the least dense form of ma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quids are more dense than gasses, but less dense than sol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ids are the most dense form of ma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n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the balloon pops, the gas will spread out evenly in the cub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sses fill any volume and take the shape of their contain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the balloon pops, the gas will spread out evenly in the cub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sses fill any volume and take the shape of their contain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quids stick together, but take the shape of their contain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water will take the shape of the cub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quids stick together, but take the shape of their contain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water will take the shape of the cub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ids are very dense and do not take the shape of their contain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ock will keep its own shap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ids are very dense and do not take the shape of their contain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ock will keep its own shap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xamples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xamples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oyancy and density are called PROPERTIES of mat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other property of matter is displacement, or how much matter (we use water) it pushes out of the wa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buoyant object will only displace its mass unless its surface area is large compared to its ma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would happen if you used sand instead of water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st but not least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oyancy and density are called PROPERTIES of ma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other property of matter is displacement, or how much matter (we use water) it pushes out of the wa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buoyant object will only displace its mass unless its surface area is large compared to its m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would happen if you used sand instead of wate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st but not least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9020C-B441-4A49-A39B-144EFDC83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27F6C-1420-4E9D-9E3E-A33D18F8F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82603-7BB8-4FBD-9ECD-FAD3ECC8D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EAFE5-96EB-4932-94C7-60B482CE6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EA49C-893C-4FB0-AAD7-6A9873920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24B97-0F3A-42C4-8470-E1CFC5FCF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789D2-43AB-4199-ACD5-57F715875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BE2F0-4E96-461E-A300-6163CE5AC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1C42C-FC9B-487D-BFA9-CAC8D2A9B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17156-4D4B-42EC-8973-D51316C54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97EA7-3AC0-4C1A-8E3D-E24016476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A0F89-F792-4352-8DD9-BA4E76535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162DD-B48A-459A-8641-B7654BB40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FE38E-7EB2-4162-8F56-9ADADCC95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8105C-44F8-4C84-83FC-CF7A51D7E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2E5BE-B248-4717-8A36-D48CDEF4F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8ED7C-99C8-4325-A184-D28D1441E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C2CE76-026F-41F2-9CA3-1A4865B5E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8C829C-6EE5-4428-B003-8F8F76536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7DB2D2-08B6-482E-A307-360F31B19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6B5407-0512-4389-84F8-2DE1E38C6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08388C-9B2F-482C-A14C-B876DC34D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D3CB9-0858-4E9E-B76A-D05F3B58D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EE2F7D-694A-43AA-BA07-89856454F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6801F6-F514-4ECB-A088-13AA7BE93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9D6270-7880-4871-8EDB-06B463CF4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AE8702-0451-4AE7-AF33-14A62B671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C73521-D58B-4E5B-AA53-1975A4808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AE0DBE-049C-48E3-9039-19F59ADE1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6BA46C-CD62-4199-9BE3-EF17C16C1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A2DB4A-DC59-42DD-9985-91214A64B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317283-1697-4AB6-A568-053BC0867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E02D01-C384-42ED-9EE3-BE75B4786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FB4F0-0186-4AF9-9AD3-7E19B4C32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FE290F-2238-41C1-98AA-A52A4DAA1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E51888-ACCD-4237-983B-C2959B157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9F8F9A-CAF7-4C6F-A567-4236AFC7A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60D04C-C2BF-4BB3-98AF-05BBB33C1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C180E4-348B-44ED-8DBE-6B62EE8F1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E0C997-6C49-4779-B15F-F224FE0CE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E26F27-7F53-424D-B1CF-EF41D4286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FD80EC-3A7B-400F-9342-214F2F9BE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D9EC42-DEA5-42C5-8C27-DE77DE1EB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2F9F01-F527-45EF-ABD3-B7D33209D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2EB6D-BB1E-4A55-8DD0-D42106A45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5DB1B3-EBAA-41E6-AF22-E0BA2F7AA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06EB09-E60F-47BA-B074-58F0DBB92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03485B-BE9C-463B-99DE-7C8E03890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FCE1A6-67C9-45DE-AD21-14F22F9B1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0DE1F3-0D85-4504-9342-40B5997B5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0AB0BE-F45B-4EF0-B966-F57077157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0088FF-1EC7-4149-BD69-24A62B84D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CB88AE-9836-4CA5-9241-1A871F0ED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9B6286-5BA1-4B5C-90CF-5069372ED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E69DBB-41B0-45D9-AFA0-38B8AEF07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03EFA-877B-4350-8DC3-12BC80E4B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5F5EDA-A7CB-4F42-A2C7-523040118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2447D0-4891-4297-81B1-E44C15417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9B90E6-6519-421C-9D0C-F3DCD2ABA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229EAD-1950-492C-9E79-633ED2435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EB945E-EC04-40BC-A3F5-68E863DFA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EC3DC6-2745-4C9B-AB85-50F6E60B0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1F76B4-C585-489A-BD78-D6823E136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93BA62-9B31-4EA0-B3A6-D260D89E8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9C7356-B900-4D69-8ECD-94337B984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2FABA6-21FA-41A9-8609-FA7A9766F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CC6A5-D5E9-412E-97E5-5EE85672A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9A3F96-85DE-4F50-BCD2-34DF20FD2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B7F6C5-1503-4387-8FAA-5D98A3E9B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A6D5E8-7A14-4A09-906F-816E50810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E9414A-D4BF-42E2-8393-024E6C40A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2253E6-9A25-4040-B7DD-C854D26C5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0CEC19-F51F-4BEE-AF76-49706391F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27A615-C27A-4B2A-9018-53F617369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3E3D98-75A6-4E23-A738-20F06C20E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E1D687-DC75-469F-A361-70822DA08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31713E-73BA-4DD8-B5DB-50E5FDEEE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5DF69-5BBF-438E-BD10-A1C1F0346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E85EDA-C160-4EEB-960C-BA0A116BF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978FB4-AAB2-4BF2-A1D0-C5EEAD156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705E80-6090-4B41-AB08-0BC04EBED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387446-4635-4D06-94D6-34F386EB0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5F924C-8FA9-4FE8-9D25-8231E6E0A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C8EEAB-FE74-4B87-8C84-87702C6A6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B3C52F-AA4F-4BD6-B2DE-DCFB43E7F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0D29F9-AFD7-40BD-A72E-E2B69EF3A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5879D7-556B-44B3-A93E-8C8678EFB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84DB8D-C657-42DC-A9EC-7CFE0AD87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B1449-5FAD-4C11-806B-9D9F1F0D3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5BB992-A313-448B-956F-6EB046715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6A74B3-4D7A-4AF0-9F73-ACB696A80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E25FEA-6798-484E-ADD3-884910A5B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1CB7B2-2676-414F-A3D2-24BE957ED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28C26F-92F5-436D-B76A-D55AF9F0C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3039F0-63E2-4289-ADC3-03F952B41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58B924-C81B-4B78-BB7B-B76F897F1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C359F-354C-4818-BD4E-314FB7CEABBF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87ECD-77F5-4228-AA81-3531B727C076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65E7D-B49B-45FC-B0CE-0B64C916CCFA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9F50D-C69A-4211-8C23-C69E474FB4FC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5EB70-5CD6-46D4-9184-E302489DF6FB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91D8A-DF3F-4A35-929C-FF6CD0D2FA5A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5566A-2DE2-4810-A32C-5BED977B71BD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243E2-82CD-470F-8595-3CA6E605019B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wmf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4.wmf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4.wmf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wmf"/><Relationship Id="rId3" Type="http://schemas.openxmlformats.org/officeDocument/2006/relationships/image" Target="../media/image22.wmf"/><Relationship Id="rId4" Type="http://schemas.openxmlformats.org/officeDocument/2006/relationships/image" Target="../media/image23.wmf"/><Relationship Id="rId5" Type="http://schemas.openxmlformats.org/officeDocument/2006/relationships/image" Target="../media/image24.wmf"/><Relationship Id="rId6" Type="http://schemas.openxmlformats.org/officeDocument/2006/relationships/image" Target="../media/image25.wmf"/><Relationship Id="rId7" Type="http://schemas.openxmlformats.org/officeDocument/2006/relationships/image" Target="../media/image26.wmf"/><Relationship Id="rId8" Type="http://schemas.openxmlformats.org/officeDocument/2006/relationships/image" Target="../media/image27.wmf"/><Relationship Id="rId9" Type="http://schemas.openxmlformats.org/officeDocument/2006/relationships/image" Target="../media/image28.wmf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Title 1" descr=""/>
          <p:cNvPicPr/>
          <p:nvPr/>
        </p:nvPicPr>
        <p:blipFill>
          <a:blip r:embed="rId1"/>
          <a:stretch/>
        </p:blipFill>
        <p:spPr>
          <a:xfrm>
            <a:off x="689040" y="1755720"/>
            <a:ext cx="8083440" cy="220032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464646"/>
                </a:solidFill>
                <a:latin typeface="Lucida Sans Unicode"/>
              </a:rPr>
              <a:t>Buoyancy</a:t>
            </a: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 is the ability of an object to float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It is related to the object’s </a:t>
            </a:r>
            <a:r>
              <a:rPr b="0" i="1" lang="en-US" sz="2700" spc="-1" strike="noStrike">
                <a:solidFill>
                  <a:srgbClr val="464646"/>
                </a:solidFill>
                <a:latin typeface="Lucida Sans Unicode"/>
              </a:rPr>
              <a:t>density</a:t>
            </a: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9" name="Picture 2" descr="C:\Documents and Settings\carolyn.kinne\Local Settings\Temporary Internet Files\Content.IE5\60TCN93U\MCTR00389_0000[1].wmf"/>
          <p:cNvPicPr/>
          <p:nvPr/>
        </p:nvPicPr>
        <p:blipFill>
          <a:blip r:embed="rId2"/>
          <a:stretch/>
        </p:blipFill>
        <p:spPr>
          <a:xfrm>
            <a:off x="762120" y="609480"/>
            <a:ext cx="3962160" cy="243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Lucida Sans Unicode"/>
              </a:rPr>
              <a:t>Density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is the amount of matter in a given volume or spac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Gasses are the least dense form of matte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Liquids are more dense than gasses, but less dense than solid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olids are the most dense form of matte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1" name="Tit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2" descr="C:\Documents and Settings\carolyn.kinne\Local Settings\Temporary Internet Files\Content.IE5\E2LUDJLQ\MPj04372180000[1].jpg"/>
          <p:cNvPicPr/>
          <p:nvPr/>
        </p:nvPicPr>
        <p:blipFill>
          <a:blip r:embed="rId2"/>
          <a:stretch/>
        </p:blipFill>
        <p:spPr>
          <a:xfrm>
            <a:off x="4114800" y="4876920"/>
            <a:ext cx="1905120" cy="166032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8" descr="C:\Documents and Settings\carolyn.kinne\Local Settings\Temporary Internet Files\Content.IE5\XKKQW3N2\MCj04339190000[1].png"/>
          <p:cNvPicPr/>
          <p:nvPr/>
        </p:nvPicPr>
        <p:blipFill>
          <a:blip r:embed="rId3"/>
          <a:stretch/>
        </p:blipFill>
        <p:spPr>
          <a:xfrm>
            <a:off x="1905120" y="4724280"/>
            <a:ext cx="1714320" cy="171468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11" descr="C:\Documents and Settings\carolyn.kinne\Local Settings\Temporary Internet Files\Content.IE5\E2LUDJLQ\MPj04332010000[1].jpg"/>
          <p:cNvPicPr/>
          <p:nvPr/>
        </p:nvPicPr>
        <p:blipFill>
          <a:blip r:embed="rId4"/>
          <a:stretch/>
        </p:blipFill>
        <p:spPr>
          <a:xfrm>
            <a:off x="6934320" y="4724280"/>
            <a:ext cx="19033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f the balloon pops, the gas will spread out evenly in the cube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6" name="Title 2" descr=""/>
          <p:cNvPicPr/>
          <p:nvPr/>
        </p:nvPicPr>
        <p:blipFill>
          <a:blip r:embed="rId1"/>
          <a:stretch/>
        </p:blipFill>
        <p:spPr>
          <a:xfrm>
            <a:off x="231840" y="128520"/>
            <a:ext cx="8454960" cy="161460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2" descr="C:\Documents and Settings\carolyn.kinne\Local Settings\Temporary Internet Files\Content.IE5\MNV8FF4K\MCED00215_0000[1].wmf"/>
          <p:cNvPicPr/>
          <p:nvPr/>
        </p:nvPicPr>
        <p:blipFill>
          <a:blip r:embed="rId2"/>
          <a:stretch/>
        </p:blipFill>
        <p:spPr>
          <a:xfrm>
            <a:off x="3505320" y="2819520"/>
            <a:ext cx="2361960" cy="239400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2" descr="C:\Documents and Settings\carolyn.kinne\Local Settings\Temporary Internet Files\Content.IE5\60TCN93U\MCj04361670000[1].png"/>
          <p:cNvPicPr/>
          <p:nvPr/>
        </p:nvPicPr>
        <p:blipFill>
          <a:blip r:embed="rId3"/>
          <a:stretch/>
        </p:blipFill>
        <p:spPr>
          <a:xfrm>
            <a:off x="3657600" y="3429000"/>
            <a:ext cx="1612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Title 2" descr=""/>
          <p:cNvPicPr/>
          <p:nvPr/>
        </p:nvPicPr>
        <p:blipFill>
          <a:blip r:embed="rId1"/>
          <a:stretch/>
        </p:blipFill>
        <p:spPr>
          <a:xfrm>
            <a:off x="231840" y="128520"/>
            <a:ext cx="8802720" cy="161460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2" descr="C:\Documents and Settings\carolyn.kinne\Local Settings\Temporary Internet Files\Content.IE5\MNV8FF4K\MCED00215_0000[1].wmf"/>
          <p:cNvPicPr/>
          <p:nvPr/>
        </p:nvPicPr>
        <p:blipFill>
          <a:blip r:embed="rId2"/>
          <a:stretch/>
        </p:blipFill>
        <p:spPr>
          <a:xfrm>
            <a:off x="3505320" y="2895480"/>
            <a:ext cx="2447640" cy="248148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3" descr="C:\Documents and Settings\carolyn.kinne\Local Settings\Temporary Internet Files\Content.IE5\XKKQW3N2\MPj04331430000[1].jpg"/>
          <p:cNvPicPr/>
          <p:nvPr/>
        </p:nvPicPr>
        <p:blipFill>
          <a:blip r:embed="rId3"/>
          <a:stretch/>
        </p:blipFill>
        <p:spPr>
          <a:xfrm>
            <a:off x="3657600" y="4038480"/>
            <a:ext cx="1371600" cy="990720"/>
          </a:xfrm>
          <a:prstGeom prst="rect">
            <a:avLst/>
          </a:prstGeom>
          <a:ln w="0">
            <a:noFill/>
          </a:ln>
        </p:spPr>
      </p:pic>
      <p:sp>
        <p:nvSpPr>
          <p:cNvPr id="392" name="TextBox 4"/>
          <p:cNvSpPr/>
          <p:nvPr/>
        </p:nvSpPr>
        <p:spPr>
          <a:xfrm>
            <a:off x="685800" y="160020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  <a:ea typeface="Arial"/>
              </a:rPr>
              <a:t>The water will take the shape of the cub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Title 2" descr=""/>
          <p:cNvPicPr/>
          <p:nvPr/>
        </p:nvPicPr>
        <p:blipFill>
          <a:blip r:embed="rId1"/>
          <a:stretch/>
        </p:blipFill>
        <p:spPr>
          <a:xfrm>
            <a:off x="231840" y="128520"/>
            <a:ext cx="8454960" cy="161460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2" descr="C:\Documents and Settings\carolyn.kinne\Local Settings\Temporary Internet Files\Content.IE5\MNV8FF4K\MCED00215_0000[1].wmf"/>
          <p:cNvPicPr/>
          <p:nvPr/>
        </p:nvPicPr>
        <p:blipFill>
          <a:blip r:embed="rId2"/>
          <a:stretch/>
        </p:blipFill>
        <p:spPr>
          <a:xfrm>
            <a:off x="3429000" y="2971800"/>
            <a:ext cx="2446200" cy="247968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2" descr="C:\Documents and Settings\carolyn.kinne\Local Settings\Temporary Internet Files\Content.IE5\MNV8FF4K\MCj04081500000[1].wmf"/>
          <p:cNvPicPr/>
          <p:nvPr/>
        </p:nvPicPr>
        <p:blipFill>
          <a:blip r:embed="rId3"/>
          <a:stretch/>
        </p:blipFill>
        <p:spPr>
          <a:xfrm>
            <a:off x="3581280" y="3962520"/>
            <a:ext cx="1524240" cy="1244520"/>
          </a:xfrm>
          <a:prstGeom prst="rect">
            <a:avLst/>
          </a:prstGeom>
          <a:ln w="0">
            <a:noFill/>
          </a:ln>
        </p:spPr>
      </p:pic>
      <p:sp>
        <p:nvSpPr>
          <p:cNvPr id="396" name="TextBox 4"/>
          <p:cNvSpPr/>
          <p:nvPr/>
        </p:nvSpPr>
        <p:spPr>
          <a:xfrm>
            <a:off x="838080" y="1676520"/>
            <a:ext cx="73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  <a:ea typeface="Arial"/>
              </a:rPr>
              <a:t>The rock will keep its own shap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Title 2" descr=""/>
          <p:cNvPicPr/>
          <p:nvPr/>
        </p:nvPicPr>
        <p:blipFill>
          <a:blip r:embed="rId1"/>
          <a:stretch/>
        </p:blipFill>
        <p:spPr>
          <a:xfrm>
            <a:off x="231840" y="274680"/>
            <a:ext cx="8454960" cy="118908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2" descr="C:\Documents and Settings\carolyn.kinne\Local Settings\Temporary Internet Files\Content.IE5\E2LUDJLQ\MCj03591830000[1].wmf"/>
          <p:cNvPicPr/>
          <p:nvPr/>
        </p:nvPicPr>
        <p:blipFill>
          <a:blip r:embed="rId2"/>
          <a:stretch/>
        </p:blipFill>
        <p:spPr>
          <a:xfrm>
            <a:off x="685800" y="1523880"/>
            <a:ext cx="1751040" cy="175284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3" descr="C:\Documents and Settings\carolyn.kinne\Local Settings\Temporary Internet Files\Content.IE5\60TCN93U\MCj02324350000[1].wmf"/>
          <p:cNvPicPr/>
          <p:nvPr/>
        </p:nvPicPr>
        <p:blipFill>
          <a:blip r:embed="rId3"/>
          <a:stretch/>
        </p:blipFill>
        <p:spPr>
          <a:xfrm>
            <a:off x="2590920" y="2590920"/>
            <a:ext cx="1282680" cy="186192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4" descr="C:\Documents and Settings\carolyn.kinne\Local Settings\Temporary Internet Files\Content.IE5\E2LUDJLQ\MCSL00419_0000[1].wmf"/>
          <p:cNvPicPr/>
          <p:nvPr/>
        </p:nvPicPr>
        <p:blipFill>
          <a:blip r:embed="rId4"/>
          <a:stretch/>
        </p:blipFill>
        <p:spPr>
          <a:xfrm>
            <a:off x="6019920" y="2590920"/>
            <a:ext cx="1625400" cy="137628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5" descr="C:\Documents and Settings\carolyn.kinne\Local Settings\Temporary Internet Files\Content.IE5\60TCN93U\MCj02900070000[1].wmf"/>
          <p:cNvPicPr/>
          <p:nvPr/>
        </p:nvPicPr>
        <p:blipFill>
          <a:blip r:embed="rId5"/>
          <a:stretch/>
        </p:blipFill>
        <p:spPr>
          <a:xfrm>
            <a:off x="6553080" y="4648320"/>
            <a:ext cx="1613160" cy="153036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6" descr="C:\Documents and Settings\carolyn.kinne\Local Settings\Temporary Internet Files\Content.IE5\60TCN93U\MCTN00735_0000[1].wmf"/>
          <p:cNvPicPr/>
          <p:nvPr/>
        </p:nvPicPr>
        <p:blipFill>
          <a:blip r:embed="rId6"/>
          <a:stretch/>
        </p:blipFill>
        <p:spPr>
          <a:xfrm>
            <a:off x="3962520" y="609480"/>
            <a:ext cx="1796760" cy="209736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7" descr="C:\Documents and Settings\carolyn.kinne\Local Settings\Temporary Internet Files\Content.IE5\XKKQW3N2\MCTR00183_0000[1].wmf"/>
          <p:cNvPicPr/>
          <p:nvPr/>
        </p:nvPicPr>
        <p:blipFill>
          <a:blip r:embed="rId7"/>
          <a:stretch/>
        </p:blipFill>
        <p:spPr>
          <a:xfrm>
            <a:off x="4191120" y="3962520"/>
            <a:ext cx="1368360" cy="223200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8" descr="C:\Documents and Settings\carolyn.kinne\Local Settings\Temporary Internet Files\Content.IE5\MNV8FF4K\MCj01325130000[1].wmf"/>
          <p:cNvPicPr/>
          <p:nvPr/>
        </p:nvPicPr>
        <p:blipFill>
          <a:blip r:embed="rId8"/>
          <a:stretch/>
        </p:blipFill>
        <p:spPr>
          <a:xfrm>
            <a:off x="7010280" y="228600"/>
            <a:ext cx="1791000" cy="171936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16" descr="C:\Documents and Settings\carolyn.kinne\Local Settings\Temporary Internet Files\Content.IE5\MNV8FF4K\MCj02329450000[1].wmf"/>
          <p:cNvPicPr/>
          <p:nvPr/>
        </p:nvPicPr>
        <p:blipFill>
          <a:blip r:embed="rId9"/>
          <a:stretch/>
        </p:blipFill>
        <p:spPr>
          <a:xfrm>
            <a:off x="533520" y="4191120"/>
            <a:ext cx="2116080" cy="157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Buoyancy and density are called </a:t>
            </a:r>
            <a:r>
              <a:rPr b="0" i="1" lang="en-US" sz="2700" spc="-1" strike="noStrike">
                <a:solidFill>
                  <a:srgbClr val="000000"/>
                </a:solidFill>
                <a:latin typeface="Lucida Sans Unicode"/>
              </a:rPr>
              <a:t>PROPERTIES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of matte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nother property of matter is </a:t>
            </a:r>
            <a:r>
              <a:rPr b="0" i="1" lang="en-US" sz="2700" spc="-1" strike="noStrike">
                <a:solidFill>
                  <a:srgbClr val="000000"/>
                </a:solidFill>
                <a:latin typeface="Lucida Sans Unicode"/>
              </a:rPr>
              <a:t>displacement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, or how much matter (we use water) it pushes out of the way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 buoyant object will only displace its mass unless its surface area is large compared to its mas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hat would happen if you used sand instead of water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7" name="Tit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2" descr="C:\Documents and Settings\carolyn.kinne\Local Settings\Temporary Internet Files\Content.IE5\E2LUDJLQ\MCj01981710000[1].wmf"/>
          <p:cNvPicPr/>
          <p:nvPr/>
        </p:nvPicPr>
        <p:blipFill>
          <a:blip r:embed="rId2"/>
          <a:stretch/>
        </p:blipFill>
        <p:spPr>
          <a:xfrm>
            <a:off x="5029200" y="5486400"/>
            <a:ext cx="3259080" cy="124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1T19:25:17Z</dcterms:created>
  <dc:creator>Ector County ISD Employee</dc:creator>
  <dc:description/>
  <dc:language>en-US</dc:language>
  <cp:lastModifiedBy>RomaK</cp:lastModifiedBy>
  <dcterms:modified xsi:type="dcterms:W3CDTF">2015-09-01T16:19:39Z</dcterms:modified>
  <cp:revision>22</cp:revision>
  <dc:subject/>
  <dc:title>Buoyancy</dc:title>
</cp:coreProperties>
</file>