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3.png" ContentType="image/png"/>
  <Override PartName="/ppt/media/image17.jpeg" ContentType="image/jpeg"/>
  <Override PartName="/ppt/media/image5.jpeg" ContentType="image/jpeg"/>
  <Override PartName="/ppt/media/image10.jpeg" ContentType="image/jpeg"/>
  <Override PartName="/ppt/media/image28.wmf" ContentType="image/x-wmf"/>
  <Override PartName="/ppt/media/image30.wmf" ContentType="image/x-wmf"/>
  <Override PartName="/ppt/media/image7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8.wmf" ContentType="image/x-wmf"/>
  <Override PartName="/ppt/media/image11.png" ContentType="image/png"/>
  <Override PartName="/ppt/media/image9.png" ContentType="image/png"/>
  <Override PartName="/ppt/media/image2.png" ContentType="image/png"/>
  <Override PartName="/ppt/media/image1.png" ContentType="image/png"/>
  <Override PartName="/ppt/media/image14.wmf" ContentType="image/x-wmf"/>
  <Override PartName="/ppt/media/image29.png" ContentType="image/png"/>
  <Override PartName="/ppt/media/image15.png" ContentType="image/png"/>
  <Override PartName="/ppt/media/image16.png" ContentType="image/png"/>
  <Override PartName="/ppt/media/image20.png" ContentType="image/png"/>
  <Override PartName="/ppt/media/image19.wmf" ContentType="image/x-wmf"/>
  <Override PartName="/ppt/media/image6.jpeg" ContentType="image/jpeg"/>
  <Override PartName="/ppt/media/image18.png" ContentType="image/png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25.wmf" ContentType="image/x-wmf"/>
  <Override PartName="/ppt/media/image26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3721-42D3-4CC3-A572-AF17EEAA41F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 is the ability of an object to flo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lated to the object’s dens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 is the ability of an object to flo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lated to the object’s dens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is the amount of matter in a given volume or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ses are the least dense form of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quids are more dense than gasses, but less dense than so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s are the most dense form of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is the amount of matter in a given volume or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ses are the least dense form of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quids are more dense than gasses, but less dense than so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s are the most dense form of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alloon pops, the gas will spread out evenly in the cub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ses fill any volume and take the shape of their contai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alloon pops, the gas will spread out evenly in the cu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ses fill any volume and take the shape of their conta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quids stick together, but take the shape of their contai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ter will take the shape of the cub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quids stick together, but take the shape of their conta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ter will take the shape of the cu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s are very dense and do not take the shape of their contai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ck will keep its own sha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s are very dense and do not take the shape of their conta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ck will keep its own sha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 and density are called PROPERTIES of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property of matter is displacement, or how much matter (we use water) it pushes out of the w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uoyant object will only displace its mass unless its surface area is large compared to its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happen if you used sand instead of wa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but not leas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 and density are called PROPERTIES of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property of matter is displacement, or how much matter (we use water) it pushes out of the w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uoyant object will only displace its mass unless its surface area is large compared to its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happen if you used sand instead of 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but not leas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3740-66B9-474E-B9F0-C385E78BE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068E-7963-49BC-A7FC-D22B9C6E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35A1-8F4D-44D1-B504-140E08A6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90DF-3638-433E-8162-C20F9BF6E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4BC9-0F6A-4727-A56B-71393D7BC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29E8-BE85-4C1C-A2AC-C1E8E586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C7C3-77D2-4C22-A105-AD0A3134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4699-CA48-407B-95D9-87B1F59E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E898-2996-4025-811F-AB6AEAEB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3925-EFA5-4433-870B-E3E14AAC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521A-445E-4FC3-93F8-7BC754AC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F05C-51B4-4EDC-A44D-62F375E6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E002-1A7D-465E-B989-5F85AE85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30FC-5AC1-444A-9A56-0CD68D8B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613F-A4CF-4E0B-8558-C1ACD94D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3501-6649-4817-8417-2A5D18507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C35B1-7144-4529-801A-9D30A7C0A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69B7D-53C1-493F-A464-0B915C45D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DB156-F00C-4141-B115-070C474B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50A65-0D66-486C-A7CC-A1E44287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4CA99-D8D9-467E-ABD8-28169D3A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9A5FA-9E88-4621-B9A6-BF25F31E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B6B1-64DA-4E0C-BB5A-C052720D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317A8-33EF-4408-A481-C7B361BB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DFE2F-081D-434D-9749-23FBF287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F10E2-3DC8-44BB-8E65-8C647C22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54910-9ED7-450E-9142-DE1C8842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0A091-AF7B-41AB-98CD-E848087E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ED675-3AEB-440E-9F42-B0EAA7BD1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E2EFD-AB72-4B82-B20E-5412B8081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1F82A-6081-450D-B99A-5B8825F42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E06A4-D93F-49C4-BA80-452A6563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A711C-FD4F-4123-B38D-DAA68EF6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7FBD-B55D-4470-9CEC-342B03A2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F6EDC-914B-4E54-B111-0DF7A385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0B08C-4F34-4596-A194-1F89F251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87DE6-53FB-42A1-B7CA-24A64D69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BBD0B-7BB2-4C1B-8F14-2611D68A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AA9F8-54E6-4169-B98F-DBE010BB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74141-E074-4AB9-A065-11A06AF0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E7C50-5805-41ED-81F3-7DB7AA74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83613-3126-415D-982B-5BBCEAF10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BC26D-94B9-43CE-8CEB-2CC71A231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32B48-09C0-4D2B-B630-0C4E39E9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9DB9-D26A-44F3-B366-8439029B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7072D-32E2-4278-ABBE-A75B01B0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48E87-C3C5-4995-8A3B-2B33ED6E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5F572-F427-4CA8-BE50-34B7A5B6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7DEEA-D9B3-43CB-948A-477567F3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F40D2-21E9-4AB6-AB7F-DF1EA572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10AC2-4253-4CDC-9142-2C3B6CC3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1145B-42A8-4947-9911-984DD019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ECCA1-B8BC-46BC-BEED-C56CEE4A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248AD-388A-4852-B01E-50C1F5E5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CFC3E-6740-4D74-87FA-9FB1CD892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C2B5-1391-4978-A705-90282741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97413-545F-4DAE-8E05-F96DB5564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221D8-FD63-4E9E-92F0-88DB0136B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B7F46-EF87-4430-AD45-D838D981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868D3-5F2B-4FD8-84CD-80EFDFF0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C9D48-55EA-48B4-AEF2-E8CF14ED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EC201-945F-42E6-A221-9FA63A52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B0AA4-E229-4485-AF3A-99F3FEAB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ED844-2133-4F26-98EC-BD5662DF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5A289-772C-4372-BFA9-9C502861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CC042-E922-457B-B574-A2718F59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839E-51CC-48E9-9FD1-3A98C26A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D0E55-EE3A-4297-9984-ACCEA186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16425-AEC0-4ABB-ADE8-2F7413FBA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2F85F-BCAC-4B44-949F-32EEDD3A1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9DF97-2313-4DBA-9B6B-D81E1FF78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61B00-E060-4F51-9779-55853DC0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C8A11-A126-4B00-A84F-31D5B10D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62C94-B406-439D-8446-01B84F9E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34DF3-C2C6-4FAA-9BB0-722EFE34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ABA7B-B21A-4F7E-9A64-148D3993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CEBF8-EF5B-4FF2-B550-C1F28795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8337-CC04-48D9-B50A-37D87DE9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159AF-05DD-43E8-8CC7-88FFF62A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68924-B353-44D7-B9A5-A54B5FF7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0D64B-8F04-43E5-A043-5F929AD6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3251F-C769-4AE5-87C3-79CDCA095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BB1B4-7669-4656-BD38-9F62083CF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37863-C4D4-4485-BE08-9B49E275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24396-77FA-48FD-803F-5DB7BE68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0FE7E-DDF5-4673-994B-6E0C2AA8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7B3E5-32CC-44F5-8F43-67143A66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F57F6-0355-4B22-9007-1F739008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348E-4D0D-4E54-8811-BCF30671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F06F8-8478-465A-89E4-14691624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58F15-26FE-4510-A6EA-1F5E5145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90E2C-638F-4449-B7BB-FC629151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9182A-7556-4AD2-AACD-77578096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E649D-B945-4A2D-9076-56A85E60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41DD4-C0A2-4579-93A7-9E002AF0E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33B02-54A8-4F28-B570-20FEA654A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BA8C-3167-4FAE-B9AA-E0C82653A95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71C4-65F0-4B95-9300-1A9EF0865C7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9505-C0C5-406D-87C3-02B5E909671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7906-182E-416C-B884-94412EC0A0F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9C8E-A8C1-4D6D-877E-301AE398091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B369-7801-464F-90A7-72E7E866DA1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364D-C92F-4ECD-A5F5-D96265ECEBD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F1B3-71AB-43E5-8F80-C83AF068D9B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wm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image" Target="../media/image27.wmf"/><Relationship Id="rId9" Type="http://schemas.openxmlformats.org/officeDocument/2006/relationships/image" Target="../media/image2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464646"/>
                </a:solidFill>
                <a:latin typeface="Lucida Sans Unicode"/>
              </a:rPr>
              <a:t>Buoyancy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is the ability of an object to floa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It is related to the object’s </a:t>
            </a:r>
            <a:r>
              <a:rPr b="0" i="1" lang="en-US" sz="2700" spc="-1" strike="noStrike">
                <a:solidFill>
                  <a:srgbClr val="464646"/>
                </a:solidFill>
                <a:latin typeface="Lucida Sans Unicode"/>
              </a:rPr>
              <a:t>density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Picture 2" descr="C:\Documents and Settings\carolyn.kinne\Local Settings\Temporary Internet Files\Content.IE5\60TCN93U\MCTR00389_0000[1].wmf"/>
          <p:cNvPicPr/>
          <p:nvPr/>
        </p:nvPicPr>
        <p:blipFill>
          <a:blip r:embed="rId2"/>
          <a:stretch/>
        </p:blipFill>
        <p:spPr>
          <a:xfrm>
            <a:off x="762120" y="609480"/>
            <a:ext cx="396216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Density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s the amount of matter in a given volume or spa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asses are the least dense form of mat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quids are more dense than gasses, but less dense than soli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lids are the most dense form of mat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C:\Documents and Settings\carolyn.kinne\Local Settings\Temporary Internet Files\Content.IE5\E2LUDJLQ\MPj04372180000[1].jpg"/>
          <p:cNvPicPr/>
          <p:nvPr/>
        </p:nvPicPr>
        <p:blipFill>
          <a:blip r:embed="rId2"/>
          <a:stretch/>
        </p:blipFill>
        <p:spPr>
          <a:xfrm>
            <a:off x="4114800" y="4876920"/>
            <a:ext cx="1905120" cy="16603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8" descr="C:\Documents and Settings\carolyn.kinne\Local Settings\Temporary Internet Files\Content.IE5\XKKQW3N2\MCj04339190000[1].png"/>
          <p:cNvPicPr/>
          <p:nvPr/>
        </p:nvPicPr>
        <p:blipFill>
          <a:blip r:embed="rId3"/>
          <a:stretch/>
        </p:blipFill>
        <p:spPr>
          <a:xfrm>
            <a:off x="1905120" y="47242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C:\Documents and Settings\carolyn.kinne\Local Settings\Temporary Internet Files\Content.IE5\E2LUDJLQ\MPj04332010000[1].jpg"/>
          <p:cNvPicPr/>
          <p:nvPr/>
        </p:nvPicPr>
        <p:blipFill>
          <a:blip r:embed="rId4"/>
          <a:stretch/>
        </p:blipFill>
        <p:spPr>
          <a:xfrm>
            <a:off x="6934320" y="4724280"/>
            <a:ext cx="1903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the balloon pops, the gas will spread out evenly in the cub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C:\Documents and Settings\carolyn.kinne\Local Settings\Temporary Internet Files\Content.IE5\MNV8FF4K\MCED00215_0000[1].wmf"/>
          <p:cNvPicPr/>
          <p:nvPr/>
        </p:nvPicPr>
        <p:blipFill>
          <a:blip r:embed="rId2"/>
          <a:stretch/>
        </p:blipFill>
        <p:spPr>
          <a:xfrm>
            <a:off x="3505320" y="2819520"/>
            <a:ext cx="2361960" cy="2394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C:\Documents and Settings\carolyn.kinne\Local Settings\Temporary Internet Files\Content.IE5\60TCN93U\MCj04361670000[1].png"/>
          <p:cNvPicPr/>
          <p:nvPr/>
        </p:nvPicPr>
        <p:blipFill>
          <a:blip r:embed="rId3"/>
          <a:stretch/>
        </p:blipFill>
        <p:spPr>
          <a:xfrm>
            <a:off x="3657600" y="3429000"/>
            <a:ext cx="1612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802720" cy="16146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C:\Documents and Settings\carolyn.kinne\Local Settings\Temporary Internet Files\Content.IE5\MNV8FF4K\MCED00215_0000[1].wmf"/>
          <p:cNvPicPr/>
          <p:nvPr/>
        </p:nvPicPr>
        <p:blipFill>
          <a:blip r:embed="rId2"/>
          <a:stretch/>
        </p:blipFill>
        <p:spPr>
          <a:xfrm>
            <a:off x="3505320" y="2895480"/>
            <a:ext cx="2447640" cy="24814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C:\Documents and Settings\carolyn.kinne\Local Settings\Temporary Internet Files\Content.IE5\XKKQW3N2\MPj04331430000[1].jpg"/>
          <p:cNvPicPr/>
          <p:nvPr/>
        </p:nvPicPr>
        <p:blipFill>
          <a:blip r:embed="rId3"/>
          <a:stretch/>
        </p:blipFill>
        <p:spPr>
          <a:xfrm>
            <a:off x="3657600" y="4038480"/>
            <a:ext cx="1371600" cy="99072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685800" y="1600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The water will take the shape of the cu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C:\Documents and Settings\carolyn.kinne\Local Settings\Temporary Internet Files\Content.IE5\MNV8FF4K\MCED00215_0000[1].wmf"/>
          <p:cNvPicPr/>
          <p:nvPr/>
        </p:nvPicPr>
        <p:blipFill>
          <a:blip r:embed="rId2"/>
          <a:stretch/>
        </p:blipFill>
        <p:spPr>
          <a:xfrm>
            <a:off x="3429000" y="2971800"/>
            <a:ext cx="2446200" cy="24796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C:\Documents and Settings\carolyn.kinne\Local Settings\Temporary Internet Files\Content.IE5\MNV8FF4K\MCj04081500000[1].wmf"/>
          <p:cNvPicPr/>
          <p:nvPr/>
        </p:nvPicPr>
        <p:blipFill>
          <a:blip r:embed="rId3"/>
          <a:stretch/>
        </p:blipFill>
        <p:spPr>
          <a:xfrm>
            <a:off x="3581280" y="3962520"/>
            <a:ext cx="1524240" cy="1244520"/>
          </a:xfrm>
          <a:prstGeom prst="rect">
            <a:avLst/>
          </a:prstGeom>
          <a:ln w="0">
            <a:noFill/>
          </a:ln>
        </p:spPr>
      </p:pic>
      <p:sp>
        <p:nvSpPr>
          <p:cNvPr id="396" name="TextBox 4"/>
          <p:cNvSpPr/>
          <p:nvPr/>
        </p:nvSpPr>
        <p:spPr>
          <a:xfrm>
            <a:off x="838080" y="16765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The rock will keep its own sha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C:\Documents and Settings\carolyn.kinne\Local Settings\Temporary Internet Files\Content.IE5\E2LUDJLQ\MCj03591830000[1].wmf"/>
          <p:cNvPicPr/>
          <p:nvPr/>
        </p:nvPicPr>
        <p:blipFill>
          <a:blip r:embed="rId2"/>
          <a:stretch/>
        </p:blipFill>
        <p:spPr>
          <a:xfrm>
            <a:off x="685800" y="1523880"/>
            <a:ext cx="1751040" cy="17528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" descr="C:\Documents and Settings\carolyn.kinne\Local Settings\Temporary Internet Files\Content.IE5\60TCN93U\MCj02324350000[1].wmf"/>
          <p:cNvPicPr/>
          <p:nvPr/>
        </p:nvPicPr>
        <p:blipFill>
          <a:blip r:embed="rId3"/>
          <a:stretch/>
        </p:blipFill>
        <p:spPr>
          <a:xfrm>
            <a:off x="2590920" y="2590920"/>
            <a:ext cx="1282680" cy="18619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C:\Documents and Settings\carolyn.kinne\Local Settings\Temporary Internet Files\Content.IE5\E2LUDJLQ\MCSL00419_0000[1].wmf"/>
          <p:cNvPicPr/>
          <p:nvPr/>
        </p:nvPicPr>
        <p:blipFill>
          <a:blip r:embed="rId4"/>
          <a:stretch/>
        </p:blipFill>
        <p:spPr>
          <a:xfrm>
            <a:off x="6019920" y="2590920"/>
            <a:ext cx="1625400" cy="13762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C:\Documents and Settings\carolyn.kinne\Local Settings\Temporary Internet Files\Content.IE5\60TCN93U\MCj02900070000[1].wmf"/>
          <p:cNvPicPr/>
          <p:nvPr/>
        </p:nvPicPr>
        <p:blipFill>
          <a:blip r:embed="rId5"/>
          <a:stretch/>
        </p:blipFill>
        <p:spPr>
          <a:xfrm>
            <a:off x="6553080" y="4648320"/>
            <a:ext cx="1613160" cy="15303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" descr="C:\Documents and Settings\carolyn.kinne\Local Settings\Temporary Internet Files\Content.IE5\60TCN93U\MCTN00735_0000[1].wmf"/>
          <p:cNvPicPr/>
          <p:nvPr/>
        </p:nvPicPr>
        <p:blipFill>
          <a:blip r:embed="rId6"/>
          <a:stretch/>
        </p:blipFill>
        <p:spPr>
          <a:xfrm>
            <a:off x="3962520" y="609480"/>
            <a:ext cx="1796760" cy="20973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" descr="C:\Documents and Settings\carolyn.kinne\Local Settings\Temporary Internet Files\Content.IE5\XKKQW3N2\MCTR00183_0000[1].wmf"/>
          <p:cNvPicPr/>
          <p:nvPr/>
        </p:nvPicPr>
        <p:blipFill>
          <a:blip r:embed="rId7"/>
          <a:stretch/>
        </p:blipFill>
        <p:spPr>
          <a:xfrm>
            <a:off x="4191120" y="3962520"/>
            <a:ext cx="1368360" cy="2232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8" descr="C:\Documents and Settings\carolyn.kinne\Local Settings\Temporary Internet Files\Content.IE5\MNV8FF4K\MCj01325130000[1].wmf"/>
          <p:cNvPicPr/>
          <p:nvPr/>
        </p:nvPicPr>
        <p:blipFill>
          <a:blip r:embed="rId8"/>
          <a:stretch/>
        </p:blipFill>
        <p:spPr>
          <a:xfrm>
            <a:off x="7010280" y="228600"/>
            <a:ext cx="1791000" cy="17193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6" descr="C:\Documents and Settings\carolyn.kinne\Local Settings\Temporary Internet Files\Content.IE5\MNV8FF4K\MCj02329450000[1].wmf"/>
          <p:cNvPicPr/>
          <p:nvPr/>
        </p:nvPicPr>
        <p:blipFill>
          <a:blip r:embed="rId9"/>
          <a:stretch/>
        </p:blipFill>
        <p:spPr>
          <a:xfrm>
            <a:off x="533520" y="4191120"/>
            <a:ext cx="211608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oyancy and density are called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PROPERTI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of mat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other property of matter is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displacemen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or how much matter (we use water) it pushes out of the way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buoyant object will only displace its mass unless its surface area is large compared to its ma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would happen if you used sand instead of water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C:\Documents and Settings\carolyn.kinne\Local Settings\Temporary Internet Files\Content.IE5\E2LUDJLQ\MCj01981710000[1].wmf"/>
          <p:cNvPicPr/>
          <p:nvPr/>
        </p:nvPicPr>
        <p:blipFill>
          <a:blip r:embed="rId2"/>
          <a:stretch/>
        </p:blipFill>
        <p:spPr>
          <a:xfrm>
            <a:off x="5029200" y="5486400"/>
            <a:ext cx="325908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9:25:17Z</dcterms:created>
  <dc:creator>Ector County ISD Employee</dc:creator>
  <dc:description/>
  <dc:language>en-US</dc:language>
  <cp:lastModifiedBy>RomaK</cp:lastModifiedBy>
  <dcterms:modified xsi:type="dcterms:W3CDTF">2015-09-01T16:19:39Z</dcterms:modified>
  <cp:revision>22</cp:revision>
  <dc:subject/>
  <dc:title>Buoyancy</dc:title>
</cp:coreProperties>
</file>