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8.wmf" ContentType="image/x-wmf"/>
  <Override PartName="/ppt/media/image30.wmf" ContentType="image/x-wmf"/>
  <Override PartName="/ppt/media/image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19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ACDB-854B-43A0-ABD9-CAE4215BD7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BAD-E656-4AD9-8B3E-C0145FDC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871-C1CD-4EBE-B73C-122A2022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78F-469E-442E-A737-472ADBA9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2C1-93C5-4FDF-845F-9636D8A1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E11A-E213-4F04-831A-A0A3F603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84E5-6C7A-4C4A-8DFC-D103F903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7BF8-3E28-4E7B-882D-A39E208E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1195-B1AF-4AAB-ADFA-A07B5D3E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6672-FCCB-452A-A1F4-AE67FBD2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2808-CBBA-462C-80D6-4783C251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A5FB-E1DC-4CF6-A930-24FE5A55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4A0-DCF8-4472-9D74-BD494555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956A-076D-4A2C-AA31-468EB9A7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FEAE-42F5-4CF4-B087-F45A3A47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B1BA-6359-40D4-914D-7E559243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5B42-0EB9-40E4-B04A-20F0D0C0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6672-F317-4C69-8FF0-4568C876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C7F8-E7DC-408C-B22B-2C680696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713E-16C6-4D34-8EAB-1FD264FA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4B84-7C86-44F5-9B48-96E1265E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1ACC-CF98-4B68-8812-EA2D6F6C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B215-E4DE-4927-A135-A0507940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B18-A9FC-41C4-A930-F492C408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6630-B8AA-45BC-9C4A-51959EBF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6890-C52C-4DB2-A079-47D98535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9A36C-0A1F-4C58-9785-077327F5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A032-ED4A-4DAD-B501-AC0A4FEF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FC60F-E554-4145-955D-F4CFE61C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D8D5-ABBA-4970-949B-560B34D0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7337-EAC8-4A9C-A132-7443D373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C8853-EBD3-4BAD-9A89-DF10F8BF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8A07-5019-499E-8529-453CB5E9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EC501-29A7-4BE0-A42F-46271B06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82F-E51F-4624-93A1-27905946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2B5C3-3F37-43A2-9A56-B52B0BBC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CFA5-76B9-4A0A-9935-9757AF0A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754E9-CFD2-4F24-BC05-7323533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0A07-3AD8-46C2-A4CF-F90E0E1F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C3A6E-2463-4583-9420-E7F1376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712F-B6C4-4E05-ACC2-D55433B1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AD480-2498-4C03-B829-4FC0FE5E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A1259-5178-4027-97D3-7C878F94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2AB4-1B68-44D8-9DD9-609E7447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2CBBB-1522-4121-A35E-761A6B7B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834-833F-4369-9F37-DA733690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32A02-1FBB-48D5-A0D2-7F7E37FA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7A5A4-A3F1-4FE8-AD1D-9C478E9A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47559-C74E-43DB-B25F-91DE53E4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59EB6-2883-4369-B4EB-FCCBFC01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4F389-1442-452C-BDC8-97C1C940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C031D-8B02-420B-A718-ACA77744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611FE-AD5F-489F-9EA1-D1D97772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99FB0-99DD-47F2-A3D3-3DA134A4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39C92-2C64-490D-9D9F-924FAE60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97E77-8C20-4390-857D-DD7E2135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13B-C170-48E8-B101-7161F5D6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0350A-1117-461E-9358-A42172B3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A4C55-22A4-4051-8B90-2DDEAE4A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15B19-6905-4A1D-9015-A7EA52E9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51A24-F320-468A-AC6E-5E12D982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C3AB9-82D0-4C3C-AEF0-579B19D2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C56F5-331F-43DD-A6C1-BBC19285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32343-40C6-4E0D-9004-1804545B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337BD-3A86-4B0D-B8C7-DC918E48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76946-9EDB-402A-85F7-13FBF25E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C2318-E755-4E04-A367-0050E54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277-FD2B-4044-B72F-05449609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6C5ED-8DE6-4968-AECA-F7F854E3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2560B-089E-415A-BF6F-76C6B28C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971DA-24C9-4FB8-BD24-CD7D9E01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4CBEA-B2C6-4C9A-A347-2CBCB522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8049-9802-4143-85D5-D6F13294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2FA0E-A3E6-4E57-B075-FCC46B03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4CEB3-6106-48E6-8107-CD7BF334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A9E87-7096-4471-AC77-9E07C2A7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A457C-88E3-4638-B97C-0BCDD949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72C0B-37E3-4F67-9E14-81BA5D81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4EB-E423-4ECF-B3FB-E074C833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C454A-08E1-4E52-9E23-081F3EC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02690-3600-40FA-A93C-9BBC4CEF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FE6C0-CB9C-4884-A49B-6FB48114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C20DF-0EBD-4433-8902-1C3FCF10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CC7C-3918-4BE0-8451-7B9561B0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4C52D-A6ED-4BD7-B245-A860DDFE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B4969-6E07-4642-87F6-A3D3011F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1CA99-7D38-4FA5-AE40-50EB3C45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CF212-7C08-4966-9DE5-79F0F1C7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10617-7255-4CF7-861B-E1D4BCD1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AF9-9D1B-499F-904C-A46FEC14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EEE4C-287F-4414-9423-475B0381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AC6F1-4BFC-4315-B356-641810CD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48D8C-ACA1-4EBF-8A5A-51DA5676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B76DE-ABD4-4244-B74A-FC7258C5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C74B7-CDCC-4679-B45F-E02ED315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73BDB-3F48-46B2-8F6A-84CFB9A5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83EA0-E9B2-4761-8F16-087C7A97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98F0-B8E6-4BBF-AA05-AF79CECA55E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83C6-1557-4857-A8B9-F98CDEADBC0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8BBF-9459-4CD2-BE33-E7608699B36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2913-B370-4ADC-9FBC-64E44F9A205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29A7-897E-4549-A4AF-A0F2B136E88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CDE7-612E-4008-B7E5-FCC3DBE9833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B024-AEE1-4F8D-A1E1-2D1DD4A91D8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D386-A072-4162-A342-13EC5B316A4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Buoyanc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is the ability of an object to flo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t is related to the object’s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C:\Documents and Settings\carolyn.kinne\Local Settings\Temporary Internet Files\Content.IE5\60TCN93U\MCTR00389_0000[1].wmf"/>
          <p:cNvPicPr/>
          <p:nvPr/>
        </p:nvPicPr>
        <p:blipFill>
          <a:blip r:embed="rId2"/>
          <a:stretch/>
        </p:blipFill>
        <p:spPr>
          <a:xfrm>
            <a:off x="762120" y="609480"/>
            <a:ext cx="39621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amount of matter in a given volume or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ses are the lea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quids are more dense than gasses, but less dense than sol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ids are the mo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carolyn.kinne\Local Settings\Temporary Internet Files\Content.IE5\E2LUDJLQ\MPj04372180000[1].jpg"/>
          <p:cNvPicPr/>
          <p:nvPr/>
        </p:nvPicPr>
        <p:blipFill>
          <a:blip r:embed="rId2"/>
          <a:stretch/>
        </p:blipFill>
        <p:spPr>
          <a:xfrm>
            <a:off x="4114800" y="4876920"/>
            <a:ext cx="1905120" cy="166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:\Documents and Settings\carolyn.kinne\Local Settings\Temporary Internet Files\Content.IE5\XKKQW3N2\MCj04339190000[1].png"/>
          <p:cNvPicPr/>
          <p:nvPr/>
        </p:nvPicPr>
        <p:blipFill>
          <a:blip r:embed="rId3"/>
          <a:stretch/>
        </p:blipFill>
        <p:spPr>
          <a:xfrm>
            <a:off x="190512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C:\Documents and Settings\carolyn.kinne\Local Settings\Temporary Internet Files\Content.IE5\E2LUDJLQ\MPj04332010000[1].jpg"/>
          <p:cNvPicPr/>
          <p:nvPr/>
        </p:nvPicPr>
        <p:blipFill>
          <a:blip r:embed="rId4"/>
          <a:stretch/>
        </p:blipFill>
        <p:spPr>
          <a:xfrm>
            <a:off x="6934320" y="4724280"/>
            <a:ext cx="1903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lloon pops, the gas will spread out evenly in the cu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19520"/>
            <a:ext cx="2361960" cy="239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carolyn.kinne\Local Settings\Temporary Internet Files\Content.IE5\60TCN93U\MCj04361670000[1].png"/>
          <p:cNvPicPr/>
          <p:nvPr/>
        </p:nvPicPr>
        <p:blipFill>
          <a:blip r:embed="rId3"/>
          <a:stretch/>
        </p:blipFill>
        <p:spPr>
          <a:xfrm>
            <a:off x="3657600" y="342900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802720" cy="1614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9548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carolyn.kinne\Local Settings\Temporary Internet Files\Content.IE5\XKKQW3N2\MPj04331430000[1].jpg"/>
          <p:cNvPicPr/>
          <p:nvPr/>
        </p:nvPicPr>
        <p:blipFill>
          <a:blip r:embed="rId3"/>
          <a:stretch/>
        </p:blipFill>
        <p:spPr>
          <a:xfrm>
            <a:off x="3657600" y="4038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68580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water will take the shap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429000" y="2971800"/>
            <a:ext cx="2446200" cy="247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carolyn.kinne\Local Settings\Temporary Internet Files\Content.IE5\MNV8FF4K\MCj04081500000[1].wmf"/>
          <p:cNvPicPr/>
          <p:nvPr/>
        </p:nvPicPr>
        <p:blipFill>
          <a:blip r:embed="rId3"/>
          <a:stretch/>
        </p:blipFill>
        <p:spPr>
          <a:xfrm>
            <a:off x="3581280" y="3962520"/>
            <a:ext cx="152424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83808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rock will keep its own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carolyn.kinne\Local Settings\Temporary Internet Files\Content.IE5\E2LUDJLQ\MCj03591830000[1].wmf"/>
          <p:cNvPicPr/>
          <p:nvPr/>
        </p:nvPicPr>
        <p:blipFill>
          <a:blip r:embed="rId2"/>
          <a:stretch/>
        </p:blipFill>
        <p:spPr>
          <a:xfrm>
            <a:off x="685800" y="1523880"/>
            <a:ext cx="1751040" cy="1752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carolyn.kinne\Local Settings\Temporary Internet Files\Content.IE5\60TCN93U\MCj02324350000[1].wmf"/>
          <p:cNvPicPr/>
          <p:nvPr/>
        </p:nvPicPr>
        <p:blipFill>
          <a:blip r:embed="rId3"/>
          <a:stretch/>
        </p:blipFill>
        <p:spPr>
          <a:xfrm>
            <a:off x="2590920" y="2590920"/>
            <a:ext cx="1282680" cy="18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carolyn.kinne\Local Settings\Temporary Internet Files\Content.IE5\E2LUDJLQ\MCSL00419_0000[1].wmf"/>
          <p:cNvPicPr/>
          <p:nvPr/>
        </p:nvPicPr>
        <p:blipFill>
          <a:blip r:embed="rId4"/>
          <a:stretch/>
        </p:blipFill>
        <p:spPr>
          <a:xfrm>
            <a:off x="6019920" y="2590920"/>
            <a:ext cx="1625400" cy="1376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carolyn.kinne\Local Settings\Temporary Internet Files\Content.IE5\60TCN93U\MCj02900070000[1].wmf"/>
          <p:cNvPicPr/>
          <p:nvPr/>
        </p:nvPicPr>
        <p:blipFill>
          <a:blip r:embed="rId5"/>
          <a:stretch/>
        </p:blipFill>
        <p:spPr>
          <a:xfrm>
            <a:off x="6553080" y="4648320"/>
            <a:ext cx="161316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Documents and Settings\carolyn.kinne\Local Settings\Temporary Internet Files\Content.IE5\60TCN93U\MCTN00735_0000[1].wmf"/>
          <p:cNvPicPr/>
          <p:nvPr/>
        </p:nvPicPr>
        <p:blipFill>
          <a:blip r:embed="rId6"/>
          <a:stretch/>
        </p:blipFill>
        <p:spPr>
          <a:xfrm>
            <a:off x="3962520" y="609480"/>
            <a:ext cx="1796760" cy="209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carolyn.kinne\Local Settings\Temporary Internet Files\Content.IE5\XKKQW3N2\MCTR00183_0000[1].wmf"/>
          <p:cNvPicPr/>
          <p:nvPr/>
        </p:nvPicPr>
        <p:blipFill>
          <a:blip r:embed="rId7"/>
          <a:stretch/>
        </p:blipFill>
        <p:spPr>
          <a:xfrm>
            <a:off x="4191120" y="3962520"/>
            <a:ext cx="1368360" cy="2232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carolyn.kinne\Local Settings\Temporary Internet Files\Content.IE5\MNV8FF4K\MCj01325130000[1].wmf"/>
          <p:cNvPicPr/>
          <p:nvPr/>
        </p:nvPicPr>
        <p:blipFill>
          <a:blip r:embed="rId8"/>
          <a:stretch/>
        </p:blipFill>
        <p:spPr>
          <a:xfrm>
            <a:off x="7010280" y="228600"/>
            <a:ext cx="1791000" cy="1719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C:\Documents and Settings\carolyn.kinne\Local Settings\Temporary Internet Files\Content.IE5\MNV8FF4K\MCj02329450000[1].wmf"/>
          <p:cNvPicPr/>
          <p:nvPr/>
        </p:nvPicPr>
        <p:blipFill>
          <a:blip r:embed="rId9"/>
          <a:stretch/>
        </p:blipFill>
        <p:spPr>
          <a:xfrm>
            <a:off x="533520" y="4191120"/>
            <a:ext cx="2116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oyancy and density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property of matter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isplace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how much matter (we use water) it pushes out of the wa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uoyant object will only displace its mass unless its surface area is large compared to its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ould happen if you used sand instead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carolyn.kinne\Local Settings\Temporary Internet Files\Content.IE5\E2LUDJLQ\MCj01981710000[1].wmf"/>
          <p:cNvPicPr/>
          <p:nvPr/>
        </p:nvPicPr>
        <p:blipFill>
          <a:blip r:embed="rId2"/>
          <a:stretch/>
        </p:blipFill>
        <p:spPr>
          <a:xfrm>
            <a:off x="5029200" y="5486400"/>
            <a:ext cx="32590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25:17Z</dcterms:created>
  <dc:creator>Ector County ISD Employee</dc:creator>
  <dc:description/>
  <dc:language>en-US</dc:language>
  <cp:lastModifiedBy>RomaK</cp:lastModifiedBy>
  <dcterms:modified xsi:type="dcterms:W3CDTF">2015-09-01T16:19:39Z</dcterms:modified>
  <cp:revision>22</cp:revision>
  <dc:subject/>
  <dc:title>Buoyancy</dc:title>
</cp:coreProperties>
</file>