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3.png" ContentType="image/png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3F0B-3BC7-40DD-B018-561EBDDE50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 has allowed us to adapt and improve plants for our ow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benefit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production of large numbers of genetically identical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varieties, desired features or consistent quality can be produced especially in fruit,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 has allowed us to adapt and improve plants for our ow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benefit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production of large numbers of genetically identical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varieties, desired features or consistent quality can be produced especially in fruit,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vegetative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ethods of vegetative propagta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vegetative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ethods of vegetative propagta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 are underground food stores which stores food over the winter and provides a new plant with food until it can make its 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ade by the new plant is sent to make new tubers. Thereby reproduc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potato, artichoke, yam, cassava, water chestnut, arrow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 are underground food stores which stores food over the winter and provides a new plant with food until it can make its 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ade by the new plant is sent to make new tubers. Thereby reproduc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potato, artichoke, yam, cassava, water chestnut, arrow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. daffodils, l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daffodils, l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 are side shoots which grow out from the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s form at points along the runner and eventually these buds form roots and grow into new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spider plant (Anthericum), strawberry (Fragaria x ananas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 are side shoots which grow out from the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s form at points along the runner and eventually these buds form roots and grow into new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spider plant (Anthericum), strawberry (Fragaria x ananas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ethods used to cultivate plants asex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aking cu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ethods used to cultivate plants asex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aking cu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in mo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or water (and som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ped in roo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der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s are small pieces of stem with some leaves attached, the new plant grows from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in mo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or water (and som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ped in roo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der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s are small pieces of stem with some leaves attached, the new plant grows from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 stem of one plant (with good flower or fruit growth) (the graft) is taken and firmly attached to the rootstock of another plant (which has a strong, established root system) (the stoc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- roses, fruit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 stem of one plant (with good flower or fruit growth) (the graft) is taken and firmly attached to the rootstock of another plant (which has a strong, established root system) (the stoc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- roses, fruit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079-39A9-4B81-A606-3516D610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E95-63F1-410F-91CC-0640B556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C73-2DAD-496B-B8BD-01EB1382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5EB-AD0A-44FB-AA4E-670EC8FB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03AB-C668-4F76-991A-ECBA58F7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55A-47D8-4887-BC65-08C5C5F1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E34-EC93-4B1A-970E-62B36984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7116-60A3-460E-BF4B-4CD35445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B080-B79C-48F4-BA7A-F861A5A7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7164-135D-4025-A920-82EC922D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5BBE-3402-4A21-8C8D-53C5951A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839-3082-4314-B25C-FB75D6DB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4A7E-16BD-472F-9220-6C21DDF4E3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ledegrande.com/giimages9/wildstrawberryrunners.jpg&amp;imgrefurl=http://www.isledegrande.com/naturepage04-v2.htm&amp;h=513&amp;w=684&amp;sz=67&amp;hl=en&amp;start=2&amp;tbnid=ZnZ5qL1KkKoxPM:&amp;tbnh=104&amp;tbnw=139&amp;prev=/images%3Fq%3Dstrawberry%2Brunners%26gbv%3D2%26svnum%3D10%26hl%3Den%26safe%3Dactiv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www.ces.ncsu.edu/hil/gif/8701fig6.gif&amp;imgrefurl=http://www.ces.ncsu.edu/hil/hil-8701.html&amp;h=144&amp;w=225&amp;sz=7&amp;hl=en&amp;start=21&amp;tbnid=teEx4TJAQz72fM:&amp;tbnh=69&amp;tbnw=108&amp;prev=/images%3Fq%3Dspider%2Bplant%2Brunners%26start%3D20%26gbv%3D2%26ndsp%3D20%26svnum%3D10%26hl%3Den%26safe%3Dactive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.uk/imgres?imgurl=http://www.ncsu.edu/project/agronauts/images/berry.gif&amp;imgrefurl=http://www.ncsu.edu/project/agronauts/mission2_polly.htm&amp;h=131&amp;w=105&amp;sz=5&amp;hl=en&amp;start=89&amp;tbnid=RU_iqx1Pp70eFM:&amp;tbnh=91&amp;tbnw=73&amp;prev=/images%3Fq%3Dstrawberry%2Brunners%26start%3D80%26gbv%3D2%26ndsp%3D20%26svnum%3D10%26hl%3Den%26safe%3Dactive%26sa%3DN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.uk/imgres?imgurl=http://www.blaserco.com/blogs/images/rhyzomes.jpg&amp;imgrefurl=http://www.blaserco.com/blogs/2006/02/05.html&amp;h=298&amp;w=397&amp;sz=23&amp;hl=en&amp;start=9&amp;tbnid=QWKJ9ntvVOPkGM:&amp;tbnh=93&amp;tbnw=124&amp;prev=/images%3Fq%3Dstrawberry%2Brunners%26gbv%3D2%26svnum%3D10%26hl%3Den%26safe%3Dactive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.uk/imgres?imgurl=http://www.visit-islay.com/resources/plants_files/image019.gif&amp;imgrefurl=http://www.visit-islay.com/resources/plants.htm&amp;h=200&amp;w=250&amp;sz=11&amp;hl=en&amp;start=4&amp;tbnid=Gh-qm-haBRJezM:&amp;tbnh=89&amp;tbnw=111&amp;prev=/images%3Fq%3Dspider%2Bplant%2Brunners%26gbv%3D2%26svnum%3D10%26hl%3Den%26safe%3Dactive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ardenhive.com/houseplants/peperomias/propagate/stem-cuttings/rooting-powder-1.jpg&amp;imgrefurl=http://www.gardenhive.com/houseplants/peperomias/propagate/stem-cuttings/&amp;h=120&amp;w=180&amp;sz=6&amp;hl=en&amp;start=11&amp;tbnid=xrlGTDo67GtVpM:&amp;tbnh=67&amp;tbnw=101&amp;prev=/images%3Fq%3Drooting%2Bpowder%2Bcuttings%26gbv%3D2%26svnum%3D10%26hl%3Den%26safe%3Dactive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.uk/imgres?imgurl=http://www.nantuckethydrangea.com/PropagationPics/trimbot.jpg&amp;imgrefurl=http://www.nantuckethydrangea.com/propagation.html&amp;h=405&amp;w=400&amp;sz=93&amp;hl=en&amp;start=83&amp;tbnid=N-zbA_-dv3yvDM:&amp;tbnh=124&amp;tbnw=122&amp;prev=/images%3Fq%3Drooting%2Bcuttings%2Bpowder%26start%3D80%26gbv%3D2%26ndsp%3D20%26svnum%3D10%26hl%3Den%26safe%3Dactive%26sa%3DN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semagazine.com/articles04/tree_roses/tree_rose.jpg&amp;imgrefurl=http://www.rosemagazine.com/articles04/tree_roses/&amp;h=269&amp;w=398&amp;sz=27&amp;hl=en&amp;start=8&amp;tbnid=qwnGi4NXS7mmbM:&amp;tbnh=84&amp;tbnw=124&amp;prev=/images%3Fq%3Drose%2Btree%2Bgrafts%26gbv%3D2%26ndsp%3D20%26svnum%3D10%26hl%3Den%26safe%3Dactive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mercial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3520" y="1676520"/>
            <a:ext cx="8229600" cy="2209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Artificial propagation has allowed us to 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adapt and improve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plants for our own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Some of the benefit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3733920"/>
            <a:ext cx="8229600" cy="151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Quick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production of 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large numbers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of genetically identical p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3520" y="4800600"/>
            <a:ext cx="8229600" cy="2064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Specific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varieties, desired features or consistent quality can be produced especially in fruit,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09480" y="533520"/>
          <a:ext cx="8229600" cy="5960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2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xual Re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exual Re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volves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ex cell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ertil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es not involv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ex cell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ertil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on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paren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p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vantage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are not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enetically identic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one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variatio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in the offsp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have no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var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33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ar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enetically identic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one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lso known as </a:t>
            </a:r>
            <a:r>
              <a:rPr b="1" lang="en-GB" sz="2600" spc="-1" strike="noStrike">
                <a:solidFill>
                  <a:srgbClr val="ff3300"/>
                </a:solidFill>
                <a:latin typeface="Comic Sans MS"/>
              </a:rPr>
              <a:t>vegetative propag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3 methods of vegetative propagta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tu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bul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runn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tubers"/>
          <p:cNvPicPr/>
          <p:nvPr/>
        </p:nvPicPr>
        <p:blipFill>
          <a:blip r:embed="rId1"/>
          <a:stretch/>
        </p:blipFill>
        <p:spPr>
          <a:xfrm>
            <a:off x="76320" y="1523880"/>
            <a:ext cx="4190760" cy="3292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4419720" y="1752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ubers are underground food stores which stores food over the winter and provides a new plant with food until it can make its 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419720" y="5518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od made by the new plant is sent to make new tubers. Thereby reproducing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419720" y="4114800"/>
            <a:ext cx="396216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 potato, artichoke, yam, cassava, water chestnut, arrow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533520" y="4968720"/>
            <a:ext cx="3580920" cy="1313640"/>
            <a:chOff x="533520" y="4968720"/>
            <a:chExt cx="3580920" cy="1313640"/>
          </a:xfrm>
        </p:grpSpPr>
        <p:pic>
          <p:nvPicPr>
            <p:cNvPr id="59" name="Picture 8" descr="taro"/>
            <p:cNvPicPr/>
            <p:nvPr/>
          </p:nvPicPr>
          <p:blipFill>
            <a:blip r:embed="rId2"/>
            <a:stretch/>
          </p:blipFill>
          <p:spPr>
            <a:xfrm>
              <a:off x="533520" y="4968720"/>
              <a:ext cx="193176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9"/>
            <p:cNvSpPr/>
            <p:nvPr/>
          </p:nvSpPr>
          <p:spPr>
            <a:xfrm>
              <a:off x="2590560" y="5273640"/>
              <a:ext cx="1523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Taro- Japanese pot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Bul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E.g. daffodils, lil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The life of a tulip bulb"/>
          <p:cNvPicPr/>
          <p:nvPr/>
        </p:nvPicPr>
        <p:blipFill>
          <a:blip r:embed="rId1"/>
          <a:stretch/>
        </p:blipFill>
        <p:spPr>
          <a:xfrm>
            <a:off x="304920" y="2666880"/>
            <a:ext cx="81532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wildstrawberryrunn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81080"/>
            <a:ext cx="3429000" cy="256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8701fig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380880"/>
            <a:ext cx="1523880" cy="97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berr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384120"/>
            <a:ext cx="795600" cy="990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419720" y="1893960"/>
            <a:ext cx="4267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unners are side shoots which grow out from the parent p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uds form at points along the runner and eventually these buds form roots and grow into new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362320" y="5257800"/>
            <a:ext cx="388620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 spider plant 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Anthericu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, strawberry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ragaria x ananas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8"/>
          <p:cNvGrpSpPr/>
          <p:nvPr/>
        </p:nvGrpSpPr>
        <p:grpSpPr>
          <a:xfrm>
            <a:off x="304920" y="5105520"/>
            <a:ext cx="8610480" cy="1542960"/>
            <a:chOff x="304920" y="5105520"/>
            <a:chExt cx="8610480" cy="1542960"/>
          </a:xfrm>
        </p:grpSpPr>
        <p:pic>
          <p:nvPicPr>
            <p:cNvPr id="71" name="Picture 9" descr="rhyzomes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6858000" y="5105520"/>
              <a:ext cx="205740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0" descr="image019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304920" y="5153040"/>
              <a:ext cx="1649160" cy="132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rtificial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ethods used to cultivate plants asex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taking cu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raf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429000" y="4724280"/>
            <a:ext cx="5105520" cy="1981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can be placed in mo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il or water (and some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pped in roo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wder)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rooting-powder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56386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trimbo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25640" y="4724280"/>
            <a:ext cx="1946160" cy="198144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6"/>
          <p:cNvGrpSpPr/>
          <p:nvPr/>
        </p:nvGrpSpPr>
        <p:grpSpPr>
          <a:xfrm>
            <a:off x="533520" y="1981080"/>
            <a:ext cx="8229600" cy="2667240"/>
            <a:chOff x="533520" y="1981080"/>
            <a:chExt cx="8229600" cy="2667240"/>
          </a:xfrm>
        </p:grpSpPr>
        <p:pic>
          <p:nvPicPr>
            <p:cNvPr id="80" name="Picture 7" descr="propagation-1"/>
            <p:cNvPicPr/>
            <p:nvPr/>
          </p:nvPicPr>
          <p:blipFill>
            <a:blip r:embed="rId5"/>
            <a:stretch/>
          </p:blipFill>
          <p:spPr>
            <a:xfrm>
              <a:off x="533520" y="2281320"/>
              <a:ext cx="5033880" cy="23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8" descr="propagation-2"/>
            <p:cNvPicPr/>
            <p:nvPr/>
          </p:nvPicPr>
          <p:blipFill>
            <a:blip r:embed="rId6"/>
            <a:stretch/>
          </p:blipFill>
          <p:spPr>
            <a:xfrm>
              <a:off x="5562720" y="2598840"/>
              <a:ext cx="1761840" cy="20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9" descr="propagation-3a"/>
            <p:cNvPicPr/>
            <p:nvPr/>
          </p:nvPicPr>
          <p:blipFill>
            <a:blip r:embed="rId7"/>
            <a:stretch/>
          </p:blipFill>
          <p:spPr>
            <a:xfrm>
              <a:off x="6980400" y="1981080"/>
              <a:ext cx="178272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10"/>
            <p:cNvSpPr/>
            <p:nvPr/>
          </p:nvSpPr>
          <p:spPr>
            <a:xfrm>
              <a:off x="533520" y="1981080"/>
              <a:ext cx="647676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1"/>
            <p:cNvSpPr/>
            <p:nvPr/>
          </p:nvSpPr>
          <p:spPr>
            <a:xfrm>
              <a:off x="5410080" y="2133720"/>
              <a:ext cx="1676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12"/>
          <p:cNvSpPr/>
          <p:nvPr/>
        </p:nvSpPr>
        <p:spPr>
          <a:xfrm>
            <a:off x="533520" y="1066680"/>
            <a:ext cx="82296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Cuttings are small pieces of stem with some leaves attached, the new plant grows from thi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57440" y="3805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af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33520" y="4038480"/>
            <a:ext cx="8229600" cy="259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ut stem of one plant (with good flower or fruit growth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graft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aken and firmly attached to the rootstock of another plant (which has a strong, established root system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stock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- roses, fruit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tree_r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752480"/>
            <a:ext cx="3429000" cy="2324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qu-graft"/>
          <p:cNvPicPr/>
          <p:nvPr/>
        </p:nvPicPr>
        <p:blipFill>
          <a:blip r:embed="rId3"/>
          <a:stretch/>
        </p:blipFill>
        <p:spPr>
          <a:xfrm>
            <a:off x="533520" y="457200"/>
            <a:ext cx="2765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2:40:40Z</dcterms:created>
  <dc:creator>hhashmi</dc:creator>
  <dc:description/>
  <dc:language>en-US</dc:language>
  <cp:lastModifiedBy>RomaK</cp:lastModifiedBy>
  <dcterms:modified xsi:type="dcterms:W3CDTF">2015-09-04T11:07:58Z</dcterms:modified>
  <cp:revision>7</cp:revision>
  <dc:subject/>
  <dc:title>Asexual Reproduction</dc:title>
</cp:coreProperties>
</file>