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3934-D019-4DF4-A452-0D5163446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85C-13C9-4D75-AEA8-A64D4F01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D25-CCB4-47A4-867B-D6CAED00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A874-32F8-4760-9429-113CB0AD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2752-1667-4E7C-A567-189E3385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20C2-61AC-4D5C-9512-CCE809B1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EAF2-9D15-4A6D-A5A2-29CC5597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D279-1F1C-4A08-8DA2-9360D5C0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F895-F826-482F-9851-83393A56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2015-B86B-4E1C-8571-7A528AA0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AF78-FBCF-4B0F-8903-15ADB793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D780-5BB7-45EE-A320-A6DAF49D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EA4-1390-4B64-9E8E-98C5B8AF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474D-66A7-46D5-9D99-42E118E2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E2DE-036F-4552-8931-14D2F12E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7830-02A9-481B-9F6A-AA48A82A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7426-E9CD-4476-B51C-1BF7100B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A14D-AC9C-4169-A0F2-BA66A4C5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F8275-F507-42C7-8BE7-EAFB3238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D95F5-B059-406D-8CBE-34409460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900B4-5101-4FAF-A945-182A0E1F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5D5F2-FE4F-476C-A518-9F1D4D36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57215-1289-4C8E-8E19-5FBE4772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4FC-2563-436F-A8D9-F2EED8E3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2F095-9D81-4B2A-A73B-54873E3A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E1032-F168-4F41-9FC9-4E2BC03E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0276F-1B36-4D07-A4BD-4661CF11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2287F-48CE-4297-95DB-345E14D8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B87BD-51DC-4B90-989C-29C69F08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55B68-B655-40BB-B241-18508630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6B01B-D99D-4300-97E7-6832DFE3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AFCD2-F5DC-49BD-92F3-D177BA3B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B750D-1E3D-4DEF-9B13-91D8AECD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48965-1AB1-4647-B2A1-05C1C1D3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D93-E73D-4227-9044-07943B4C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B8B7F-ECBA-452F-B1E0-078DEBAA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EA800-FDD0-4E84-BEF3-0CBBB53D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59071-FD02-4AFD-8F98-93FAADA3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270D3-54CF-47F3-8F6C-4AB63194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8A594-3FDD-4017-8EF0-17729430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C7042-2ABE-4017-A2B9-20A9FA1F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97F49-D368-42CA-9838-0B1E7B7E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7F758-BF73-41AB-90F0-D89B0715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719A4-E483-4CCA-824C-CACCD17D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6EAB-63B7-42F6-83AF-960F4938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2944-0AC6-444F-8897-3D6329C8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C96-7786-40FB-9FF1-5CB93477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25E-2E9A-4E8F-8E06-F11FC676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CDA3-1098-4CE6-8F17-07F97120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2D5A-8AE4-4E39-820A-D19E49498C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FB80-1A77-45FA-8B84-EE77764051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F20A-3C85-4E1F-ABA2-5C5DF56D11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C8E0-6A62-448C-BEA1-A08FE73C95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6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3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7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4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RomaK</cp:lastModifiedBy>
  <dcterms:modified xsi:type="dcterms:W3CDTF">2015-09-04T11:07:52Z</dcterms:modified>
  <cp:revision>27</cp:revision>
  <dc:subject/>
  <dc:title>Aim: How do cells make new cells?</dc:title>
</cp:coreProperties>
</file>