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08DB-4DE3-4862-8BD1-8EBF3FD53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im: How do cells make new cell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mework: Read Text Book pages 284-287.  Answer questions 4, 5, 6 and 7on page 287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How do cells make new ce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: Read Text Book pages 284-287.  Answer questions 4, 5, 6 and 7on page 2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reproductio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production is the process by which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rganisms produce more of their own kin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nk about it – Without reproduction, all 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fe on earth would no longer exist.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s the process by wh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produce more of their own k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about it – Without reproduction, all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on earth would no longer exis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Asexual Reproductio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nly one parent is involve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ffspring are genetically identical to their parent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ne parent is in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are genetically identical to their par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tosis - is the exact duplication of the nucleus of a cell so as to form two identical nuclei during cell divisio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- is the exact duplication of the nucleus of a cell so as to form two identical nuclei during cell di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2.  Binary Fission - occurs in one-celled organisms such as the ameba and paramecium. The nucleus divides by mitosis and the cytoplasm divides, forming 2 new daughter cells of equal siz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Binary Fission - occurs in one-celled organisms such as the ameba and paramecium. The nucleus divides by mitosis and the cytoplasm divides, forming 2 new daughter cells of equal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3.  Budding - Occurs in Hydra and yeast. The division of cytoplasm is unequal so one of the daughter cells is larger than the other.  The daughter cells can separate or remain attache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Budding - Occurs in Hydra and yeast. The division of cytoplasm is unequal so one of the daughter cells is larger than the other.  The daughter cells can separate or remain attac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4. Sporulation - occurs in molds, mosses, etc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pores are produced in large numbers by mitosi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Sporulation - occurs in molds, mosses,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s are produced in large numbers by mit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5.Regeneration - Refers to the replacement or regrowth of lost or damaged body part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Regeneration - Refers to the replacement or regrowth of lost or damaged body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6.Vegetative Propagation –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Vegetative Propagation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84FD-E18D-486E-AAF3-119568990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9DDE-F3A8-4E18-906F-9F692E03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6510-11FA-4E8B-A389-0BE207ABE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2175-6C11-4CE0-85BB-A1EE6C8B8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7A48-9408-41A3-AC7B-7386218A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21D7-4504-4F5F-934E-76F0F18E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004B-2B7C-4D22-9576-95BEFBCC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BDEC-5580-4BF4-A0CF-AA634D86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8A1C-C919-4027-AB83-88ED1D4F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9779-1719-47EE-AB9B-572C084E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DA10-3BBC-44E8-922F-DE51E420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4520-34DA-4412-B5A8-EBE3BDAC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C423-F164-4A65-924E-AAA8C07B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1DB3-A520-4C3E-B50A-2F7E4A55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18F8-2772-44A4-893E-91447E73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A6D6-5666-415A-98B1-598FB1356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3B67-051B-4FEF-9FD3-D23B04273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EAD79-CB38-48E3-8221-A0F10A2EC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07736-6153-4FAE-9CFE-7FD04B39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AA82A-F462-4CF4-A0E1-819E7CB1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46CFF-262F-49E9-93CB-8BB03B8D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26087-E24F-433C-ACC2-C0504DEB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0CEC-B837-4854-8D82-28C5ECC1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4B2C9-1EA7-4250-8357-C319C386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5F75F-5436-4E44-A767-4626FCFE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277EB-5741-48F6-B0DA-4A523600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5D1E7-8EA4-4BFE-9225-DC915093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771AF-0C62-4206-84B0-0CEE423B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9A4EF-2718-4955-991C-5000C93B1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76DE0-C5C8-459F-BD66-CCD43E95A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9DC37-F1E7-4336-9917-25A5C191D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40858-7A59-48A6-9199-97444EC4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392A7-F401-4B10-99A3-CCD32D0F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7A8F-CCF9-46ED-9CF6-44D0BAD6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3F205-82B5-46BE-B5F0-1DB42AE8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B66E4-4B88-49DE-BBDF-FB667595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57B1E-7075-45C5-9038-5C84615F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8C722-53FA-4A9F-8EF5-46771C63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8E1F2-AFA2-4214-A554-8F60CC8B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53B42-2518-4CAD-84EC-641664DF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7789A-745B-4B45-A6B7-78B42F54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5B911-C20B-46A4-A123-2848E0B9A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24826-8BD1-4058-9D4D-2A0E45572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6486-D725-4449-BF3F-FED6344B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1283-1CD0-4B10-ACE1-6EFC0480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B830-106D-4F37-BAA7-2C2710A7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48F0-E0EF-4943-B1F2-272D3F5A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42B7-560B-408A-A7D9-3237733F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23C1-2E71-4A20-AC6C-E42C93C6A9B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7A19-909C-4216-907F-BBF547EEE1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55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56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57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3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5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7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8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9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0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1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82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83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99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02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2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3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4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5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6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7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8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4CA3-BF7D-4683-8FDA-92905417E2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61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62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3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265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6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6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9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66D2-226E-463D-A731-DF64CDBFB2B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im: How do cells make new cell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mework: Read Text Book pages 284-287.  Answer questions 4, 5, 6 and 7on page 28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reproduc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production is the process by which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rganisms produce more of their own ki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Think about it – Without reproduction, all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life on earth would no longer exist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Asexual Reproduc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ly one parent is involv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fspring are genetically identical to their paren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421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itosi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is the exact duplication of the nucleus of a cell so as to form two identical nuclei during cell divis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6" name="Picture 4" descr="Mitosis"/>
          <p:cNvPicPr/>
          <p:nvPr/>
        </p:nvPicPr>
        <p:blipFill>
          <a:blip r:embed="rId1"/>
          <a:stretch/>
        </p:blipFill>
        <p:spPr>
          <a:xfrm>
            <a:off x="4114800" y="1676520"/>
            <a:ext cx="5029200" cy="3733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ypes of Asexual Reprodu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120" y="1717200"/>
            <a:ext cx="441972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inary Fis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occurs in one-celled organisms such as the ameba and paramecium. The nucleus divides by mitosis and the cytoplasm divides, forming 2 new daughter cells of equal siz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9" name="Picture 6" descr="biamoeba"/>
          <p:cNvPicPr/>
          <p:nvPr/>
        </p:nvPicPr>
        <p:blipFill>
          <a:blip r:embed="rId1"/>
          <a:stretch/>
        </p:blipFill>
        <p:spPr>
          <a:xfrm>
            <a:off x="5246640" y="2065320"/>
            <a:ext cx="3600360" cy="18921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7" descr="TEM-Fission_rod"/>
          <p:cNvPicPr/>
          <p:nvPr/>
        </p:nvPicPr>
        <p:blipFill>
          <a:blip r:embed="rId2"/>
          <a:stretch/>
        </p:blipFill>
        <p:spPr>
          <a:xfrm>
            <a:off x="5710320" y="4145040"/>
            <a:ext cx="2674800" cy="1987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5400" y="3922200"/>
            <a:ext cx="822636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Buddin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Occurs in Hydra and yeast. The division of cytoplasm is unequal so one of the daughter cells is larger than the other.  The daughter cells can separate or remain attache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33" name="Picture 6" descr="buddingyeast(color)"/>
          <p:cNvPicPr/>
          <p:nvPr/>
        </p:nvPicPr>
        <p:blipFill>
          <a:blip r:embed="rId1"/>
          <a:stretch/>
        </p:blipFill>
        <p:spPr>
          <a:xfrm>
            <a:off x="1279440" y="1712880"/>
            <a:ext cx="2387520" cy="1943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u1fig35"/>
          <p:cNvPicPr/>
          <p:nvPr/>
        </p:nvPicPr>
        <p:blipFill>
          <a:blip r:embed="rId2"/>
          <a:stretch/>
        </p:blipFill>
        <p:spPr>
          <a:xfrm>
            <a:off x="5052960" y="1598760"/>
            <a:ext cx="3220920" cy="2171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Sporulatio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occurs in molds, mosses, et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ores are produced in large numbers by mitosi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37" name="Picture 6" descr="sporulation"/>
          <p:cNvPicPr/>
          <p:nvPr/>
        </p:nvPicPr>
        <p:blipFill>
          <a:blip r:embed="rId1"/>
          <a:stretch/>
        </p:blipFill>
        <p:spPr>
          <a:xfrm>
            <a:off x="846000" y="3922560"/>
            <a:ext cx="3256200" cy="21733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spores"/>
          <p:cNvPicPr/>
          <p:nvPr/>
        </p:nvPicPr>
        <p:blipFill>
          <a:blip r:embed="rId2"/>
          <a:stretch/>
        </p:blipFill>
        <p:spPr>
          <a:xfrm>
            <a:off x="1008000" y="1598760"/>
            <a:ext cx="2930760" cy="2171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0" name="Picture 6" descr="stages"/>
          <p:cNvPicPr/>
          <p:nvPr/>
        </p:nvPicPr>
        <p:blipFill>
          <a:blip r:embed="rId1"/>
          <a:stretch/>
        </p:blipFill>
        <p:spPr>
          <a:xfrm>
            <a:off x="477720" y="1827360"/>
            <a:ext cx="3990960" cy="40384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5.</a:t>
            </a:r>
            <a:r>
              <a:rPr b="1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Regeneration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Refers to the replacement or regrowth of lost or damaged body part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6.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Vegetative Propaga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44" name="Picture 5" descr="potato%20bud1"/>
          <p:cNvPicPr/>
          <p:nvPr/>
        </p:nvPicPr>
        <p:blipFill>
          <a:blip r:embed="rId1"/>
          <a:stretch/>
        </p:blipFill>
        <p:spPr>
          <a:xfrm>
            <a:off x="5181480" y="1981080"/>
            <a:ext cx="3765600" cy="301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22:44:47Z</dcterms:created>
  <dc:creator>Saul</dc:creator>
  <dc:description/>
  <dc:language>en-US</dc:language>
  <cp:lastModifiedBy>RomaK</cp:lastModifiedBy>
  <dcterms:modified xsi:type="dcterms:W3CDTF">2015-09-04T11:07:52Z</dcterms:modified>
  <cp:revision>27</cp:revision>
  <dc:subject/>
  <dc:title>Aim: How do cells make new cells?</dc:title>
</cp:coreProperties>
</file>