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D320-4F01-4092-865F-290C00B62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im: How do cells make new cells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mework: Read Text Book pages 284-287.  Answer questions 4, 5, 6 and 7on page 287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How do cells make new ce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: Read Text Book pages 284-287.  Answer questions 4, 5, 6 and 7on page 2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reproduction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production is the process by which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rganisms produce more of their own kin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ink about it – Without reproduction, all 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fe on earth would no longer exist.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is the process by wh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produce more of their own k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about it – Without reproduction, all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on earth would no longer exis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Asexual Reproduction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nly one parent is involve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ffspring are genetically identical to their parent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one parent is invol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are genetically identical to their par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tosis - is the exact duplication of the nucleus of a cell so as to form two identical nuclei during cell division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- is the exact duplication of the nucleus of a cell so as to form two identical nuclei during cell divi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2.  Binary Fission - occurs in one-celled organisms such as the ameba and paramecium. The nucleus divides by mitosis and the cytoplasm divides, forming 2 new daughter cells of equal siz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Binary Fission - occurs in one-celled organisms such as the ameba and paramecium. The nucleus divides by mitosis and the cytoplasm divides, forming 2 new daughter cells of equal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3.  Budding - Occurs in Hydra and yeast. The division of cytoplasm is unequal so one of the daughter cells is larger than the other.  The daughter cells can separate or remain attache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Budding - Occurs in Hydra and yeast. The division of cytoplasm is unequal so one of the daughter cells is larger than the other.  The daughter cells can separate or remain attac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4. Sporulation - occurs in molds, mosses, etc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pores are produced in large numbers by mitosi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Sporulation - occurs in molds, mosses,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s are produced in large numbers by mit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5.Regeneration - Refers to the replacement or regrowth of lost or damaged body part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Regeneration - Refers to the replacement or regrowth of lost or damaged body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6.Vegetative Propagation –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Vegetative Propagation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D3F0-D59A-4336-8079-5B88125DA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B07B-F8F6-419D-BB4D-FCFB60F2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4DD2-E28F-48CC-91C5-63905A0B4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4542-D429-4342-8873-933FAF8D0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8C85-4B09-4149-84A7-69994075C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C822-F6CE-4024-A583-CEAA4FB98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DA578-F974-48A4-9034-26B40BE6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42D8-986F-4708-991F-FE9E1106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A74D7-109C-4724-8579-A530D5E6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F3334-0A45-4674-8E1C-CC83B81B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F1E3-0B96-4024-830E-992A93CC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ADF4-7E47-4673-93A0-73DDF2A1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6BBD-69F1-4E16-8351-1D627B7E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8021-6CA7-458D-B690-1E58FE3D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FFF0-ACAD-47C9-BEAD-B72B5789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29583-162E-4E9C-A472-2399C441B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E2CB-1C3B-4288-B6F8-0BD108F0E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E23EA-E11B-4EA0-B7E8-0E19B6EF3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03D85-A1A2-4555-A211-F5BCA532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D505E-7FCE-4ED9-BF3B-570EB12C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5D748-1BFA-42F2-883C-DAA8120E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415FF-FF85-4A3E-B5EB-AED1E1AA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268A-C9B5-4052-A07D-E89553CC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7D1B0-6312-4D2A-93E3-C8EC7EF8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C5106-1645-4FA0-AF44-A533E34A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5D55E-8A13-4592-8017-EE8A580D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0825A-37C6-44B0-9A6C-E8545302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AD2D5-F1E9-4B79-B978-D7F8A139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6F0B5-46B3-4691-A063-B179B33F2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091A2-F720-4AD9-9CD8-F9E402DD7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83D51-7217-4F2A-91C5-7369B559A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D0525-6505-4F6D-999C-2B000CB2A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CD364-38A2-4554-9432-679A62B6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06C8-9A2C-4EE0-9409-DC147FB4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9730F-8400-4E16-890F-F4D1C1AE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8DBC5-83AF-4796-A0EB-A6F2B056D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2F8BD-4447-4DA8-BD18-6C4EA5CC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07F63-B0B3-4B3B-AA94-46342203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02F03-0EBA-4AAC-A9D4-60AE6D8D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A9038-7398-4C34-BC78-CE5215FD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51BFD-105B-48C0-B7CD-8E997D35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52879-E71C-471D-824E-97DAB5744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19CAD-B3B1-4AA4-A4B9-A14E91978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F3D9-7E2E-4B1B-84F8-E6DCF0AA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3629-845F-4F20-BA51-04ED187C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1831-CC29-4D78-9E7B-BD92A9B1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7EAE-6267-40AB-B952-13193FD6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19B1-63D6-4B54-9648-BBC483B1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3CA66-BF4B-4171-97D3-6CA2BC659F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C684-19B0-4AFA-ABAE-F0169EB622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55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56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57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0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1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2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3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3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4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5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6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7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8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9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0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1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82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83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1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6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99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02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2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3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4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5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6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7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8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8494-CA18-4F20-8308-97EC92E880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61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262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3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265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6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67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8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9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5A0C-9834-40B1-B0E4-CE7AF8977BF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im: How do cells make new cell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mework: Read Text Book pages 284-287.  Answer questions 4, 5, 6 and 7on page 28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reproduct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production is the process by which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rganisms produce more of their own ki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Think about it – Without reproduction, all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life on earth would no longer exist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Asexual Reproduct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nly one parent is involv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ffspring are genetically identical to their paren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4211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itosi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is the exact duplication of the nucleus of a cell so as to form two identical nuclei during cell divis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6" name="Picture 4" descr="Mitosis"/>
          <p:cNvPicPr/>
          <p:nvPr/>
        </p:nvPicPr>
        <p:blipFill>
          <a:blip r:embed="rId1"/>
          <a:stretch/>
        </p:blipFill>
        <p:spPr>
          <a:xfrm>
            <a:off x="4114800" y="1676520"/>
            <a:ext cx="5029200" cy="3733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ypes of Asexual Reprodu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120" y="1717200"/>
            <a:ext cx="441972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Binary Fiss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occurs in one-celled organisms such as the ameba and paramecium. The nucleus divides by mitosis and the cytoplasm divides, forming 2 new daughter cells of equal siz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9" name="Picture 6" descr="biamoeba"/>
          <p:cNvPicPr/>
          <p:nvPr/>
        </p:nvPicPr>
        <p:blipFill>
          <a:blip r:embed="rId1"/>
          <a:stretch/>
        </p:blipFill>
        <p:spPr>
          <a:xfrm>
            <a:off x="5246640" y="2065320"/>
            <a:ext cx="3600360" cy="18921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7" descr="TEM-Fission_rod"/>
          <p:cNvPicPr/>
          <p:nvPr/>
        </p:nvPicPr>
        <p:blipFill>
          <a:blip r:embed="rId2"/>
          <a:stretch/>
        </p:blipFill>
        <p:spPr>
          <a:xfrm>
            <a:off x="5710320" y="4145040"/>
            <a:ext cx="2674800" cy="1987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5400" y="3922200"/>
            <a:ext cx="822636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Budding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Occurs in Hydra and yeast. The division of cytoplasm is unequal so one of the daughter cells is larger than the other.  The daughter cells can separate or remain attache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33" name="Picture 6" descr="buddingyeast(color)"/>
          <p:cNvPicPr/>
          <p:nvPr/>
        </p:nvPicPr>
        <p:blipFill>
          <a:blip r:embed="rId1"/>
          <a:stretch/>
        </p:blipFill>
        <p:spPr>
          <a:xfrm>
            <a:off x="1279440" y="1712880"/>
            <a:ext cx="2387520" cy="19432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u1fig35"/>
          <p:cNvPicPr/>
          <p:nvPr/>
        </p:nvPicPr>
        <p:blipFill>
          <a:blip r:embed="rId2"/>
          <a:stretch/>
        </p:blipFill>
        <p:spPr>
          <a:xfrm>
            <a:off x="5052960" y="1598760"/>
            <a:ext cx="3220920" cy="2171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Sporulation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occurs in molds, mosses, et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ores are produced in large numbers by mitosi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37" name="Picture 6" descr="sporulation"/>
          <p:cNvPicPr/>
          <p:nvPr/>
        </p:nvPicPr>
        <p:blipFill>
          <a:blip r:embed="rId1"/>
          <a:stretch/>
        </p:blipFill>
        <p:spPr>
          <a:xfrm>
            <a:off x="846000" y="3922560"/>
            <a:ext cx="3256200" cy="21733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spores"/>
          <p:cNvPicPr/>
          <p:nvPr/>
        </p:nvPicPr>
        <p:blipFill>
          <a:blip r:embed="rId2"/>
          <a:stretch/>
        </p:blipFill>
        <p:spPr>
          <a:xfrm>
            <a:off x="1008000" y="1598760"/>
            <a:ext cx="2930760" cy="2171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0" name="Picture 6" descr="stages"/>
          <p:cNvPicPr/>
          <p:nvPr/>
        </p:nvPicPr>
        <p:blipFill>
          <a:blip r:embed="rId1"/>
          <a:stretch/>
        </p:blipFill>
        <p:spPr>
          <a:xfrm>
            <a:off x="477720" y="1827360"/>
            <a:ext cx="3990960" cy="403848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5.</a:t>
            </a:r>
            <a:r>
              <a:rPr b="1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Regeneration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- Refers to the replacement or regrowth of lost or damaged body part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6.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Vegetative Propagati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44" name="Picture 5" descr="potato%20bud1"/>
          <p:cNvPicPr/>
          <p:nvPr/>
        </p:nvPicPr>
        <p:blipFill>
          <a:blip r:embed="rId1"/>
          <a:stretch/>
        </p:blipFill>
        <p:spPr>
          <a:xfrm>
            <a:off x="5181480" y="1981080"/>
            <a:ext cx="3765600" cy="3013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22:44:47Z</dcterms:created>
  <dc:creator>Saul</dc:creator>
  <dc:description/>
  <dc:language>en-US</dc:language>
  <cp:lastModifiedBy>RomaK</cp:lastModifiedBy>
  <dcterms:modified xsi:type="dcterms:W3CDTF">2015-09-04T11:07:52Z</dcterms:modified>
  <cp:revision>27</cp:revision>
  <dc:subject/>
  <dc:title>Aim: How do cells make new cells?</dc:title>
</cp:coreProperties>
</file>