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6895-A774-446A-9108-1C39C4136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209-2637-427A-93A0-083F9A4C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D0E-E488-4460-97C8-58E1BECD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0C9-67C8-457D-9FEA-E6BC4CC1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29E-40E6-4B20-AFD6-C6A5AD84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9B6E-098A-4EA1-89F3-7FCC261D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A2CC-1278-476F-A769-86184C31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0CCA-6C71-4512-BD98-81A7E036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3978-4292-439B-AF8C-8A2BF337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04C2-A8CD-4878-BEA1-32D228F2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F524-E596-4263-BADD-E4D452EA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28FA-771A-4CB5-BFCF-AC8F098E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440-3457-46D5-A1E7-1F1A3690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9E18-4AC6-47FD-BF38-6343FECE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C8F9-7F32-44E5-96DF-5EB97EBD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97E3-258E-41A2-B080-3A08D06C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29C3-A25F-4738-9CD3-1AC5D805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BC2E-D8C0-44B2-BD46-1A4A95B8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5CDFF-148D-435A-B671-BBDDD393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9A6A0-309A-47B8-A80A-2E0E2867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27588-F5E4-4273-B026-61983D27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9B24-53CB-41F8-A2BC-0C2F580E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D85A-2C5D-49D6-B758-1ED47358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F45-B3FA-4EB5-9AB8-67E00FEE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8DD9-4243-42E4-AEDF-DE95B1A8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5A29E-81B2-42C1-B10C-5D61A666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77D38-80B0-458D-B640-243BBA3F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B3C86-0EC0-47AC-A2E5-FCF7BFFF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A3559-A601-4316-9393-E6FA9DE0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A16E-9BA2-47B0-97CF-038F04D1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61D2-9372-4DF1-8078-689395FC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F3467-5962-40FF-9649-E66C24FD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9B3C7-A396-442B-94F1-D3E74BF3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3FC8D-E715-454E-8DFA-EE029987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9FD-BB14-43CE-9912-5BEDBCE4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025D0-FF73-4D79-9172-B58C2EA7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15050-C658-47F5-B2D2-87E9C1E0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29A49-3B31-4D0D-9292-819C7A19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43DB4-9335-4AC1-AC9F-4C133632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51433-DFAD-4DD3-A170-16BFCD22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748FA-F9B9-4449-B67D-C7673B5A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666D7-F7B4-422C-92CB-E2170319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8FE8D-927E-478B-9B2A-131BBDF4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7EA2C-D4E5-4867-9489-5C5E30E2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ABB-D993-423E-9030-0997B14F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9DB-1ADE-43EE-A63C-6A46BA2D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F54-A716-4376-8083-9CA2CF17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A57-5FE5-4BB1-8D0C-1632AF5F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F60-16C9-4496-822D-DC7BCEE9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92C4-AE47-4DAF-8285-C5D5F5E341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26E6-1760-42FE-9357-D31069A257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D7BB-DAFF-44E6-9FD5-4DEDE44DCF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3EC2-47B2-45A2-AFD6-C793888109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3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7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4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RomaK</cp:lastModifiedBy>
  <dcterms:modified xsi:type="dcterms:W3CDTF">2015-09-04T11:07:52Z</dcterms:modified>
  <cp:revision>27</cp:revision>
  <dc:subject/>
  <dc:title>Aim: How do cells make new cells?</dc:title>
</cp:coreProperties>
</file>