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2.wmf" ContentType="image/x-wmf"/>
  <Override PartName="/ppt/media/image7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0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74763-8C85-4CC5-A152-BF6A7FF6D6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inuity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inuity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Reproduc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ally Identical Offspr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en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henogen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…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ing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Reproduc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ally Identical Offspr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en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henogen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…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ing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ding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Organisms Arise as an Outgrowth from the Parent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n Mostly in Marine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Include; Sponges, Corals and Jellyfis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al Polyp Photo courtesy Jeffrey N. Jeffor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oceanworld.tamu.edu/students/coral/coral1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ding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Organisms Arise as an Outgrowth from the Parent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n Mostly in Marine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Include; Sponges, Corals and Jellyfis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al Polyp Photo courtesy Jeffrey N. Jeffor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oceanworld.tamu.edu/students/coral/coral1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eneratio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refers to the ability of some animals to      re-grow severed pa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f these animals can also grow new organisms from the severed pieces (Segmented Worms and Sea Sta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eneratio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refers to the ability of some animals to      re-grow severed pa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f these animals can also grow new organisms from the severed pieces (Segmented Worms and Sea Sta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henogenes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spring can arise from unfertilized eg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some Fish, Reptiles, Amphibians and Aph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se species can switch between Sexual and Asexual Reprodu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epending on condi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duke.edu/%7Ejsr6/Hawaiipics/Rhampho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aolsearch.aol.com/aol/imageDetails?invocationType=imageResults&amp;query=photos+of+parthenogenic+species&amp;i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pot.colorado.edu/~noyesr/TEACHING/4800%20Fall%202002.%20Biology%20and%20Evolution%20of%20Sex/Gynogenesis.Poecilia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g.ndsu.nodak.ed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henogenes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spring can arise from unfertilized eg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some Fish, Reptiles, Amphibians and Aph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se species can switch between Sexual and Asexual Reprodu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epending on condi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duke.edu/%7Ejsr6/Hawaiipics/Rhampho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aolsearch.aol.com/aol/imageDetails?invocationType=imageResults&amp;query=photos+of+parthenogenic+species&amp;i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pot.colorado.edu/~noyesr/TEACHING/4800%20Fall%202002.%20Biology%20and%20Evolution%20of%20Sex/Gynogenesis.Poecilia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g.ndsu.nodak.ed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ould these organisms prefer asexual reproduction in stable conditions and sexual reproduction in more uncertain or less favorable condi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ould these organisms prefer asexual reproduction in stable conditions and sexual reproduction in more uncertain or less favorable condi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that a particular organism within a species lacks a certain gene (or ability to express a certain gene) necessary to break down a specific type of food, yet others of the same species within the population are able to break down that f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if the uncertain or less favorable conditions lead to that being the primary food sour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that a particular organism within a species lacks a certain gene (or ability to express a certain gene) necessary to break down a specific type of food, yet others of the same species within the population are able to break down that f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if the uncertain or less favorable conditions lead to that being the primary food sour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t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rent organism and all of their offspring produced through parthenogenesis would die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, with the genetic diversity that comes from sexual reproduction the possibility of the offspring surviving is enhan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t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rent organism and all of their offspring produced through parthenogenesis would die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, with the genetic diversity that comes from sexual reproduction the possibility of the offspring surviving is enhan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2F3E-C768-494B-8A9C-2CF1053EC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7023-3C3C-4748-8E6C-974EB6171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E29479-E10C-4F6F-92D8-DCEBF6680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1E5193-33BC-4AA8-9A39-5FCA0DF13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0223C4-D148-46D9-AF10-BDE37CF18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0871E8-5B1F-4239-A918-FDD71247B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DE6668-1928-4BC6-BC93-F24620DEB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526619-2ABE-456C-BA11-8D7071CAE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5CE092-972C-4707-92FD-50E6B42E0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B996C3-0F4B-4F9C-99C5-4CF71913A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E41243-77A2-413C-A0B8-3A604584D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3475C8-9CEF-4BA1-AD6D-090AB11A5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3A05-7534-43D9-9522-EEDDA7660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AA5D73-36D4-4BED-8BB7-EA4221563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401C66-E077-492E-B520-A9C48FD82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0FF381-ECF6-45B0-972B-8AF9C3B00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1DBF57-DF54-45C8-9926-BBADCA1D5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1D26F7-2675-47F6-AD70-693244FB3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4D21D6-2D84-4EFC-A211-B52D3226E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947EE3-ED6F-4093-9B53-7704A5B0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1D9DFB-B492-4717-A949-7E4227C8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B59097-E6BC-4F86-BB2C-8C064007C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3268D6-7497-4C7A-A7A5-61D04F86B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D05F-5785-4973-BD22-39F9677FD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6C7C66-0205-4278-8DF0-EFCE550DD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CEDEF3-33A7-412A-8484-E540EE73A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7E3EE9-3FDA-447B-9D29-B199C8909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290796-0F51-4067-BF1F-E13C3E8B2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AD572D-0F8F-455C-AF4E-BE2360D0C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599038-914E-489D-81B6-E0F28484C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503ACC-17CA-4983-863E-2C0BB49E6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96485B-AA97-4462-8736-DD5922E7A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1E7755-8F80-4CF7-8AF8-5D32B8B9B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575350-513B-4A2A-AD60-076B75620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FA6C7-78C6-44EF-A8DF-4367CCD78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244F17-C1EC-461F-B474-DF6D6959A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DAF5ED-0681-4AB4-B6AD-E00B9ABC1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3CB167-AD2B-4CB9-8BB7-444DFB941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51D4B3-A649-4FA9-9345-88DF12275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A4B787-4FA9-40D1-B6FF-654EB8B3F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4ED081-091E-467B-BA22-8DAD500BE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8A9771-A720-4844-9FF0-F10A69F2C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D2710B-28C5-4851-A4FC-FE168B4A6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17C523-F08B-4D5B-A218-00AF8D59D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9F338A-509B-41A2-BE06-50182E70E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C8916-F48C-4097-9C4F-52DCFD562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134733-3D81-4160-860E-D127413A0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80DE80-1BDF-47ED-B896-A923C93D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4FD2A4-1FB9-4C04-8699-4CD0255BF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DD6CD2-E6EC-4152-8395-B5A0F78CF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1BBEAF-9868-4B6F-BFB9-57FAA552E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D7F3C-897D-4B68-9248-C7D950E02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B73F3-F1D2-4469-B3EC-202A3C06F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E0EC4-9BBE-49BE-9740-2642C2139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A44A7-31A2-4E30-8983-D5AF9DDFA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28B21-CF38-4C45-B1BA-73B0CA90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AEAF-96F3-4558-9052-A58A364C2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788F7-8392-4CD0-8748-4F492666A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DB3D8-0B82-44D5-A4C3-02D04F1F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7B1A9-15C1-4D87-A59E-1A817FD95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919BA-BE19-4669-8236-5E0BB8B50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523FB-B989-454E-911A-D6B4EB64B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7DD65-838B-4AC2-925D-486692CA6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B89AF-1EDC-4291-B67B-F6F2D7CF1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B80D2-A507-4083-A414-D85D6D932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27B52-109B-47EC-8A72-2102035E0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1EA85-0B0E-497A-8ED2-17DC5E52D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DB62-B315-496B-B8A5-80054D4EB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07BF1-0E76-4F6D-8E89-A673A6099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1EA19-6896-491F-8942-83DC7DD79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C5B4E-7420-416E-BA20-F400057E9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C8A97-9481-4C41-A276-112C1FAE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95D21-7674-475D-A936-59F921D98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67A1D-9259-4173-AD63-34CBB9684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C880A-8FE3-41B8-88AA-359A5FD38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81565-1FC0-4980-98CC-29CA51FC1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4EF42-3CDD-4941-9C20-6D0E7441E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DDF3F-BB34-4997-BBF0-998406539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BFDA-3AED-4E78-9680-5C3131139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B03D1-D683-4521-AC51-A843218F8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CBAF9-0C7C-4B1E-BF41-FDA4A98F9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64360-61FB-4C77-B27F-3E8BC1D7F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F9451-4FE5-430E-A43D-355B3C96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923C4-1B3A-40BF-9FF9-E14616FD6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DA7A4-72F8-4940-8F98-FD0A7ED12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09142-4A5A-4179-A3F5-35DF00362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F413B-8163-408B-9B61-873A6C4FE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A8D36-C0ED-4EA2-873D-F08CA867D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2B5A83-A54D-4C5B-B680-F8A0A84CF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6011-2808-4C5D-900C-EE88EBAF1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F58465-023F-4BE9-A112-37625F0C1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23985E-76A3-4CA9-9CAD-F8C261A32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32E7DB-3DD6-4995-9D93-A9D7F006D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10D93-C4D3-44D1-A493-6FBFFF51D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06644-0855-490E-9420-6A3D8776B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0EDD40-E538-4BEF-9933-AB22CA808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15AD9E-FE95-40AC-AA97-B802F8EE2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DAF421-55A6-498B-9BEE-8117FB492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44DDF-D28D-4DB2-A623-16C312D24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76C92-E635-4A25-BB51-10C9C46B3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3F67-79C9-4611-A156-0BDA3A40A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E6D309-3164-419A-BED9-4AB842DB1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C7A253-41B8-426B-9548-56D28B490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705381-BC0C-4A69-88F6-2E78E2D91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9A3339-9C6A-4ACF-AADC-82FFE817B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5A331C-9E7D-4987-A26E-378633C30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80E163-E367-4276-A6E3-4B24BEAEC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A3ABB2-E74F-48E4-8159-E124AE022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694B80-9564-4DEE-998A-3940C73B6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4E1621-44FC-41C9-8F80-474BBE5E8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236A1A-5A19-4698-B2BC-C497203A2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3AAE-18A4-40F2-8C00-A1AA62A47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BA72C6-F30A-4C25-95D8-E029AAEE2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6A2A76-32F0-4372-94EA-5A461BF6E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6FE185-BCEB-4F05-970C-4D8814AD7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C018AC-C596-4521-A184-C45A4E471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DABFD9-F700-409C-89D1-2DD224825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0772DD-AE65-4F25-B77D-7564ECDDB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B1C219-160C-4DEC-915D-A711B82BD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006E33-1604-4F2E-BFA3-6B994D322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A312FD-F25E-418D-ACBD-E63B2D10E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1AF02D-EF51-4604-A7BC-797B6B0D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1AAD-C967-4E95-B904-FDBE835E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645253-63DD-475C-9AB5-DC3CF8EA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1FDF1A-7346-4B3A-B218-2F3D78DB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43EAD4-1E94-4DE8-8577-2CF4F6B92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9E68CF-B6AE-4F79-A5A6-903F81316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F9FDC2-8D1D-4CCE-8CA8-5D5A1A654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4C6225-B0EE-422F-A067-8954A922E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0F82D4-3E7D-4A8A-9026-C44102DF3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040017-465C-4CEF-8032-E5F66DB3A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E62825-57D1-4B25-A1D3-2DAD43DB8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F17024-52CE-4964-B23B-1D1E92686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5442-8224-4426-BBEA-A6607C19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5D46AE-7F90-4E69-92D4-A405F9A42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FB84C2-CA1A-4B16-BC5B-492FDBB0F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383963-6564-4CFC-BC8D-B042DF818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578002-1ADF-4DE6-B160-979DAF1C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5EE2AA-563F-48CF-8778-BB0B403CB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842E15-6A4D-4FCF-8311-23F011F3D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0374FC-F27B-4E6B-8AC0-144751186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05B07D-CCCF-4825-9FD3-53F6256BC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5B8C42-FB91-4D75-BD4F-03DED0F1A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095E89-6ABA-46E8-9111-82C578BAF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2DDAE-D85D-4C5A-AB64-4C185A7FCE27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A1DF4-B577-4DF8-A64D-54AFAB3420D8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3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3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6D4C5-EF8E-4FE8-9456-E6ED9B6FC43E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6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3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3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3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5BD1B-69E1-47CA-A7FE-0D5F377C9A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7E24B-E0C8-4310-A398-AD017064EC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15E1B-78F0-413E-BF2E-8AFBE423DF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256B1-894F-4C9B-93A7-274FB181430E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AD780-4D58-40E6-99B7-07BCCFDEB9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710EC-CEB6-4234-8E6D-297C0C56ED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195D7-4407-4E36-8E70-10590D8D41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772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7621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2485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3EEB9-5356-429F-9B09-2497611120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329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PlaceHolder 1"/>
          <p:cNvSpPr>
            <a:spLocks noGrp="1"/>
          </p:cNvSpPr>
          <p:nvPr>
            <p:ph type="dt" idx="25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ftr" idx="26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5DEE2-07D7-49F4-AA0A-3ABFAB49E4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members.aol.com/Attic21/CreatureofDay/CreatPics/whip.gif" TargetMode="External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wmf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97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764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Reproduction: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e Continuity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4"/>
          <p:cNvSpPr/>
          <p:nvPr/>
        </p:nvSpPr>
        <p:spPr>
          <a:xfrm>
            <a:off x="3124080" y="2286000"/>
            <a:ext cx="2743200" cy="609480"/>
          </a:xfrm>
          <a:prstGeom prst="rect">
            <a:avLst/>
          </a:prstGeom>
          <a:solidFill>
            <a:srgbClr val="ccec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val 5"/>
          <p:cNvSpPr/>
          <p:nvPr/>
        </p:nvSpPr>
        <p:spPr>
          <a:xfrm>
            <a:off x="1905120" y="3276720"/>
            <a:ext cx="2057400" cy="1143000"/>
          </a:xfrm>
          <a:prstGeom prst="ellipse">
            <a:avLst/>
          </a:prstGeom>
          <a:solidFill>
            <a:srgbClr val="f2f8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xu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6"/>
          <p:cNvSpPr/>
          <p:nvPr/>
        </p:nvSpPr>
        <p:spPr>
          <a:xfrm>
            <a:off x="5105520" y="3352680"/>
            <a:ext cx="1981080" cy="1067040"/>
          </a:xfrm>
          <a:prstGeom prst="ellipse">
            <a:avLst/>
          </a:prstGeom>
          <a:solidFill>
            <a:srgbClr val="f2f8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ex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7"/>
          <p:cNvSpPr/>
          <p:nvPr/>
        </p:nvSpPr>
        <p:spPr>
          <a:xfrm flipH="1">
            <a:off x="3733560" y="289548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8"/>
          <p:cNvSpPr/>
          <p:nvPr/>
        </p:nvSpPr>
        <p:spPr>
          <a:xfrm>
            <a:off x="4419720" y="2895480"/>
            <a:ext cx="12189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sexual Reproduction: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Genetically Identical Offspring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cap="rnd" w="3240">
            <a:solidFill>
              <a:srgbClr val="ffff00"/>
            </a:solidFill>
            <a:custDash>
              <a:ds d="100000" sp="1000"/>
            </a:custDash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u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gen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arthenogen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                          …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oning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Group 10"/>
          <p:cNvGrpSpPr/>
          <p:nvPr/>
        </p:nvGrpSpPr>
        <p:grpSpPr>
          <a:xfrm>
            <a:off x="5866920" y="2362320"/>
            <a:ext cx="533880" cy="1143000"/>
            <a:chOff x="5866920" y="2362320"/>
            <a:chExt cx="533880" cy="1143000"/>
          </a:xfrm>
        </p:grpSpPr>
        <p:sp>
          <p:nvSpPr>
            <p:cNvPr id="525" name="Oval 4"/>
            <p:cNvSpPr/>
            <p:nvPr/>
          </p:nvSpPr>
          <p:spPr>
            <a:xfrm>
              <a:off x="5943600" y="236232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Line 5"/>
            <p:cNvSpPr/>
            <p:nvPr/>
          </p:nvSpPr>
          <p:spPr>
            <a:xfrm>
              <a:off x="6172200" y="259092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6"/>
            <p:cNvSpPr/>
            <p:nvPr/>
          </p:nvSpPr>
          <p:spPr>
            <a:xfrm flipH="1" flipV="1">
              <a:off x="5866920" y="266688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Line 7"/>
            <p:cNvSpPr/>
            <p:nvPr/>
          </p:nvSpPr>
          <p:spPr>
            <a:xfrm flipH="1">
              <a:off x="5943240" y="320040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Line 8"/>
            <p:cNvSpPr/>
            <p:nvPr/>
          </p:nvSpPr>
          <p:spPr>
            <a:xfrm>
              <a:off x="6172200" y="320040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9"/>
            <p:cNvSpPr/>
            <p:nvPr/>
          </p:nvSpPr>
          <p:spPr>
            <a:xfrm flipV="1">
              <a:off x="6172200" y="266688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Group 11"/>
          <p:cNvGrpSpPr/>
          <p:nvPr/>
        </p:nvGrpSpPr>
        <p:grpSpPr>
          <a:xfrm>
            <a:off x="4723920" y="1905120"/>
            <a:ext cx="533880" cy="1143000"/>
            <a:chOff x="4723920" y="1905120"/>
            <a:chExt cx="533880" cy="1143000"/>
          </a:xfrm>
        </p:grpSpPr>
        <p:sp>
          <p:nvSpPr>
            <p:cNvPr id="532" name="Oval 12"/>
            <p:cNvSpPr/>
            <p:nvPr/>
          </p:nvSpPr>
          <p:spPr>
            <a:xfrm>
              <a:off x="4800600" y="190512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13"/>
            <p:cNvSpPr/>
            <p:nvPr/>
          </p:nvSpPr>
          <p:spPr>
            <a:xfrm>
              <a:off x="5029200" y="213372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14"/>
            <p:cNvSpPr/>
            <p:nvPr/>
          </p:nvSpPr>
          <p:spPr>
            <a:xfrm flipH="1" flipV="1">
              <a:off x="4723920" y="220968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15"/>
            <p:cNvSpPr/>
            <p:nvPr/>
          </p:nvSpPr>
          <p:spPr>
            <a:xfrm flipH="1">
              <a:off x="4800240" y="274320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16"/>
            <p:cNvSpPr/>
            <p:nvPr/>
          </p:nvSpPr>
          <p:spPr>
            <a:xfrm>
              <a:off x="5029200" y="274320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17"/>
            <p:cNvSpPr/>
            <p:nvPr/>
          </p:nvSpPr>
          <p:spPr>
            <a:xfrm flipV="1">
              <a:off x="5029200" y="220968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" name="Group 18"/>
          <p:cNvGrpSpPr/>
          <p:nvPr/>
        </p:nvGrpSpPr>
        <p:grpSpPr>
          <a:xfrm>
            <a:off x="7620120" y="2057400"/>
            <a:ext cx="532800" cy="1143000"/>
            <a:chOff x="7620120" y="2057400"/>
            <a:chExt cx="532800" cy="1143000"/>
          </a:xfrm>
        </p:grpSpPr>
        <p:sp>
          <p:nvSpPr>
            <p:cNvPr id="539" name="Oval 19"/>
            <p:cNvSpPr/>
            <p:nvPr/>
          </p:nvSpPr>
          <p:spPr>
            <a:xfrm>
              <a:off x="7696080" y="205740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20"/>
            <p:cNvSpPr/>
            <p:nvPr/>
          </p:nvSpPr>
          <p:spPr>
            <a:xfrm>
              <a:off x="7924680" y="22860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1"/>
            <p:cNvSpPr/>
            <p:nvPr/>
          </p:nvSpPr>
          <p:spPr>
            <a:xfrm flipH="1" flipV="1">
              <a:off x="7620120" y="236196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Line 22"/>
            <p:cNvSpPr/>
            <p:nvPr/>
          </p:nvSpPr>
          <p:spPr>
            <a:xfrm flipH="1">
              <a:off x="7696080" y="28954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23"/>
            <p:cNvSpPr/>
            <p:nvPr/>
          </p:nvSpPr>
          <p:spPr>
            <a:xfrm>
              <a:off x="7924680" y="28954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24"/>
            <p:cNvSpPr/>
            <p:nvPr/>
          </p:nvSpPr>
          <p:spPr>
            <a:xfrm flipV="1">
              <a:off x="7924680" y="236196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Group 25"/>
          <p:cNvGrpSpPr/>
          <p:nvPr/>
        </p:nvGrpSpPr>
        <p:grpSpPr>
          <a:xfrm>
            <a:off x="5714640" y="3809880"/>
            <a:ext cx="533880" cy="1143000"/>
            <a:chOff x="5714640" y="3809880"/>
            <a:chExt cx="533880" cy="1143000"/>
          </a:xfrm>
        </p:grpSpPr>
        <p:sp>
          <p:nvSpPr>
            <p:cNvPr id="546" name="Oval 26"/>
            <p:cNvSpPr/>
            <p:nvPr/>
          </p:nvSpPr>
          <p:spPr>
            <a:xfrm>
              <a:off x="5791320" y="38098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27"/>
            <p:cNvSpPr/>
            <p:nvPr/>
          </p:nvSpPr>
          <p:spPr>
            <a:xfrm>
              <a:off x="6019920" y="40384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28"/>
            <p:cNvSpPr/>
            <p:nvPr/>
          </p:nvSpPr>
          <p:spPr>
            <a:xfrm flipH="1" flipV="1">
              <a:off x="5714640" y="41144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Line 29"/>
            <p:cNvSpPr/>
            <p:nvPr/>
          </p:nvSpPr>
          <p:spPr>
            <a:xfrm flipH="1">
              <a:off x="5790960" y="46479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30"/>
            <p:cNvSpPr/>
            <p:nvPr/>
          </p:nvSpPr>
          <p:spPr>
            <a:xfrm>
              <a:off x="6019920" y="46479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31"/>
            <p:cNvSpPr/>
            <p:nvPr/>
          </p:nvSpPr>
          <p:spPr>
            <a:xfrm flipV="1">
              <a:off x="6019920" y="41144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Group 32"/>
          <p:cNvGrpSpPr/>
          <p:nvPr/>
        </p:nvGrpSpPr>
        <p:grpSpPr>
          <a:xfrm>
            <a:off x="6857640" y="5181480"/>
            <a:ext cx="533880" cy="1143000"/>
            <a:chOff x="6857640" y="5181480"/>
            <a:chExt cx="533880" cy="1143000"/>
          </a:xfrm>
        </p:grpSpPr>
        <p:sp>
          <p:nvSpPr>
            <p:cNvPr id="553" name="Oval 33"/>
            <p:cNvSpPr/>
            <p:nvPr/>
          </p:nvSpPr>
          <p:spPr>
            <a:xfrm>
              <a:off x="6934320" y="51814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Line 34"/>
            <p:cNvSpPr/>
            <p:nvPr/>
          </p:nvSpPr>
          <p:spPr>
            <a:xfrm>
              <a:off x="7162920" y="54100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Line 35"/>
            <p:cNvSpPr/>
            <p:nvPr/>
          </p:nvSpPr>
          <p:spPr>
            <a:xfrm flipH="1" flipV="1">
              <a:off x="6857640" y="54860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Line 36"/>
            <p:cNvSpPr/>
            <p:nvPr/>
          </p:nvSpPr>
          <p:spPr>
            <a:xfrm flipH="1">
              <a:off x="6933960" y="60195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Line 37"/>
            <p:cNvSpPr/>
            <p:nvPr/>
          </p:nvSpPr>
          <p:spPr>
            <a:xfrm>
              <a:off x="7162920" y="60195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Line 38"/>
            <p:cNvSpPr/>
            <p:nvPr/>
          </p:nvSpPr>
          <p:spPr>
            <a:xfrm flipV="1">
              <a:off x="7162920" y="54860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Group 39"/>
          <p:cNvGrpSpPr/>
          <p:nvPr/>
        </p:nvGrpSpPr>
        <p:grpSpPr>
          <a:xfrm>
            <a:off x="7772040" y="609480"/>
            <a:ext cx="533880" cy="1143000"/>
            <a:chOff x="7772040" y="609480"/>
            <a:chExt cx="533880" cy="1143000"/>
          </a:xfrm>
        </p:grpSpPr>
        <p:sp>
          <p:nvSpPr>
            <p:cNvPr id="560" name="Oval 40"/>
            <p:cNvSpPr/>
            <p:nvPr/>
          </p:nvSpPr>
          <p:spPr>
            <a:xfrm>
              <a:off x="7848720" y="6094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Line 41"/>
            <p:cNvSpPr/>
            <p:nvPr/>
          </p:nvSpPr>
          <p:spPr>
            <a:xfrm>
              <a:off x="8077320" y="8380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Line 42"/>
            <p:cNvSpPr/>
            <p:nvPr/>
          </p:nvSpPr>
          <p:spPr>
            <a:xfrm flipH="1" flipV="1">
              <a:off x="7772040" y="9140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Line 43"/>
            <p:cNvSpPr/>
            <p:nvPr/>
          </p:nvSpPr>
          <p:spPr>
            <a:xfrm flipH="1">
              <a:off x="7848360" y="14475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Line 44"/>
            <p:cNvSpPr/>
            <p:nvPr/>
          </p:nvSpPr>
          <p:spPr>
            <a:xfrm>
              <a:off x="8077320" y="14475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Line 45"/>
            <p:cNvSpPr/>
            <p:nvPr/>
          </p:nvSpPr>
          <p:spPr>
            <a:xfrm flipV="1">
              <a:off x="8077320" y="9140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Group 46"/>
          <p:cNvGrpSpPr/>
          <p:nvPr/>
        </p:nvGrpSpPr>
        <p:grpSpPr>
          <a:xfrm>
            <a:off x="8305920" y="3429000"/>
            <a:ext cx="532800" cy="1143000"/>
            <a:chOff x="8305920" y="3429000"/>
            <a:chExt cx="532800" cy="1143000"/>
          </a:xfrm>
        </p:grpSpPr>
        <p:sp>
          <p:nvSpPr>
            <p:cNvPr id="567" name="Oval 47"/>
            <p:cNvSpPr/>
            <p:nvPr/>
          </p:nvSpPr>
          <p:spPr>
            <a:xfrm>
              <a:off x="8381880" y="342900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Line 48"/>
            <p:cNvSpPr/>
            <p:nvPr/>
          </p:nvSpPr>
          <p:spPr>
            <a:xfrm>
              <a:off x="8610480" y="36576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Line 49"/>
            <p:cNvSpPr/>
            <p:nvPr/>
          </p:nvSpPr>
          <p:spPr>
            <a:xfrm flipH="1" flipV="1">
              <a:off x="8305920" y="373356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Line 50"/>
            <p:cNvSpPr/>
            <p:nvPr/>
          </p:nvSpPr>
          <p:spPr>
            <a:xfrm flipH="1">
              <a:off x="8381880" y="42670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Line 51"/>
            <p:cNvSpPr/>
            <p:nvPr/>
          </p:nvSpPr>
          <p:spPr>
            <a:xfrm>
              <a:off x="8610480" y="42670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Line 52"/>
            <p:cNvSpPr/>
            <p:nvPr/>
          </p:nvSpPr>
          <p:spPr>
            <a:xfrm flipV="1">
              <a:off x="8610480" y="373356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Group 53"/>
          <p:cNvGrpSpPr/>
          <p:nvPr/>
        </p:nvGrpSpPr>
        <p:grpSpPr>
          <a:xfrm>
            <a:off x="8229240" y="5410080"/>
            <a:ext cx="533880" cy="1143000"/>
            <a:chOff x="8229240" y="5410080"/>
            <a:chExt cx="533880" cy="1143000"/>
          </a:xfrm>
        </p:grpSpPr>
        <p:sp>
          <p:nvSpPr>
            <p:cNvPr id="574" name="Oval 54"/>
            <p:cNvSpPr/>
            <p:nvPr/>
          </p:nvSpPr>
          <p:spPr>
            <a:xfrm>
              <a:off x="8305920" y="54100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55"/>
            <p:cNvSpPr/>
            <p:nvPr/>
          </p:nvSpPr>
          <p:spPr>
            <a:xfrm>
              <a:off x="8534520" y="56386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Line 56"/>
            <p:cNvSpPr/>
            <p:nvPr/>
          </p:nvSpPr>
          <p:spPr>
            <a:xfrm flipH="1" flipV="1">
              <a:off x="8229240" y="57146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Line 57"/>
            <p:cNvSpPr/>
            <p:nvPr/>
          </p:nvSpPr>
          <p:spPr>
            <a:xfrm flipH="1">
              <a:off x="8305560" y="62481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8534520" y="62481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V="1">
              <a:off x="8534520" y="57146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4343040" y="3809880"/>
            <a:ext cx="533880" cy="1143000"/>
            <a:chOff x="4343040" y="3809880"/>
            <a:chExt cx="533880" cy="1143000"/>
          </a:xfrm>
        </p:grpSpPr>
        <p:sp>
          <p:nvSpPr>
            <p:cNvPr id="581" name="Oval 61"/>
            <p:cNvSpPr/>
            <p:nvPr/>
          </p:nvSpPr>
          <p:spPr>
            <a:xfrm>
              <a:off x="4419720" y="38098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4648320" y="40384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 flipV="1">
              <a:off x="4343040" y="41144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Line 64"/>
            <p:cNvSpPr/>
            <p:nvPr/>
          </p:nvSpPr>
          <p:spPr>
            <a:xfrm flipH="1">
              <a:off x="4419360" y="46479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Line 65"/>
            <p:cNvSpPr/>
            <p:nvPr/>
          </p:nvSpPr>
          <p:spPr>
            <a:xfrm>
              <a:off x="4648320" y="46479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Line 66"/>
            <p:cNvSpPr/>
            <p:nvPr/>
          </p:nvSpPr>
          <p:spPr>
            <a:xfrm flipV="1">
              <a:off x="4648320" y="41144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Group 67"/>
          <p:cNvGrpSpPr/>
          <p:nvPr/>
        </p:nvGrpSpPr>
        <p:grpSpPr>
          <a:xfrm>
            <a:off x="3123720" y="5029200"/>
            <a:ext cx="533880" cy="1143000"/>
            <a:chOff x="3123720" y="5029200"/>
            <a:chExt cx="533880" cy="1143000"/>
          </a:xfrm>
        </p:grpSpPr>
        <p:sp>
          <p:nvSpPr>
            <p:cNvPr id="588" name="Oval 68"/>
            <p:cNvSpPr/>
            <p:nvPr/>
          </p:nvSpPr>
          <p:spPr>
            <a:xfrm>
              <a:off x="3200400" y="502920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Line 69"/>
            <p:cNvSpPr/>
            <p:nvPr/>
          </p:nvSpPr>
          <p:spPr>
            <a:xfrm>
              <a:off x="3429000" y="52578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Line 70"/>
            <p:cNvSpPr/>
            <p:nvPr/>
          </p:nvSpPr>
          <p:spPr>
            <a:xfrm flipH="1" flipV="1">
              <a:off x="3123720" y="533376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Line 71"/>
            <p:cNvSpPr/>
            <p:nvPr/>
          </p:nvSpPr>
          <p:spPr>
            <a:xfrm flipH="1">
              <a:off x="3200040" y="586728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Line 72"/>
            <p:cNvSpPr/>
            <p:nvPr/>
          </p:nvSpPr>
          <p:spPr>
            <a:xfrm>
              <a:off x="3429000" y="586728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73"/>
            <p:cNvSpPr/>
            <p:nvPr/>
          </p:nvSpPr>
          <p:spPr>
            <a:xfrm flipV="1">
              <a:off x="3429000" y="533376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Group 74"/>
          <p:cNvGrpSpPr/>
          <p:nvPr/>
        </p:nvGrpSpPr>
        <p:grpSpPr>
          <a:xfrm>
            <a:off x="3733920" y="1828800"/>
            <a:ext cx="532800" cy="1143000"/>
            <a:chOff x="3733920" y="1828800"/>
            <a:chExt cx="532800" cy="1143000"/>
          </a:xfrm>
        </p:grpSpPr>
        <p:sp>
          <p:nvSpPr>
            <p:cNvPr id="595" name="Oval 75"/>
            <p:cNvSpPr/>
            <p:nvPr/>
          </p:nvSpPr>
          <p:spPr>
            <a:xfrm>
              <a:off x="3809880" y="182880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76"/>
            <p:cNvSpPr/>
            <p:nvPr/>
          </p:nvSpPr>
          <p:spPr>
            <a:xfrm>
              <a:off x="4038480" y="20574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Line 77"/>
            <p:cNvSpPr/>
            <p:nvPr/>
          </p:nvSpPr>
          <p:spPr>
            <a:xfrm flipH="1" flipV="1">
              <a:off x="3733920" y="213336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Line 78"/>
            <p:cNvSpPr/>
            <p:nvPr/>
          </p:nvSpPr>
          <p:spPr>
            <a:xfrm flipH="1">
              <a:off x="3809880" y="26668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Line 79"/>
            <p:cNvSpPr/>
            <p:nvPr/>
          </p:nvSpPr>
          <p:spPr>
            <a:xfrm>
              <a:off x="4038480" y="26668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Line 80"/>
            <p:cNvSpPr/>
            <p:nvPr/>
          </p:nvSpPr>
          <p:spPr>
            <a:xfrm flipV="1">
              <a:off x="4038480" y="213336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1" name="Group 81"/>
          <p:cNvGrpSpPr/>
          <p:nvPr/>
        </p:nvGrpSpPr>
        <p:grpSpPr>
          <a:xfrm>
            <a:off x="6705720" y="2514600"/>
            <a:ext cx="532800" cy="1143000"/>
            <a:chOff x="6705720" y="2514600"/>
            <a:chExt cx="532800" cy="1143000"/>
          </a:xfrm>
        </p:grpSpPr>
        <p:sp>
          <p:nvSpPr>
            <p:cNvPr id="602" name="Oval 82"/>
            <p:cNvSpPr/>
            <p:nvPr/>
          </p:nvSpPr>
          <p:spPr>
            <a:xfrm>
              <a:off x="6781680" y="251460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Line 83"/>
            <p:cNvSpPr/>
            <p:nvPr/>
          </p:nvSpPr>
          <p:spPr>
            <a:xfrm>
              <a:off x="7010280" y="27432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Line 84"/>
            <p:cNvSpPr/>
            <p:nvPr/>
          </p:nvSpPr>
          <p:spPr>
            <a:xfrm flipH="1" flipV="1">
              <a:off x="6705720" y="281916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Line 85"/>
            <p:cNvSpPr/>
            <p:nvPr/>
          </p:nvSpPr>
          <p:spPr>
            <a:xfrm flipH="1">
              <a:off x="6781680" y="33526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Line 86"/>
            <p:cNvSpPr/>
            <p:nvPr/>
          </p:nvSpPr>
          <p:spPr>
            <a:xfrm>
              <a:off x="7010280" y="33526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Line 87"/>
            <p:cNvSpPr/>
            <p:nvPr/>
          </p:nvSpPr>
          <p:spPr>
            <a:xfrm flipV="1">
              <a:off x="7010280" y="281916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8" name="Group 88"/>
          <p:cNvGrpSpPr/>
          <p:nvPr/>
        </p:nvGrpSpPr>
        <p:grpSpPr>
          <a:xfrm>
            <a:off x="7009920" y="1066680"/>
            <a:ext cx="533880" cy="1143000"/>
            <a:chOff x="7009920" y="1066680"/>
            <a:chExt cx="533880" cy="1143000"/>
          </a:xfrm>
        </p:grpSpPr>
        <p:sp>
          <p:nvSpPr>
            <p:cNvPr id="609" name="Oval 89"/>
            <p:cNvSpPr/>
            <p:nvPr/>
          </p:nvSpPr>
          <p:spPr>
            <a:xfrm>
              <a:off x="7086600" y="10666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Line 90"/>
            <p:cNvSpPr/>
            <p:nvPr/>
          </p:nvSpPr>
          <p:spPr>
            <a:xfrm>
              <a:off x="7315200" y="12952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Line 91"/>
            <p:cNvSpPr/>
            <p:nvPr/>
          </p:nvSpPr>
          <p:spPr>
            <a:xfrm flipH="1" flipV="1">
              <a:off x="7009920" y="13712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Line 92"/>
            <p:cNvSpPr/>
            <p:nvPr/>
          </p:nvSpPr>
          <p:spPr>
            <a:xfrm flipH="1">
              <a:off x="7086240" y="19047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Line 93"/>
            <p:cNvSpPr/>
            <p:nvPr/>
          </p:nvSpPr>
          <p:spPr>
            <a:xfrm>
              <a:off x="7315200" y="19047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Line 94"/>
            <p:cNvSpPr/>
            <p:nvPr/>
          </p:nvSpPr>
          <p:spPr>
            <a:xfrm flipV="1">
              <a:off x="7315200" y="13712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Group 102"/>
          <p:cNvGrpSpPr/>
          <p:nvPr/>
        </p:nvGrpSpPr>
        <p:grpSpPr>
          <a:xfrm>
            <a:off x="7391520" y="3962520"/>
            <a:ext cx="532800" cy="1143000"/>
            <a:chOff x="7391520" y="3962520"/>
            <a:chExt cx="532800" cy="1143000"/>
          </a:xfrm>
        </p:grpSpPr>
        <p:sp>
          <p:nvSpPr>
            <p:cNvPr id="616" name="Oval 103"/>
            <p:cNvSpPr/>
            <p:nvPr/>
          </p:nvSpPr>
          <p:spPr>
            <a:xfrm>
              <a:off x="7467480" y="396252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Line 104"/>
            <p:cNvSpPr/>
            <p:nvPr/>
          </p:nvSpPr>
          <p:spPr>
            <a:xfrm>
              <a:off x="7696080" y="419112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105"/>
            <p:cNvSpPr/>
            <p:nvPr/>
          </p:nvSpPr>
          <p:spPr>
            <a:xfrm flipH="1" flipV="1">
              <a:off x="7391520" y="426708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106"/>
            <p:cNvSpPr/>
            <p:nvPr/>
          </p:nvSpPr>
          <p:spPr>
            <a:xfrm flipH="1">
              <a:off x="7467480" y="480060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107"/>
            <p:cNvSpPr/>
            <p:nvPr/>
          </p:nvSpPr>
          <p:spPr>
            <a:xfrm>
              <a:off x="7696080" y="480060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108"/>
            <p:cNvSpPr/>
            <p:nvPr/>
          </p:nvSpPr>
          <p:spPr>
            <a:xfrm flipV="1">
              <a:off x="7696080" y="426708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" name="Group 109"/>
          <p:cNvGrpSpPr/>
          <p:nvPr/>
        </p:nvGrpSpPr>
        <p:grpSpPr>
          <a:xfrm>
            <a:off x="6477120" y="3733920"/>
            <a:ext cx="532800" cy="1143000"/>
            <a:chOff x="6477120" y="3733920"/>
            <a:chExt cx="532800" cy="1143000"/>
          </a:xfrm>
        </p:grpSpPr>
        <p:sp>
          <p:nvSpPr>
            <p:cNvPr id="623" name="Oval 110"/>
            <p:cNvSpPr/>
            <p:nvPr/>
          </p:nvSpPr>
          <p:spPr>
            <a:xfrm>
              <a:off x="6553080" y="373392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111"/>
            <p:cNvSpPr/>
            <p:nvPr/>
          </p:nvSpPr>
          <p:spPr>
            <a:xfrm>
              <a:off x="6781680" y="396252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112"/>
            <p:cNvSpPr/>
            <p:nvPr/>
          </p:nvSpPr>
          <p:spPr>
            <a:xfrm flipH="1" flipV="1">
              <a:off x="6477120" y="403848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113"/>
            <p:cNvSpPr/>
            <p:nvPr/>
          </p:nvSpPr>
          <p:spPr>
            <a:xfrm flipH="1">
              <a:off x="6553080" y="457200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Line 114"/>
            <p:cNvSpPr/>
            <p:nvPr/>
          </p:nvSpPr>
          <p:spPr>
            <a:xfrm>
              <a:off x="6781680" y="457200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Line 115"/>
            <p:cNvSpPr/>
            <p:nvPr/>
          </p:nvSpPr>
          <p:spPr>
            <a:xfrm flipV="1">
              <a:off x="6781680" y="403848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" name="Group 130"/>
          <p:cNvGrpSpPr/>
          <p:nvPr/>
        </p:nvGrpSpPr>
        <p:grpSpPr>
          <a:xfrm>
            <a:off x="228240" y="1143000"/>
            <a:ext cx="609480" cy="2895480"/>
            <a:chOff x="228240" y="1143000"/>
            <a:chExt cx="609480" cy="2895480"/>
          </a:xfrm>
        </p:grpSpPr>
        <p:grpSp>
          <p:nvGrpSpPr>
            <p:cNvPr id="630" name="Group 95"/>
            <p:cNvGrpSpPr/>
            <p:nvPr/>
          </p:nvGrpSpPr>
          <p:grpSpPr>
            <a:xfrm>
              <a:off x="228240" y="2895480"/>
              <a:ext cx="533880" cy="1143000"/>
              <a:chOff x="228240" y="2895480"/>
              <a:chExt cx="533880" cy="1143000"/>
            </a:xfrm>
          </p:grpSpPr>
          <p:sp>
            <p:nvSpPr>
              <p:cNvPr id="631" name="Oval 96"/>
              <p:cNvSpPr/>
              <p:nvPr/>
            </p:nvSpPr>
            <p:spPr>
              <a:xfrm>
                <a:off x="304920" y="2895480"/>
                <a:ext cx="380880" cy="228600"/>
              </a:xfrm>
              <a:prstGeom prst="ellipse">
                <a:avLst/>
              </a:prstGeom>
              <a:solidFill>
                <a:srgbClr val="00cc00"/>
              </a:solidFill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Line 97"/>
              <p:cNvSpPr/>
              <p:nvPr/>
            </p:nvSpPr>
            <p:spPr>
              <a:xfrm>
                <a:off x="533520" y="3124080"/>
                <a:ext cx="0" cy="60948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Line 98"/>
              <p:cNvSpPr/>
              <p:nvPr/>
            </p:nvSpPr>
            <p:spPr>
              <a:xfrm flipH="1" flipV="1">
                <a:off x="228240" y="3200040"/>
                <a:ext cx="304920" cy="15264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Line 99"/>
              <p:cNvSpPr/>
              <p:nvPr/>
            </p:nvSpPr>
            <p:spPr>
              <a:xfrm flipH="1">
                <a:off x="304560" y="3733560"/>
                <a:ext cx="228600" cy="30492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Line 100"/>
              <p:cNvSpPr/>
              <p:nvPr/>
            </p:nvSpPr>
            <p:spPr>
              <a:xfrm>
                <a:off x="533520" y="3733560"/>
                <a:ext cx="228600" cy="30492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Line 101"/>
              <p:cNvSpPr/>
              <p:nvPr/>
            </p:nvSpPr>
            <p:spPr>
              <a:xfrm flipV="1">
                <a:off x="533520" y="3200040"/>
                <a:ext cx="228600" cy="15264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7" name="Group 116"/>
            <p:cNvGrpSpPr/>
            <p:nvPr/>
          </p:nvGrpSpPr>
          <p:grpSpPr>
            <a:xfrm>
              <a:off x="304920" y="1143000"/>
              <a:ext cx="532800" cy="1143000"/>
              <a:chOff x="304920" y="1143000"/>
              <a:chExt cx="532800" cy="1143000"/>
            </a:xfrm>
          </p:grpSpPr>
          <p:sp>
            <p:nvSpPr>
              <p:cNvPr id="638" name="Oval 117"/>
              <p:cNvSpPr/>
              <p:nvPr/>
            </p:nvSpPr>
            <p:spPr>
              <a:xfrm>
                <a:off x="380880" y="1143000"/>
                <a:ext cx="380520" cy="228600"/>
              </a:xfrm>
              <a:prstGeom prst="ellipse">
                <a:avLst/>
              </a:prstGeom>
              <a:solidFill>
                <a:srgbClr val="00cc00"/>
              </a:solidFill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Line 118"/>
              <p:cNvSpPr/>
              <p:nvPr/>
            </p:nvSpPr>
            <p:spPr>
              <a:xfrm>
                <a:off x="609480" y="1371600"/>
                <a:ext cx="0" cy="60948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Line 119"/>
              <p:cNvSpPr/>
              <p:nvPr/>
            </p:nvSpPr>
            <p:spPr>
              <a:xfrm flipH="1" flipV="1">
                <a:off x="304920" y="1447560"/>
                <a:ext cx="304560" cy="15264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Line 120"/>
              <p:cNvSpPr/>
              <p:nvPr/>
            </p:nvSpPr>
            <p:spPr>
              <a:xfrm flipH="1">
                <a:off x="380880" y="1981080"/>
                <a:ext cx="228240" cy="30492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Line 121"/>
              <p:cNvSpPr/>
              <p:nvPr/>
            </p:nvSpPr>
            <p:spPr>
              <a:xfrm>
                <a:off x="609480" y="1981080"/>
                <a:ext cx="228240" cy="30492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Line 122"/>
              <p:cNvSpPr/>
              <p:nvPr/>
            </p:nvSpPr>
            <p:spPr>
              <a:xfrm flipV="1">
                <a:off x="609480" y="1447560"/>
                <a:ext cx="228240" cy="15264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4" name="Group 123"/>
          <p:cNvGrpSpPr/>
          <p:nvPr/>
        </p:nvGrpSpPr>
        <p:grpSpPr>
          <a:xfrm>
            <a:off x="990720" y="5029200"/>
            <a:ext cx="532800" cy="1143000"/>
            <a:chOff x="990720" y="5029200"/>
            <a:chExt cx="532800" cy="1143000"/>
          </a:xfrm>
        </p:grpSpPr>
        <p:sp>
          <p:nvSpPr>
            <p:cNvPr id="645" name="Oval 124"/>
            <p:cNvSpPr/>
            <p:nvPr/>
          </p:nvSpPr>
          <p:spPr>
            <a:xfrm>
              <a:off x="1066680" y="502920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Line 125"/>
            <p:cNvSpPr/>
            <p:nvPr/>
          </p:nvSpPr>
          <p:spPr>
            <a:xfrm>
              <a:off x="1295280" y="52578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126"/>
            <p:cNvSpPr/>
            <p:nvPr/>
          </p:nvSpPr>
          <p:spPr>
            <a:xfrm flipH="1" flipV="1">
              <a:off x="990720" y="533376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127"/>
            <p:cNvSpPr/>
            <p:nvPr/>
          </p:nvSpPr>
          <p:spPr>
            <a:xfrm flipH="1">
              <a:off x="1066680" y="58672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128"/>
            <p:cNvSpPr/>
            <p:nvPr/>
          </p:nvSpPr>
          <p:spPr>
            <a:xfrm>
              <a:off x="1295280" y="58672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Line 129"/>
            <p:cNvSpPr/>
            <p:nvPr/>
          </p:nvSpPr>
          <p:spPr>
            <a:xfrm flipV="1">
              <a:off x="1295280" y="533376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3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3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udding…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Organisms Arise as an Outgrowth from the Parent Org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en Mostly in Marine Anim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 Include; Sponges, Corals and Jellyfish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4" name="Picture 6" descr="bright yellow coral polyp"/>
          <p:cNvPicPr/>
          <p:nvPr/>
        </p:nvPicPr>
        <p:blipFill>
          <a:blip r:embed="rId1"/>
          <a:stretch/>
        </p:blipFill>
        <p:spPr>
          <a:xfrm>
            <a:off x="4800600" y="1981080"/>
            <a:ext cx="4114800" cy="4267440"/>
          </a:xfrm>
          <a:prstGeom prst="rect">
            <a:avLst/>
          </a:prstGeom>
          <a:ln w="0">
            <a:noFill/>
          </a:ln>
        </p:spPr>
      </p:pic>
      <p:sp>
        <p:nvSpPr>
          <p:cNvPr id="655" name="Text Box 7"/>
          <p:cNvSpPr/>
          <p:nvPr/>
        </p:nvSpPr>
        <p:spPr>
          <a:xfrm>
            <a:off x="4800600" y="6248520"/>
            <a:ext cx="4114800" cy="5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al Polyp Photo courtesy Jeffrey N. Jeffor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ttp://oceanworld.tamu.edu/students/coral/coral1.ht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98" fill="hold"/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generation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refers to the ability of some animals to      re-grow severed par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of these animals can also grow new organisms from the severed pieces (Segmented Worms and Sea Sta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8" name="Picture 7" descr="MPj02554950000[1]"/>
          <p:cNvPicPr/>
          <p:nvPr/>
        </p:nvPicPr>
        <p:blipFill>
          <a:blip r:embed="rId1"/>
          <a:stretch/>
        </p:blipFill>
        <p:spPr>
          <a:xfrm>
            <a:off x="4724280" y="1981080"/>
            <a:ext cx="41911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arthenogenesis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fspring can arise from unfertilized eg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ludes some Fish, Reptiles, Amphibians and Aphi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of these species can switch between Sexual and Asexual Reproducti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depending on conditio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2" name="Picture 7" descr="whi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76920" y="1981080"/>
            <a:ext cx="2209680" cy="205740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9" descr="Rhampho"/>
          <p:cNvPicPr/>
          <p:nvPr/>
        </p:nvPicPr>
        <p:blipFill>
          <a:blip r:embed="rId3"/>
          <a:stretch/>
        </p:blipFill>
        <p:spPr>
          <a:xfrm>
            <a:off x="7162920" y="1905120"/>
            <a:ext cx="1676160" cy="2133360"/>
          </a:xfrm>
          <a:prstGeom prst="rect">
            <a:avLst/>
          </a:prstGeom>
          <a:ln w="0">
            <a:noFill/>
          </a:ln>
        </p:spPr>
      </p:pic>
      <p:sp>
        <p:nvSpPr>
          <p:cNvPr id="664" name="Text Box 10"/>
          <p:cNvSpPr/>
          <p:nvPr/>
        </p:nvSpPr>
        <p:spPr>
          <a:xfrm>
            <a:off x="7162920" y="372600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www.duke.edu/%7Ejsr6/Hawaiipics/Rhampho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11"/>
          <p:cNvSpPr/>
          <p:nvPr/>
        </p:nvSpPr>
        <p:spPr>
          <a:xfrm>
            <a:off x="4876920" y="3581280"/>
            <a:ext cx="220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aolsearch.aol.com/aol/imageDetails?invocationType=imageResults&amp;query=photos+of+parthenogenic+species&amp;im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Picture 12" descr=""/>
          <p:cNvPicPr/>
          <p:nvPr/>
        </p:nvPicPr>
        <p:blipFill>
          <a:blip r:embed="rId4"/>
          <a:stretch/>
        </p:blipFill>
        <p:spPr>
          <a:xfrm>
            <a:off x="4876920" y="4038480"/>
            <a:ext cx="2209680" cy="2135160"/>
          </a:xfrm>
          <a:prstGeom prst="rect">
            <a:avLst/>
          </a:prstGeom>
          <a:ln w="0">
            <a:noFill/>
          </a:ln>
        </p:spPr>
      </p:pic>
      <p:sp>
        <p:nvSpPr>
          <p:cNvPr id="667" name="Text Box 13"/>
          <p:cNvSpPr/>
          <p:nvPr/>
        </p:nvSpPr>
        <p:spPr>
          <a:xfrm>
            <a:off x="4876920" y="60958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spot.colorado.edu/~noyesr/TEACHING/4800%20Fall%202002.%20Biology%20and%20Evolution%20of%20Sex/Gynogenesis.Poecilia.pd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Picture 15" descr="soybean_aphid_colony"/>
          <p:cNvPicPr/>
          <p:nvPr/>
        </p:nvPicPr>
        <p:blipFill>
          <a:blip r:embed="rId5"/>
          <a:stretch/>
        </p:blipFill>
        <p:spPr>
          <a:xfrm>
            <a:off x="7086600" y="4038480"/>
            <a:ext cx="1752480" cy="2133720"/>
          </a:xfrm>
          <a:prstGeom prst="rect">
            <a:avLst/>
          </a:prstGeom>
          <a:ln w="0">
            <a:noFill/>
          </a:ln>
        </p:spPr>
      </p:pic>
      <p:sp>
        <p:nvSpPr>
          <p:cNvPr id="669" name="Text Box 16"/>
          <p:cNvSpPr/>
          <p:nvPr/>
        </p:nvSpPr>
        <p:spPr>
          <a:xfrm>
            <a:off x="7086600" y="6095880"/>
            <a:ext cx="1752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Arial"/>
              </a:rPr>
              <a:t>www.ag.ndsu.nodak.edu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          </a:t>
            </a:r>
            <a:r>
              <a:rPr b="1" lang="en-US" sz="5400" spc="-1" strike="noStrike" u="sng">
                <a:solidFill>
                  <a:srgbClr val="ffffb7"/>
                </a:solidFill>
                <a:uFillTx/>
                <a:latin typeface="Arial Black"/>
              </a:rPr>
              <a:t>WHY???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would these organisms prefer asexual reproduction in stable conditions and sexual reproduction in more uncertain or less favorable condi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Imagine…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agine that a particular organism within a species lacks a certain gene (or ability to express a certain gene) necessary to break down a specific type of food, yet others of the same species within the population are able to break down that foo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Arial"/>
              </a:rPr>
              <a:t>What happens if the uncertain or less favorable conditions lead to that being the primary food sourc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6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Arial Black"/>
              </a:rPr>
              <a:t>Death…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arent organism and all of their offspring produced through parthenogenesis would die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, with the genetic diversity that comes from sexual reproduction the possibility of the offspring surviving is enhanc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768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768" fill="hold"/>
                                        <p:tgtEl>
                                          <p:spTgt spid="6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8" dur="768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" dur="768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18:07:54Z</dcterms:created>
  <dc:creator>John Bojnowski</dc:creator>
  <dc:description/>
  <dc:language>en-US</dc:language>
  <cp:lastModifiedBy>RomaK</cp:lastModifiedBy>
  <dcterms:modified xsi:type="dcterms:W3CDTF">2015-09-04T11:07:45Z</dcterms:modified>
  <cp:revision>11</cp:revision>
  <dc:subject/>
  <dc:title>Sexual Reproduction</dc:title>
</cp:coreProperties>
</file>