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C00F-0B5D-44B5-B8D3-AD19E85CB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ABC6-5C63-41F4-B386-174DCCA5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3479-C385-44F7-87B6-94CCD31F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2FE8C-2697-4778-A5AC-81FF1E4F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569C7-FA40-4294-A290-2B0C1882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20F9F-F78E-46D8-9380-DDC3037D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E55FD-0006-4D80-90F3-7E700282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94CDA-E3A1-44D2-8A3F-9CB23827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696B6-0F09-4CED-B210-AB0AA3A8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48CBE-83ED-4421-BC44-6B980C47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729FA-D856-422D-88C7-E30FF5A7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1EB27-AA36-4CA6-9973-535C410B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F7178-CB6E-4D23-A1F2-AA87698A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AD0E-99A9-4258-8582-8C1694A1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3AFC0-D38F-43EA-B08B-7D996B94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C7AE5-0EE8-47A2-BFB3-866F19E2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D1A33-AA47-4359-BFE1-685816C9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2749E-CE74-4BFF-8343-6E3EA35D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9C96D-13DD-47C9-8A9D-869FBF46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06D0A-2B34-43CA-9C84-EBF740D4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84D86-1CF7-4883-A7EC-57A2A409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A7DE0-A62F-481E-8AF6-766704C7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C90E3-2714-4372-9C8A-4CFCCCA7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84090-7839-4C1E-8CC6-2B5AEDD4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DB6-0E8C-4120-AD95-74D28A81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D6750-A0BF-4C6E-9931-40FDEFB0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1D950-B87B-49B9-A181-5E2FBDD3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925EA-C163-4363-85F3-AC93BC66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A79CE-BB82-40E8-B66E-33C2D41B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257BE-D0B6-406D-8EF6-07FE12D4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B3A7C-4BA3-4B05-99BC-1697A8E0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7A913-BC93-4ECD-8AEC-743551BD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6AB97-FEA4-487E-A079-BD2A4128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712EE-3F61-4629-83DB-416F9274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23D7E-3285-4FA3-917C-D5E5721C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05EE-FBDF-438E-8FA2-C4B2D03D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A31E8-3E69-46CA-A21E-57BAEA2D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501D2-693A-4F95-B554-22F095CB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C5E00-EAD1-4060-82DA-327AA315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5C191-7332-4122-8868-00CC93854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542AD-250E-4444-88B8-63B84659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45B44-C9D4-468C-9063-0AED4B85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23161-5078-458B-954F-4E397DE1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685F4-E266-4110-AE5B-F37AF525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0DD7F-3112-4C39-9B18-B587BC85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F6554-AB26-423F-9633-0DB317D9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FAC4-36A2-4BDA-8FE9-C4F12F86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7778B-41FC-4BD6-BFEE-B3B3B714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96A21-1AAD-418F-9F4D-AB9DF5EA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9BD87-65CE-4C91-9915-82D69455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2889C-F93D-4CE1-A54F-A2E5E806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8344B-1982-4AF1-A947-E026B325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0944-BF57-4E50-8741-90D4050D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2C53-0A37-4FB9-A91A-CB262727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89BD-DD52-484F-A186-2FF9B477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5847-1154-46F9-A808-85902DCF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7C99-0F9B-4BCA-B763-91D71678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AB5A-DA76-48AE-A21D-3A4AD52C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F97C-D4D9-4244-9301-27AD4746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D083-F6CA-40AA-AE74-F1F753B6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1855-BFC8-42DB-A435-A974F564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357A-4E37-4F2E-91F3-69774C14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F3EA-23C1-4E44-A065-E1E95719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97EB3-6A1A-4E53-94D9-28C60B52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69C41-DB45-495A-9E72-9802258E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A7521-E959-4917-A247-6E0A28E8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461B7-FB46-45A8-989F-4075734F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2B623-CCA9-49FD-BFAD-0BA72092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400-1B21-429B-B7CE-5676099E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DD0FE-1D38-4F52-9540-69CAC9E8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35FFF-38EC-4254-90FA-4EA0F02C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3F227-F11A-4C6A-9D21-7E293247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228AC-DF5D-4C3A-A667-FF99E9E0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D5D58-4EE7-4037-9D5C-4FCA7A0C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66A74-6B6F-463E-9BD5-BC68A690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B8A63-AFB3-432D-AA14-176384B4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C770D-4F12-4AA2-884E-7E0E3348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4BD95-7F1A-46FF-861F-A5C45970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3C196-04EF-44F5-A716-A0AEB16C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693-7622-4193-91D7-2BD24AFD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8FF60-F77A-4194-AB66-28A21E2B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152CB-2010-4E17-AF79-AE3C8A28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9F9AA-09C3-45BD-BBC2-1D70A36C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8CBF4-191D-4090-B5F9-949DB9FB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2AFC8-8052-4FCF-9FB5-668E98F0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4830D-22FB-4252-AEB0-CAC39434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5218F-214F-4E1D-BC53-19D6023E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D219A-3359-43D5-8727-ABEE7F6D5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41B13-1FD2-4DDE-972A-5D490F78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62C15-CBA0-403A-A5DE-BAF2991A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D7EE-CE4C-489F-BB9F-3B2C16BF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47F74-A6E3-49A8-9E7A-C3FDE85C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91F33-0FAC-4F9D-AE1E-B8EDBA11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16904-7330-4DB9-8F5C-4ED13962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99D32-10A8-4538-B82F-AA370650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39C95-89FC-4104-A47C-950C116F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28374-BC56-4481-B16F-EFC131C3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4CF05-4869-4AD7-B766-DD245384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1C322-37BE-41C3-A448-7BB800E3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C5B5A-A42F-4C4A-BBA5-DCE3D30C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8581E-02D6-4C59-B76C-433A60B0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40AE-1F71-4C9D-9C8B-17603A91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F451E-EC74-4BAE-8B93-4D853898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DD9E4-42B6-454D-9778-DDBC071D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F682F-41DE-4E00-9C12-29E3BCCF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DD0FF-75EF-4F97-B3FE-47F00C03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9DC7F-35B0-428E-A0B4-EF056DB0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1547C-D6EB-4917-9AFC-0772C103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1C94A-DAEB-4028-892B-4A2C3E3C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2D8A7-B139-4AC1-95CD-5A5368D2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CB66F-4B1D-4CE8-943F-E56AF201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B00FC-5C0E-4A56-9A72-786F7F1A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BC7-289F-4C72-8CDB-79137B01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B068D-FCFC-4D45-A391-C58CDEC3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2C243-CB68-480E-BD6D-9A35247D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E5886-95E2-4095-B5EB-29C178F8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8ED75-DFA5-4E43-AFC1-A92567A3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4D2DA-74B9-402E-8161-22D857E9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AD4B0-8399-4DF7-9A4B-362106C1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52EA0-E7B2-49C6-A13A-3A056F47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3C834-51EE-4AD1-A3EC-86E0DA7D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07053-42CD-49FC-9EE2-5FCE79CD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103D4-6959-472B-A9FB-C3A354B8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491-3D8E-4D3F-A66C-E908A54A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036F1-4C01-43C6-9D5D-8E9DB04C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0115C-9BFB-4468-9B25-FC20B67B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58F48-EEA2-45C8-8B84-0726CF79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AA58C-CD1E-4EEA-BF8D-E09CEABB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CE78E-D673-43AC-99C4-26270B8F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D2051-176A-4669-A338-F1D80A73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E09E1-200B-447B-9009-A2D64846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BCD20-744E-4A0F-B53F-FCBB76B8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1DD78-8539-459F-A089-035BEA74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65FFD-30D9-4642-867A-6958E614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A502-6ABC-4D5D-898E-71F9542F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6936C-D3C0-4A2C-9B72-1487A6FE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EFACA-F584-4279-8CFF-31B890F9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ABEBF-8A06-48EB-B30B-CD7CF4B5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4254D-E496-46F8-AEAB-78D2B440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BCC9C-B845-4742-954A-0A4CE42E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E3C13-076E-4E24-894C-7729997B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07433-0396-4CDB-BFC8-A24D6CC6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2C183-9EC9-457A-8299-F15C4529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2DDD2-F8EA-4C5C-891A-3B897B34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1F391-BEB7-483E-B969-B08957CB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4B48-D5D0-4BF5-A45F-E07A66AB663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FC1E-F1F9-47AA-B18C-0F5F1D1581F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773E-038E-4A4B-98BB-D6D169DE36A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8470-FDF4-4394-AD14-651269E0F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08FD-F27D-412C-ACC3-D654FD2A15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62F9-2C40-4C94-BD0C-71A58C795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2D2E-AF62-454B-9EEF-0E26CBBC7C2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5659-C621-414D-85F2-748D88FC9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ED86-1D0F-4818-AE00-2F1E2FB88A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C39B-F2FC-4AB3-A79F-0CDAFB7C24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D00D-1ACE-42A2-8C55-17FEAB68E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9298-EAC4-4B09-A18E-A41D1CB29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mbers.aol.com/Attic21/CreatureofDay/CreatPics/whip.gif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ontinu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3124080" y="2286000"/>
            <a:ext cx="2743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5"/>
          <p:cNvSpPr/>
          <p:nvPr/>
        </p:nvSpPr>
        <p:spPr>
          <a:xfrm>
            <a:off x="1905120" y="3276720"/>
            <a:ext cx="2057400" cy="114300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5105520" y="3352680"/>
            <a:ext cx="1981080" cy="106704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 flipH="1">
            <a:off x="373356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4419720" y="28954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exual Reproduction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enetically Identical Offspring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cap="rnd" w="324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hen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…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n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10"/>
          <p:cNvGrpSpPr/>
          <p:nvPr/>
        </p:nvGrpSpPr>
        <p:grpSpPr>
          <a:xfrm>
            <a:off x="5866920" y="2362320"/>
            <a:ext cx="533880" cy="1143000"/>
            <a:chOff x="5866920" y="2362320"/>
            <a:chExt cx="533880" cy="1143000"/>
          </a:xfrm>
        </p:grpSpPr>
        <p:sp>
          <p:nvSpPr>
            <p:cNvPr id="525" name="Oval 4"/>
            <p:cNvSpPr/>
            <p:nvPr/>
          </p:nvSpPr>
          <p:spPr>
            <a:xfrm>
              <a:off x="5943600" y="23623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5"/>
            <p:cNvSpPr/>
            <p:nvPr/>
          </p:nvSpPr>
          <p:spPr>
            <a:xfrm>
              <a:off x="6172200" y="25909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6"/>
            <p:cNvSpPr/>
            <p:nvPr/>
          </p:nvSpPr>
          <p:spPr>
            <a:xfrm flipH="1" flipV="1">
              <a:off x="5866920" y="26668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7"/>
            <p:cNvSpPr/>
            <p:nvPr/>
          </p:nvSpPr>
          <p:spPr>
            <a:xfrm flipH="1">
              <a:off x="594324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8"/>
            <p:cNvSpPr/>
            <p:nvPr/>
          </p:nvSpPr>
          <p:spPr>
            <a:xfrm>
              <a:off x="617220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9"/>
            <p:cNvSpPr/>
            <p:nvPr/>
          </p:nvSpPr>
          <p:spPr>
            <a:xfrm flipV="1">
              <a:off x="6172200" y="26668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11"/>
          <p:cNvGrpSpPr/>
          <p:nvPr/>
        </p:nvGrpSpPr>
        <p:grpSpPr>
          <a:xfrm>
            <a:off x="4723920" y="1905120"/>
            <a:ext cx="533880" cy="1143000"/>
            <a:chOff x="4723920" y="1905120"/>
            <a:chExt cx="533880" cy="1143000"/>
          </a:xfrm>
        </p:grpSpPr>
        <p:sp>
          <p:nvSpPr>
            <p:cNvPr id="532" name="Oval 12"/>
            <p:cNvSpPr/>
            <p:nvPr/>
          </p:nvSpPr>
          <p:spPr>
            <a:xfrm>
              <a:off x="4800600" y="19051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3"/>
            <p:cNvSpPr/>
            <p:nvPr/>
          </p:nvSpPr>
          <p:spPr>
            <a:xfrm>
              <a:off x="5029200" y="21337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4"/>
            <p:cNvSpPr/>
            <p:nvPr/>
          </p:nvSpPr>
          <p:spPr>
            <a:xfrm flipH="1" flipV="1">
              <a:off x="4723920" y="22096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5"/>
            <p:cNvSpPr/>
            <p:nvPr/>
          </p:nvSpPr>
          <p:spPr>
            <a:xfrm flipH="1">
              <a:off x="480024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6"/>
            <p:cNvSpPr/>
            <p:nvPr/>
          </p:nvSpPr>
          <p:spPr>
            <a:xfrm>
              <a:off x="502920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7"/>
            <p:cNvSpPr/>
            <p:nvPr/>
          </p:nvSpPr>
          <p:spPr>
            <a:xfrm flipV="1">
              <a:off x="5029200" y="22096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Group 18"/>
          <p:cNvGrpSpPr/>
          <p:nvPr/>
        </p:nvGrpSpPr>
        <p:grpSpPr>
          <a:xfrm>
            <a:off x="7620120" y="2057400"/>
            <a:ext cx="532800" cy="1143000"/>
            <a:chOff x="7620120" y="2057400"/>
            <a:chExt cx="532800" cy="1143000"/>
          </a:xfrm>
        </p:grpSpPr>
        <p:sp>
          <p:nvSpPr>
            <p:cNvPr id="539" name="Oval 19"/>
            <p:cNvSpPr/>
            <p:nvPr/>
          </p:nvSpPr>
          <p:spPr>
            <a:xfrm>
              <a:off x="7696080" y="20574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0"/>
            <p:cNvSpPr/>
            <p:nvPr/>
          </p:nvSpPr>
          <p:spPr>
            <a:xfrm>
              <a:off x="7924680" y="22860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1"/>
            <p:cNvSpPr/>
            <p:nvPr/>
          </p:nvSpPr>
          <p:spPr>
            <a:xfrm flipH="1" flipV="1">
              <a:off x="7620120" y="23619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2"/>
            <p:cNvSpPr/>
            <p:nvPr/>
          </p:nvSpPr>
          <p:spPr>
            <a:xfrm flipH="1">
              <a:off x="76960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3"/>
            <p:cNvSpPr/>
            <p:nvPr/>
          </p:nvSpPr>
          <p:spPr>
            <a:xfrm>
              <a:off x="79246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4"/>
            <p:cNvSpPr/>
            <p:nvPr/>
          </p:nvSpPr>
          <p:spPr>
            <a:xfrm flipV="1">
              <a:off x="7924680" y="23619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5"/>
          <p:cNvGrpSpPr/>
          <p:nvPr/>
        </p:nvGrpSpPr>
        <p:grpSpPr>
          <a:xfrm>
            <a:off x="5714640" y="3809880"/>
            <a:ext cx="533880" cy="1143000"/>
            <a:chOff x="5714640" y="3809880"/>
            <a:chExt cx="533880" cy="1143000"/>
          </a:xfrm>
        </p:grpSpPr>
        <p:sp>
          <p:nvSpPr>
            <p:cNvPr id="546" name="Oval 26"/>
            <p:cNvSpPr/>
            <p:nvPr/>
          </p:nvSpPr>
          <p:spPr>
            <a:xfrm>
              <a:off x="57913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7"/>
            <p:cNvSpPr/>
            <p:nvPr/>
          </p:nvSpPr>
          <p:spPr>
            <a:xfrm>
              <a:off x="60199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8"/>
            <p:cNvSpPr/>
            <p:nvPr/>
          </p:nvSpPr>
          <p:spPr>
            <a:xfrm flipH="1" flipV="1">
              <a:off x="57146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9"/>
            <p:cNvSpPr/>
            <p:nvPr/>
          </p:nvSpPr>
          <p:spPr>
            <a:xfrm flipH="1">
              <a:off x="57909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0"/>
            <p:cNvSpPr/>
            <p:nvPr/>
          </p:nvSpPr>
          <p:spPr>
            <a:xfrm>
              <a:off x="60199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1"/>
            <p:cNvSpPr/>
            <p:nvPr/>
          </p:nvSpPr>
          <p:spPr>
            <a:xfrm flipV="1">
              <a:off x="60199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32"/>
          <p:cNvGrpSpPr/>
          <p:nvPr/>
        </p:nvGrpSpPr>
        <p:grpSpPr>
          <a:xfrm>
            <a:off x="6857640" y="5181480"/>
            <a:ext cx="533880" cy="1143000"/>
            <a:chOff x="6857640" y="5181480"/>
            <a:chExt cx="533880" cy="1143000"/>
          </a:xfrm>
        </p:grpSpPr>
        <p:sp>
          <p:nvSpPr>
            <p:cNvPr id="553" name="Oval 33"/>
            <p:cNvSpPr/>
            <p:nvPr/>
          </p:nvSpPr>
          <p:spPr>
            <a:xfrm>
              <a:off x="6934320" y="5181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4"/>
            <p:cNvSpPr/>
            <p:nvPr/>
          </p:nvSpPr>
          <p:spPr>
            <a:xfrm>
              <a:off x="7162920" y="5410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5"/>
            <p:cNvSpPr/>
            <p:nvPr/>
          </p:nvSpPr>
          <p:spPr>
            <a:xfrm flipH="1" flipV="1">
              <a:off x="6857640" y="5486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6"/>
            <p:cNvSpPr/>
            <p:nvPr/>
          </p:nvSpPr>
          <p:spPr>
            <a:xfrm flipH="1">
              <a:off x="693396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7"/>
            <p:cNvSpPr/>
            <p:nvPr/>
          </p:nvSpPr>
          <p:spPr>
            <a:xfrm>
              <a:off x="716292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8"/>
            <p:cNvSpPr/>
            <p:nvPr/>
          </p:nvSpPr>
          <p:spPr>
            <a:xfrm flipV="1">
              <a:off x="7162920" y="5486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39"/>
          <p:cNvGrpSpPr/>
          <p:nvPr/>
        </p:nvGrpSpPr>
        <p:grpSpPr>
          <a:xfrm>
            <a:off x="7772040" y="609480"/>
            <a:ext cx="533880" cy="1143000"/>
            <a:chOff x="7772040" y="609480"/>
            <a:chExt cx="533880" cy="1143000"/>
          </a:xfrm>
        </p:grpSpPr>
        <p:sp>
          <p:nvSpPr>
            <p:cNvPr id="560" name="Oval 40"/>
            <p:cNvSpPr/>
            <p:nvPr/>
          </p:nvSpPr>
          <p:spPr>
            <a:xfrm>
              <a:off x="7848720" y="609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41"/>
            <p:cNvSpPr/>
            <p:nvPr/>
          </p:nvSpPr>
          <p:spPr>
            <a:xfrm>
              <a:off x="8077320" y="838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2"/>
            <p:cNvSpPr/>
            <p:nvPr/>
          </p:nvSpPr>
          <p:spPr>
            <a:xfrm flipH="1" flipV="1">
              <a:off x="7772040" y="914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3"/>
            <p:cNvSpPr/>
            <p:nvPr/>
          </p:nvSpPr>
          <p:spPr>
            <a:xfrm flipH="1">
              <a:off x="784836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4"/>
            <p:cNvSpPr/>
            <p:nvPr/>
          </p:nvSpPr>
          <p:spPr>
            <a:xfrm>
              <a:off x="807732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5"/>
            <p:cNvSpPr/>
            <p:nvPr/>
          </p:nvSpPr>
          <p:spPr>
            <a:xfrm flipV="1">
              <a:off x="8077320" y="914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46"/>
          <p:cNvGrpSpPr/>
          <p:nvPr/>
        </p:nvGrpSpPr>
        <p:grpSpPr>
          <a:xfrm>
            <a:off x="8305920" y="3429000"/>
            <a:ext cx="532800" cy="1143000"/>
            <a:chOff x="8305920" y="3429000"/>
            <a:chExt cx="532800" cy="1143000"/>
          </a:xfrm>
        </p:grpSpPr>
        <p:sp>
          <p:nvSpPr>
            <p:cNvPr id="567" name="Oval 47"/>
            <p:cNvSpPr/>
            <p:nvPr/>
          </p:nvSpPr>
          <p:spPr>
            <a:xfrm>
              <a:off x="8381880" y="34290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48"/>
            <p:cNvSpPr/>
            <p:nvPr/>
          </p:nvSpPr>
          <p:spPr>
            <a:xfrm>
              <a:off x="8610480" y="36576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9"/>
            <p:cNvSpPr/>
            <p:nvPr/>
          </p:nvSpPr>
          <p:spPr>
            <a:xfrm flipH="1" flipV="1">
              <a:off x="8305920" y="37335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50"/>
            <p:cNvSpPr/>
            <p:nvPr/>
          </p:nvSpPr>
          <p:spPr>
            <a:xfrm flipH="1">
              <a:off x="83818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1"/>
            <p:cNvSpPr/>
            <p:nvPr/>
          </p:nvSpPr>
          <p:spPr>
            <a:xfrm>
              <a:off x="86104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52"/>
            <p:cNvSpPr/>
            <p:nvPr/>
          </p:nvSpPr>
          <p:spPr>
            <a:xfrm flipV="1">
              <a:off x="8610480" y="37335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53"/>
          <p:cNvGrpSpPr/>
          <p:nvPr/>
        </p:nvGrpSpPr>
        <p:grpSpPr>
          <a:xfrm>
            <a:off x="8229240" y="5410080"/>
            <a:ext cx="533880" cy="1143000"/>
            <a:chOff x="8229240" y="5410080"/>
            <a:chExt cx="533880" cy="1143000"/>
          </a:xfrm>
        </p:grpSpPr>
        <p:sp>
          <p:nvSpPr>
            <p:cNvPr id="574" name="Oval 54"/>
            <p:cNvSpPr/>
            <p:nvPr/>
          </p:nvSpPr>
          <p:spPr>
            <a:xfrm>
              <a:off x="8305920" y="54100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55"/>
            <p:cNvSpPr/>
            <p:nvPr/>
          </p:nvSpPr>
          <p:spPr>
            <a:xfrm>
              <a:off x="8534520" y="56386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56"/>
            <p:cNvSpPr/>
            <p:nvPr/>
          </p:nvSpPr>
          <p:spPr>
            <a:xfrm flipH="1" flipV="1">
              <a:off x="8229240" y="57146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7"/>
            <p:cNvSpPr/>
            <p:nvPr/>
          </p:nvSpPr>
          <p:spPr>
            <a:xfrm flipH="1">
              <a:off x="830556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853452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V="1">
              <a:off x="8534520" y="57146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4343040" y="3809880"/>
            <a:ext cx="533880" cy="1143000"/>
            <a:chOff x="4343040" y="3809880"/>
            <a:chExt cx="533880" cy="1143000"/>
          </a:xfrm>
        </p:grpSpPr>
        <p:sp>
          <p:nvSpPr>
            <p:cNvPr id="581" name="Oval 61"/>
            <p:cNvSpPr/>
            <p:nvPr/>
          </p:nvSpPr>
          <p:spPr>
            <a:xfrm>
              <a:off x="44197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46483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 flipV="1">
              <a:off x="43430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4"/>
            <p:cNvSpPr/>
            <p:nvPr/>
          </p:nvSpPr>
          <p:spPr>
            <a:xfrm flipH="1">
              <a:off x="44193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5"/>
            <p:cNvSpPr/>
            <p:nvPr/>
          </p:nvSpPr>
          <p:spPr>
            <a:xfrm>
              <a:off x="46483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6"/>
            <p:cNvSpPr/>
            <p:nvPr/>
          </p:nvSpPr>
          <p:spPr>
            <a:xfrm flipV="1">
              <a:off x="46483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67"/>
          <p:cNvGrpSpPr/>
          <p:nvPr/>
        </p:nvGrpSpPr>
        <p:grpSpPr>
          <a:xfrm>
            <a:off x="3123720" y="5029200"/>
            <a:ext cx="533880" cy="1143000"/>
            <a:chOff x="3123720" y="5029200"/>
            <a:chExt cx="533880" cy="1143000"/>
          </a:xfrm>
        </p:grpSpPr>
        <p:sp>
          <p:nvSpPr>
            <p:cNvPr id="588" name="Oval 68"/>
            <p:cNvSpPr/>
            <p:nvPr/>
          </p:nvSpPr>
          <p:spPr>
            <a:xfrm>
              <a:off x="3200400" y="502920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69"/>
            <p:cNvSpPr/>
            <p:nvPr/>
          </p:nvSpPr>
          <p:spPr>
            <a:xfrm>
              <a:off x="342900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70"/>
            <p:cNvSpPr/>
            <p:nvPr/>
          </p:nvSpPr>
          <p:spPr>
            <a:xfrm flipH="1" flipV="1">
              <a:off x="3123720" y="533376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71"/>
            <p:cNvSpPr/>
            <p:nvPr/>
          </p:nvSpPr>
          <p:spPr>
            <a:xfrm flipH="1">
              <a:off x="320004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72"/>
            <p:cNvSpPr/>
            <p:nvPr/>
          </p:nvSpPr>
          <p:spPr>
            <a:xfrm>
              <a:off x="342900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73"/>
            <p:cNvSpPr/>
            <p:nvPr/>
          </p:nvSpPr>
          <p:spPr>
            <a:xfrm flipV="1">
              <a:off x="3429000" y="533376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74"/>
          <p:cNvGrpSpPr/>
          <p:nvPr/>
        </p:nvGrpSpPr>
        <p:grpSpPr>
          <a:xfrm>
            <a:off x="3733920" y="1828800"/>
            <a:ext cx="532800" cy="1143000"/>
            <a:chOff x="3733920" y="1828800"/>
            <a:chExt cx="532800" cy="1143000"/>
          </a:xfrm>
        </p:grpSpPr>
        <p:sp>
          <p:nvSpPr>
            <p:cNvPr id="595" name="Oval 75"/>
            <p:cNvSpPr/>
            <p:nvPr/>
          </p:nvSpPr>
          <p:spPr>
            <a:xfrm>
              <a:off x="3809880" y="18288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76"/>
            <p:cNvSpPr/>
            <p:nvPr/>
          </p:nvSpPr>
          <p:spPr>
            <a:xfrm>
              <a:off x="4038480" y="20574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7"/>
            <p:cNvSpPr/>
            <p:nvPr/>
          </p:nvSpPr>
          <p:spPr>
            <a:xfrm flipH="1" flipV="1">
              <a:off x="3733920" y="21333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8"/>
            <p:cNvSpPr/>
            <p:nvPr/>
          </p:nvSpPr>
          <p:spPr>
            <a:xfrm flipH="1">
              <a:off x="38098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79"/>
            <p:cNvSpPr/>
            <p:nvPr/>
          </p:nvSpPr>
          <p:spPr>
            <a:xfrm>
              <a:off x="40384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80"/>
            <p:cNvSpPr/>
            <p:nvPr/>
          </p:nvSpPr>
          <p:spPr>
            <a:xfrm flipV="1">
              <a:off x="4038480" y="21333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81"/>
          <p:cNvGrpSpPr/>
          <p:nvPr/>
        </p:nvGrpSpPr>
        <p:grpSpPr>
          <a:xfrm>
            <a:off x="6705720" y="2514600"/>
            <a:ext cx="532800" cy="1143000"/>
            <a:chOff x="6705720" y="2514600"/>
            <a:chExt cx="532800" cy="1143000"/>
          </a:xfrm>
        </p:grpSpPr>
        <p:sp>
          <p:nvSpPr>
            <p:cNvPr id="602" name="Oval 82"/>
            <p:cNvSpPr/>
            <p:nvPr/>
          </p:nvSpPr>
          <p:spPr>
            <a:xfrm>
              <a:off x="6781680" y="25146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83"/>
            <p:cNvSpPr/>
            <p:nvPr/>
          </p:nvSpPr>
          <p:spPr>
            <a:xfrm>
              <a:off x="7010280" y="27432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84"/>
            <p:cNvSpPr/>
            <p:nvPr/>
          </p:nvSpPr>
          <p:spPr>
            <a:xfrm flipH="1" flipV="1">
              <a:off x="6705720" y="28191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85"/>
            <p:cNvSpPr/>
            <p:nvPr/>
          </p:nvSpPr>
          <p:spPr>
            <a:xfrm flipH="1">
              <a:off x="67816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86"/>
            <p:cNvSpPr/>
            <p:nvPr/>
          </p:nvSpPr>
          <p:spPr>
            <a:xfrm>
              <a:off x="70102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7"/>
            <p:cNvSpPr/>
            <p:nvPr/>
          </p:nvSpPr>
          <p:spPr>
            <a:xfrm flipV="1">
              <a:off x="7010280" y="28191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88"/>
          <p:cNvGrpSpPr/>
          <p:nvPr/>
        </p:nvGrpSpPr>
        <p:grpSpPr>
          <a:xfrm>
            <a:off x="7009920" y="1066680"/>
            <a:ext cx="533880" cy="1143000"/>
            <a:chOff x="7009920" y="1066680"/>
            <a:chExt cx="533880" cy="1143000"/>
          </a:xfrm>
        </p:grpSpPr>
        <p:sp>
          <p:nvSpPr>
            <p:cNvPr id="609" name="Oval 89"/>
            <p:cNvSpPr/>
            <p:nvPr/>
          </p:nvSpPr>
          <p:spPr>
            <a:xfrm>
              <a:off x="7086600" y="10666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90"/>
            <p:cNvSpPr/>
            <p:nvPr/>
          </p:nvSpPr>
          <p:spPr>
            <a:xfrm>
              <a:off x="7315200" y="12952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91"/>
            <p:cNvSpPr/>
            <p:nvPr/>
          </p:nvSpPr>
          <p:spPr>
            <a:xfrm flipH="1" flipV="1">
              <a:off x="7009920" y="13712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92"/>
            <p:cNvSpPr/>
            <p:nvPr/>
          </p:nvSpPr>
          <p:spPr>
            <a:xfrm flipH="1">
              <a:off x="708624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93"/>
            <p:cNvSpPr/>
            <p:nvPr/>
          </p:nvSpPr>
          <p:spPr>
            <a:xfrm>
              <a:off x="731520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4"/>
            <p:cNvSpPr/>
            <p:nvPr/>
          </p:nvSpPr>
          <p:spPr>
            <a:xfrm flipV="1">
              <a:off x="7315200" y="13712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102"/>
          <p:cNvGrpSpPr/>
          <p:nvPr/>
        </p:nvGrpSpPr>
        <p:grpSpPr>
          <a:xfrm>
            <a:off x="7391520" y="3962520"/>
            <a:ext cx="532800" cy="1143000"/>
            <a:chOff x="7391520" y="3962520"/>
            <a:chExt cx="532800" cy="1143000"/>
          </a:xfrm>
        </p:grpSpPr>
        <p:sp>
          <p:nvSpPr>
            <p:cNvPr id="616" name="Oval 103"/>
            <p:cNvSpPr/>
            <p:nvPr/>
          </p:nvSpPr>
          <p:spPr>
            <a:xfrm>
              <a:off x="7467480" y="39625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4"/>
            <p:cNvSpPr/>
            <p:nvPr/>
          </p:nvSpPr>
          <p:spPr>
            <a:xfrm>
              <a:off x="7696080" y="41911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5"/>
            <p:cNvSpPr/>
            <p:nvPr/>
          </p:nvSpPr>
          <p:spPr>
            <a:xfrm flipH="1" flipV="1">
              <a:off x="7391520" y="42670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6"/>
            <p:cNvSpPr/>
            <p:nvPr/>
          </p:nvSpPr>
          <p:spPr>
            <a:xfrm flipH="1">
              <a:off x="74674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7"/>
            <p:cNvSpPr/>
            <p:nvPr/>
          </p:nvSpPr>
          <p:spPr>
            <a:xfrm>
              <a:off x="76960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8"/>
            <p:cNvSpPr/>
            <p:nvPr/>
          </p:nvSpPr>
          <p:spPr>
            <a:xfrm flipV="1">
              <a:off x="7696080" y="42670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109"/>
          <p:cNvGrpSpPr/>
          <p:nvPr/>
        </p:nvGrpSpPr>
        <p:grpSpPr>
          <a:xfrm>
            <a:off x="6477120" y="3733920"/>
            <a:ext cx="532800" cy="1143000"/>
            <a:chOff x="6477120" y="3733920"/>
            <a:chExt cx="532800" cy="1143000"/>
          </a:xfrm>
        </p:grpSpPr>
        <p:sp>
          <p:nvSpPr>
            <p:cNvPr id="623" name="Oval 110"/>
            <p:cNvSpPr/>
            <p:nvPr/>
          </p:nvSpPr>
          <p:spPr>
            <a:xfrm>
              <a:off x="6553080" y="37339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11"/>
            <p:cNvSpPr/>
            <p:nvPr/>
          </p:nvSpPr>
          <p:spPr>
            <a:xfrm>
              <a:off x="6781680" y="39625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2"/>
            <p:cNvSpPr/>
            <p:nvPr/>
          </p:nvSpPr>
          <p:spPr>
            <a:xfrm flipH="1" flipV="1">
              <a:off x="6477120" y="40384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13"/>
            <p:cNvSpPr/>
            <p:nvPr/>
          </p:nvSpPr>
          <p:spPr>
            <a:xfrm flipH="1">
              <a:off x="65530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4"/>
            <p:cNvSpPr/>
            <p:nvPr/>
          </p:nvSpPr>
          <p:spPr>
            <a:xfrm>
              <a:off x="67816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5"/>
            <p:cNvSpPr/>
            <p:nvPr/>
          </p:nvSpPr>
          <p:spPr>
            <a:xfrm flipV="1">
              <a:off x="6781680" y="40384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130"/>
          <p:cNvGrpSpPr/>
          <p:nvPr/>
        </p:nvGrpSpPr>
        <p:grpSpPr>
          <a:xfrm>
            <a:off x="228240" y="1143000"/>
            <a:ext cx="609480" cy="2895480"/>
            <a:chOff x="228240" y="1143000"/>
            <a:chExt cx="609480" cy="2895480"/>
          </a:xfrm>
        </p:grpSpPr>
        <p:grpSp>
          <p:nvGrpSpPr>
            <p:cNvPr id="630" name="Group 95"/>
            <p:cNvGrpSpPr/>
            <p:nvPr/>
          </p:nvGrpSpPr>
          <p:grpSpPr>
            <a:xfrm>
              <a:off x="228240" y="2895480"/>
              <a:ext cx="533880" cy="1143000"/>
              <a:chOff x="228240" y="2895480"/>
              <a:chExt cx="533880" cy="1143000"/>
            </a:xfrm>
          </p:grpSpPr>
          <p:sp>
            <p:nvSpPr>
              <p:cNvPr id="631" name="Oval 96"/>
              <p:cNvSpPr/>
              <p:nvPr/>
            </p:nvSpPr>
            <p:spPr>
              <a:xfrm>
                <a:off x="304920" y="2895480"/>
                <a:ext cx="38088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97"/>
              <p:cNvSpPr/>
              <p:nvPr/>
            </p:nvSpPr>
            <p:spPr>
              <a:xfrm>
                <a:off x="533520" y="312408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98"/>
              <p:cNvSpPr/>
              <p:nvPr/>
            </p:nvSpPr>
            <p:spPr>
              <a:xfrm flipH="1" flipV="1">
                <a:off x="228240" y="3200040"/>
                <a:ext cx="30492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99"/>
              <p:cNvSpPr/>
              <p:nvPr/>
            </p:nvSpPr>
            <p:spPr>
              <a:xfrm flipH="1">
                <a:off x="30456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100"/>
              <p:cNvSpPr/>
              <p:nvPr/>
            </p:nvSpPr>
            <p:spPr>
              <a:xfrm>
                <a:off x="53352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01"/>
              <p:cNvSpPr/>
              <p:nvPr/>
            </p:nvSpPr>
            <p:spPr>
              <a:xfrm flipV="1">
                <a:off x="533520" y="3200040"/>
                <a:ext cx="22860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Group 116"/>
            <p:cNvGrpSpPr/>
            <p:nvPr/>
          </p:nvGrpSpPr>
          <p:grpSpPr>
            <a:xfrm>
              <a:off x="304920" y="1143000"/>
              <a:ext cx="532800" cy="1143000"/>
              <a:chOff x="304920" y="1143000"/>
              <a:chExt cx="532800" cy="1143000"/>
            </a:xfrm>
          </p:grpSpPr>
          <p:sp>
            <p:nvSpPr>
              <p:cNvPr id="638" name="Oval 117"/>
              <p:cNvSpPr/>
              <p:nvPr/>
            </p:nvSpPr>
            <p:spPr>
              <a:xfrm>
                <a:off x="380880" y="1143000"/>
                <a:ext cx="38052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18"/>
              <p:cNvSpPr/>
              <p:nvPr/>
            </p:nvSpPr>
            <p:spPr>
              <a:xfrm>
                <a:off x="609480" y="137160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19"/>
              <p:cNvSpPr/>
              <p:nvPr/>
            </p:nvSpPr>
            <p:spPr>
              <a:xfrm flipH="1" flipV="1">
                <a:off x="304920" y="1447560"/>
                <a:ext cx="30456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20"/>
              <p:cNvSpPr/>
              <p:nvPr/>
            </p:nvSpPr>
            <p:spPr>
              <a:xfrm flipH="1">
                <a:off x="3808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21"/>
              <p:cNvSpPr/>
              <p:nvPr/>
            </p:nvSpPr>
            <p:spPr>
              <a:xfrm>
                <a:off x="6094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22"/>
              <p:cNvSpPr/>
              <p:nvPr/>
            </p:nvSpPr>
            <p:spPr>
              <a:xfrm flipV="1">
                <a:off x="609480" y="1447560"/>
                <a:ext cx="22824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Group 123"/>
          <p:cNvGrpSpPr/>
          <p:nvPr/>
        </p:nvGrpSpPr>
        <p:grpSpPr>
          <a:xfrm>
            <a:off x="990720" y="5029200"/>
            <a:ext cx="532800" cy="1143000"/>
            <a:chOff x="990720" y="5029200"/>
            <a:chExt cx="532800" cy="1143000"/>
          </a:xfrm>
        </p:grpSpPr>
        <p:sp>
          <p:nvSpPr>
            <p:cNvPr id="645" name="Oval 124"/>
            <p:cNvSpPr/>
            <p:nvPr/>
          </p:nvSpPr>
          <p:spPr>
            <a:xfrm>
              <a:off x="1066680" y="50292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25"/>
            <p:cNvSpPr/>
            <p:nvPr/>
          </p:nvSpPr>
          <p:spPr>
            <a:xfrm>
              <a:off x="129528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26"/>
            <p:cNvSpPr/>
            <p:nvPr/>
          </p:nvSpPr>
          <p:spPr>
            <a:xfrm flipH="1" flipV="1">
              <a:off x="990720" y="53337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7"/>
            <p:cNvSpPr/>
            <p:nvPr/>
          </p:nvSpPr>
          <p:spPr>
            <a:xfrm flipH="1">
              <a:off x="10666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28"/>
            <p:cNvSpPr/>
            <p:nvPr/>
          </p:nvSpPr>
          <p:spPr>
            <a:xfrm>
              <a:off x="12952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29"/>
            <p:cNvSpPr/>
            <p:nvPr/>
          </p:nvSpPr>
          <p:spPr>
            <a:xfrm flipV="1">
              <a:off x="1295280" y="53337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dding…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ganisms Arise as an Outgrowth from the Parent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Mostly in Marine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Include; Sponges, Corals and Jellyfis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Picture 6" descr="bright yellow coral polyp"/>
          <p:cNvPicPr/>
          <p:nvPr/>
        </p:nvPicPr>
        <p:blipFill>
          <a:blip r:embed="rId1"/>
          <a:stretch/>
        </p:blipFill>
        <p:spPr>
          <a:xfrm>
            <a:off x="4800600" y="1981080"/>
            <a:ext cx="4114800" cy="426744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7"/>
          <p:cNvSpPr/>
          <p:nvPr/>
        </p:nvSpPr>
        <p:spPr>
          <a:xfrm>
            <a:off x="4800600" y="6248520"/>
            <a:ext cx="41148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al Polyp Photo courtesy Jeffrey N. Jeff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generati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fers to the ability of some animals to      re-grow severed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8" name="Picture 7" descr="MPj02554950000[1]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henogenesi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pring can arise from unfertilized eg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some Fish, Reptiles, Amphibians and Aph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se species can switch between Sexual and Asexual Reprod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pending on condi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Picture 7" descr="wh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Rhampho"/>
          <p:cNvPicPr/>
          <p:nvPr/>
        </p:nvPicPr>
        <p:blipFill>
          <a:blip r:embed="rId3"/>
          <a:stretch/>
        </p:blipFill>
        <p:spPr>
          <a:xfrm>
            <a:off x="7162920" y="1905120"/>
            <a:ext cx="1676160" cy="213336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0"/>
          <p:cNvSpPr/>
          <p:nvPr/>
        </p:nvSpPr>
        <p:spPr>
          <a:xfrm>
            <a:off x="7162920" y="37260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48769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12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2209680" cy="21351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13"/>
          <p:cNvSpPr/>
          <p:nvPr/>
        </p:nvSpPr>
        <p:spPr>
          <a:xfrm>
            <a:off x="4876920" y="6095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5" descr="soybean_aphid_colony"/>
          <p:cNvPicPr/>
          <p:nvPr/>
        </p:nvPicPr>
        <p:blipFill>
          <a:blip r:embed="rId5"/>
          <a:stretch/>
        </p:blipFill>
        <p:spPr>
          <a:xfrm>
            <a:off x="7086600" y="403848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6"/>
          <p:cNvSpPr/>
          <p:nvPr/>
        </p:nvSpPr>
        <p:spPr>
          <a:xfrm>
            <a:off x="7086600" y="60958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WHY??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magine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Death…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6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RomaK</cp:lastModifiedBy>
  <dcterms:modified xsi:type="dcterms:W3CDTF">2015-09-04T11:07:45Z</dcterms:modified>
  <cp:revision>11</cp:revision>
  <dc:subject/>
  <dc:title>Sexual Reproduction</dc:title>
</cp:coreProperties>
</file>