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426A-CFB1-43CB-9207-0512E5999F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85B-20CF-482C-9689-D282C81C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946-3768-40DA-9CDE-F1CD1832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F93E-0E5D-4FC7-9A00-2E15601A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D00-73ED-44F6-A6B9-F68ED35E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AC27-2B9C-4E30-967C-75C60485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0F43-959C-4DD7-A4BF-2EE587AA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2901-E0BD-44F9-A3B2-E0B8D846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32E9-FA7A-4904-AF9E-5B8EED03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8102-D975-4BED-B727-AA6F918D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3644-1C99-492F-9046-43CBD52F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FC0D-FF2D-4AA5-98FD-EA9E53F4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229-2FFB-4DF0-8CD7-8BBCBC7F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1C2A-ABB1-4D69-A2D8-5C706AC9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D384-ED9C-4C73-8348-FD2035BE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12BB-E4A5-4315-8034-2E849831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9F6D-2D2D-4C3B-AC7F-DB83EF5F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423F-03AC-44E5-B78F-EF525D76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166-E87B-48B6-97A6-A7EDD8DC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5F1-1C7D-4087-BCF3-AFB44A09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245-D84C-405D-9050-2CCDC0FC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4F43-DE8E-4D94-8E02-026B46B3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1EB-C894-405B-8969-0447C722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C90-841D-4DDA-B444-52F610F2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F84-252E-416B-9528-18AD890B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2FA2-85B6-45AC-928B-9919856677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3F86-DA26-4E32-A733-2BF421A9EB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Aerobic/Anaerobic</a:t>
            </a:r>
            <a:br>
              <a:rPr sz="6600"/>
            </a:b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Respiration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issa Seidm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win Y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228600" y="2209680"/>
                <a:ext cx="86104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4"/>
          <p:cNvSpPr/>
          <p:nvPr/>
        </p:nvSpPr>
        <p:spPr>
          <a:xfrm>
            <a:off x="152280" y="304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nergy + Gluc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19520" y="2911320"/>
                <a:ext cx="16761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Yeas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8" name="Rectangle 6"/>
          <p:cNvSpPr/>
          <p:nvPr/>
        </p:nvSpPr>
        <p:spPr>
          <a:xfrm>
            <a:off x="4419720" y="30470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thanol + Carbon Dioxide + Ener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600200" y="685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mical Formula for Anaerobic Respi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Experim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will be testing four different drinks to see which will give us the most ener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 how do we decide which is bes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t: Go back to the formu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76320" y="1676520"/>
                <a:ext cx="90676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Line 3"/>
          <p:cNvSpPr/>
          <p:nvPr/>
        </p:nvSpPr>
        <p:spPr>
          <a:xfrm flipV="1">
            <a:off x="6858000" y="2209320"/>
            <a:ext cx="457200" cy="1600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15000" y="38098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We can measure the carbon dioxide released by each drink in the enzy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2 Gas Sensor to measure total concentration of CO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2514600" y="2413080"/>
            <a:ext cx="4637880" cy="4063320"/>
            <a:chOff x="2514600" y="2413080"/>
            <a:chExt cx="4637880" cy="4063320"/>
          </a:xfrm>
        </p:grpSpPr>
        <p:grpSp>
          <p:nvGrpSpPr>
            <p:cNvPr id="210" name="Group 5"/>
            <p:cNvGrpSpPr/>
            <p:nvPr/>
          </p:nvGrpSpPr>
          <p:grpSpPr>
            <a:xfrm>
              <a:off x="2514600" y="2597760"/>
              <a:ext cx="2954880" cy="2842560"/>
              <a:chOff x="2514600" y="2597760"/>
              <a:chExt cx="2954880" cy="28425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657320" y="4111200"/>
                <a:ext cx="738720" cy="442800"/>
              </a:xfrm>
              <a:custGeom>
                <a:avLst/>
                <a:gdLst>
                  <a:gd name="textAreaLeft" fmla="*/ 153720 w 738720"/>
                  <a:gd name="textAreaRight" fmla="*/ 585000 w 738720"/>
                  <a:gd name="textAreaTop" fmla="*/ 92160 h 442800"/>
                  <a:gd name="textAreaBottom" fmla="*/ 35064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Rectangle 7"/>
              <p:cNvSpPr/>
              <p:nvPr/>
            </p:nvSpPr>
            <p:spPr>
              <a:xfrm>
                <a:off x="4583160" y="3077640"/>
                <a:ext cx="886320" cy="10335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Line 8"/>
              <p:cNvSpPr/>
              <p:nvPr/>
            </p:nvSpPr>
            <p:spPr>
              <a:xfrm flipH="1" flipV="1">
                <a:off x="4509360" y="3963600"/>
                <a:ext cx="734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Line 9"/>
              <p:cNvSpPr/>
              <p:nvPr/>
            </p:nvSpPr>
            <p:spPr>
              <a:xfrm flipV="1">
                <a:off x="4509360" y="3003480"/>
                <a:ext cx="0" cy="95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Line 10"/>
              <p:cNvSpPr/>
              <p:nvPr/>
            </p:nvSpPr>
            <p:spPr>
              <a:xfrm>
                <a:off x="450936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4509360" y="3003480"/>
                <a:ext cx="88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539604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Rectangle 13"/>
              <p:cNvSpPr/>
              <p:nvPr/>
            </p:nvSpPr>
            <p:spPr>
              <a:xfrm>
                <a:off x="4731120" y="3299040"/>
                <a:ext cx="590760" cy="66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Rectangle 14"/>
              <p:cNvSpPr/>
              <p:nvPr/>
            </p:nvSpPr>
            <p:spPr>
              <a:xfrm>
                <a:off x="4731120" y="3299040"/>
                <a:ext cx="73800" cy="6645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Line 15"/>
              <p:cNvSpPr/>
              <p:nvPr/>
            </p:nvSpPr>
            <p:spPr>
              <a:xfrm>
                <a:off x="5100480" y="3520440"/>
                <a:ext cx="720" cy="369000"/>
              </a:xfrm>
              <a:prstGeom prst="line">
                <a:avLst/>
              </a:prstGeom>
              <a:ln w="28440">
                <a:solidFill>
                  <a:srgbClr val="0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Oval 16"/>
              <p:cNvSpPr/>
              <p:nvPr/>
            </p:nvSpPr>
            <p:spPr>
              <a:xfrm>
                <a:off x="5026320" y="3372840"/>
                <a:ext cx="73800" cy="734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17"/>
              <p:cNvSpPr/>
              <p:nvPr/>
            </p:nvSpPr>
            <p:spPr>
              <a:xfrm>
                <a:off x="2514600" y="2597760"/>
                <a:ext cx="2511720" cy="922680"/>
              </a:xfrm>
              <a:custGeom>
                <a:avLst/>
                <a:gdLst/>
                <a:ahLst/>
                <a:rect l="l" t="t" r="r" b="b"/>
                <a:pathLst>
                  <a:path w="2448" h="900">
                    <a:moveTo>
                      <a:pt x="2448" y="396"/>
                    </a:moveTo>
                    <a:cubicBezTo>
                      <a:pt x="2352" y="198"/>
                      <a:pt x="2256" y="0"/>
                      <a:pt x="2016" y="36"/>
                    </a:cubicBezTo>
                    <a:cubicBezTo>
                      <a:pt x="1776" y="72"/>
                      <a:pt x="1344" y="468"/>
                      <a:pt x="1008" y="612"/>
                    </a:cubicBezTo>
                    <a:cubicBezTo>
                      <a:pt x="672" y="756"/>
                      <a:pt x="180" y="852"/>
                      <a:pt x="0" y="9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Rectangle 18"/>
              <p:cNvSpPr/>
              <p:nvPr/>
            </p:nvSpPr>
            <p:spPr>
              <a:xfrm>
                <a:off x="4878720" y="4554360"/>
                <a:ext cx="295200" cy="88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4" name="Group 19"/>
            <p:cNvGrpSpPr/>
            <p:nvPr/>
          </p:nvGrpSpPr>
          <p:grpSpPr>
            <a:xfrm>
              <a:off x="4286880" y="4234320"/>
              <a:ext cx="1479600" cy="2242080"/>
              <a:chOff x="4286880" y="4234320"/>
              <a:chExt cx="1479600" cy="2242080"/>
            </a:xfrm>
          </p:grpSpPr>
          <p:sp>
            <p:nvSpPr>
              <p:cNvPr id="225" name="AutoShape 20"/>
              <p:cNvSpPr/>
              <p:nvPr/>
            </p:nvSpPr>
            <p:spPr>
              <a:xfrm flipV="1">
                <a:off x="4286880" y="4676760"/>
                <a:ext cx="1404000" cy="443160"/>
              </a:xfrm>
              <a:custGeom>
                <a:avLst/>
                <a:gdLst>
                  <a:gd name="textAreaLeft" fmla="*/ 292320 w 1404000"/>
                  <a:gd name="textAreaRight" fmla="*/ 1111680 w 1404000"/>
                  <a:gd name="textAreaTop" fmla="*/ 92160 h 443160"/>
                  <a:gd name="textAreaBottom" fmla="*/ 351000 h 44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6" name="Freeform 21"/>
              <p:cNvSpPr/>
              <p:nvPr/>
            </p:nvSpPr>
            <p:spPr>
              <a:xfrm>
                <a:off x="4440600" y="6081120"/>
                <a:ext cx="1176480" cy="307800"/>
              </a:xfrm>
              <a:custGeom>
                <a:avLst/>
                <a:gdLst/>
                <a:ahLst/>
                <a:rect l="l" t="t" r="r" b="b"/>
                <a:pathLst>
                  <a:path w="1146" h="300">
                    <a:moveTo>
                      <a:pt x="0" y="165"/>
                    </a:moveTo>
                    <a:cubicBezTo>
                      <a:pt x="118" y="135"/>
                      <a:pt x="239" y="120"/>
                      <a:pt x="360" y="105"/>
                    </a:cubicBezTo>
                    <a:cubicBezTo>
                      <a:pt x="385" y="80"/>
                      <a:pt x="401" y="38"/>
                      <a:pt x="435" y="30"/>
                    </a:cubicBezTo>
                    <a:cubicBezTo>
                      <a:pt x="521" y="10"/>
                      <a:pt x="587" y="36"/>
                      <a:pt x="660" y="60"/>
                    </a:cubicBezTo>
                    <a:cubicBezTo>
                      <a:pt x="700" y="55"/>
                      <a:pt x="741" y="56"/>
                      <a:pt x="780" y="45"/>
                    </a:cubicBezTo>
                    <a:cubicBezTo>
                      <a:pt x="812" y="36"/>
                      <a:pt x="838" y="11"/>
                      <a:pt x="870" y="0"/>
                    </a:cubicBezTo>
                    <a:cubicBezTo>
                      <a:pt x="901" y="93"/>
                      <a:pt x="938" y="76"/>
                      <a:pt x="1035" y="90"/>
                    </a:cubicBezTo>
                    <a:cubicBezTo>
                      <a:pt x="1084" y="106"/>
                      <a:pt x="1146" y="147"/>
                      <a:pt x="1095" y="210"/>
                    </a:cubicBezTo>
                    <a:cubicBezTo>
                      <a:pt x="1085" y="222"/>
                      <a:pt x="1065" y="221"/>
                      <a:pt x="1050" y="225"/>
                    </a:cubicBezTo>
                    <a:cubicBezTo>
                      <a:pt x="986" y="243"/>
                      <a:pt x="919" y="252"/>
                      <a:pt x="855" y="270"/>
                    </a:cubicBezTo>
                    <a:cubicBezTo>
                      <a:pt x="824" y="278"/>
                      <a:pt x="765" y="300"/>
                      <a:pt x="765" y="300"/>
                    </a:cubicBezTo>
                    <a:cubicBezTo>
                      <a:pt x="705" y="295"/>
                      <a:pt x="644" y="295"/>
                      <a:pt x="585" y="285"/>
                    </a:cubicBezTo>
                    <a:cubicBezTo>
                      <a:pt x="538" y="277"/>
                      <a:pt x="497" y="245"/>
                      <a:pt x="450" y="240"/>
                    </a:cubicBezTo>
                    <a:cubicBezTo>
                      <a:pt x="275" y="222"/>
                      <a:pt x="349" y="235"/>
                      <a:pt x="225" y="210"/>
                    </a:cubicBezTo>
                    <a:cubicBezTo>
                      <a:pt x="130" y="147"/>
                      <a:pt x="198" y="181"/>
                      <a:pt x="0" y="165"/>
                    </a:cubicBezTo>
                    <a:close/>
                  </a:path>
                </a:pathLst>
              </a:custGeom>
              <a:solidFill>
                <a:srgbClr val="ffff99">
                  <a:alpha val="59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4286880" y="5146560"/>
                <a:ext cx="1800" cy="11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Line 23"/>
              <p:cNvSpPr/>
              <p:nvPr/>
            </p:nvSpPr>
            <p:spPr>
              <a:xfrm>
                <a:off x="4286880" y="6327360"/>
                <a:ext cx="59292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Line 24"/>
              <p:cNvSpPr/>
              <p:nvPr/>
            </p:nvSpPr>
            <p:spPr>
              <a:xfrm flipV="1">
                <a:off x="4879800" y="6401520"/>
                <a:ext cx="88596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Line 25"/>
              <p:cNvSpPr/>
              <p:nvPr/>
            </p:nvSpPr>
            <p:spPr>
              <a:xfrm flipV="1">
                <a:off x="4879800" y="5293080"/>
                <a:ext cx="108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1" name="Line 26"/>
              <p:cNvSpPr/>
              <p:nvPr/>
            </p:nvSpPr>
            <p:spPr>
              <a:xfrm flipV="1">
                <a:off x="5765760" y="5218200"/>
                <a:ext cx="72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>
                <a:off x="4287600" y="5046840"/>
                <a:ext cx="591120" cy="245880"/>
              </a:xfrm>
              <a:custGeom>
                <a:avLst/>
                <a:gdLst/>
                <a:ahLst/>
                <a:rect l="l" t="t" r="r" b="b"/>
                <a:pathLst>
                  <a:path w="576" h="240">
                    <a:moveTo>
                      <a:pt x="0" y="96"/>
                    </a:moveTo>
                    <a:cubicBezTo>
                      <a:pt x="96" y="48"/>
                      <a:pt x="192" y="0"/>
                      <a:pt x="288" y="24"/>
                    </a:cubicBezTo>
                    <a:cubicBezTo>
                      <a:pt x="384" y="48"/>
                      <a:pt x="528" y="204"/>
                      <a:pt x="576" y="240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3" name="Freeform 28"/>
              <p:cNvSpPr/>
              <p:nvPr/>
            </p:nvSpPr>
            <p:spPr>
              <a:xfrm>
                <a:off x="4879080" y="5071680"/>
                <a:ext cx="886680" cy="221400"/>
              </a:xfrm>
              <a:custGeom>
                <a:avLst/>
                <a:gdLst/>
                <a:ahLst/>
                <a:rect l="l" t="t" r="r" b="b"/>
                <a:pathLst>
                  <a:path w="864" h="228">
                    <a:moveTo>
                      <a:pt x="0" y="228"/>
                    </a:moveTo>
                    <a:cubicBezTo>
                      <a:pt x="108" y="126"/>
                      <a:pt x="216" y="24"/>
                      <a:pt x="360" y="12"/>
                    </a:cubicBezTo>
                    <a:cubicBezTo>
                      <a:pt x="504" y="0"/>
                      <a:pt x="684" y="78"/>
                      <a:pt x="864" y="156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4" name="Rectangle 29"/>
              <p:cNvSpPr/>
              <p:nvPr/>
            </p:nvSpPr>
            <p:spPr>
              <a:xfrm>
                <a:off x="4656240" y="4603680"/>
                <a:ext cx="739080" cy="734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Rectangle 30"/>
              <p:cNvSpPr/>
              <p:nvPr/>
            </p:nvSpPr>
            <p:spPr>
              <a:xfrm>
                <a:off x="4730040" y="44557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Rectangle 31"/>
              <p:cNvSpPr/>
              <p:nvPr/>
            </p:nvSpPr>
            <p:spPr>
              <a:xfrm>
                <a:off x="4730040" y="43081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Rectangle 32"/>
              <p:cNvSpPr/>
              <p:nvPr/>
            </p:nvSpPr>
            <p:spPr>
              <a:xfrm>
                <a:off x="4656240" y="4234320"/>
                <a:ext cx="739080" cy="738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Line 33"/>
              <p:cNvSpPr/>
              <p:nvPr/>
            </p:nvSpPr>
            <p:spPr>
              <a:xfrm flipV="1">
                <a:off x="4286880" y="4677120"/>
                <a:ext cx="443160" cy="44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9" name="Line 34"/>
              <p:cNvSpPr/>
              <p:nvPr/>
            </p:nvSpPr>
            <p:spPr>
              <a:xfrm flipH="1" flipV="1">
                <a:off x="5321160" y="4677480"/>
                <a:ext cx="443160" cy="5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0" name="Rectangle 35"/>
              <p:cNvSpPr/>
              <p:nvPr/>
            </p:nvSpPr>
            <p:spPr>
              <a:xfrm>
                <a:off x="4878000" y="5268600"/>
                <a:ext cx="886680" cy="11818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Rectangle 36"/>
              <p:cNvSpPr/>
              <p:nvPr/>
            </p:nvSpPr>
            <p:spPr>
              <a:xfrm>
                <a:off x="4286880" y="5120640"/>
                <a:ext cx="591120" cy="12560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2" name="Text Box 37"/>
            <p:cNvSpPr/>
            <p:nvPr/>
          </p:nvSpPr>
          <p:spPr>
            <a:xfrm>
              <a:off x="5748840" y="2413080"/>
              <a:ext cx="14036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CO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Verdana"/>
                </a:rPr>
                <a:t>2</a:t>
              </a: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 Gas Sensor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ubate the yeast solution in a 37 – 40 water ba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bel the five test tubes G, C, F, M, and 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ur 2.5 mL of Gatorade into the test tube labeled 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Coke into the test tube labeled 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fruit juice into the test tube labeled 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milk into the test tube labeled 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water into the test tube labeled 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ghtly stir the yeast suspension to mix the yeast that settled to the bottom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t 2.5 mL of the yeast suspension into all five of the test tub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n incubate the test tubes for 10 minutes in the water bath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ce the Gas Sensor, and start collecting the data. for 4 minut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- The Marathon -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somebody challenged you to a run a race, how should you prepare to win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ct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t the right foo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ink the right liqu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295280" y="1371600"/>
            <a:ext cx="6705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l living organisms break down sugars to get energy. In humans this breakdown usually occurs with oxyge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im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590920" y="2133720"/>
            <a:ext cx="579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 understand how Aerobic    and Anaerobic Respiration Occur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WBAT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type of sugar affects the rate of respir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concentration of sugar affects the amount of energy produc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termine the rate of respiration while using yeast to breakdown different suga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erobic Respirat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reaking down of sugar to produce energy where oxygen is presen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Object 5"/>
          <p:cNvGraphicFramePr/>
          <p:nvPr/>
        </p:nvGraphicFramePr>
        <p:xfrm>
          <a:off x="1143000" y="3124080"/>
          <a:ext cx="6620040" cy="5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124080"/>
                    <a:ext cx="6620040" cy="506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Rectangle 6"/>
          <p:cNvSpPr/>
          <p:nvPr/>
        </p:nvSpPr>
        <p:spPr>
          <a:xfrm>
            <a:off x="1143000" y="4038480"/>
            <a:ext cx="6629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ucose + Oxyge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rbon Dioxide + Water+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en We Exercise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990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ter two minutes of exercise, the body responds by supplying working muscles with oxyg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oxygen is present, glucose can be completely broken down into carbon dioxide and wat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5" descr="j0301480"/>
          <p:cNvPicPr/>
          <p:nvPr/>
        </p:nvPicPr>
        <p:blipFill>
          <a:blip r:embed="rId4"/>
          <a:stretch/>
        </p:blipFill>
        <p:spPr>
          <a:xfrm>
            <a:off x="5668920" y="3386160"/>
            <a:ext cx="1798560" cy="1338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j0299763"/>
          <p:cNvPicPr/>
          <p:nvPr/>
        </p:nvPicPr>
        <p:blipFill>
          <a:blip r:embed="rId5"/>
          <a:stretch/>
        </p:blipFill>
        <p:spPr>
          <a:xfrm>
            <a:off x="3430440" y="3448080"/>
            <a:ext cx="1827360" cy="1504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j0183168"/>
          <p:cNvPicPr/>
          <p:nvPr/>
        </p:nvPicPr>
        <p:blipFill>
          <a:blip r:embed="rId6"/>
          <a:stretch/>
        </p:blipFill>
        <p:spPr>
          <a:xfrm>
            <a:off x="2517840" y="4964040"/>
            <a:ext cx="1901880" cy="1665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j0199036"/>
          <p:cNvPicPr/>
          <p:nvPr/>
        </p:nvPicPr>
        <p:blipFill>
          <a:blip r:embed="rId7"/>
          <a:stretch/>
        </p:blipFill>
        <p:spPr>
          <a:xfrm>
            <a:off x="1371600" y="342900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j0293844"/>
          <p:cNvPicPr/>
          <p:nvPr/>
        </p:nvPicPr>
        <p:blipFill>
          <a:blip r:embed="rId8"/>
          <a:stretch/>
        </p:blipFill>
        <p:spPr>
          <a:xfrm>
            <a:off x="4815000" y="4878360"/>
            <a:ext cx="1738080" cy="18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naerobic Respiration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refers to the oxidation of molecules in the absence of oxygen to produce energy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also kn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Ferm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86000" y="1981080"/>
            <a:ext cx="5562720" cy="35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Muscle Cell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Yeas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The fermentation end product is ethyl alcohol,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28600" y="533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happens when fermentation occur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3:48:36Z</dcterms:created>
  <dc:creator>PolyUser</dc:creator>
  <dc:description/>
  <dc:language>en-US</dc:language>
  <cp:lastModifiedBy>RomaK</cp:lastModifiedBy>
  <dcterms:modified xsi:type="dcterms:W3CDTF">2015-09-04T11:06:44Z</dcterms:modified>
  <cp:revision>6</cp:revision>
  <dc:subject/>
  <dc:title>Aerobic/Anaerobic Respiration</dc:title>
</cp:coreProperties>
</file>