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A555-5D49-489E-A1F9-C9E92F8CFD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/Anaerobic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lissa Seidma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dwin Yu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/Anaerobic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issa Seid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win Y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ergy + Glucos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thanol + Carbon Dioxide 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Formula for Anaerobic Respir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+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hanol + Carbon Dioxide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Formula for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Experimen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be testing four different drinks to see which will give us the most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be testing four different drinks to see which will give us the mo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how do we decide which is best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nt: Go back to the formula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decide which is b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Go back to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measure the carbon dioxide released by each drink in the enzym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the carbon dioxide released by each drink in the enz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2 Gas Sensor to measure total concentration of CO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Gas Sensor to measure total concentration of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ubate the yeast solution in a 37 – 40 water bath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 the five test tubes G, C, F, M, and W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Gatorade into the test tube labeled G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Coke into the test tube labeled 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fruit juice into the test tube labeled F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milk into the test tube labeled 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r 2.5 mL of water into the test tube labeled W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ghtly stir the yeast suspension to mix the yeast that settled to the bottom.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 2.5 mL of the yeast suspension into all five of the test tubes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incubate the test tubes for 10 minutes in the water bath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 the Gas Sensor, and start collecting the data. for 4 minute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bate the yeast solution in a 37 – 40 water b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five test tubes G, C, F, M, and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Gatorade into the test tube labeled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Coke into the test tube labeled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fruit juice into the test tube labeled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milk into the test tube labeled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r 2.5 mL of water into the test tube labeled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ly stir the yeast suspension to mix the yeast that settled to the botto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2.5 mL of the yeast suspension into all five of the test t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ncubate the test tubes for 10 minutes in the water b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Gas Sensor, and start collecting the data. for 4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he Marathon -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somebody challenged you to a run a race, how should you prepare to win?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t the right foo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nk the right liquid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Marathon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omebody challenged you to a run a race, how should you prepare to wi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 the right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nk the right 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living organisms break down sugars to get energy. In humans this breakdown usually occurs with oxygen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ving organisms break down sugars to get energy. In humans this breakdown usually occurs with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understand how Aerobic    and Anaerobic Respiration Occur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understand how Aerobic    and Anaerobic Respir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WBAT: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how the type of sugar affects the rate of respiration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how the concentration of sugar affects the amount of energy produced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rmine the rate of respiration while using yeast to breakdown different sugars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B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the type of sugar affects the rate of respi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how the concentration of sugar affects the amount of energy pro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rate of respiration while using yeast to breakdown different sug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erobic Respiration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reaking down of sugar to produce energy where oxygen is present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  Carbon Dioxide + Water+ Ener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ing down of sugar to produce energy where oxygen is pres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 Carbon Dioxide + Water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We Exercise…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ter two minutes of exercise, the body responds by supplying working muscles with oxygen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oxygen is present, glucose can be completely broken down into carbon dioxide and water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Exerci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wo minutes of exercise, the body responds by supplying working muscles with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oxygen is present, glucose can be completely broken down into carbon dioxide and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refers to the oxidation of molecules in the absence of oxygen to produce energy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lso know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Fermentatio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refers to the oxidation of molecules in the absence of oxygen to produc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so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Muscle Cells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In Yeast- The fermentation end product is ethyl alcohol, and CO2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happens when fermentation occurs?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uscle Cells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In Yeast- The fermentation end product is ethyl alcohol, and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fermentation occu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9742-8DC1-47A3-A719-F504E37E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C7E4-CA48-4910-B393-9C52F79F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1876-22CA-42DA-98FD-64CD3123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4C3-4D58-4017-A215-456276D1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3FFC-C8A5-4A9F-A7C8-9B83EF50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1E55-FA51-4A50-92D7-02BA40B6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E839-70C8-40D4-92F8-93F0F43B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4DEA-36A7-4243-83AE-EE72E9B9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E049-1C31-40C2-8138-6B88C431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BDD6-14B7-486A-B029-68C08091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1699-E56C-4BE8-9131-1783B321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E88-7B5D-4A48-9A15-0F17A90F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75A3-1C7F-4AF0-AF11-03B2F613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70A2-85CF-45C8-A2B9-990EE559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D540-347A-479A-B518-49A0161A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433E-F811-4EC7-BEFC-BC7DE358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37A5-D745-40E5-B94F-F0641B45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405-0467-4BB3-A738-1F49A18E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4EA-48D5-4092-9F7C-6D447AC4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E57-C297-4035-972D-F790B6B8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C78-71C8-4C1B-8D26-BF0C76EF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633-2450-4902-89D2-02B24951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5BA-4413-44EB-A2DB-F1E03858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1A0-0F38-42D7-9B99-B85F73AE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56D9-E27F-48A3-8B10-9DAC703CBB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BDC2-08D8-4323-964B-5EF7291AFC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Aerobic/Anaerobic</a:t>
            </a:r>
            <a:br>
              <a:rPr sz="6600"/>
            </a:br>
            <a:r>
              <a:rPr b="0" lang="en-US" sz="6600" spc="-1" strike="noStrike">
                <a:solidFill>
                  <a:srgbClr val="ffff99"/>
                </a:solidFill>
                <a:latin typeface="Arial"/>
              </a:rPr>
              <a:t>Respiration</a:t>
            </a:r>
            <a:endParaRPr b="0" lang="en-US" sz="6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issa Seidm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dwin Y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3"/>
              <p:cNvSpPr txBox="1"/>
              <p:nvPr/>
            </p:nvSpPr>
            <p:spPr>
              <a:xfrm>
                <a:off x="228600" y="2209680"/>
                <a:ext cx="86104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Enzymes</m:t>
                        </m:r>
                      </m:e>
                    </m:acc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Rectangle 4"/>
          <p:cNvSpPr/>
          <p:nvPr/>
        </p:nvSpPr>
        <p:spPr>
          <a:xfrm>
            <a:off x="152280" y="3047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Energy + Gluco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2819520" y="2911320"/>
                <a:ext cx="16761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Yeast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98" name="Rectangle 6"/>
          <p:cNvSpPr/>
          <p:nvPr/>
        </p:nvSpPr>
        <p:spPr>
          <a:xfrm>
            <a:off x="4419720" y="304704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바탕"/>
              </a:rPr>
              <a:t>Ethanol + Carbon Dioxide + Energ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600200" y="6858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mical Formula for Anaerobic Respi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Experime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will be testing four different drinks to see which will give us the most ener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o how do we decide which is bes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int: Go back to the formu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76320" y="1676520"/>
                <a:ext cx="90676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Enzymes</m:t>
                        </m:r>
                      </m:e>
                    </m:acc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T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Line 3"/>
          <p:cNvSpPr/>
          <p:nvPr/>
        </p:nvSpPr>
        <p:spPr>
          <a:xfrm flipV="1">
            <a:off x="6858000" y="2209320"/>
            <a:ext cx="457200" cy="1600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715000" y="38098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Verdana"/>
              </a:rPr>
              <a:t>We can measure the carbon dioxide released by each drink in the enzy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Proced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2 Gas Sensor to measure total concentration of CO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2514600" y="2413080"/>
            <a:ext cx="4637880" cy="4063320"/>
            <a:chOff x="2514600" y="2413080"/>
            <a:chExt cx="4637880" cy="4063320"/>
          </a:xfrm>
        </p:grpSpPr>
        <p:grpSp>
          <p:nvGrpSpPr>
            <p:cNvPr id="210" name="Group 5"/>
            <p:cNvGrpSpPr/>
            <p:nvPr/>
          </p:nvGrpSpPr>
          <p:grpSpPr>
            <a:xfrm>
              <a:off x="2514600" y="2597760"/>
              <a:ext cx="2954880" cy="2842560"/>
              <a:chOff x="2514600" y="2597760"/>
              <a:chExt cx="2954880" cy="28425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657320" y="4111200"/>
                <a:ext cx="738720" cy="442800"/>
              </a:xfrm>
              <a:custGeom>
                <a:avLst/>
                <a:gdLst>
                  <a:gd name="textAreaLeft" fmla="*/ 153720 w 738720"/>
                  <a:gd name="textAreaRight" fmla="*/ 585000 w 738720"/>
                  <a:gd name="textAreaTop" fmla="*/ 92160 h 442800"/>
                  <a:gd name="textAreaBottom" fmla="*/ 350640 h 44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Rectangle 7"/>
              <p:cNvSpPr/>
              <p:nvPr/>
            </p:nvSpPr>
            <p:spPr>
              <a:xfrm>
                <a:off x="4583160" y="3077640"/>
                <a:ext cx="886320" cy="10335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Line 8"/>
              <p:cNvSpPr/>
              <p:nvPr/>
            </p:nvSpPr>
            <p:spPr>
              <a:xfrm flipH="1" flipV="1">
                <a:off x="4509360" y="3963600"/>
                <a:ext cx="7344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Line 9"/>
              <p:cNvSpPr/>
              <p:nvPr/>
            </p:nvSpPr>
            <p:spPr>
              <a:xfrm flipV="1">
                <a:off x="4509360" y="3003480"/>
                <a:ext cx="0" cy="95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Line 10"/>
              <p:cNvSpPr/>
              <p:nvPr/>
            </p:nvSpPr>
            <p:spPr>
              <a:xfrm>
                <a:off x="4509360" y="3003480"/>
                <a:ext cx="73440" cy="7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Line 11"/>
              <p:cNvSpPr/>
              <p:nvPr/>
            </p:nvSpPr>
            <p:spPr>
              <a:xfrm>
                <a:off x="4509360" y="3003480"/>
                <a:ext cx="886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Line 12"/>
              <p:cNvSpPr/>
              <p:nvPr/>
            </p:nvSpPr>
            <p:spPr>
              <a:xfrm>
                <a:off x="5396040" y="3003480"/>
                <a:ext cx="73440" cy="7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Rectangle 13"/>
              <p:cNvSpPr/>
              <p:nvPr/>
            </p:nvSpPr>
            <p:spPr>
              <a:xfrm>
                <a:off x="4731120" y="3299040"/>
                <a:ext cx="590760" cy="66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Rectangle 14"/>
              <p:cNvSpPr/>
              <p:nvPr/>
            </p:nvSpPr>
            <p:spPr>
              <a:xfrm>
                <a:off x="4731120" y="3299040"/>
                <a:ext cx="73800" cy="66456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Line 15"/>
              <p:cNvSpPr/>
              <p:nvPr/>
            </p:nvSpPr>
            <p:spPr>
              <a:xfrm>
                <a:off x="5100480" y="3520440"/>
                <a:ext cx="720" cy="369000"/>
              </a:xfrm>
              <a:prstGeom prst="line">
                <a:avLst/>
              </a:prstGeom>
              <a:ln w="28440">
                <a:solidFill>
                  <a:srgbClr val="0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Oval 16"/>
              <p:cNvSpPr/>
              <p:nvPr/>
            </p:nvSpPr>
            <p:spPr>
              <a:xfrm>
                <a:off x="5026320" y="3372840"/>
                <a:ext cx="73800" cy="7344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Freeform 17"/>
              <p:cNvSpPr/>
              <p:nvPr/>
            </p:nvSpPr>
            <p:spPr>
              <a:xfrm>
                <a:off x="2514600" y="2597760"/>
                <a:ext cx="2511720" cy="922680"/>
              </a:xfrm>
              <a:custGeom>
                <a:avLst/>
                <a:gdLst/>
                <a:ahLst/>
                <a:rect l="l" t="t" r="r" b="b"/>
                <a:pathLst>
                  <a:path w="2448" h="900">
                    <a:moveTo>
                      <a:pt x="2448" y="396"/>
                    </a:moveTo>
                    <a:cubicBezTo>
                      <a:pt x="2352" y="198"/>
                      <a:pt x="2256" y="0"/>
                      <a:pt x="2016" y="36"/>
                    </a:cubicBezTo>
                    <a:cubicBezTo>
                      <a:pt x="1776" y="72"/>
                      <a:pt x="1344" y="468"/>
                      <a:pt x="1008" y="612"/>
                    </a:cubicBezTo>
                    <a:cubicBezTo>
                      <a:pt x="672" y="756"/>
                      <a:pt x="180" y="852"/>
                      <a:pt x="0" y="9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Rectangle 18"/>
              <p:cNvSpPr/>
              <p:nvPr/>
            </p:nvSpPr>
            <p:spPr>
              <a:xfrm>
                <a:off x="4878720" y="4554360"/>
                <a:ext cx="295200" cy="8859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24" name="Group 19"/>
            <p:cNvGrpSpPr/>
            <p:nvPr/>
          </p:nvGrpSpPr>
          <p:grpSpPr>
            <a:xfrm>
              <a:off x="4286880" y="4234320"/>
              <a:ext cx="1479600" cy="2242080"/>
              <a:chOff x="4286880" y="4234320"/>
              <a:chExt cx="1479600" cy="2242080"/>
            </a:xfrm>
          </p:grpSpPr>
          <p:sp>
            <p:nvSpPr>
              <p:cNvPr id="225" name="AutoShape 20"/>
              <p:cNvSpPr/>
              <p:nvPr/>
            </p:nvSpPr>
            <p:spPr>
              <a:xfrm flipV="1">
                <a:off x="4286880" y="4676760"/>
                <a:ext cx="1404000" cy="443160"/>
              </a:xfrm>
              <a:custGeom>
                <a:avLst/>
                <a:gdLst>
                  <a:gd name="textAreaLeft" fmla="*/ 292320 w 1404000"/>
                  <a:gd name="textAreaRight" fmla="*/ 1111680 w 1404000"/>
                  <a:gd name="textAreaTop" fmla="*/ 92160 h 443160"/>
                  <a:gd name="textAreaBottom" fmla="*/ 351000 h 44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6" name="Freeform 21"/>
              <p:cNvSpPr/>
              <p:nvPr/>
            </p:nvSpPr>
            <p:spPr>
              <a:xfrm>
                <a:off x="4440600" y="6081120"/>
                <a:ext cx="1176480" cy="307800"/>
              </a:xfrm>
              <a:custGeom>
                <a:avLst/>
                <a:gdLst/>
                <a:ahLst/>
                <a:rect l="l" t="t" r="r" b="b"/>
                <a:pathLst>
                  <a:path w="1146" h="300">
                    <a:moveTo>
                      <a:pt x="0" y="165"/>
                    </a:moveTo>
                    <a:cubicBezTo>
                      <a:pt x="118" y="135"/>
                      <a:pt x="239" y="120"/>
                      <a:pt x="360" y="105"/>
                    </a:cubicBezTo>
                    <a:cubicBezTo>
                      <a:pt x="385" y="80"/>
                      <a:pt x="401" y="38"/>
                      <a:pt x="435" y="30"/>
                    </a:cubicBezTo>
                    <a:cubicBezTo>
                      <a:pt x="521" y="10"/>
                      <a:pt x="587" y="36"/>
                      <a:pt x="660" y="60"/>
                    </a:cubicBezTo>
                    <a:cubicBezTo>
                      <a:pt x="700" y="55"/>
                      <a:pt x="741" y="56"/>
                      <a:pt x="780" y="45"/>
                    </a:cubicBezTo>
                    <a:cubicBezTo>
                      <a:pt x="812" y="36"/>
                      <a:pt x="838" y="11"/>
                      <a:pt x="870" y="0"/>
                    </a:cubicBezTo>
                    <a:cubicBezTo>
                      <a:pt x="901" y="93"/>
                      <a:pt x="938" y="76"/>
                      <a:pt x="1035" y="90"/>
                    </a:cubicBezTo>
                    <a:cubicBezTo>
                      <a:pt x="1084" y="106"/>
                      <a:pt x="1146" y="147"/>
                      <a:pt x="1095" y="210"/>
                    </a:cubicBezTo>
                    <a:cubicBezTo>
                      <a:pt x="1085" y="222"/>
                      <a:pt x="1065" y="221"/>
                      <a:pt x="1050" y="225"/>
                    </a:cubicBezTo>
                    <a:cubicBezTo>
                      <a:pt x="986" y="243"/>
                      <a:pt x="919" y="252"/>
                      <a:pt x="855" y="270"/>
                    </a:cubicBezTo>
                    <a:cubicBezTo>
                      <a:pt x="824" y="278"/>
                      <a:pt x="765" y="300"/>
                      <a:pt x="765" y="300"/>
                    </a:cubicBezTo>
                    <a:cubicBezTo>
                      <a:pt x="705" y="295"/>
                      <a:pt x="644" y="295"/>
                      <a:pt x="585" y="285"/>
                    </a:cubicBezTo>
                    <a:cubicBezTo>
                      <a:pt x="538" y="277"/>
                      <a:pt x="497" y="245"/>
                      <a:pt x="450" y="240"/>
                    </a:cubicBezTo>
                    <a:cubicBezTo>
                      <a:pt x="275" y="222"/>
                      <a:pt x="349" y="235"/>
                      <a:pt x="225" y="210"/>
                    </a:cubicBezTo>
                    <a:cubicBezTo>
                      <a:pt x="130" y="147"/>
                      <a:pt x="198" y="181"/>
                      <a:pt x="0" y="165"/>
                    </a:cubicBezTo>
                    <a:close/>
                  </a:path>
                </a:pathLst>
              </a:custGeom>
              <a:solidFill>
                <a:srgbClr val="ffff99">
                  <a:alpha val="59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4286880" y="5146560"/>
                <a:ext cx="1800" cy="118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8" name="Line 23"/>
              <p:cNvSpPr/>
              <p:nvPr/>
            </p:nvSpPr>
            <p:spPr>
              <a:xfrm>
                <a:off x="4286880" y="6327360"/>
                <a:ext cx="59292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" name="Line 24"/>
              <p:cNvSpPr/>
              <p:nvPr/>
            </p:nvSpPr>
            <p:spPr>
              <a:xfrm flipV="1">
                <a:off x="4879800" y="6401520"/>
                <a:ext cx="885960" cy="7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0" name="Line 25"/>
              <p:cNvSpPr/>
              <p:nvPr/>
            </p:nvSpPr>
            <p:spPr>
              <a:xfrm flipV="1">
                <a:off x="4879800" y="5293080"/>
                <a:ext cx="1080" cy="11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1" name="Line 26"/>
              <p:cNvSpPr/>
              <p:nvPr/>
            </p:nvSpPr>
            <p:spPr>
              <a:xfrm flipV="1">
                <a:off x="5765760" y="5218200"/>
                <a:ext cx="720" cy="118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2" name="Freeform 27"/>
              <p:cNvSpPr/>
              <p:nvPr/>
            </p:nvSpPr>
            <p:spPr>
              <a:xfrm>
                <a:off x="4287600" y="5046840"/>
                <a:ext cx="591120" cy="245880"/>
              </a:xfrm>
              <a:custGeom>
                <a:avLst/>
                <a:gdLst/>
                <a:ahLst/>
                <a:rect l="l" t="t" r="r" b="b"/>
                <a:pathLst>
                  <a:path w="576" h="240">
                    <a:moveTo>
                      <a:pt x="0" y="96"/>
                    </a:moveTo>
                    <a:cubicBezTo>
                      <a:pt x="96" y="48"/>
                      <a:pt x="192" y="0"/>
                      <a:pt x="288" y="24"/>
                    </a:cubicBezTo>
                    <a:cubicBezTo>
                      <a:pt x="384" y="48"/>
                      <a:pt x="528" y="204"/>
                      <a:pt x="576" y="240"/>
                    </a:cubicBezTo>
                  </a:path>
                </a:pathLst>
              </a:cu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3" name="Freeform 28"/>
              <p:cNvSpPr/>
              <p:nvPr/>
            </p:nvSpPr>
            <p:spPr>
              <a:xfrm>
                <a:off x="4879080" y="5071680"/>
                <a:ext cx="886680" cy="221400"/>
              </a:xfrm>
              <a:custGeom>
                <a:avLst/>
                <a:gdLst/>
                <a:ahLst/>
                <a:rect l="l" t="t" r="r" b="b"/>
                <a:pathLst>
                  <a:path w="864" h="228">
                    <a:moveTo>
                      <a:pt x="0" y="228"/>
                    </a:moveTo>
                    <a:cubicBezTo>
                      <a:pt x="108" y="126"/>
                      <a:pt x="216" y="24"/>
                      <a:pt x="360" y="12"/>
                    </a:cubicBezTo>
                    <a:cubicBezTo>
                      <a:pt x="504" y="0"/>
                      <a:pt x="684" y="78"/>
                      <a:pt x="864" y="156"/>
                    </a:cubicBezTo>
                  </a:path>
                </a:pathLst>
              </a:cu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4" name="Rectangle 29"/>
              <p:cNvSpPr/>
              <p:nvPr/>
            </p:nvSpPr>
            <p:spPr>
              <a:xfrm>
                <a:off x="4656240" y="4603680"/>
                <a:ext cx="739080" cy="734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" name="Rectangle 30"/>
              <p:cNvSpPr/>
              <p:nvPr/>
            </p:nvSpPr>
            <p:spPr>
              <a:xfrm>
                <a:off x="4730040" y="4455720"/>
                <a:ext cx="591120" cy="147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" name="Rectangle 31"/>
              <p:cNvSpPr/>
              <p:nvPr/>
            </p:nvSpPr>
            <p:spPr>
              <a:xfrm>
                <a:off x="4730040" y="4308120"/>
                <a:ext cx="591120" cy="1476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" name="Rectangle 32"/>
              <p:cNvSpPr/>
              <p:nvPr/>
            </p:nvSpPr>
            <p:spPr>
              <a:xfrm>
                <a:off x="4656240" y="4234320"/>
                <a:ext cx="739080" cy="7380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" name="Line 33"/>
              <p:cNvSpPr/>
              <p:nvPr/>
            </p:nvSpPr>
            <p:spPr>
              <a:xfrm flipV="1">
                <a:off x="4286880" y="4677120"/>
                <a:ext cx="443160" cy="44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9" name="Line 34"/>
              <p:cNvSpPr/>
              <p:nvPr/>
            </p:nvSpPr>
            <p:spPr>
              <a:xfrm flipH="1" flipV="1">
                <a:off x="5321160" y="4677480"/>
                <a:ext cx="443160" cy="51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0" name="Rectangle 35"/>
              <p:cNvSpPr/>
              <p:nvPr/>
            </p:nvSpPr>
            <p:spPr>
              <a:xfrm>
                <a:off x="4878000" y="5268600"/>
                <a:ext cx="886680" cy="118188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1" name="Rectangle 36"/>
              <p:cNvSpPr/>
              <p:nvPr/>
            </p:nvSpPr>
            <p:spPr>
              <a:xfrm>
                <a:off x="4286880" y="5120640"/>
                <a:ext cx="591120" cy="125604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42" name="Text Box 37"/>
            <p:cNvSpPr/>
            <p:nvPr/>
          </p:nvSpPr>
          <p:spPr>
            <a:xfrm>
              <a:off x="5748840" y="2413080"/>
              <a:ext cx="14036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CO</a:t>
              </a:r>
              <a:r>
                <a:rPr b="0" lang="en-US" sz="800" spc="-1" strike="noStrike" baseline="-25000">
                  <a:solidFill>
                    <a:srgbClr val="ffffff"/>
                  </a:solidFill>
                  <a:latin typeface="Verdana"/>
                </a:rPr>
                <a:t>2</a:t>
              </a:r>
              <a:r>
                <a:rPr b="0" lang="en-US" sz="800" spc="-1" strike="noStrike">
                  <a:solidFill>
                    <a:srgbClr val="ffffff"/>
                  </a:solidFill>
                  <a:latin typeface="Verdana"/>
                </a:rPr>
                <a:t> Gas Sensor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ab Procedur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ubate the yeast solution in a 37 – 40 water ba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bel the five test tubes G, C, F, M, and 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ur 2.5 mL of Gatorade into the test tube labeled 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Coke into the test tube labeled 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fruit juice into the test tube labeled 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milk into the test tube labeled 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ur 2.5 mL of water into the test tube labeled 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ghtly stir the yeast suspension to mix the yeast that settled to the bottom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t 2.5 mL of the yeast suspension into all five of the test tube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n incubate the test tubes for 10 minutes in the water bath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ce the Gas Sensor, and start collecting the data. for 4 minut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- The Marathon -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somebody challenged you to a run a race, how should you prepare to win?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ct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t the right foo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rink the right liqu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295280" y="1371600"/>
            <a:ext cx="6705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ll living organisms break down sugars to get energy. In humans this breakdown usually occurs with oxygen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im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590920" y="2133720"/>
            <a:ext cx="5790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o understand how Aerobic    and Anaerobic Respiration Occurs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WBAT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arn how the type of sugar affects the rate of respir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arn how the concentration of sugar affects the amount of energy produc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termine the rate of respiration while using yeast to breakdown different suga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Aerobic Respiratio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breaking down of sugar to produce energy where oxygen is present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9" name="Object 5"/>
          <p:cNvGraphicFramePr/>
          <p:nvPr/>
        </p:nvGraphicFramePr>
        <p:xfrm>
          <a:off x="1143000" y="3124080"/>
          <a:ext cx="6620040" cy="5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124080"/>
                    <a:ext cx="6620040" cy="5065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1" name="Rectangle 6"/>
          <p:cNvSpPr/>
          <p:nvPr/>
        </p:nvSpPr>
        <p:spPr>
          <a:xfrm>
            <a:off x="1143000" y="4038480"/>
            <a:ext cx="66294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ucose + Oxyge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rbon Dioxide + Water+ Ener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en We Exercise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990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ter two minutes of exercise, the body responds by supplying working muscles with oxyge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oxygen is present, glucose can be completely broken down into carbon dioxide and water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5" descr="j0301480"/>
          <p:cNvPicPr/>
          <p:nvPr/>
        </p:nvPicPr>
        <p:blipFill>
          <a:blip r:embed="rId4"/>
          <a:stretch/>
        </p:blipFill>
        <p:spPr>
          <a:xfrm>
            <a:off x="5668920" y="3386160"/>
            <a:ext cx="1798560" cy="1338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j0299763"/>
          <p:cNvPicPr/>
          <p:nvPr/>
        </p:nvPicPr>
        <p:blipFill>
          <a:blip r:embed="rId5"/>
          <a:stretch/>
        </p:blipFill>
        <p:spPr>
          <a:xfrm>
            <a:off x="3430440" y="3448080"/>
            <a:ext cx="1827360" cy="1504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j0183168"/>
          <p:cNvPicPr/>
          <p:nvPr/>
        </p:nvPicPr>
        <p:blipFill>
          <a:blip r:embed="rId6"/>
          <a:stretch/>
        </p:blipFill>
        <p:spPr>
          <a:xfrm>
            <a:off x="2517840" y="4964040"/>
            <a:ext cx="1901880" cy="1665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j0199036"/>
          <p:cNvPicPr/>
          <p:nvPr/>
        </p:nvPicPr>
        <p:blipFill>
          <a:blip r:embed="rId7"/>
          <a:stretch/>
        </p:blipFill>
        <p:spPr>
          <a:xfrm>
            <a:off x="1371600" y="3429000"/>
            <a:ext cx="1569960" cy="173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j0293844"/>
          <p:cNvPicPr/>
          <p:nvPr/>
        </p:nvPicPr>
        <p:blipFill>
          <a:blip r:embed="rId8"/>
          <a:stretch/>
        </p:blipFill>
        <p:spPr>
          <a:xfrm>
            <a:off x="4815000" y="4878360"/>
            <a:ext cx="1738080" cy="182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naerobic Respiration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refers to the oxidation of molecules in the absence of oxygen to produce energy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also know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 Ferment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2286000" y="1981080"/>
            <a:ext cx="5562720" cy="35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Muscle Cell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During extraneous activities, the oxygen in the muscle tissue is decreased to an extent that aerobic respiration does not occur at a sufficient rate. Hence, there is a buildup of lactic acid and your muscles get tire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 Yeas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The fermentation end product is ethyl alcohol, and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228600" y="5335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at happens when fermentation occurs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3:48:36Z</dcterms:created>
  <dc:creator>PolyUser</dc:creator>
  <dc:description/>
  <dc:language>en-US</dc:language>
  <cp:lastModifiedBy>RomaK</cp:lastModifiedBy>
  <dcterms:modified xsi:type="dcterms:W3CDTF">2015-09-04T11:06:44Z</dcterms:modified>
  <cp:revision>6</cp:revision>
  <dc:subject/>
  <dc:title>Aerobic/Anaerobic Respiration</dc:title>
</cp:coreProperties>
</file>