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E155-0123-4B7D-82B2-95C87DDDA4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blood 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the blood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water dru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s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w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mall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rge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lute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blood 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the blood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water dru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s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w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mall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rge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lute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the screen icon below to run the tu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n click the mouse button to make it play thr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the screen icon below to run the tu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n click the mouse button to make it play thr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nd animals need to conserv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the external environment is usually drier than the internal environment of the animal’s body. Thus, water will tend to diffuse away from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lso a need to excrete waste products such as urea, which is dissolved in water. This creates a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mmals, the kidneys are responsible for both excretion of urea and osmoregulation (the control of body fluid concent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the kidney must balance the need to excrete with the need to conserve water, in other words it must produce a small volume of highly concentrated u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nd animals need to conserv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the external environment is usually drier than the internal environment of the animal’s body. Thus, water will tend to diffuse away from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lso a need to excrete waste products such as urea, which is dissolved in water. This creates a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mmals, the kidneys are responsible for both excretion of urea and osmoregulation (the control of body fluid concent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the kidney must balance the need to excrete with the need to conserve water, in other words it must produce a small volume of highly concentrated u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erating unit of the kidney is called the neph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1 million nephrons in each of the 2 kidne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ephron comprises 5 seg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mer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imal (first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 of Hen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l (second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 of Henle allows mammals to produce urine which is more concentrated than body fluids…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erating unit of the kidney is called the neph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1 million nephrons in each of the 2 kidne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ephron comprises 5 seg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mer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imal (first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 of Hen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l (second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 of Henle allows mammals to produce urine which is more concentrated than body fluids…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phrons are packed into the kidne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meruli and convoluted tubules in the corte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s and collecting ducts extending into the medu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collecting ducts eventually join up to form the uret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ing urine into the bladder and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phrons are packed into the kidne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meruli and convoluted tubules in the corte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s and collecting ducts extending into the medu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collecting ducts eventually join up to form the uret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ing urine into the bladder and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 leaves - ion concentration in filtrate in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rate reaches maximum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ide ions out (sodium follows) -ion concentration in filtrate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leaves - ion concentration in filtrate in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e reaches maximum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ide ions out (sodium follows) -ion concentration in filtrate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nephrons empty into one collecting 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lecting duct passes through the progressively more concentrated medulla, losing water by osmosis. This water is reabsorbed by the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ter is conserved, and a highly concentrated urine is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reabsorbed into vasa recta, urine becomes more concen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nephrons empty into one collecting 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lecting duct passes through the progressively more concentrated medulla, losing water by osmosis. This water is reabsorbed by the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ter is conserved, and a highly concentrated urine is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reabsorbed into vasa recta, urine becomes more concen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 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gth of the loop of Henle is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nvironment that the animal lives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er loop will conserve more water, 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in drier environments have l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 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gth of the loop of Henle is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nvironment that the animal lives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er loop will conserve more water, 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in drier environments have l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est yoursel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warned - this test requires you to understand everything that goes on in the 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for the faint-hear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f the test doesn’t appear straight away, click on ‘Reload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est yoursel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warned - this test requires you to understand everything that goes on in the 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for the faint-hear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f the test doesn’t appear straight away, click on ‘Reload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D8F3-F9F5-4B09-9674-0B01C6F9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6A17-9C05-4D8E-B52E-16EDD4E8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A208-B93A-454B-AFEB-7C9A4CAF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453B-651D-4877-8DB8-6F90D65D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AD22-9AD6-41E5-8D56-3E720606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20E9-5C96-4E45-8005-D0B87DE0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06FB-E611-48EC-9E48-44FA16E1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C6D-3372-4760-96B1-5322E433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5DB4-196E-456F-907D-99C40352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FDD3-7B8B-484D-95F6-91584C70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0EA7-975A-42F6-8CE1-D9FABAC8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6DFC-9024-4F9B-8B08-3FEF251A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5D92-1B55-49BE-9613-130A72A05F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loopquiz.htm" TargetMode="External"/><Relationship Id="rId2" Type="http://schemas.openxmlformats.org/officeDocument/2006/relationships/hyperlink" Target="file:///loopquiz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510360" y="3048120"/>
            <a:ext cx="21070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ater cont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f the blood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486400" y="380880"/>
            <a:ext cx="1981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ter content of the blood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371600" y="457200"/>
            <a:ext cx="1905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ter content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blood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 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114800" y="2057400"/>
            <a:ext cx="3216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AutoShape 11"/>
          <p:cNvCxnSpPr>
            <a:stCxn id="48" idx="0"/>
            <a:endCxn id="49" idx="1"/>
          </p:cNvCxnSpPr>
          <p:nvPr/>
        </p:nvCxnSpPr>
        <p:spPr>
          <a:xfrm flipH="1" flipV="1" rot="5400000">
            <a:off x="3851640" y="1413720"/>
            <a:ext cx="2346480" cy="9230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Text Box 12"/>
          <p:cNvSpPr/>
          <p:nvPr/>
        </p:nvSpPr>
        <p:spPr>
          <a:xfrm>
            <a:off x="4572000" y="1295280"/>
            <a:ext cx="327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oo much water d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AutoShape 15"/>
          <p:cNvCxnSpPr>
            <a:stCxn id="48" idx="0"/>
            <a:endCxn id="50" idx="3"/>
          </p:cNvCxnSpPr>
          <p:nvPr/>
        </p:nvCxnSpPr>
        <p:spPr>
          <a:xfrm flipV="1" rot="16200000">
            <a:off x="2785320" y="1269360"/>
            <a:ext cx="2270160" cy="12873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Text Box 16"/>
          <p:cNvSpPr/>
          <p:nvPr/>
        </p:nvSpPr>
        <p:spPr>
          <a:xfrm>
            <a:off x="3126960" y="1676520"/>
            <a:ext cx="1410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oo much 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r swe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0" y="2743200"/>
            <a:ext cx="129528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rain p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AutoShape 19"/>
          <p:cNvCxnSpPr>
            <a:stCxn id="50" idx="1"/>
            <a:endCxn id="56" idx="0"/>
          </p:cNvCxnSpPr>
          <p:nvPr/>
        </p:nvCxnSpPr>
        <p:spPr>
          <a:xfrm flipV="1" rot="10800000">
            <a:off x="647280" y="778320"/>
            <a:ext cx="724320" cy="19652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Text Box 20"/>
          <p:cNvSpPr/>
          <p:nvPr/>
        </p:nvSpPr>
        <p:spPr>
          <a:xfrm>
            <a:off x="1683360" y="5334120"/>
            <a:ext cx="13449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AutoShape 22"/>
          <p:cNvCxnSpPr>
            <a:stCxn id="56" idx="2"/>
            <a:endCxn id="58" idx="1"/>
          </p:cNvCxnSpPr>
          <p:nvPr/>
        </p:nvCxnSpPr>
        <p:spPr>
          <a:xfrm flipH="1" rot="16200000">
            <a:off x="167760" y="4139640"/>
            <a:ext cx="1995480" cy="10360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23"/>
          <p:cNvCxnSpPr>
            <a:stCxn id="58" idx="3"/>
            <a:endCxn id="48" idx="2"/>
          </p:cNvCxnSpPr>
          <p:nvPr/>
        </p:nvCxnSpPr>
        <p:spPr>
          <a:xfrm flipV="1">
            <a:off x="3028320" y="3690720"/>
            <a:ext cx="1535760" cy="19648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Text Box 24"/>
          <p:cNvSpPr/>
          <p:nvPr/>
        </p:nvSpPr>
        <p:spPr>
          <a:xfrm>
            <a:off x="7816680" y="2895480"/>
            <a:ext cx="1327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rain produ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5872680" y="5257800"/>
            <a:ext cx="13449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AutoShape 29"/>
          <p:cNvCxnSpPr>
            <a:stCxn id="49" idx="3"/>
            <a:endCxn id="61" idx="0"/>
          </p:cNvCxnSpPr>
          <p:nvPr/>
        </p:nvCxnSpPr>
        <p:spPr>
          <a:xfrm>
            <a:off x="7467480" y="702000"/>
            <a:ext cx="1013040" cy="21938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AutoShape 30"/>
          <p:cNvCxnSpPr>
            <a:stCxn id="61" idx="2"/>
            <a:endCxn id="62" idx="3"/>
          </p:cNvCxnSpPr>
          <p:nvPr/>
        </p:nvCxnSpPr>
        <p:spPr>
          <a:xfrm rot="5400000">
            <a:off x="6965280" y="4064400"/>
            <a:ext cx="1766880" cy="12628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31"/>
          <p:cNvCxnSpPr>
            <a:stCxn id="62" idx="1"/>
            <a:endCxn id="48" idx="2"/>
          </p:cNvCxnSpPr>
          <p:nvPr/>
        </p:nvCxnSpPr>
        <p:spPr>
          <a:xfrm rot="10800000">
            <a:off x="4563720" y="3690360"/>
            <a:ext cx="1309320" cy="18885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Text Box 32"/>
          <p:cNvSpPr/>
          <p:nvPr/>
        </p:nvSpPr>
        <p:spPr>
          <a:xfrm>
            <a:off x="215640" y="4253040"/>
            <a:ext cx="2064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High volume of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6860880" y="4191120"/>
            <a:ext cx="2064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ow volume of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1452960" y="6019920"/>
            <a:ext cx="194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small volum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centrated ur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5"/>
          <p:cNvSpPr/>
          <p:nvPr/>
        </p:nvSpPr>
        <p:spPr>
          <a:xfrm>
            <a:off x="5719320" y="6019920"/>
            <a:ext cx="164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large volum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ilute ur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6" descr="http://www.cogneuro.ox.ac.uk/images/brain.gif"/>
          <p:cNvPicPr/>
          <p:nvPr/>
        </p:nvPicPr>
        <p:blipFill>
          <a:blip r:embed="rId1"/>
          <a:stretch/>
        </p:blipFill>
        <p:spPr>
          <a:xfrm>
            <a:off x="0" y="1447920"/>
            <a:ext cx="1419120" cy="990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8" descr="http://www.cogneuro.ox.ac.uk/images/brain.gif"/>
          <p:cNvPicPr/>
          <p:nvPr/>
        </p:nvPicPr>
        <p:blipFill>
          <a:blip r:embed="rId2"/>
          <a:stretch/>
        </p:blipFill>
        <p:spPr>
          <a:xfrm>
            <a:off x="7724880" y="1600200"/>
            <a:ext cx="1419120" cy="990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1"/>
          <p:cNvSpPr/>
          <p:nvPr/>
        </p:nvSpPr>
        <p:spPr>
          <a:xfrm>
            <a:off x="2666880" y="9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9" descr="http://www.uky.edu/LCC/BSN/BIO/BiologyLabs/BSL111/111Lab6/Lab6Images/KidneyModel-Kidney.jpg"/>
          <p:cNvPicPr/>
          <p:nvPr/>
        </p:nvPicPr>
        <p:blipFill>
          <a:blip r:embed="rId3"/>
          <a:stretch/>
        </p:blipFill>
        <p:spPr>
          <a:xfrm>
            <a:off x="2362320" y="4343400"/>
            <a:ext cx="69192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2" descr="http://www.uky.edu/LCC/BSN/BIO/BiologyLabs/BSL111/111Lab6/Lab6Images/KidneyModel-Kidney.jpg"/>
          <p:cNvPicPr/>
          <p:nvPr/>
        </p:nvPicPr>
        <p:blipFill>
          <a:blip r:embed="rId4"/>
          <a:stretch/>
        </p:blipFill>
        <p:spPr>
          <a:xfrm>
            <a:off x="5943600" y="4267080"/>
            <a:ext cx="692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600200" y="1828800"/>
            <a:ext cx="5638680" cy="35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Click on the screen icon below to run the tutor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then click the mouse button to make it play throug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457200" y="762120"/>
            <a:ext cx="5562720" cy="2850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land animals need 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nserve wa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is because the external environment is usually drier than the internal environment of the animal’s body. Thus, water will tend to diffus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wa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rom the bo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re is also a need to excrete waste products such as urea, which i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issolved in wa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This creates a problem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286000" y="3962520"/>
            <a:ext cx="6477120" cy="2082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mammals, the kidneys are responsible for both excretion of ure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smoregulation (the control of body fluid concentrati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, the kidney must balance the need to excrete with the need to conserve water, in other words it must produce 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mall volume of highly concentra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ur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4"/>
          <p:cNvSpPr/>
          <p:nvPr/>
        </p:nvSpPr>
        <p:spPr>
          <a:xfrm>
            <a:off x="380880" y="3886200"/>
            <a:ext cx="1600200" cy="2590920"/>
          </a:xfrm>
          <a:custGeom>
            <a:avLst/>
            <a:gdLst/>
            <a:ahLst/>
            <a:rect l="l" t="t" r="r" b="b"/>
            <a:pathLst>
              <a:path w="1536" h="2304">
                <a:moveTo>
                  <a:pt x="576" y="912"/>
                </a:moveTo>
                <a:lnTo>
                  <a:pt x="384" y="816"/>
                </a:lnTo>
                <a:lnTo>
                  <a:pt x="240" y="624"/>
                </a:lnTo>
                <a:lnTo>
                  <a:pt x="240" y="336"/>
                </a:lnTo>
                <a:lnTo>
                  <a:pt x="384" y="144"/>
                </a:lnTo>
                <a:lnTo>
                  <a:pt x="624" y="0"/>
                </a:lnTo>
                <a:lnTo>
                  <a:pt x="960" y="0"/>
                </a:lnTo>
                <a:lnTo>
                  <a:pt x="1152" y="144"/>
                </a:lnTo>
                <a:lnTo>
                  <a:pt x="1392" y="432"/>
                </a:lnTo>
                <a:lnTo>
                  <a:pt x="1488" y="816"/>
                </a:lnTo>
                <a:lnTo>
                  <a:pt x="1536" y="1200"/>
                </a:lnTo>
                <a:lnTo>
                  <a:pt x="1488" y="1584"/>
                </a:lnTo>
                <a:lnTo>
                  <a:pt x="1344" y="2064"/>
                </a:lnTo>
                <a:lnTo>
                  <a:pt x="1056" y="2256"/>
                </a:lnTo>
                <a:lnTo>
                  <a:pt x="672" y="2304"/>
                </a:lnTo>
                <a:lnTo>
                  <a:pt x="384" y="2256"/>
                </a:lnTo>
                <a:lnTo>
                  <a:pt x="96" y="2016"/>
                </a:lnTo>
                <a:lnTo>
                  <a:pt x="0" y="1728"/>
                </a:lnTo>
                <a:lnTo>
                  <a:pt x="48" y="1392"/>
                </a:lnTo>
                <a:lnTo>
                  <a:pt x="288" y="1248"/>
                </a:lnTo>
                <a:lnTo>
                  <a:pt x="480" y="1104"/>
                </a:lnTo>
                <a:lnTo>
                  <a:pt x="576" y="91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295280" y="762120"/>
            <a:ext cx="6172200" cy="5677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perating unit of the kidney is called the neph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about 1 million nephrons in each of the 2 kidn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nephron comprises 5 seg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lomer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ximal (first) convoluted tub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op of Hen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l (second) convoluted tub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oop of Henle allows mammals to produce urine which is more concentrated than body fluids…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990720" y="1219320"/>
            <a:ext cx="1980360" cy="2209680"/>
            <a:chOff x="990720" y="1219320"/>
            <a:chExt cx="1980360" cy="2209680"/>
          </a:xfrm>
        </p:grpSpPr>
        <p:grpSp>
          <p:nvGrpSpPr>
            <p:cNvPr id="81" name="Group 3"/>
            <p:cNvGrpSpPr/>
            <p:nvPr/>
          </p:nvGrpSpPr>
          <p:grpSpPr>
            <a:xfrm>
              <a:off x="990720" y="1252800"/>
              <a:ext cx="900000" cy="2176200"/>
              <a:chOff x="990720" y="1252800"/>
              <a:chExt cx="900000" cy="2176200"/>
            </a:xfrm>
          </p:grpSpPr>
          <p:grpSp>
            <p:nvGrpSpPr>
              <p:cNvPr id="82" name="Group 4"/>
              <p:cNvGrpSpPr/>
              <p:nvPr/>
            </p:nvGrpSpPr>
            <p:grpSpPr>
              <a:xfrm>
                <a:off x="990720" y="1464120"/>
                <a:ext cx="344880" cy="1602000"/>
                <a:chOff x="990720" y="1464120"/>
                <a:chExt cx="344880" cy="1602000"/>
              </a:xfrm>
            </p:grpSpPr>
            <p:sp>
              <p:nvSpPr>
                <p:cNvPr id="83" name="Freeform 5"/>
                <p:cNvSpPr/>
                <p:nvPr/>
              </p:nvSpPr>
              <p:spPr>
                <a:xfrm>
                  <a:off x="990720" y="146412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AutoShape 6"/>
                <p:cNvSpPr/>
                <p:nvPr/>
              </p:nvSpPr>
              <p:spPr>
                <a:xfrm rot="12670800">
                  <a:off x="1076760" y="279144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AutoShape 7"/>
                <p:cNvSpPr/>
                <p:nvPr/>
              </p:nvSpPr>
              <p:spPr>
                <a:xfrm rot="9210600">
                  <a:off x="1203480" y="276840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AutoShape 8"/>
                <p:cNvSpPr/>
                <p:nvPr/>
              </p:nvSpPr>
              <p:spPr>
                <a:xfrm rot="5725200">
                  <a:off x="1171080" y="25243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AutoShape 9"/>
                <p:cNvSpPr/>
                <p:nvPr/>
              </p:nvSpPr>
              <p:spPr>
                <a:xfrm rot="5309400">
                  <a:off x="1171080" y="22266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AutoShape 10"/>
                <p:cNvSpPr/>
                <p:nvPr/>
              </p:nvSpPr>
              <p:spPr>
                <a:xfrm rot="5355000">
                  <a:off x="1171080" y="19062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AutoShape 11"/>
                <p:cNvSpPr/>
                <p:nvPr/>
              </p:nvSpPr>
              <p:spPr>
                <a:xfrm rot="5361600">
                  <a:off x="1171080" y="1608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AutoShape 12"/>
                <p:cNvSpPr/>
                <p:nvPr/>
              </p:nvSpPr>
              <p:spPr>
                <a:xfrm rot="16161600">
                  <a:off x="911160" y="16311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AutoShape 13"/>
                <p:cNvSpPr/>
                <p:nvPr/>
              </p:nvSpPr>
              <p:spPr>
                <a:xfrm rot="16161600">
                  <a:off x="911160" y="1905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AutoShape 14"/>
                <p:cNvSpPr/>
                <p:nvPr/>
              </p:nvSpPr>
              <p:spPr>
                <a:xfrm rot="16161600">
                  <a:off x="911160" y="22262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AutoShape 15"/>
                <p:cNvSpPr/>
                <p:nvPr/>
              </p:nvSpPr>
              <p:spPr>
                <a:xfrm rot="16161600">
                  <a:off x="911160" y="25239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Group 16"/>
              <p:cNvGrpSpPr/>
              <p:nvPr/>
            </p:nvGrpSpPr>
            <p:grpSpPr>
              <a:xfrm>
                <a:off x="1545840" y="1494360"/>
                <a:ext cx="344880" cy="1602000"/>
                <a:chOff x="1545840" y="1494360"/>
                <a:chExt cx="344880" cy="1602000"/>
              </a:xfrm>
            </p:grpSpPr>
            <p:sp>
              <p:nvSpPr>
                <p:cNvPr id="95" name="Freeform 17"/>
                <p:cNvSpPr/>
                <p:nvPr/>
              </p:nvSpPr>
              <p:spPr>
                <a:xfrm flipH="1">
                  <a:off x="1550880" y="149436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AutoShape 18"/>
                <p:cNvSpPr/>
                <p:nvPr/>
              </p:nvSpPr>
              <p:spPr>
                <a:xfrm flipH="1" rot="8929200">
                  <a:off x="1731600" y="282168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AutoShape 19"/>
                <p:cNvSpPr/>
                <p:nvPr/>
              </p:nvSpPr>
              <p:spPr>
                <a:xfrm flipH="1" rot="12389400">
                  <a:off x="1604520" y="279900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AutoShape 20"/>
                <p:cNvSpPr/>
                <p:nvPr/>
              </p:nvSpPr>
              <p:spPr>
                <a:xfrm flipH="1" rot="15874800">
                  <a:off x="1457640" y="25545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AutoShape 21"/>
                <p:cNvSpPr/>
                <p:nvPr/>
              </p:nvSpPr>
              <p:spPr>
                <a:xfrm flipH="1" rot="16290600">
                  <a:off x="1458360" y="2256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AutoShape 22"/>
                <p:cNvSpPr/>
                <p:nvPr/>
              </p:nvSpPr>
              <p:spPr>
                <a:xfrm flipH="1" rot="16245000">
                  <a:off x="1458360" y="19364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AutoShape 23"/>
                <p:cNvSpPr/>
                <p:nvPr/>
              </p:nvSpPr>
              <p:spPr>
                <a:xfrm flipH="1" rot="16238400">
                  <a:off x="1458360" y="16390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AutoShape 24"/>
                <p:cNvSpPr/>
                <p:nvPr/>
              </p:nvSpPr>
              <p:spPr>
                <a:xfrm flipH="1" rot="5438400">
                  <a:off x="1718280" y="16614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AutoShape 25"/>
                <p:cNvSpPr/>
                <p:nvPr/>
              </p:nvSpPr>
              <p:spPr>
                <a:xfrm flipH="1" rot="5438400">
                  <a:off x="1718280" y="19360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AutoShape 26"/>
                <p:cNvSpPr/>
                <p:nvPr/>
              </p:nvSpPr>
              <p:spPr>
                <a:xfrm flipH="1" rot="5438400">
                  <a:off x="1718280" y="22564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AutoShape 27"/>
                <p:cNvSpPr/>
                <p:nvPr/>
              </p:nvSpPr>
              <p:spPr>
                <a:xfrm flipH="1" rot="5438400">
                  <a:off x="1718280" y="25542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" name="Freeform 28"/>
              <p:cNvSpPr/>
              <p:nvPr/>
            </p:nvSpPr>
            <p:spPr>
              <a:xfrm>
                <a:off x="1271160" y="1252800"/>
                <a:ext cx="280440" cy="2176200"/>
              </a:xfrm>
              <a:custGeom>
                <a:avLst/>
                <a:gdLst/>
                <a:ahLst/>
                <a:rect l="l" t="t" r="r" b="b"/>
                <a:pathLst>
                  <a:path w="912" h="3456">
                    <a:moveTo>
                      <a:pt x="288" y="0"/>
                    </a:moveTo>
                    <a:lnTo>
                      <a:pt x="288" y="336"/>
                    </a:lnTo>
                    <a:lnTo>
                      <a:pt x="336" y="624"/>
                    </a:lnTo>
                    <a:lnTo>
                      <a:pt x="288" y="912"/>
                    </a:lnTo>
                    <a:lnTo>
                      <a:pt x="192" y="672"/>
                    </a:lnTo>
                    <a:lnTo>
                      <a:pt x="192" y="768"/>
                    </a:lnTo>
                    <a:lnTo>
                      <a:pt x="336" y="1152"/>
                    </a:lnTo>
                    <a:lnTo>
                      <a:pt x="384" y="1392"/>
                    </a:lnTo>
                    <a:lnTo>
                      <a:pt x="384" y="1680"/>
                    </a:lnTo>
                    <a:lnTo>
                      <a:pt x="336" y="1968"/>
                    </a:lnTo>
                    <a:lnTo>
                      <a:pt x="192" y="1728"/>
                    </a:lnTo>
                    <a:lnTo>
                      <a:pt x="192" y="1824"/>
                    </a:lnTo>
                    <a:lnTo>
                      <a:pt x="336" y="2112"/>
                    </a:lnTo>
                    <a:lnTo>
                      <a:pt x="336" y="2496"/>
                    </a:lnTo>
                    <a:lnTo>
                      <a:pt x="240" y="2880"/>
                    </a:lnTo>
                    <a:lnTo>
                      <a:pt x="144" y="3072"/>
                    </a:lnTo>
                    <a:lnTo>
                      <a:pt x="0" y="2928"/>
                    </a:lnTo>
                    <a:lnTo>
                      <a:pt x="0" y="3456"/>
                    </a:lnTo>
                    <a:lnTo>
                      <a:pt x="624" y="3312"/>
                    </a:lnTo>
                    <a:lnTo>
                      <a:pt x="432" y="3216"/>
                    </a:lnTo>
                    <a:lnTo>
                      <a:pt x="528" y="2448"/>
                    </a:lnTo>
                    <a:lnTo>
                      <a:pt x="912" y="2112"/>
                    </a:lnTo>
                    <a:lnTo>
                      <a:pt x="912" y="2016"/>
                    </a:lnTo>
                    <a:lnTo>
                      <a:pt x="528" y="2352"/>
                    </a:lnTo>
                    <a:lnTo>
                      <a:pt x="576" y="1728"/>
                    </a:lnTo>
                    <a:lnTo>
                      <a:pt x="576" y="1488"/>
                    </a:lnTo>
                    <a:lnTo>
                      <a:pt x="912" y="1056"/>
                    </a:lnTo>
                    <a:lnTo>
                      <a:pt x="912" y="960"/>
                    </a:lnTo>
                    <a:lnTo>
                      <a:pt x="576" y="1392"/>
                    </a:lnTo>
                    <a:lnTo>
                      <a:pt x="480" y="960"/>
                    </a:lnTo>
                    <a:lnTo>
                      <a:pt x="528" y="576"/>
                    </a:lnTo>
                    <a:lnTo>
                      <a:pt x="432" y="0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7d8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9"/>
            <p:cNvGrpSpPr/>
            <p:nvPr/>
          </p:nvGrpSpPr>
          <p:grpSpPr>
            <a:xfrm>
              <a:off x="2071080" y="1219320"/>
              <a:ext cx="900000" cy="2176200"/>
              <a:chOff x="2071080" y="1219320"/>
              <a:chExt cx="900000" cy="2176200"/>
            </a:xfrm>
          </p:grpSpPr>
          <p:grpSp>
            <p:nvGrpSpPr>
              <p:cNvPr id="108" name="Group 30"/>
              <p:cNvGrpSpPr/>
              <p:nvPr/>
            </p:nvGrpSpPr>
            <p:grpSpPr>
              <a:xfrm>
                <a:off x="2071080" y="1430640"/>
                <a:ext cx="344880" cy="1602000"/>
                <a:chOff x="2071080" y="1430640"/>
                <a:chExt cx="344880" cy="1602000"/>
              </a:xfrm>
            </p:grpSpPr>
            <p:sp>
              <p:nvSpPr>
                <p:cNvPr id="109" name="Freeform 31"/>
                <p:cNvSpPr/>
                <p:nvPr/>
              </p:nvSpPr>
              <p:spPr>
                <a:xfrm>
                  <a:off x="2071080" y="143064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AutoShape 32"/>
                <p:cNvSpPr/>
                <p:nvPr/>
              </p:nvSpPr>
              <p:spPr>
                <a:xfrm rot="12670800">
                  <a:off x="2157120" y="275796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AutoShape 33"/>
                <p:cNvSpPr/>
                <p:nvPr/>
              </p:nvSpPr>
              <p:spPr>
                <a:xfrm rot="9210600">
                  <a:off x="2283840" y="273492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AutoShape 34"/>
                <p:cNvSpPr/>
                <p:nvPr/>
              </p:nvSpPr>
              <p:spPr>
                <a:xfrm rot="5725200">
                  <a:off x="2251440" y="2490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AutoShape 35"/>
                <p:cNvSpPr/>
                <p:nvPr/>
              </p:nvSpPr>
              <p:spPr>
                <a:xfrm rot="5309400">
                  <a:off x="2251440" y="21931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AutoShape 36"/>
                <p:cNvSpPr/>
                <p:nvPr/>
              </p:nvSpPr>
              <p:spPr>
                <a:xfrm rot="5355000">
                  <a:off x="2251440" y="18727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AutoShape 37"/>
                <p:cNvSpPr/>
                <p:nvPr/>
              </p:nvSpPr>
              <p:spPr>
                <a:xfrm rot="5361600">
                  <a:off x="2251440" y="15753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utoShape 38"/>
                <p:cNvSpPr/>
                <p:nvPr/>
              </p:nvSpPr>
              <p:spPr>
                <a:xfrm rot="16161600">
                  <a:off x="1991520" y="15976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39"/>
                <p:cNvSpPr/>
                <p:nvPr/>
              </p:nvSpPr>
              <p:spPr>
                <a:xfrm rot="16161600">
                  <a:off x="1991520" y="18723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AutoShape 40"/>
                <p:cNvSpPr/>
                <p:nvPr/>
              </p:nvSpPr>
              <p:spPr>
                <a:xfrm rot="16161600">
                  <a:off x="1991520" y="21927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AutoShape 41"/>
                <p:cNvSpPr/>
                <p:nvPr/>
              </p:nvSpPr>
              <p:spPr>
                <a:xfrm rot="16161600">
                  <a:off x="1991520" y="24904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42"/>
              <p:cNvGrpSpPr/>
              <p:nvPr/>
            </p:nvGrpSpPr>
            <p:grpSpPr>
              <a:xfrm>
                <a:off x="2626200" y="1460880"/>
                <a:ext cx="344880" cy="1602000"/>
                <a:chOff x="2626200" y="1460880"/>
                <a:chExt cx="344880" cy="1602000"/>
              </a:xfrm>
            </p:grpSpPr>
            <p:sp>
              <p:nvSpPr>
                <p:cNvPr id="121" name="Freeform 43"/>
                <p:cNvSpPr/>
                <p:nvPr/>
              </p:nvSpPr>
              <p:spPr>
                <a:xfrm flipH="1">
                  <a:off x="2631240" y="146088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AutoShape 44"/>
                <p:cNvSpPr/>
                <p:nvPr/>
              </p:nvSpPr>
              <p:spPr>
                <a:xfrm flipH="1" rot="8929200">
                  <a:off x="2811960" y="278820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AutoShape 45"/>
                <p:cNvSpPr/>
                <p:nvPr/>
              </p:nvSpPr>
              <p:spPr>
                <a:xfrm flipH="1" rot="12389400">
                  <a:off x="2684880" y="276552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AutoShape 46"/>
                <p:cNvSpPr/>
                <p:nvPr/>
              </p:nvSpPr>
              <p:spPr>
                <a:xfrm flipH="1" rot="15874800">
                  <a:off x="2538000" y="25210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AutoShape 47"/>
                <p:cNvSpPr/>
                <p:nvPr/>
              </p:nvSpPr>
              <p:spPr>
                <a:xfrm flipH="1" rot="16290600">
                  <a:off x="2538720" y="22233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AutoShape 48"/>
                <p:cNvSpPr/>
                <p:nvPr/>
              </p:nvSpPr>
              <p:spPr>
                <a:xfrm flipH="1" rot="16245000">
                  <a:off x="2538720" y="19029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AutoShape 49"/>
                <p:cNvSpPr/>
                <p:nvPr/>
              </p:nvSpPr>
              <p:spPr>
                <a:xfrm flipH="1" rot="16238400">
                  <a:off x="2538720" y="16056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AutoShape 50"/>
                <p:cNvSpPr/>
                <p:nvPr/>
              </p:nvSpPr>
              <p:spPr>
                <a:xfrm flipH="1" rot="5438400">
                  <a:off x="2798640" y="16279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AutoShape 51"/>
                <p:cNvSpPr/>
                <p:nvPr/>
              </p:nvSpPr>
              <p:spPr>
                <a:xfrm flipH="1" rot="5438400">
                  <a:off x="2798640" y="19026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AutoShape 52"/>
                <p:cNvSpPr/>
                <p:nvPr/>
              </p:nvSpPr>
              <p:spPr>
                <a:xfrm flipH="1" rot="5438400">
                  <a:off x="2798640" y="22230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AutoShape 53"/>
                <p:cNvSpPr/>
                <p:nvPr/>
              </p:nvSpPr>
              <p:spPr>
                <a:xfrm flipH="1" rot="5438400">
                  <a:off x="2798640" y="25207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Freeform 54"/>
              <p:cNvSpPr/>
              <p:nvPr/>
            </p:nvSpPr>
            <p:spPr>
              <a:xfrm>
                <a:off x="2351520" y="1219320"/>
                <a:ext cx="280440" cy="2176200"/>
              </a:xfrm>
              <a:custGeom>
                <a:avLst/>
                <a:gdLst/>
                <a:ahLst/>
                <a:rect l="l" t="t" r="r" b="b"/>
                <a:pathLst>
                  <a:path w="912" h="3456">
                    <a:moveTo>
                      <a:pt x="288" y="0"/>
                    </a:moveTo>
                    <a:lnTo>
                      <a:pt x="288" y="336"/>
                    </a:lnTo>
                    <a:lnTo>
                      <a:pt x="336" y="624"/>
                    </a:lnTo>
                    <a:lnTo>
                      <a:pt x="288" y="912"/>
                    </a:lnTo>
                    <a:lnTo>
                      <a:pt x="192" y="672"/>
                    </a:lnTo>
                    <a:lnTo>
                      <a:pt x="192" y="768"/>
                    </a:lnTo>
                    <a:lnTo>
                      <a:pt x="336" y="1152"/>
                    </a:lnTo>
                    <a:lnTo>
                      <a:pt x="384" y="1392"/>
                    </a:lnTo>
                    <a:lnTo>
                      <a:pt x="384" y="1680"/>
                    </a:lnTo>
                    <a:lnTo>
                      <a:pt x="336" y="1968"/>
                    </a:lnTo>
                    <a:lnTo>
                      <a:pt x="192" y="1728"/>
                    </a:lnTo>
                    <a:lnTo>
                      <a:pt x="192" y="1824"/>
                    </a:lnTo>
                    <a:lnTo>
                      <a:pt x="336" y="2112"/>
                    </a:lnTo>
                    <a:lnTo>
                      <a:pt x="336" y="2496"/>
                    </a:lnTo>
                    <a:lnTo>
                      <a:pt x="240" y="2880"/>
                    </a:lnTo>
                    <a:lnTo>
                      <a:pt x="144" y="3072"/>
                    </a:lnTo>
                    <a:lnTo>
                      <a:pt x="0" y="2928"/>
                    </a:lnTo>
                    <a:lnTo>
                      <a:pt x="0" y="3456"/>
                    </a:lnTo>
                    <a:lnTo>
                      <a:pt x="624" y="3312"/>
                    </a:lnTo>
                    <a:lnTo>
                      <a:pt x="432" y="3216"/>
                    </a:lnTo>
                    <a:lnTo>
                      <a:pt x="528" y="2448"/>
                    </a:lnTo>
                    <a:lnTo>
                      <a:pt x="912" y="2112"/>
                    </a:lnTo>
                    <a:lnTo>
                      <a:pt x="912" y="2016"/>
                    </a:lnTo>
                    <a:lnTo>
                      <a:pt x="528" y="2352"/>
                    </a:lnTo>
                    <a:lnTo>
                      <a:pt x="576" y="1728"/>
                    </a:lnTo>
                    <a:lnTo>
                      <a:pt x="576" y="1488"/>
                    </a:lnTo>
                    <a:lnTo>
                      <a:pt x="912" y="1056"/>
                    </a:lnTo>
                    <a:lnTo>
                      <a:pt x="912" y="960"/>
                    </a:lnTo>
                    <a:lnTo>
                      <a:pt x="576" y="1392"/>
                    </a:lnTo>
                    <a:lnTo>
                      <a:pt x="480" y="960"/>
                    </a:lnTo>
                    <a:lnTo>
                      <a:pt x="528" y="576"/>
                    </a:lnTo>
                    <a:lnTo>
                      <a:pt x="432" y="0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7d8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Oval 55"/>
          <p:cNvSpPr/>
          <p:nvPr/>
        </p:nvSpPr>
        <p:spPr>
          <a:xfrm>
            <a:off x="457200" y="838080"/>
            <a:ext cx="3048120" cy="3048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56"/>
          <p:cNvSpPr/>
          <p:nvPr/>
        </p:nvSpPr>
        <p:spPr>
          <a:xfrm>
            <a:off x="6477120" y="1752480"/>
            <a:ext cx="2438280" cy="3657600"/>
          </a:xfrm>
          <a:custGeom>
            <a:avLst/>
            <a:gdLst/>
            <a:ahLst/>
            <a:rect l="l" t="t" r="r" b="b"/>
            <a:pathLst>
              <a:path w="1536" h="2304">
                <a:moveTo>
                  <a:pt x="576" y="912"/>
                </a:moveTo>
                <a:lnTo>
                  <a:pt x="384" y="816"/>
                </a:lnTo>
                <a:lnTo>
                  <a:pt x="240" y="624"/>
                </a:lnTo>
                <a:lnTo>
                  <a:pt x="240" y="336"/>
                </a:lnTo>
                <a:lnTo>
                  <a:pt x="384" y="144"/>
                </a:lnTo>
                <a:lnTo>
                  <a:pt x="624" y="0"/>
                </a:lnTo>
                <a:lnTo>
                  <a:pt x="960" y="0"/>
                </a:lnTo>
                <a:lnTo>
                  <a:pt x="1152" y="144"/>
                </a:lnTo>
                <a:lnTo>
                  <a:pt x="1392" y="432"/>
                </a:lnTo>
                <a:lnTo>
                  <a:pt x="1488" y="816"/>
                </a:lnTo>
                <a:lnTo>
                  <a:pt x="1536" y="1200"/>
                </a:lnTo>
                <a:lnTo>
                  <a:pt x="1488" y="1584"/>
                </a:lnTo>
                <a:lnTo>
                  <a:pt x="1344" y="2064"/>
                </a:lnTo>
                <a:lnTo>
                  <a:pt x="1056" y="2256"/>
                </a:lnTo>
                <a:lnTo>
                  <a:pt x="672" y="2304"/>
                </a:lnTo>
                <a:lnTo>
                  <a:pt x="384" y="2256"/>
                </a:lnTo>
                <a:lnTo>
                  <a:pt x="96" y="2016"/>
                </a:lnTo>
                <a:lnTo>
                  <a:pt x="0" y="1728"/>
                </a:lnTo>
                <a:lnTo>
                  <a:pt x="48" y="1392"/>
                </a:lnTo>
                <a:lnTo>
                  <a:pt x="288" y="1248"/>
                </a:lnTo>
                <a:lnTo>
                  <a:pt x="480" y="1104"/>
                </a:lnTo>
                <a:lnTo>
                  <a:pt x="576" y="91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7"/>
          <p:cNvSpPr/>
          <p:nvPr/>
        </p:nvSpPr>
        <p:spPr>
          <a:xfrm>
            <a:off x="6781680" y="2209680"/>
            <a:ext cx="1600200" cy="2590920"/>
          </a:xfrm>
          <a:custGeom>
            <a:avLst/>
            <a:gdLst/>
            <a:ahLst/>
            <a:rect l="l" t="t" r="r" b="b"/>
            <a:pathLst>
              <a:path w="1536" h="2304">
                <a:moveTo>
                  <a:pt x="576" y="912"/>
                </a:moveTo>
                <a:lnTo>
                  <a:pt x="384" y="816"/>
                </a:lnTo>
                <a:lnTo>
                  <a:pt x="240" y="624"/>
                </a:lnTo>
                <a:lnTo>
                  <a:pt x="240" y="336"/>
                </a:lnTo>
                <a:lnTo>
                  <a:pt x="384" y="144"/>
                </a:lnTo>
                <a:lnTo>
                  <a:pt x="624" y="0"/>
                </a:lnTo>
                <a:lnTo>
                  <a:pt x="960" y="0"/>
                </a:lnTo>
                <a:lnTo>
                  <a:pt x="1152" y="144"/>
                </a:lnTo>
                <a:lnTo>
                  <a:pt x="1392" y="432"/>
                </a:lnTo>
                <a:lnTo>
                  <a:pt x="1488" y="816"/>
                </a:lnTo>
                <a:lnTo>
                  <a:pt x="1536" y="1200"/>
                </a:lnTo>
                <a:lnTo>
                  <a:pt x="1488" y="1584"/>
                </a:lnTo>
                <a:lnTo>
                  <a:pt x="1344" y="2064"/>
                </a:lnTo>
                <a:lnTo>
                  <a:pt x="1056" y="2256"/>
                </a:lnTo>
                <a:lnTo>
                  <a:pt x="672" y="2304"/>
                </a:lnTo>
                <a:lnTo>
                  <a:pt x="384" y="2256"/>
                </a:lnTo>
                <a:lnTo>
                  <a:pt x="96" y="2016"/>
                </a:lnTo>
                <a:lnTo>
                  <a:pt x="0" y="1728"/>
                </a:lnTo>
                <a:lnTo>
                  <a:pt x="48" y="1392"/>
                </a:lnTo>
                <a:lnTo>
                  <a:pt x="288" y="1248"/>
                </a:lnTo>
                <a:lnTo>
                  <a:pt x="480" y="1104"/>
                </a:lnTo>
                <a:lnTo>
                  <a:pt x="576" y="912"/>
                </a:lnTo>
                <a:close/>
              </a:path>
            </a:pathLst>
          </a:custGeom>
          <a:solidFill>
            <a:srgbClr val="99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58"/>
          <p:cNvSpPr/>
          <p:nvPr/>
        </p:nvSpPr>
        <p:spPr>
          <a:xfrm flipV="1">
            <a:off x="2133720" y="2590920"/>
            <a:ext cx="51814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59"/>
          <p:cNvSpPr/>
          <p:nvPr/>
        </p:nvSpPr>
        <p:spPr>
          <a:xfrm>
            <a:off x="2133720" y="838080"/>
            <a:ext cx="51814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0"/>
          <p:cNvSpPr/>
          <p:nvPr/>
        </p:nvSpPr>
        <p:spPr>
          <a:xfrm>
            <a:off x="7391520" y="17524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1"/>
          <p:cNvSpPr/>
          <p:nvPr/>
        </p:nvSpPr>
        <p:spPr>
          <a:xfrm>
            <a:off x="7315920" y="27432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62"/>
          <p:cNvSpPr/>
          <p:nvPr/>
        </p:nvSpPr>
        <p:spPr>
          <a:xfrm>
            <a:off x="5410080" y="3200400"/>
            <a:ext cx="1981440" cy="1981080"/>
          </a:xfrm>
          <a:custGeom>
            <a:avLst/>
            <a:gdLst/>
            <a:ahLst/>
            <a:rect l="l" t="t" r="r" b="b"/>
            <a:pathLst>
              <a:path w="1248" h="1248">
                <a:moveTo>
                  <a:pt x="1248" y="0"/>
                </a:moveTo>
                <a:lnTo>
                  <a:pt x="720" y="96"/>
                </a:lnTo>
                <a:lnTo>
                  <a:pt x="288" y="288"/>
                </a:lnTo>
                <a:lnTo>
                  <a:pt x="96" y="624"/>
                </a:lnTo>
                <a:lnTo>
                  <a:pt x="0" y="1008"/>
                </a:lnTo>
                <a:lnTo>
                  <a:pt x="0" y="1248"/>
                </a:lnTo>
                <a:lnTo>
                  <a:pt x="96" y="1248"/>
                </a:lnTo>
                <a:lnTo>
                  <a:pt x="144" y="912"/>
                </a:lnTo>
                <a:lnTo>
                  <a:pt x="288" y="528"/>
                </a:lnTo>
                <a:lnTo>
                  <a:pt x="672" y="288"/>
                </a:lnTo>
                <a:lnTo>
                  <a:pt x="1152" y="192"/>
                </a:lnTo>
                <a:lnTo>
                  <a:pt x="1248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3"/>
          <p:cNvSpPr/>
          <p:nvPr/>
        </p:nvSpPr>
        <p:spPr>
          <a:xfrm>
            <a:off x="213480" y="4876920"/>
            <a:ext cx="6458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nephrons are packed into the kidne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glomeruli and convoluted tubules in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loops and collecting ducts extending into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dul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the collecting ducts eventually join up to form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mptying urine into the bladder and awa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4"/>
          <p:cNvSpPr/>
          <p:nvPr/>
        </p:nvSpPr>
        <p:spPr>
          <a:xfrm>
            <a:off x="4023720" y="3772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65"/>
          <p:cNvSpPr/>
          <p:nvPr/>
        </p:nvSpPr>
        <p:spPr>
          <a:xfrm>
            <a:off x="4724280" y="40384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609480"/>
            <a:ext cx="9144000" cy="6248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219320" y="15238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7c80"/>
                </a:solidFill>
                <a:latin typeface="Times New Roman"/>
              </a:rPr>
              <a:t>Cort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4"/>
          <p:cNvSpPr/>
          <p:nvPr/>
        </p:nvSpPr>
        <p:spPr>
          <a:xfrm>
            <a:off x="3124080" y="762120"/>
            <a:ext cx="3886200" cy="5333760"/>
          </a:xfrm>
          <a:custGeom>
            <a:avLst/>
            <a:gdLst/>
            <a:ahLst/>
            <a:rect l="l" t="t" r="r" b="b"/>
            <a:pathLst>
              <a:path w="2448" h="3360">
                <a:moveTo>
                  <a:pt x="0" y="48"/>
                </a:moveTo>
                <a:lnTo>
                  <a:pt x="0" y="960"/>
                </a:lnTo>
                <a:lnTo>
                  <a:pt x="0" y="1920"/>
                </a:lnTo>
                <a:lnTo>
                  <a:pt x="0" y="2832"/>
                </a:lnTo>
                <a:cubicBezTo>
                  <a:pt x="32" y="3040"/>
                  <a:pt x="48" y="3080"/>
                  <a:pt x="192" y="3168"/>
                </a:cubicBezTo>
                <a:lnTo>
                  <a:pt x="864" y="3360"/>
                </a:lnTo>
                <a:cubicBezTo>
                  <a:pt x="864" y="3360"/>
                  <a:pt x="1400" y="3360"/>
                  <a:pt x="1632" y="3312"/>
                </a:cubicBezTo>
                <a:cubicBezTo>
                  <a:pt x="1864" y="3264"/>
                  <a:pt x="2120" y="3208"/>
                  <a:pt x="2256" y="3072"/>
                </a:cubicBezTo>
                <a:cubicBezTo>
                  <a:pt x="2392" y="2936"/>
                  <a:pt x="2416" y="3008"/>
                  <a:pt x="2448" y="2496"/>
                </a:cubicBezTo>
                <a:lnTo>
                  <a:pt x="2448" y="0"/>
                </a:lnTo>
                <a:lnTo>
                  <a:pt x="1968" y="0"/>
                </a:lnTo>
                <a:lnTo>
                  <a:pt x="1968" y="960"/>
                </a:lnTo>
                <a:lnTo>
                  <a:pt x="1968" y="1872"/>
                </a:lnTo>
                <a:lnTo>
                  <a:pt x="1920" y="2496"/>
                </a:lnTo>
                <a:lnTo>
                  <a:pt x="1728" y="2688"/>
                </a:lnTo>
                <a:lnTo>
                  <a:pt x="1392" y="2784"/>
                </a:lnTo>
                <a:cubicBezTo>
                  <a:pt x="1392" y="2784"/>
                  <a:pt x="1056" y="2736"/>
                  <a:pt x="1056" y="2736"/>
                </a:cubicBezTo>
                <a:cubicBezTo>
                  <a:pt x="1056" y="2736"/>
                  <a:pt x="880" y="2680"/>
                  <a:pt x="816" y="2640"/>
                </a:cubicBezTo>
                <a:cubicBezTo>
                  <a:pt x="752" y="2600"/>
                  <a:pt x="732" y="2638"/>
                  <a:pt x="672" y="2496"/>
                </a:cubicBezTo>
                <a:cubicBezTo>
                  <a:pt x="612" y="2354"/>
                  <a:pt x="672" y="2088"/>
                  <a:pt x="672" y="1680"/>
                </a:cubicBezTo>
                <a:lnTo>
                  <a:pt x="672" y="48"/>
                </a:lnTo>
                <a:lnTo>
                  <a:pt x="0" y="4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5943600" y="3276720"/>
            <a:ext cx="1371600" cy="304560"/>
          </a:xfrm>
          <a:prstGeom prst="leftRightArrow">
            <a:avLst>
              <a:gd name="adj1" fmla="val 50000"/>
              <a:gd name="adj2" fmla="val 89654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5943600" y="2209680"/>
            <a:ext cx="1371600" cy="304920"/>
          </a:xfrm>
          <a:prstGeom prst="leftRightArrow">
            <a:avLst>
              <a:gd name="adj1" fmla="val 50000"/>
              <a:gd name="adj2" fmla="val 89548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5943600" y="1219320"/>
            <a:ext cx="1371600" cy="304560"/>
          </a:xfrm>
          <a:prstGeom prst="leftRightArrow">
            <a:avLst>
              <a:gd name="adj1" fmla="val 50000"/>
              <a:gd name="adj2" fmla="val 89654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5943600" y="4267080"/>
            <a:ext cx="1371600" cy="304920"/>
          </a:xfrm>
          <a:prstGeom prst="leftRightArrow">
            <a:avLst>
              <a:gd name="adj1" fmla="val 50000"/>
              <a:gd name="adj2" fmla="val 89548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371600" y="236232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ater leaves - ion concentration in filtrate incr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"/>
          <p:cNvSpPr/>
          <p:nvPr/>
        </p:nvSpPr>
        <p:spPr>
          <a:xfrm rot="12670800">
            <a:off x="4114440" y="518112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1"/>
          <p:cNvSpPr/>
          <p:nvPr/>
        </p:nvSpPr>
        <p:spPr>
          <a:xfrm rot="9210600">
            <a:off x="5562360" y="5105160"/>
            <a:ext cx="838080" cy="609480"/>
          </a:xfrm>
          <a:prstGeom prst="leftArrow">
            <a:avLst>
              <a:gd name="adj1" fmla="val 50000"/>
              <a:gd name="adj2" fmla="val 3437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2"/>
          <p:cNvSpPr/>
          <p:nvPr/>
        </p:nvSpPr>
        <p:spPr>
          <a:xfrm rot="5725200">
            <a:off x="6210000" y="407628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3"/>
          <p:cNvSpPr/>
          <p:nvPr/>
        </p:nvSpPr>
        <p:spPr>
          <a:xfrm rot="5309400">
            <a:off x="6210000" y="308556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4"/>
          <p:cNvSpPr/>
          <p:nvPr/>
        </p:nvSpPr>
        <p:spPr>
          <a:xfrm rot="5355000">
            <a:off x="6210360" y="201888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5"/>
          <p:cNvSpPr/>
          <p:nvPr/>
        </p:nvSpPr>
        <p:spPr>
          <a:xfrm rot="5361600">
            <a:off x="6210360" y="102852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16"/>
          <p:cNvGrpSpPr/>
          <p:nvPr/>
        </p:nvGrpSpPr>
        <p:grpSpPr>
          <a:xfrm>
            <a:off x="2819520" y="987120"/>
            <a:ext cx="1752480" cy="844920"/>
            <a:chOff x="2819520" y="987120"/>
            <a:chExt cx="1752480" cy="844920"/>
          </a:xfrm>
        </p:grpSpPr>
        <p:sp>
          <p:nvSpPr>
            <p:cNvPr id="159" name="AutoShape 17"/>
            <p:cNvSpPr/>
            <p:nvPr/>
          </p:nvSpPr>
          <p:spPr>
            <a:xfrm rot="16161600">
              <a:off x="3238200" y="110448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18"/>
            <p:cNvSpPr/>
            <p:nvPr/>
          </p:nvSpPr>
          <p:spPr>
            <a:xfrm flipH="1">
              <a:off x="4038480" y="1219320"/>
              <a:ext cx="533520" cy="152280"/>
            </a:xfrm>
            <a:prstGeom prst="leftArrow">
              <a:avLst>
                <a:gd name="adj1" fmla="val 50000"/>
                <a:gd name="adj2" fmla="val 87589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19"/>
            <p:cNvSpPr/>
            <p:nvPr/>
          </p:nvSpPr>
          <p:spPr>
            <a:xfrm>
              <a:off x="2819520" y="1219320"/>
              <a:ext cx="533160" cy="152280"/>
            </a:xfrm>
            <a:prstGeom prst="leftArrow">
              <a:avLst>
                <a:gd name="adj1" fmla="val 50000"/>
                <a:gd name="adj2" fmla="val 87530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20"/>
          <p:cNvGrpSpPr/>
          <p:nvPr/>
        </p:nvGrpSpPr>
        <p:grpSpPr>
          <a:xfrm>
            <a:off x="2819520" y="1901520"/>
            <a:ext cx="1752480" cy="844920"/>
            <a:chOff x="2819520" y="1901520"/>
            <a:chExt cx="1752480" cy="844920"/>
          </a:xfrm>
        </p:grpSpPr>
        <p:sp>
          <p:nvSpPr>
            <p:cNvPr id="163" name="AutoShape 21"/>
            <p:cNvSpPr/>
            <p:nvPr/>
          </p:nvSpPr>
          <p:spPr>
            <a:xfrm rot="16161600">
              <a:off x="3238200" y="201888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AutoShape 22"/>
            <p:cNvSpPr/>
            <p:nvPr/>
          </p:nvSpPr>
          <p:spPr>
            <a:xfrm flipH="1">
              <a:off x="4038480" y="2209680"/>
              <a:ext cx="533520" cy="152640"/>
            </a:xfrm>
            <a:prstGeom prst="leftArrow">
              <a:avLst>
                <a:gd name="adj1" fmla="val 50000"/>
                <a:gd name="adj2" fmla="val 87382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23"/>
            <p:cNvSpPr/>
            <p:nvPr/>
          </p:nvSpPr>
          <p:spPr>
            <a:xfrm>
              <a:off x="2819520" y="2209680"/>
              <a:ext cx="533160" cy="152640"/>
            </a:xfrm>
            <a:prstGeom prst="leftArrow">
              <a:avLst>
                <a:gd name="adj1" fmla="val 50000"/>
                <a:gd name="adj2" fmla="val 87323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24"/>
          <p:cNvGrpSpPr/>
          <p:nvPr/>
        </p:nvGrpSpPr>
        <p:grpSpPr>
          <a:xfrm>
            <a:off x="2819520" y="2968200"/>
            <a:ext cx="1752480" cy="844920"/>
            <a:chOff x="2819520" y="2968200"/>
            <a:chExt cx="1752480" cy="844920"/>
          </a:xfrm>
        </p:grpSpPr>
        <p:sp>
          <p:nvSpPr>
            <p:cNvPr id="167" name="AutoShape 25"/>
            <p:cNvSpPr/>
            <p:nvPr/>
          </p:nvSpPr>
          <p:spPr>
            <a:xfrm rot="16161600">
              <a:off x="3238200" y="308556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26"/>
            <p:cNvSpPr/>
            <p:nvPr/>
          </p:nvSpPr>
          <p:spPr>
            <a:xfrm flipH="1">
              <a:off x="4038480" y="3200400"/>
              <a:ext cx="533520" cy="152280"/>
            </a:xfrm>
            <a:prstGeom prst="leftArrow">
              <a:avLst>
                <a:gd name="adj1" fmla="val 50000"/>
                <a:gd name="adj2" fmla="val 87589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AutoShape 27"/>
            <p:cNvSpPr/>
            <p:nvPr/>
          </p:nvSpPr>
          <p:spPr>
            <a:xfrm>
              <a:off x="2819520" y="3200400"/>
              <a:ext cx="533160" cy="152280"/>
            </a:xfrm>
            <a:prstGeom prst="leftArrow">
              <a:avLst>
                <a:gd name="adj1" fmla="val 50000"/>
                <a:gd name="adj2" fmla="val 87530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28"/>
          <p:cNvGrpSpPr/>
          <p:nvPr/>
        </p:nvGrpSpPr>
        <p:grpSpPr>
          <a:xfrm>
            <a:off x="2819520" y="3958920"/>
            <a:ext cx="1752480" cy="844920"/>
            <a:chOff x="2819520" y="3958920"/>
            <a:chExt cx="1752480" cy="844920"/>
          </a:xfrm>
        </p:grpSpPr>
        <p:sp>
          <p:nvSpPr>
            <p:cNvPr id="171" name="AutoShape 29"/>
            <p:cNvSpPr/>
            <p:nvPr/>
          </p:nvSpPr>
          <p:spPr>
            <a:xfrm rot="16161600">
              <a:off x="3238200" y="407628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AutoShape 30"/>
            <p:cNvSpPr/>
            <p:nvPr/>
          </p:nvSpPr>
          <p:spPr>
            <a:xfrm flipH="1">
              <a:off x="4038480" y="4267080"/>
              <a:ext cx="533520" cy="152640"/>
            </a:xfrm>
            <a:prstGeom prst="leftArrow">
              <a:avLst>
                <a:gd name="adj1" fmla="val 50000"/>
                <a:gd name="adj2" fmla="val 87382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AutoShape 31"/>
            <p:cNvSpPr/>
            <p:nvPr/>
          </p:nvSpPr>
          <p:spPr>
            <a:xfrm>
              <a:off x="2819520" y="4267080"/>
              <a:ext cx="533160" cy="152640"/>
            </a:xfrm>
            <a:prstGeom prst="leftArrow">
              <a:avLst>
                <a:gd name="adj1" fmla="val 50000"/>
                <a:gd name="adj2" fmla="val 87323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32"/>
          <p:cNvSpPr/>
          <p:nvPr/>
        </p:nvSpPr>
        <p:spPr>
          <a:xfrm>
            <a:off x="3276720" y="6095880"/>
            <a:ext cx="35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Filtrate reaches maximum concen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3"/>
          <p:cNvSpPr/>
          <p:nvPr/>
        </p:nvSpPr>
        <p:spPr>
          <a:xfrm>
            <a:off x="7238880" y="259092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hloride ions out (sodium follows) -ion concentration in filtrate decr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4"/>
          <p:cNvSpPr/>
          <p:nvPr/>
        </p:nvSpPr>
        <p:spPr>
          <a:xfrm>
            <a:off x="1219320" y="55627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cc"/>
                </a:solidFill>
                <a:latin typeface="Times New Roman"/>
              </a:rPr>
              <a:t>Medul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WordArt 35"/>
          <p:cNvSpPr txBox="1"/>
          <p:nvPr/>
        </p:nvSpPr>
        <p:spPr>
          <a:xfrm rot="5400000">
            <a:off x="-1594800" y="3436200"/>
            <a:ext cx="4500360" cy="36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8" name="Line 36"/>
          <p:cNvSpPr/>
          <p:nvPr/>
        </p:nvSpPr>
        <p:spPr>
          <a:xfrm>
            <a:off x="1143000" y="1371600"/>
            <a:ext cx="0" cy="4343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606600"/>
            <a:ext cx="9144000" cy="6248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3"/>
          <p:cNvGrpSpPr/>
          <p:nvPr/>
        </p:nvGrpSpPr>
        <p:grpSpPr>
          <a:xfrm>
            <a:off x="1905120" y="990720"/>
            <a:ext cx="4647240" cy="5486400"/>
            <a:chOff x="1905120" y="990720"/>
            <a:chExt cx="4647240" cy="5486400"/>
          </a:xfrm>
        </p:grpSpPr>
        <p:grpSp>
          <p:nvGrpSpPr>
            <p:cNvPr id="181" name="Group 4"/>
            <p:cNvGrpSpPr/>
            <p:nvPr/>
          </p:nvGrpSpPr>
          <p:grpSpPr>
            <a:xfrm>
              <a:off x="1905120" y="1523880"/>
              <a:ext cx="1752480" cy="4038840"/>
              <a:chOff x="1905120" y="1523880"/>
              <a:chExt cx="1752480" cy="4038840"/>
            </a:xfrm>
          </p:grpSpPr>
          <p:sp>
            <p:nvSpPr>
              <p:cNvPr id="182" name="Freeform 5"/>
              <p:cNvSpPr/>
              <p:nvPr/>
            </p:nvSpPr>
            <p:spPr>
              <a:xfrm>
                <a:off x="1905120" y="1523880"/>
                <a:ext cx="1752480" cy="4038840"/>
              </a:xfrm>
              <a:custGeom>
                <a:avLst/>
                <a:gdLst/>
                <a:ahLst/>
                <a:rect l="l" t="t" r="r" b="b"/>
                <a:pathLst>
                  <a:path w="2448" h="3360">
                    <a:moveTo>
                      <a:pt x="0" y="48"/>
                    </a:moveTo>
                    <a:lnTo>
                      <a:pt x="0" y="960"/>
                    </a:lnTo>
                    <a:lnTo>
                      <a:pt x="0" y="1920"/>
                    </a:lnTo>
                    <a:lnTo>
                      <a:pt x="0" y="2832"/>
                    </a:lnTo>
                    <a:lnTo>
                      <a:pt x="192" y="3168"/>
                    </a:lnTo>
                    <a:lnTo>
                      <a:pt x="864" y="3360"/>
                    </a:lnTo>
                    <a:lnTo>
                      <a:pt x="1632" y="3312"/>
                    </a:lnTo>
                    <a:lnTo>
                      <a:pt x="2256" y="3072"/>
                    </a:lnTo>
                    <a:lnTo>
                      <a:pt x="2448" y="2496"/>
                    </a:lnTo>
                    <a:lnTo>
                      <a:pt x="2448" y="0"/>
                    </a:lnTo>
                    <a:lnTo>
                      <a:pt x="1968" y="0"/>
                    </a:lnTo>
                    <a:lnTo>
                      <a:pt x="1968" y="960"/>
                    </a:lnTo>
                    <a:lnTo>
                      <a:pt x="1968" y="1872"/>
                    </a:lnTo>
                    <a:lnTo>
                      <a:pt x="1920" y="2496"/>
                    </a:lnTo>
                    <a:lnTo>
                      <a:pt x="1728" y="2688"/>
                    </a:lnTo>
                    <a:lnTo>
                      <a:pt x="1392" y="2784"/>
                    </a:lnTo>
                    <a:lnTo>
                      <a:pt x="1056" y="2736"/>
                    </a:lnTo>
                    <a:lnTo>
                      <a:pt x="816" y="2640"/>
                    </a:lnTo>
                    <a:lnTo>
                      <a:pt x="672" y="2496"/>
                    </a:lnTo>
                    <a:lnTo>
                      <a:pt x="672" y="1680"/>
                    </a:lnTo>
                    <a:lnTo>
                      <a:pt x="672" y="48"/>
                    </a:lnTo>
                    <a:lnTo>
                      <a:pt x="0" y="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AutoShape 6"/>
              <p:cNvSpPr/>
              <p:nvPr/>
            </p:nvSpPr>
            <p:spPr>
              <a:xfrm rot="12670800">
                <a:off x="2351160" y="4870080"/>
                <a:ext cx="377640" cy="46152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AutoShape 7"/>
              <p:cNvSpPr/>
              <p:nvPr/>
            </p:nvSpPr>
            <p:spPr>
              <a:xfrm rot="9210600">
                <a:off x="3004560" y="4812840"/>
                <a:ext cx="377640" cy="46152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AutoShape 8"/>
              <p:cNvSpPr/>
              <p:nvPr/>
            </p:nvSpPr>
            <p:spPr>
              <a:xfrm rot="5725200">
                <a:off x="3168000" y="41266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AutoShape 9"/>
              <p:cNvSpPr/>
              <p:nvPr/>
            </p:nvSpPr>
            <p:spPr>
              <a:xfrm rot="5309400">
                <a:off x="3168000" y="33764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AutoShape 10"/>
              <p:cNvSpPr/>
              <p:nvPr/>
            </p:nvSpPr>
            <p:spPr>
              <a:xfrm rot="5355000">
                <a:off x="3168000" y="256896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AutoShape 11"/>
              <p:cNvSpPr/>
              <p:nvPr/>
            </p:nvSpPr>
            <p:spPr>
              <a:xfrm rot="5361600">
                <a:off x="3168000" y="181872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AutoShape 12"/>
              <p:cNvSpPr/>
              <p:nvPr/>
            </p:nvSpPr>
            <p:spPr>
              <a:xfrm rot="16161600">
                <a:off x="1828080" y="187632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AutoShape 13"/>
              <p:cNvSpPr/>
              <p:nvPr/>
            </p:nvSpPr>
            <p:spPr>
              <a:xfrm rot="16161600">
                <a:off x="1828080" y="256896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AutoShape 14"/>
              <p:cNvSpPr/>
              <p:nvPr/>
            </p:nvSpPr>
            <p:spPr>
              <a:xfrm rot="16161600">
                <a:off x="1828080" y="33764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AutoShape 15"/>
              <p:cNvSpPr/>
              <p:nvPr/>
            </p:nvSpPr>
            <p:spPr>
              <a:xfrm rot="16161600">
                <a:off x="1828080" y="41266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16"/>
            <p:cNvGrpSpPr/>
            <p:nvPr/>
          </p:nvGrpSpPr>
          <p:grpSpPr>
            <a:xfrm>
              <a:off x="4800240" y="1600200"/>
              <a:ext cx="1752120" cy="4038480"/>
              <a:chOff x="4800240" y="1600200"/>
              <a:chExt cx="1752120" cy="4038480"/>
            </a:xfrm>
          </p:grpSpPr>
          <p:sp>
            <p:nvSpPr>
              <p:cNvPr id="194" name="Freeform 17"/>
              <p:cNvSpPr/>
              <p:nvPr/>
            </p:nvSpPr>
            <p:spPr>
              <a:xfrm flipH="1">
                <a:off x="4799880" y="1600200"/>
                <a:ext cx="1752120" cy="4038480"/>
              </a:xfrm>
              <a:custGeom>
                <a:avLst/>
                <a:gdLst/>
                <a:ahLst/>
                <a:rect l="l" t="t" r="r" b="b"/>
                <a:pathLst>
                  <a:path w="2448" h="3360">
                    <a:moveTo>
                      <a:pt x="0" y="48"/>
                    </a:moveTo>
                    <a:lnTo>
                      <a:pt x="0" y="960"/>
                    </a:lnTo>
                    <a:lnTo>
                      <a:pt x="0" y="1920"/>
                    </a:lnTo>
                    <a:lnTo>
                      <a:pt x="0" y="2832"/>
                    </a:lnTo>
                    <a:lnTo>
                      <a:pt x="192" y="3168"/>
                    </a:lnTo>
                    <a:lnTo>
                      <a:pt x="864" y="3360"/>
                    </a:lnTo>
                    <a:lnTo>
                      <a:pt x="1632" y="3312"/>
                    </a:lnTo>
                    <a:lnTo>
                      <a:pt x="2256" y="3072"/>
                    </a:lnTo>
                    <a:lnTo>
                      <a:pt x="2448" y="2496"/>
                    </a:lnTo>
                    <a:lnTo>
                      <a:pt x="2448" y="0"/>
                    </a:lnTo>
                    <a:lnTo>
                      <a:pt x="1968" y="0"/>
                    </a:lnTo>
                    <a:lnTo>
                      <a:pt x="1968" y="960"/>
                    </a:lnTo>
                    <a:lnTo>
                      <a:pt x="1968" y="1872"/>
                    </a:lnTo>
                    <a:lnTo>
                      <a:pt x="1920" y="2496"/>
                    </a:lnTo>
                    <a:lnTo>
                      <a:pt x="1728" y="2688"/>
                    </a:lnTo>
                    <a:lnTo>
                      <a:pt x="1392" y="2784"/>
                    </a:lnTo>
                    <a:lnTo>
                      <a:pt x="1056" y="2736"/>
                    </a:lnTo>
                    <a:lnTo>
                      <a:pt x="816" y="2640"/>
                    </a:lnTo>
                    <a:lnTo>
                      <a:pt x="672" y="2496"/>
                    </a:lnTo>
                    <a:lnTo>
                      <a:pt x="672" y="1680"/>
                    </a:lnTo>
                    <a:lnTo>
                      <a:pt x="672" y="48"/>
                    </a:lnTo>
                    <a:lnTo>
                      <a:pt x="0" y="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AutoShape 18"/>
              <p:cNvSpPr/>
              <p:nvPr/>
            </p:nvSpPr>
            <p:spPr>
              <a:xfrm flipH="1" rot="8929200">
                <a:off x="5727960" y="4946400"/>
                <a:ext cx="377640" cy="46152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AutoShape 19"/>
              <p:cNvSpPr/>
              <p:nvPr/>
            </p:nvSpPr>
            <p:spPr>
              <a:xfrm flipH="1" rot="12389400">
                <a:off x="5075640" y="4888440"/>
                <a:ext cx="377640" cy="46116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AutoShape 20"/>
              <p:cNvSpPr/>
              <p:nvPr/>
            </p:nvSpPr>
            <p:spPr>
              <a:xfrm flipH="1" rot="15874800">
                <a:off x="4655160" y="420300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AutoShape 21"/>
              <p:cNvSpPr/>
              <p:nvPr/>
            </p:nvSpPr>
            <p:spPr>
              <a:xfrm flipH="1" rot="16290600">
                <a:off x="4655160" y="3452760"/>
                <a:ext cx="634320" cy="274320"/>
              </a:xfrm>
              <a:prstGeom prst="leftArrow">
                <a:avLst>
                  <a:gd name="adj1" fmla="val 50000"/>
                  <a:gd name="adj2" fmla="val 57808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AutoShape 22"/>
              <p:cNvSpPr/>
              <p:nvPr/>
            </p:nvSpPr>
            <p:spPr>
              <a:xfrm flipH="1" rot="16245000">
                <a:off x="4655520" y="26452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AutoShape 23"/>
              <p:cNvSpPr/>
              <p:nvPr/>
            </p:nvSpPr>
            <p:spPr>
              <a:xfrm flipH="1" rot="16238400">
                <a:off x="4654800" y="18950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AutoShape 24"/>
              <p:cNvSpPr/>
              <p:nvPr/>
            </p:nvSpPr>
            <p:spPr>
              <a:xfrm flipH="1" rot="5438400">
                <a:off x="5994360" y="19526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AutoShape 25"/>
              <p:cNvSpPr/>
              <p:nvPr/>
            </p:nvSpPr>
            <p:spPr>
              <a:xfrm flipH="1" rot="5438400">
                <a:off x="5994360" y="26452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AutoShape 26"/>
              <p:cNvSpPr/>
              <p:nvPr/>
            </p:nvSpPr>
            <p:spPr>
              <a:xfrm flipH="1" rot="5438400">
                <a:off x="5994360" y="345276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AutoShape 27"/>
              <p:cNvSpPr/>
              <p:nvPr/>
            </p:nvSpPr>
            <p:spPr>
              <a:xfrm flipH="1" rot="5438400">
                <a:off x="5994360" y="420300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Freeform 28"/>
            <p:cNvSpPr/>
            <p:nvPr/>
          </p:nvSpPr>
          <p:spPr>
            <a:xfrm>
              <a:off x="3352680" y="990720"/>
              <a:ext cx="1447560" cy="5486400"/>
            </a:xfrm>
            <a:custGeom>
              <a:avLst/>
              <a:gdLst/>
              <a:ahLst/>
              <a:rect l="l" t="t" r="r" b="b"/>
              <a:pathLst>
                <a:path w="912" h="3456">
                  <a:moveTo>
                    <a:pt x="288" y="0"/>
                  </a:moveTo>
                  <a:lnTo>
                    <a:pt x="288" y="336"/>
                  </a:lnTo>
                  <a:lnTo>
                    <a:pt x="336" y="624"/>
                  </a:lnTo>
                  <a:lnTo>
                    <a:pt x="288" y="912"/>
                  </a:lnTo>
                  <a:lnTo>
                    <a:pt x="192" y="672"/>
                  </a:lnTo>
                  <a:lnTo>
                    <a:pt x="192" y="768"/>
                  </a:lnTo>
                  <a:lnTo>
                    <a:pt x="336" y="1152"/>
                  </a:lnTo>
                  <a:lnTo>
                    <a:pt x="384" y="1392"/>
                  </a:lnTo>
                  <a:lnTo>
                    <a:pt x="384" y="1680"/>
                  </a:lnTo>
                  <a:lnTo>
                    <a:pt x="336" y="1968"/>
                  </a:lnTo>
                  <a:lnTo>
                    <a:pt x="192" y="1728"/>
                  </a:lnTo>
                  <a:lnTo>
                    <a:pt x="192" y="1824"/>
                  </a:lnTo>
                  <a:lnTo>
                    <a:pt x="336" y="2112"/>
                  </a:lnTo>
                  <a:lnTo>
                    <a:pt x="336" y="2496"/>
                  </a:lnTo>
                  <a:lnTo>
                    <a:pt x="240" y="2880"/>
                  </a:lnTo>
                  <a:lnTo>
                    <a:pt x="144" y="3072"/>
                  </a:lnTo>
                  <a:lnTo>
                    <a:pt x="0" y="2928"/>
                  </a:lnTo>
                  <a:lnTo>
                    <a:pt x="0" y="3456"/>
                  </a:lnTo>
                  <a:lnTo>
                    <a:pt x="624" y="3312"/>
                  </a:lnTo>
                  <a:lnTo>
                    <a:pt x="432" y="3216"/>
                  </a:lnTo>
                  <a:lnTo>
                    <a:pt x="528" y="2448"/>
                  </a:lnTo>
                  <a:lnTo>
                    <a:pt x="912" y="2112"/>
                  </a:lnTo>
                  <a:lnTo>
                    <a:pt x="912" y="2016"/>
                  </a:lnTo>
                  <a:lnTo>
                    <a:pt x="528" y="2352"/>
                  </a:lnTo>
                  <a:lnTo>
                    <a:pt x="576" y="1728"/>
                  </a:lnTo>
                  <a:lnTo>
                    <a:pt x="576" y="1488"/>
                  </a:lnTo>
                  <a:lnTo>
                    <a:pt x="912" y="1056"/>
                  </a:lnTo>
                  <a:lnTo>
                    <a:pt x="912" y="960"/>
                  </a:lnTo>
                  <a:lnTo>
                    <a:pt x="576" y="1392"/>
                  </a:lnTo>
                  <a:lnTo>
                    <a:pt x="480" y="960"/>
                  </a:lnTo>
                  <a:lnTo>
                    <a:pt x="528" y="576"/>
                  </a:lnTo>
                  <a:lnTo>
                    <a:pt x="432" y="0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7d8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Text Box 29"/>
          <p:cNvSpPr/>
          <p:nvPr/>
        </p:nvSpPr>
        <p:spPr>
          <a:xfrm>
            <a:off x="2286000" y="6324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 ur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0"/>
          <p:cNvSpPr/>
          <p:nvPr/>
        </p:nvSpPr>
        <p:spPr>
          <a:xfrm>
            <a:off x="4267080" y="838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31"/>
          <p:cNvSpPr/>
          <p:nvPr/>
        </p:nvSpPr>
        <p:spPr>
          <a:xfrm flipH="1">
            <a:off x="4038120" y="1066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2"/>
          <p:cNvSpPr/>
          <p:nvPr/>
        </p:nvSpPr>
        <p:spPr>
          <a:xfrm>
            <a:off x="6705720" y="914400"/>
            <a:ext cx="220968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veral nephrons empty into one collecting du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collecting duct passes through the progressively more concentrated medulla, losing water by osmosis. This water is reabsorbed by the capilla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is water is conserved, and a highly concentrated urine is produc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WordArt 33"/>
          <p:cNvSpPr txBox="1"/>
          <p:nvPr/>
        </p:nvSpPr>
        <p:spPr>
          <a:xfrm rot="5400000">
            <a:off x="-1594800" y="3436200"/>
            <a:ext cx="4500360" cy="36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1" name="Line 34"/>
          <p:cNvSpPr/>
          <p:nvPr/>
        </p:nvSpPr>
        <p:spPr>
          <a:xfrm>
            <a:off x="1143000" y="1371600"/>
            <a:ext cx="0" cy="4343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35"/>
          <p:cNvGrpSpPr/>
          <p:nvPr/>
        </p:nvGrpSpPr>
        <p:grpSpPr>
          <a:xfrm>
            <a:off x="3726000" y="1894680"/>
            <a:ext cx="541800" cy="548280"/>
            <a:chOff x="3726000" y="1894680"/>
            <a:chExt cx="541800" cy="548280"/>
          </a:xfrm>
        </p:grpSpPr>
        <p:sp>
          <p:nvSpPr>
            <p:cNvPr id="213" name="AutoShape 36"/>
            <p:cNvSpPr/>
            <p:nvPr/>
          </p:nvSpPr>
          <p:spPr>
            <a:xfrm rot="17313000">
              <a:off x="3725640" y="2102040"/>
              <a:ext cx="533520" cy="133560"/>
            </a:xfrm>
            <a:prstGeom prst="leftArrow">
              <a:avLst>
                <a:gd name="adj1" fmla="val 50000"/>
                <a:gd name="adj2" fmla="val 998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37"/>
            <p:cNvSpPr/>
            <p:nvPr/>
          </p:nvSpPr>
          <p:spPr>
            <a:xfrm flipH="1" rot="1151400">
              <a:off x="4083480" y="2128320"/>
              <a:ext cx="176400" cy="74520"/>
            </a:xfrm>
            <a:prstGeom prst="leftArrow">
              <a:avLst>
                <a:gd name="adj1" fmla="val 50000"/>
                <a:gd name="adj2" fmla="val 59179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AutoShape 38"/>
            <p:cNvSpPr/>
            <p:nvPr/>
          </p:nvSpPr>
          <p:spPr>
            <a:xfrm rot="1150800">
              <a:off x="3731760" y="2014200"/>
              <a:ext cx="222480" cy="74520"/>
            </a:xfrm>
            <a:prstGeom prst="leftArrow">
              <a:avLst>
                <a:gd name="adj1" fmla="val 50000"/>
                <a:gd name="adj2" fmla="val 74638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39"/>
          <p:cNvGrpSpPr/>
          <p:nvPr/>
        </p:nvGrpSpPr>
        <p:grpSpPr>
          <a:xfrm>
            <a:off x="3797640" y="2734200"/>
            <a:ext cx="537840" cy="635040"/>
            <a:chOff x="3797640" y="2734200"/>
            <a:chExt cx="537840" cy="635040"/>
          </a:xfrm>
        </p:grpSpPr>
        <p:sp>
          <p:nvSpPr>
            <p:cNvPr id="217" name="AutoShape 40"/>
            <p:cNvSpPr/>
            <p:nvPr/>
          </p:nvSpPr>
          <p:spPr>
            <a:xfrm rot="14915400">
              <a:off x="3760560" y="2958840"/>
              <a:ext cx="609480" cy="185400"/>
            </a:xfrm>
            <a:prstGeom prst="leftArrow">
              <a:avLst>
                <a:gd name="adj1" fmla="val 50000"/>
                <a:gd name="adj2" fmla="val 8218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AutoShape 41"/>
            <p:cNvSpPr/>
            <p:nvPr/>
          </p:nvSpPr>
          <p:spPr>
            <a:xfrm flipH="1" rot="20353800">
              <a:off x="4158000" y="2900520"/>
              <a:ext cx="162360" cy="110880"/>
            </a:xfrm>
            <a:prstGeom prst="leftArrow">
              <a:avLst>
                <a:gd name="adj1" fmla="val 50000"/>
                <a:gd name="adj2" fmla="val 3660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AutoShape 42"/>
            <p:cNvSpPr/>
            <p:nvPr/>
          </p:nvSpPr>
          <p:spPr>
            <a:xfrm rot="20353800">
              <a:off x="3811680" y="3032280"/>
              <a:ext cx="162360" cy="110880"/>
            </a:xfrm>
            <a:prstGeom prst="leftArrow">
              <a:avLst>
                <a:gd name="adj1" fmla="val 50000"/>
                <a:gd name="adj2" fmla="val 3660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43"/>
          <p:cNvGrpSpPr/>
          <p:nvPr/>
        </p:nvGrpSpPr>
        <p:grpSpPr>
          <a:xfrm>
            <a:off x="3717000" y="3641400"/>
            <a:ext cx="798480" cy="710640"/>
            <a:chOff x="3717000" y="3641400"/>
            <a:chExt cx="798480" cy="710640"/>
          </a:xfrm>
        </p:grpSpPr>
        <p:sp>
          <p:nvSpPr>
            <p:cNvPr id="221" name="AutoShape 44"/>
            <p:cNvSpPr/>
            <p:nvPr/>
          </p:nvSpPr>
          <p:spPr>
            <a:xfrm rot="16749600">
              <a:off x="3682080" y="3891240"/>
              <a:ext cx="685800" cy="210960"/>
            </a:xfrm>
            <a:prstGeom prst="leftArrow">
              <a:avLst>
                <a:gd name="adj1" fmla="val 50000"/>
                <a:gd name="adj2" fmla="val 81271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AutoShape 45"/>
            <p:cNvSpPr/>
            <p:nvPr/>
          </p:nvSpPr>
          <p:spPr>
            <a:xfrm flipH="1" rot="588000">
              <a:off x="4173480" y="3816000"/>
              <a:ext cx="327240" cy="198360"/>
            </a:xfrm>
            <a:prstGeom prst="leftArrow">
              <a:avLst>
                <a:gd name="adj1" fmla="val 50000"/>
                <a:gd name="adj2" fmla="val 41243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AutoShape 46"/>
            <p:cNvSpPr/>
            <p:nvPr/>
          </p:nvSpPr>
          <p:spPr>
            <a:xfrm rot="587400">
              <a:off x="3732120" y="3733920"/>
              <a:ext cx="208080" cy="196560"/>
            </a:xfrm>
            <a:prstGeom prst="leftArrow">
              <a:avLst>
                <a:gd name="adj1" fmla="val 50000"/>
                <a:gd name="adj2" fmla="val 26465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47"/>
          <p:cNvGrpSpPr/>
          <p:nvPr/>
        </p:nvGrpSpPr>
        <p:grpSpPr>
          <a:xfrm>
            <a:off x="3416040" y="4848120"/>
            <a:ext cx="1132920" cy="961920"/>
            <a:chOff x="3416040" y="4848120"/>
            <a:chExt cx="1132920" cy="961920"/>
          </a:xfrm>
        </p:grpSpPr>
        <p:sp>
          <p:nvSpPr>
            <p:cNvPr id="225" name="AutoShape 48"/>
            <p:cNvSpPr/>
            <p:nvPr/>
          </p:nvSpPr>
          <p:spPr>
            <a:xfrm rot="16954800">
              <a:off x="3485160" y="5169240"/>
              <a:ext cx="914400" cy="319320"/>
            </a:xfrm>
            <a:prstGeom prst="leftArrow">
              <a:avLst>
                <a:gd name="adj1" fmla="val 50000"/>
                <a:gd name="adj2" fmla="val 7159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AutoShape 49"/>
            <p:cNvSpPr/>
            <p:nvPr/>
          </p:nvSpPr>
          <p:spPr>
            <a:xfrm flipH="1" rot="793200">
              <a:off x="4160160" y="5114520"/>
              <a:ext cx="353880" cy="343080"/>
            </a:xfrm>
            <a:prstGeom prst="leftArrow">
              <a:avLst>
                <a:gd name="adj1" fmla="val 50000"/>
                <a:gd name="adj2" fmla="val 2578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AutoShape 50"/>
            <p:cNvSpPr/>
            <p:nvPr/>
          </p:nvSpPr>
          <p:spPr>
            <a:xfrm rot="792600">
              <a:off x="3450960" y="4943520"/>
              <a:ext cx="371520" cy="349200"/>
            </a:xfrm>
            <a:prstGeom prst="leftArrow">
              <a:avLst>
                <a:gd name="adj1" fmla="val 50000"/>
                <a:gd name="adj2" fmla="val 26598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Text Box 51"/>
          <p:cNvSpPr/>
          <p:nvPr/>
        </p:nvSpPr>
        <p:spPr>
          <a:xfrm>
            <a:off x="4495680" y="5867280"/>
            <a:ext cx="3276720" cy="6426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ter reabsorbed into vasa recta, urine becomes more concentr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52"/>
          <p:cNvSpPr/>
          <p:nvPr/>
        </p:nvSpPr>
        <p:spPr>
          <a:xfrm>
            <a:off x="0" y="6094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7c80"/>
                </a:solidFill>
                <a:latin typeface="Times New Roman"/>
              </a:rPr>
              <a:t>Cort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53"/>
          <p:cNvSpPr/>
          <p:nvPr/>
        </p:nvSpPr>
        <p:spPr>
          <a:xfrm>
            <a:off x="0" y="59436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cc"/>
                </a:solidFill>
                <a:latin typeface="Times New Roman"/>
              </a:rPr>
              <a:t>Medul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"/>
          <p:cNvGrpSpPr/>
          <p:nvPr/>
        </p:nvGrpSpPr>
        <p:grpSpPr>
          <a:xfrm>
            <a:off x="609120" y="838080"/>
            <a:ext cx="1752840" cy="2057400"/>
            <a:chOff x="609120" y="838080"/>
            <a:chExt cx="1752840" cy="2057400"/>
          </a:xfrm>
        </p:grpSpPr>
        <p:sp>
          <p:nvSpPr>
            <p:cNvPr id="232" name="Freeform 3"/>
            <p:cNvSpPr/>
            <p:nvPr/>
          </p:nvSpPr>
          <p:spPr>
            <a:xfrm flipH="1">
              <a:off x="608760" y="838080"/>
              <a:ext cx="1752840" cy="2057400"/>
            </a:xfrm>
            <a:custGeom>
              <a:avLst/>
              <a:gdLst/>
              <a:ahLst/>
              <a:rect l="l" t="t" r="r" b="b"/>
              <a:pathLst>
                <a:path w="2448" h="3360">
                  <a:moveTo>
                    <a:pt x="0" y="48"/>
                  </a:moveTo>
                  <a:lnTo>
                    <a:pt x="0" y="960"/>
                  </a:lnTo>
                  <a:lnTo>
                    <a:pt x="0" y="1920"/>
                  </a:lnTo>
                  <a:lnTo>
                    <a:pt x="0" y="2832"/>
                  </a:lnTo>
                  <a:lnTo>
                    <a:pt x="192" y="3168"/>
                  </a:lnTo>
                  <a:lnTo>
                    <a:pt x="864" y="3360"/>
                  </a:lnTo>
                  <a:lnTo>
                    <a:pt x="1632" y="3312"/>
                  </a:lnTo>
                  <a:lnTo>
                    <a:pt x="2256" y="3072"/>
                  </a:lnTo>
                  <a:lnTo>
                    <a:pt x="2448" y="2496"/>
                  </a:lnTo>
                  <a:lnTo>
                    <a:pt x="2448" y="0"/>
                  </a:lnTo>
                  <a:lnTo>
                    <a:pt x="1968" y="0"/>
                  </a:lnTo>
                  <a:lnTo>
                    <a:pt x="1968" y="960"/>
                  </a:lnTo>
                  <a:lnTo>
                    <a:pt x="1968" y="1872"/>
                  </a:lnTo>
                  <a:lnTo>
                    <a:pt x="1920" y="2496"/>
                  </a:lnTo>
                  <a:lnTo>
                    <a:pt x="1728" y="2688"/>
                  </a:lnTo>
                  <a:lnTo>
                    <a:pt x="1392" y="2784"/>
                  </a:lnTo>
                  <a:lnTo>
                    <a:pt x="1056" y="2736"/>
                  </a:lnTo>
                  <a:lnTo>
                    <a:pt x="816" y="2640"/>
                  </a:lnTo>
                  <a:lnTo>
                    <a:pt x="672" y="2496"/>
                  </a:lnTo>
                  <a:lnTo>
                    <a:pt x="672" y="1680"/>
                  </a:lnTo>
                  <a:lnTo>
                    <a:pt x="672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AutoShape 4"/>
            <p:cNvSpPr/>
            <p:nvPr/>
          </p:nvSpPr>
          <p:spPr>
            <a:xfrm flipH="1" rot="8929200">
              <a:off x="1536840" y="2542680"/>
              <a:ext cx="378000" cy="234720"/>
            </a:xfrm>
            <a:prstGeom prst="leftArrow">
              <a:avLst>
                <a:gd name="adj1" fmla="val 50000"/>
                <a:gd name="adj2" fmla="val 4026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AutoShape 5"/>
            <p:cNvSpPr/>
            <p:nvPr/>
          </p:nvSpPr>
          <p:spPr>
            <a:xfrm flipH="1" rot="12389400">
              <a:off x="883800" y="2513520"/>
              <a:ext cx="378000" cy="234720"/>
            </a:xfrm>
            <a:prstGeom prst="leftArrow">
              <a:avLst>
                <a:gd name="adj1" fmla="val 50000"/>
                <a:gd name="adj2" fmla="val 4026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AutoShape 6"/>
            <p:cNvSpPr/>
            <p:nvPr/>
          </p:nvSpPr>
          <p:spPr>
            <a:xfrm flipH="1" rot="15874800">
              <a:off x="618480" y="2096640"/>
              <a:ext cx="323280" cy="274680"/>
            </a:xfrm>
            <a:prstGeom prst="leftArrow">
              <a:avLst>
                <a:gd name="adj1" fmla="val 50000"/>
                <a:gd name="adj2" fmla="val 29423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AutoShape 7"/>
            <p:cNvSpPr/>
            <p:nvPr/>
          </p:nvSpPr>
          <p:spPr>
            <a:xfrm flipH="1" rot="16290600">
              <a:off x="619200" y="171432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AutoShape 8"/>
            <p:cNvSpPr/>
            <p:nvPr/>
          </p:nvSpPr>
          <p:spPr>
            <a:xfrm flipH="1" rot="16245000">
              <a:off x="619200" y="130284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AutoShape 9"/>
            <p:cNvSpPr/>
            <p:nvPr/>
          </p:nvSpPr>
          <p:spPr>
            <a:xfrm flipH="1" rot="16238400">
              <a:off x="619200" y="9208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AutoShape 10"/>
            <p:cNvSpPr/>
            <p:nvPr/>
          </p:nvSpPr>
          <p:spPr>
            <a:xfrm flipH="1" rot="5438400">
              <a:off x="1959480" y="9496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AutoShape 11"/>
            <p:cNvSpPr/>
            <p:nvPr/>
          </p:nvSpPr>
          <p:spPr>
            <a:xfrm flipH="1" rot="5438400">
              <a:off x="1959480" y="13024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AutoShape 12"/>
            <p:cNvSpPr/>
            <p:nvPr/>
          </p:nvSpPr>
          <p:spPr>
            <a:xfrm flipH="1" rot="5438400">
              <a:off x="1959480" y="171396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AutoShape 13"/>
            <p:cNvSpPr/>
            <p:nvPr/>
          </p:nvSpPr>
          <p:spPr>
            <a:xfrm flipH="1" rot="5438400">
              <a:off x="1959480" y="20962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14"/>
          <p:cNvGrpSpPr/>
          <p:nvPr/>
        </p:nvGrpSpPr>
        <p:grpSpPr>
          <a:xfrm>
            <a:off x="3048120" y="838080"/>
            <a:ext cx="1752480" cy="3505320"/>
            <a:chOff x="3048120" y="838080"/>
            <a:chExt cx="1752480" cy="3505320"/>
          </a:xfrm>
        </p:grpSpPr>
        <p:sp>
          <p:nvSpPr>
            <p:cNvPr id="244" name="Freeform 15"/>
            <p:cNvSpPr/>
            <p:nvPr/>
          </p:nvSpPr>
          <p:spPr>
            <a:xfrm flipH="1">
              <a:off x="3048120" y="838080"/>
              <a:ext cx="1752480" cy="3505320"/>
            </a:xfrm>
            <a:custGeom>
              <a:avLst/>
              <a:gdLst/>
              <a:ahLst/>
              <a:rect l="l" t="t" r="r" b="b"/>
              <a:pathLst>
                <a:path w="2448" h="3360">
                  <a:moveTo>
                    <a:pt x="0" y="48"/>
                  </a:moveTo>
                  <a:lnTo>
                    <a:pt x="0" y="960"/>
                  </a:lnTo>
                  <a:lnTo>
                    <a:pt x="0" y="1920"/>
                  </a:lnTo>
                  <a:lnTo>
                    <a:pt x="0" y="2832"/>
                  </a:lnTo>
                  <a:lnTo>
                    <a:pt x="192" y="3168"/>
                  </a:lnTo>
                  <a:lnTo>
                    <a:pt x="864" y="3360"/>
                  </a:lnTo>
                  <a:lnTo>
                    <a:pt x="1632" y="3312"/>
                  </a:lnTo>
                  <a:lnTo>
                    <a:pt x="2256" y="3072"/>
                  </a:lnTo>
                  <a:lnTo>
                    <a:pt x="2448" y="2496"/>
                  </a:lnTo>
                  <a:lnTo>
                    <a:pt x="2448" y="0"/>
                  </a:lnTo>
                  <a:lnTo>
                    <a:pt x="1968" y="0"/>
                  </a:lnTo>
                  <a:lnTo>
                    <a:pt x="1968" y="960"/>
                  </a:lnTo>
                  <a:lnTo>
                    <a:pt x="1968" y="1872"/>
                  </a:lnTo>
                  <a:lnTo>
                    <a:pt x="1920" y="2496"/>
                  </a:lnTo>
                  <a:lnTo>
                    <a:pt x="1728" y="2688"/>
                  </a:lnTo>
                  <a:lnTo>
                    <a:pt x="1392" y="2784"/>
                  </a:lnTo>
                  <a:lnTo>
                    <a:pt x="1056" y="2736"/>
                  </a:lnTo>
                  <a:lnTo>
                    <a:pt x="816" y="2640"/>
                  </a:lnTo>
                  <a:lnTo>
                    <a:pt x="672" y="2496"/>
                  </a:lnTo>
                  <a:lnTo>
                    <a:pt x="672" y="1680"/>
                  </a:lnTo>
                  <a:lnTo>
                    <a:pt x="672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AutoShape 16"/>
            <p:cNvSpPr/>
            <p:nvPr/>
          </p:nvSpPr>
          <p:spPr>
            <a:xfrm flipH="1" rot="8929200">
              <a:off x="3976200" y="3741840"/>
              <a:ext cx="377640" cy="4006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AutoShape 17"/>
            <p:cNvSpPr/>
            <p:nvPr/>
          </p:nvSpPr>
          <p:spPr>
            <a:xfrm flipH="1" rot="12389400">
              <a:off x="3323160" y="3692520"/>
              <a:ext cx="377640" cy="40032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AutoShape 18"/>
            <p:cNvSpPr/>
            <p:nvPr/>
          </p:nvSpPr>
          <p:spPr>
            <a:xfrm flipH="1" rot="15874800">
              <a:off x="2944800" y="3079080"/>
              <a:ext cx="550800" cy="274320"/>
            </a:xfrm>
            <a:prstGeom prst="leftArrow">
              <a:avLst>
                <a:gd name="adj1" fmla="val 50000"/>
                <a:gd name="adj2" fmla="val 5019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AutoShape 19"/>
            <p:cNvSpPr/>
            <p:nvPr/>
          </p:nvSpPr>
          <p:spPr>
            <a:xfrm flipH="1" rot="16290600">
              <a:off x="2944800" y="2428200"/>
              <a:ext cx="550800" cy="274320"/>
            </a:xfrm>
            <a:prstGeom prst="leftArrow">
              <a:avLst>
                <a:gd name="adj1" fmla="val 50000"/>
                <a:gd name="adj2" fmla="val 5019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20"/>
            <p:cNvSpPr/>
            <p:nvPr/>
          </p:nvSpPr>
          <p:spPr>
            <a:xfrm flipH="1" rot="16245000">
              <a:off x="2944440" y="172692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21"/>
            <p:cNvSpPr/>
            <p:nvPr/>
          </p:nvSpPr>
          <p:spPr>
            <a:xfrm flipH="1" rot="16238400">
              <a:off x="2945160" y="107604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AutoShape 22"/>
            <p:cNvSpPr/>
            <p:nvPr/>
          </p:nvSpPr>
          <p:spPr>
            <a:xfrm flipH="1" rot="5438400">
              <a:off x="4284360" y="112608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AutoShape 23"/>
            <p:cNvSpPr/>
            <p:nvPr/>
          </p:nvSpPr>
          <p:spPr>
            <a:xfrm flipH="1" rot="5438400">
              <a:off x="4284360" y="172692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AutoShape 24"/>
            <p:cNvSpPr/>
            <p:nvPr/>
          </p:nvSpPr>
          <p:spPr>
            <a:xfrm flipH="1" rot="5438400">
              <a:off x="4284360" y="242820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AutoShape 25"/>
            <p:cNvSpPr/>
            <p:nvPr/>
          </p:nvSpPr>
          <p:spPr>
            <a:xfrm flipH="1" rot="5438400">
              <a:off x="4284360" y="307908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26"/>
          <p:cNvGrpSpPr/>
          <p:nvPr/>
        </p:nvGrpSpPr>
        <p:grpSpPr>
          <a:xfrm>
            <a:off x="5860080" y="914400"/>
            <a:ext cx="1759680" cy="5638320"/>
            <a:chOff x="5860080" y="914400"/>
            <a:chExt cx="1759680" cy="5638320"/>
          </a:xfrm>
        </p:grpSpPr>
        <p:sp>
          <p:nvSpPr>
            <p:cNvPr id="256" name="Freeform 27"/>
            <p:cNvSpPr/>
            <p:nvPr/>
          </p:nvSpPr>
          <p:spPr>
            <a:xfrm flipH="1">
              <a:off x="5866560" y="914400"/>
              <a:ext cx="1752840" cy="5638320"/>
            </a:xfrm>
            <a:custGeom>
              <a:avLst/>
              <a:gdLst/>
              <a:ahLst/>
              <a:rect l="l" t="t" r="r" b="b"/>
              <a:pathLst>
                <a:path w="2448" h="3360">
                  <a:moveTo>
                    <a:pt x="0" y="48"/>
                  </a:moveTo>
                  <a:lnTo>
                    <a:pt x="0" y="960"/>
                  </a:lnTo>
                  <a:lnTo>
                    <a:pt x="0" y="1920"/>
                  </a:lnTo>
                  <a:lnTo>
                    <a:pt x="0" y="2832"/>
                  </a:lnTo>
                  <a:lnTo>
                    <a:pt x="192" y="3168"/>
                  </a:lnTo>
                  <a:lnTo>
                    <a:pt x="864" y="3360"/>
                  </a:lnTo>
                  <a:lnTo>
                    <a:pt x="1632" y="3312"/>
                  </a:lnTo>
                  <a:lnTo>
                    <a:pt x="2256" y="3072"/>
                  </a:lnTo>
                  <a:lnTo>
                    <a:pt x="2448" y="2496"/>
                  </a:lnTo>
                  <a:lnTo>
                    <a:pt x="2448" y="0"/>
                  </a:lnTo>
                  <a:lnTo>
                    <a:pt x="1968" y="0"/>
                  </a:lnTo>
                  <a:lnTo>
                    <a:pt x="1968" y="960"/>
                  </a:lnTo>
                  <a:lnTo>
                    <a:pt x="1968" y="1872"/>
                  </a:lnTo>
                  <a:lnTo>
                    <a:pt x="1920" y="2496"/>
                  </a:lnTo>
                  <a:lnTo>
                    <a:pt x="1728" y="2688"/>
                  </a:lnTo>
                  <a:lnTo>
                    <a:pt x="1392" y="2784"/>
                  </a:lnTo>
                  <a:lnTo>
                    <a:pt x="1056" y="2736"/>
                  </a:lnTo>
                  <a:lnTo>
                    <a:pt x="816" y="2640"/>
                  </a:lnTo>
                  <a:lnTo>
                    <a:pt x="672" y="2496"/>
                  </a:lnTo>
                  <a:lnTo>
                    <a:pt x="672" y="1680"/>
                  </a:lnTo>
                  <a:lnTo>
                    <a:pt x="672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AutoShape 28"/>
            <p:cNvSpPr/>
            <p:nvPr/>
          </p:nvSpPr>
          <p:spPr>
            <a:xfrm flipH="1" rot="8929200">
              <a:off x="6794280" y="5586480"/>
              <a:ext cx="378000" cy="6440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AutoShape 29"/>
            <p:cNvSpPr/>
            <p:nvPr/>
          </p:nvSpPr>
          <p:spPr>
            <a:xfrm flipH="1" rot="12389400">
              <a:off x="6141240" y="5505120"/>
              <a:ext cx="378000" cy="6440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AutoShape 30"/>
            <p:cNvSpPr/>
            <p:nvPr/>
          </p:nvSpPr>
          <p:spPr>
            <a:xfrm flipH="1" rot="15874800">
              <a:off x="5595480" y="4603320"/>
              <a:ext cx="885960" cy="275040"/>
            </a:xfrm>
            <a:prstGeom prst="leftArrow">
              <a:avLst>
                <a:gd name="adj1" fmla="val 50000"/>
                <a:gd name="adj2" fmla="val 8053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AutoShape 31"/>
            <p:cNvSpPr/>
            <p:nvPr/>
          </p:nvSpPr>
          <p:spPr>
            <a:xfrm flipH="1" rot="16290600">
              <a:off x="5595480" y="3555360"/>
              <a:ext cx="885960" cy="275040"/>
            </a:xfrm>
            <a:prstGeom prst="leftArrow">
              <a:avLst>
                <a:gd name="adj1" fmla="val 50000"/>
                <a:gd name="adj2" fmla="val 8053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AutoShape 32"/>
            <p:cNvSpPr/>
            <p:nvPr/>
          </p:nvSpPr>
          <p:spPr>
            <a:xfrm flipH="1" rot="16245000">
              <a:off x="5595480" y="2427840"/>
              <a:ext cx="885960" cy="275040"/>
            </a:xfrm>
            <a:prstGeom prst="leftArrow">
              <a:avLst>
                <a:gd name="adj1" fmla="val 50000"/>
                <a:gd name="adj2" fmla="val 8053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AutoShape 33"/>
            <p:cNvSpPr/>
            <p:nvPr/>
          </p:nvSpPr>
          <p:spPr>
            <a:xfrm flipH="1" rot="16238400">
              <a:off x="5595480" y="138096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AutoShape 34"/>
            <p:cNvSpPr/>
            <p:nvPr/>
          </p:nvSpPr>
          <p:spPr>
            <a:xfrm flipH="1" rot="5438400">
              <a:off x="6936120" y="146088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35"/>
            <p:cNvSpPr/>
            <p:nvPr/>
          </p:nvSpPr>
          <p:spPr>
            <a:xfrm flipH="1" rot="5438400">
              <a:off x="6936120" y="242748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AutoShape 36"/>
            <p:cNvSpPr/>
            <p:nvPr/>
          </p:nvSpPr>
          <p:spPr>
            <a:xfrm flipH="1" rot="5438400">
              <a:off x="6936120" y="355500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AutoShape 37"/>
            <p:cNvSpPr/>
            <p:nvPr/>
          </p:nvSpPr>
          <p:spPr>
            <a:xfrm flipH="1" rot="5438400">
              <a:off x="6936120" y="460260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Text Box 38"/>
          <p:cNvSpPr/>
          <p:nvPr/>
        </p:nvSpPr>
        <p:spPr>
          <a:xfrm>
            <a:off x="1067400" y="297180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9"/>
          <p:cNvSpPr/>
          <p:nvPr/>
        </p:nvSpPr>
        <p:spPr>
          <a:xfrm>
            <a:off x="3429000" y="434340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0"/>
          <p:cNvSpPr/>
          <p:nvPr/>
        </p:nvSpPr>
        <p:spPr>
          <a:xfrm>
            <a:off x="6172560" y="624852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sert 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1"/>
          <p:cNvSpPr/>
          <p:nvPr/>
        </p:nvSpPr>
        <p:spPr>
          <a:xfrm>
            <a:off x="811080" y="4967280"/>
            <a:ext cx="466596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length of the loop of Henle is re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the environment that the animal lives 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longer loop will conserve more water, 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imals in drier environments have lo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2362320" y="13716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GB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est yourself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600200" y="3581280"/>
            <a:ext cx="57913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 warned - this test requires you to underst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veryth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goes on in the neph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for the faint-heart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828800" y="2514600"/>
            <a:ext cx="5257800" cy="8254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if the test doesn’t appear straight away, click on ‘Reload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2:25:26Z</dcterms:created>
  <dc:creator>East Lothian Council</dc:creator>
  <dc:description/>
  <dc:language>en-US</dc:language>
  <cp:lastModifiedBy>RomaK</cp:lastModifiedBy>
  <dcterms:modified xsi:type="dcterms:W3CDTF">2015-09-04T10:46:30Z</dcterms:modified>
  <cp:revision>9</cp:revision>
  <dc:subject/>
  <dc:title>PowerPoint Presentation</dc:title>
</cp:coreProperties>
</file>