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4.png" ContentType="image/png"/>
  <Override PartName="/ppt/media/cashreg.wav" ContentType="audio/x-wav"/>
  <Override PartName="/ppt/media/image8.wmf" ContentType="image/x-wmf"/>
  <Override PartName="/ppt/media/image9.png" ContentType="image/png"/>
  <Override PartName="/ppt/media/projctor.wav" ContentType="audio/x-wav"/>
  <Override PartName="/ppt/media/image7.wmf" ContentType="image/x-wmf"/>
  <Override PartName="/ppt/media/chimes.wav" ContentType="audio/x-wav"/>
  <Override PartName="/ppt/media/image6.wmf" ContentType="image/x-wmf"/>
  <Override PartName="/ppt/media/drumroll.wav" ContentType="audio/x-wav"/>
  <Override PartName="/ppt/media/type.wav" ContentType="audio/x-wav"/>
  <Override PartName="/ppt/media/image1.jpeg" ContentType="image/jpeg"/>
  <Override PartName="/ppt/media/image5.wmf" ContentType="image/x-wmf"/>
  <Override PartName="/ppt/media/glass.wav" ContentType="audio/x-wav"/>
  <Override PartName="/ppt/media/image2.jpeg" ContentType="image/jpeg"/>
  <Override PartName="/ppt/media/gunshot.wav" ContentType="audio/x-wav"/>
  <Override PartName="/ppt/media/image3.png" ContentType="image/png"/>
  <Override PartName="/ppt/media/camera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91AC-844E-4B1C-A1BD-4320902EE5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animals adapted to survive in the Arc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like polar bears will have a thick insulating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ually have 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a camouflaged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hese adaptations hel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fur c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body size to surface area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mount of body f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ouf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s heat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heat loss b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s as a food store and to keep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fur is good camouflage to hide from p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sert can have very little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lot of sunshine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very little sh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s can ge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ight it can become very 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a camel adapted to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ls can store large amounts of water in the fat in their h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feet with a large surface area to allow them to walk on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have long eye-lashes to stop sand blowing into their 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reptiles survive in the dese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ptiles will find some shade under a rock during the hottest part of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alking on hot sand a lizard will try to touch the ground with only a small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zard keeps swopping feet, and only stands on two feet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nake keeps a loop of itself off the ground as it moves across the sand side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species living in a particular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actors could change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, water an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ors will eat prey and reduce the population (including the number of offsp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the population may leave th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ease could kill some of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ught, fire, floods, volcanic eruptions etc could alter the habitat and affect th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s can result in the death of many members of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can affect the numbers and the distribution of a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are individuals adapt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affect their survival in a habi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lse lives there? This may mean competition for 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may be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dapt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 describes how a plant of animal is able to survive in variou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can cope with the different aspects of their environment, for example,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ways a struggle for plants and animals to surv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STRUGGL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protection 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 by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acc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STRUG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inerals in the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being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daptation help organis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adapted organisms are better at coping with extremes of w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competing for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etter at escaping from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more likely to survive in their habitat and produce 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tic habi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ort of habitat can have extremely low temper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nd is covered with white snow for most of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01D-DBAA-473A-B3DE-2D9378C3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169-2C1C-4DBD-8186-AFEB134E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3B3-135B-478F-9F71-79E38C9A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FFD-DB9E-4CB9-85B5-ECF3BC2B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74A-A375-4DF6-8B3B-A03E4324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55C-6A0E-4D54-B18D-CC612772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1BC-6B03-46C3-A03C-A4D6DEBA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137-3F89-4D5C-B5F8-7ADA0D31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EA9-B48A-4D47-866B-B2793354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A35-2B8A-44CC-8C70-CA39731D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8514-0864-4C0D-B729-F2E9C7C6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7E8-2089-492D-BF2B-C876CF6F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959D-BB49-4452-BA91-7014F717B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00ff"/>
                </a:solidFill>
                <a:latin typeface="Times New Roman"/>
              </a:rPr>
              <a:t>POP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How are animals adapted to survive in the Arcti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Animals like polar bears will have a thick insulating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usually have a large amount of body f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large body size to surface area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have a camouflaged c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bd10915_"/>
          <p:cNvPicPr/>
          <p:nvPr/>
        </p:nvPicPr>
        <p:blipFill>
          <a:blip r:embed="rId1"/>
          <a:stretch/>
        </p:blipFill>
        <p:spPr>
          <a:xfrm>
            <a:off x="685800" y="2827440"/>
            <a:ext cx="3429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Andy"/>
              </a:rPr>
              <a:t>How do these adaptations hel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thick fur c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Large body size to surface area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A large amount of body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ouf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335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Traps heat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Reduces heat loss by ra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Acts as a food store and to keep 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Andy"/>
              </a:rPr>
              <a:t>White fur is good camouflage to hide from p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ndy"/>
              </a:rPr>
              <a:t>A desert enviro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 desert can have very little 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a lot of sunshine during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re is very little sh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The temperatures can get very h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At night it can become very c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na01470_"/>
          <p:cNvPicPr/>
          <p:nvPr/>
        </p:nvPicPr>
        <p:blipFill>
          <a:blip r:embed="rId1"/>
          <a:stretch/>
        </p:blipFill>
        <p:spPr>
          <a:xfrm>
            <a:off x="228600" y="2362320"/>
            <a:ext cx="4267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ndy"/>
              </a:rPr>
              <a:t>How is a camel adapted to survive in the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95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Camels can store large amounts of water in the fat in their hu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have feet with a large surface area to allow them to walk on 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ey also have long eye-lashes to stop sand blowing into their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an02317_"/>
          <p:cNvPicPr/>
          <p:nvPr/>
        </p:nvPicPr>
        <p:blipFill>
          <a:blip r:embed="rId1"/>
          <a:stretch/>
        </p:blipFill>
        <p:spPr>
          <a:xfrm>
            <a:off x="5181480" y="2514600"/>
            <a:ext cx="3267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ndy"/>
              </a:rPr>
              <a:t>How do reptiles survive in the dese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Most reptiles will find some shade under a rock during the hottest part of the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When walking on hot sand a lizard will try to touch the ground with only a smal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lizard keeps swopping feet, and only stands on two fee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ndy"/>
              </a:rPr>
              <a:t>This snake keeps a loop of itself off the ground as it moves across the sand side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bd07371_"/>
          <p:cNvPicPr/>
          <p:nvPr/>
        </p:nvPicPr>
        <p:blipFill>
          <a:blip r:embed="rId1"/>
          <a:stretch/>
        </p:blipFill>
        <p:spPr>
          <a:xfrm>
            <a:off x="457200" y="205740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an02609_"/>
          <p:cNvPicPr/>
          <p:nvPr/>
        </p:nvPicPr>
        <p:blipFill>
          <a:blip r:embed="rId2"/>
          <a:stretch/>
        </p:blipFill>
        <p:spPr>
          <a:xfrm>
            <a:off x="1295280" y="4038480"/>
            <a:ext cx="17337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99ff"/>
                </a:solidFill>
                <a:latin typeface="Andy"/>
              </a:rPr>
              <a:t>Population siz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ndy"/>
              </a:rPr>
              <a:t>A population is the number of a species living in a particular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 factors could change a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666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99ff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Arial"/>
              </a:rPr>
              <a:t>Pre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Arial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ff"/>
                </a:solidFill>
                <a:latin typeface="Arial"/>
              </a:rPr>
              <a:t>Natural dis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99ff"/>
                </a:solidFill>
                <a:latin typeface="Arial"/>
              </a:rPr>
              <a:t>For food, water and 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Arial"/>
              </a:rPr>
              <a:t>Predators will eat prey and reduce the population (including the number of offsp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00"/>
                </a:solidFill>
                <a:latin typeface="Arial"/>
              </a:rPr>
              <a:t>Members of the population may leave th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 disease could kill some of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ff"/>
                </a:solidFill>
                <a:latin typeface="Arial"/>
              </a:rPr>
              <a:t>Drought, fire, floods, volcanic eruptions etc could alter the habitat and affect the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rs can result in the death of many members of a 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else can affect the numbers and the distribution of a popul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well are individuals adapt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will affect their survival in a habi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else lives there? This may mean competition for 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may be pred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j0148918"/>
          <p:cNvPicPr/>
          <p:nvPr/>
        </p:nvPicPr>
        <p:blipFill>
          <a:blip r:embed="rId1"/>
          <a:stretch/>
        </p:blipFill>
        <p:spPr>
          <a:xfrm>
            <a:off x="4876920" y="1981080"/>
            <a:ext cx="2974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2"/>
          <p:cNvSpPr txBox="1"/>
          <p:nvPr/>
        </p:nvSpPr>
        <p:spPr>
          <a:xfrm>
            <a:off x="1447920" y="1828800"/>
            <a:ext cx="6095880" cy="21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Adaptation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What is adap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Adaptation describes how a plant of animal is able to survive in various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ndy"/>
              </a:rPr>
              <a:t>Well adapted organisms can cope with the different aspects of their environment, for example, the tempera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ndy"/>
              </a:rPr>
              <a:t>It is always a struggle for plants and animals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ANIMALS STRUGG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For protection 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being eaten by pred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ndy"/>
              </a:rPr>
              <a:t>Against ac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ndy"/>
              </a:rPr>
              <a:t>PLANTS STRUGGLE</a:t>
            </a:r>
            <a:r>
              <a:rPr b="0" lang="en-GB" sz="2800" spc="-1" strike="noStrike">
                <a:solidFill>
                  <a:srgbClr val="000000"/>
                </a:solidFill>
                <a:latin typeface="Andy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For minerals in the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wea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00"/>
                </a:solidFill>
                <a:latin typeface="Andy"/>
              </a:rPr>
              <a:t>Against being e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cc00"/>
                </a:solidFill>
                <a:latin typeface="Andy"/>
              </a:rPr>
              <a:t>How does adaptation help organis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Well adapted organisms are better at coping with extremes of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competing for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better at escaping from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y are more likely to survive in their habitat and produce offspr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ndy"/>
              </a:rPr>
              <a:t>An arctic habit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is sort of habitat can have extremely low temper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ndy"/>
              </a:rPr>
              <a:t>The ground is covered with white snow for most of th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ph00780u"/>
          <p:cNvPicPr/>
          <p:nvPr/>
        </p:nvPicPr>
        <p:blipFill>
          <a:blip r:embed="rId1"/>
          <a:stretch/>
        </p:blipFill>
        <p:spPr>
          <a:xfrm>
            <a:off x="4648320" y="2679840"/>
            <a:ext cx="38098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39:27Z</dcterms:created>
  <dc:creator> </dc:creator>
  <dc:description/>
  <dc:language>en-US</dc:language>
  <cp:lastModifiedBy>RomaK</cp:lastModifiedBy>
  <dcterms:modified xsi:type="dcterms:W3CDTF">2015-09-04T10:51:37Z</dcterms:modified>
  <cp:revision>11</cp:revision>
  <dc:subject/>
  <dc:title>Populations, Competition, Predation, Migration, Disease</dc:title>
</cp:coreProperties>
</file>