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1.jpeg" ContentType="image/jpeg"/>
  <Override PartName="/ppt/media/image19.jpeg" ContentType="image/jpeg"/>
  <Override PartName="/ppt/media/image27.jpeg" ContentType="image/jpeg"/>
  <Override PartName="/ppt/media/image33.jpeg" ContentType="image/jpeg"/>
  <Override PartName="/ppt/media/image6.jpeg" ContentType="image/jpeg"/>
  <Override PartName="/ppt/media/image25.gif" ContentType="image/gif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7.wmf" ContentType="image/x-wmf"/>
  <Override PartName="/ppt/media/image30.jpeg" ContentType="image/jpeg"/>
  <Override PartName="/ppt/media/image31.jpeg" ContentType="image/jpeg"/>
  <Override PartName="/ppt/media/image4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DC61-06C2-4CB9-9B68-EBBEC103EE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ld War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ld War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de western front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defeating France concentrate on 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fighting a 2 fron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de western front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defeating France concentrate on 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fighting a 2 fron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y made vast encircling movement through Belgium to enter P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estimated speed of the British mob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ly sent troops to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y made vast encircling movement through Belgium to enter P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estimated speed of the British mob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ly sent troops to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 6-10, 19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Mar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ped the Germans but French troops were exhau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sides dug trenches for she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 6-10, 19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Mar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ped the Germans but French troops were exhau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sides dug trenches for she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es dug from English Channel to Switzer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250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to 8 feet d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obilized both sides for 4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es dug from English Channel to Switzer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250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to 8 feet d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obilized both sides for 4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aborate systems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machine gun n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tar batt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lived in holes under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aborate systems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machine gun n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tar batt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lived in holes under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e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iers read to pass th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ah Bernhardt came out to the front to read poetry to the sold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e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iers read to pass th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ah Bernhardt came out to the front to read poetry to the sold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vitability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e 28, 1914 Archduke Francis Ferdinand of Austria assass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5, 1914 Germany issues A-H “blank check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dging military assistance if A-H goes to war against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3, 1914 Austria issues Serbia an ultima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vitability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e 28, 1914 Archduke Francis Ferdinand of Austria assass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5, 1914 Germany issues A-H “blank check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dging military assistance if A-H goes to war against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3, 1914 Austria issues Serbia an ultima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l had on us the stench of dead bodies.”  Death numbed the soldier’s mi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 sh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deva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l had on us the stench of dead bodies.”  Death numbed the soldier’s mi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 sh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deva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ard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by the 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ed out soldier’s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dly in the trench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t woul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 at the bot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ard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by the 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ed out soldier’s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dly in the trench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t woul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 at the bot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baffled military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mpt a break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return to a war of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young men sacrificed attempting the break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baffled military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mpt a break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return to a war of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young men sacrificed attempting the break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weapons crippled the “frozen fron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on gas (mustard g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gren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thr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weapons crippled the “frozen fron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on gas (mustard g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gren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thr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g fights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mbing inaccu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is and London bomb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ots fired pistols and threw hand gren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g fights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mbing inaccu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is and London bomb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ots fired pistols and threw hand gren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ssian army moved into Eastern Germany on August 30, 19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ustrians kicked out of Ser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ians attacked Austria in 19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 came to Austrian aid and pushed Russians back 300 miles into own terr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ssian army moved into Eastern Germany on August 30, 19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ustrians kicked out of Ser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ians attacked Austria in 19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 came to Austrian aid and pushed Russians back 300 miles into own terr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more mobile more than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loss of life still very 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5:  2.5 million Russians killed, captured, or woun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more mobile more than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loss of life still very 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5:  2.5 million Russians killed, captured, or woun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y and Austria Hungary joined by Bulgaria in Sept. 19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acked and eliminated Serbia from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y and Austria Hungary joined by Bulgaria in Sept. 19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acked and eliminated Serbia from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vitability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8, 1914 A-H declares war on Ser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1914 Russia orders full mobilization of its tr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1,1914 Germany declares war on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2, 1914 Germany demands Belgium declare access to German tr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vitability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8, 1914 A-H declares war on Ser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1914 Russia orders full mobilization of its tr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1,1914 Germany declares war on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2, 1914 Germany demands Belgium declare access to German tr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took war factory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d lower wages than 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shortages made running a household diffic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took war factory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d lower wages than 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shortages made running a household diffic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told about high death to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iers have died a beautiful death, in noble battle, we shall rediscover poetry…epic and chivalrou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told about high death to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iers have died a beautiful death, in noble battle, we shall rediscover poetry…epic and chivalrou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spapers described troops as itching to go over the top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 reported to the press that life in the trenches promoted good health and clear ai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spapers described troops as itching to go over the top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 reported to the press that life in the trenches promoted good health and clear ai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Leav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would stay together so they could sympathize with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Leav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would stay together so they could sympathize with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ssible to hide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in mou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dly wounded soldiers returned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ion began to eme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ssible to hide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in mou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dly wounded soldiers returned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ion began to eme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7 – Russia surrenders (a separate pe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 joins the war on the Allied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. 11, 1918 Armi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7 – Russia surrenders (a separate pe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 joins the war on the Allied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. 11, 1918 Armi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ath Toll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ath Toll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lost limbs and were muti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rate fell marked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lids unable to 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nic host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epi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lost limbs and were muti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rate fell marked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lids unable to 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nic host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epi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such innocence agai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terness towards aristocratic officers whose lives were never in d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such innocence agai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terness towards aristocratic officers whose lives were never in d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gium is a country, not a roa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Albert I of Belgium denied per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2, 1914 Germany declared war on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4, 1914 Great Britain declared war on Germany for violating Belgian neutr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gium is a country, not a roa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Albert I of Belgium denied per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2, 1914 Germany declared war on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4, 1914 Great Britain declared war on Germany for violating Belgian neutr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Europeans were excited abou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d yourself against the aggressor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estic differences were put a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Europeans were excited abou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d yourself against the aggressor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estic differences were put a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would be over in a few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ored the length and brutality of the American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totype to World War 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would be over in a few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ored the length and brutality of the American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totype to World War 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f that Modern industrial war could not be conducted for more than a few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by Christma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f that Modern industrial war could not be conducted for more than a few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by Christma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al attraction of w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larating release from every da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lorious adven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would rid the nations of selfi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rk a national re-birth based on hero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al attraction of w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larating release from every da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lorious adven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would rid the nations of selfi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rk a national re-birth based on hero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1CBF-1162-414D-A2C9-F2FCBE97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1ACC-61EF-4C0C-9009-F8EE413C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859E-D85F-4EF8-8E60-C471C35B6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E97D-C976-4E2F-8F4E-AF647909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8050-F779-4EB3-9D9D-54BD1CA8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3740-D431-4A08-A2F5-8B64F3F3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FC89-E2E2-4884-9284-67924673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E7F1-4E76-4D89-9D93-29DB5874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01DA-F5C0-4B35-9DB8-9D3412C8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7C02-308C-4316-8C6A-BA762964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CD0B-D9DE-4FDF-A8EE-389E3D3E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8734-DBBF-48B8-B860-C8853910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B02B-BCA1-43C7-B73C-685A6F6E0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cps.k12.va.us/NewingtonForestES/Gradepages/World%20War%20I/images/WWIflames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information-imaging.com/speakman/wwi/trench01.html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reatwar.ie/ir-batt_gfx/trenches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hackmatack.ca/2003/Poppies.jpg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ll MT"/>
              </a:rPr>
              <a:t>World War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WWIflam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461960"/>
            <a:ext cx="71625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schlieffen2"/>
          <p:cNvPicPr/>
          <p:nvPr/>
        </p:nvPicPr>
        <p:blipFill>
          <a:blip r:embed="rId1"/>
          <a:stretch/>
        </p:blipFill>
        <p:spPr>
          <a:xfrm>
            <a:off x="1295280" y="1447920"/>
            <a:ext cx="678204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chlieffe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de western front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defeating France concentrate on the Eastern fr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fighting a 2 front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schlieffen%20p"/>
          <p:cNvPicPr/>
          <p:nvPr/>
        </p:nvPicPr>
        <p:blipFill>
          <a:blip r:embed="rId1"/>
          <a:stretch/>
        </p:blipFill>
        <p:spPr>
          <a:xfrm>
            <a:off x="4952880" y="1447920"/>
            <a:ext cx="3886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y made vast encircling movement through Belgium to enter 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estimated speed of the British mob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ly sent troops to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map_plan"/>
          <p:cNvPicPr/>
          <p:nvPr/>
        </p:nvPicPr>
        <p:blipFill>
          <a:blip r:embed="rId1"/>
          <a:stretch/>
        </p:blipFill>
        <p:spPr>
          <a:xfrm>
            <a:off x="4648320" y="2131920"/>
            <a:ext cx="4267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 6-10, 19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tle of Ma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ped the Germans but French troops were exhau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sides dug trenches for she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LE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map_plan"/>
          <p:cNvPicPr/>
          <p:nvPr/>
        </p:nvPicPr>
        <p:blipFill>
          <a:blip r:embed="rId1"/>
          <a:stretch/>
        </p:blipFill>
        <p:spPr>
          <a:xfrm>
            <a:off x="4648320" y="2131920"/>
            <a:ext cx="4267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nches dug from English Channel to Switzer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250 m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to 8 feet d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obilized both sides for 4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tren001"/>
          <p:cNvPicPr/>
          <p:nvPr/>
        </p:nvPicPr>
        <p:blipFill>
          <a:blip r:embed="rId1"/>
          <a:stretch/>
        </p:blipFill>
        <p:spPr>
          <a:xfrm>
            <a:off x="4913280" y="1447920"/>
            <a:ext cx="365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trend01"/>
          <p:cNvPicPr/>
          <p:nvPr/>
        </p:nvPicPr>
        <p:blipFill>
          <a:blip r:embed="rId1"/>
          <a:stretch/>
        </p:blipFill>
        <p:spPr>
          <a:xfrm>
            <a:off x="914400" y="1255680"/>
            <a:ext cx="792468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tww086c"/>
          <p:cNvPicPr/>
          <p:nvPr/>
        </p:nvPicPr>
        <p:blipFill>
          <a:blip r:embed="rId1"/>
          <a:stretch/>
        </p:blipFill>
        <p:spPr>
          <a:xfrm>
            <a:off x="2141640" y="0"/>
            <a:ext cx="47466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trenchdetail01x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57240"/>
            <a:ext cx="8381880" cy="65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system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f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bed w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rete machine gun n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tar batt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ops lived in holes under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trench"/>
          <p:cNvPicPr/>
          <p:nvPr/>
        </p:nvPicPr>
        <p:blipFill>
          <a:blip r:embed="rId1"/>
          <a:stretch/>
        </p:blipFill>
        <p:spPr>
          <a:xfrm>
            <a:off x="4343400" y="2251080"/>
            <a:ext cx="480060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diers read to pass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rah Bernhardt came out to the front to read poetry to the sold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Trenches"/>
          <p:cNvPicPr/>
          <p:nvPr/>
        </p:nvPicPr>
        <p:blipFill>
          <a:blip r:embed="rId1"/>
          <a:stretch/>
        </p:blipFill>
        <p:spPr>
          <a:xfrm>
            <a:off x="4114800" y="19479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Inevitability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June 28, 1914 Archduke Francis Ferdinand of Austria assass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July 5, 1914 Germany issues A-H “blank check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ledging military assistance if A-H goes to war agains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July 23, 1914 Austria issues Serbia an ultim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ePointro2"/>
          <p:cNvPicPr/>
          <p:nvPr/>
        </p:nvPicPr>
        <p:blipFill>
          <a:blip r:embed="rId1"/>
          <a:stretch/>
        </p:blipFill>
        <p:spPr>
          <a:xfrm>
            <a:off x="4449600" y="1066680"/>
            <a:ext cx="4570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ll had on us the stench of dead bodies.”  Death numbed the soldier’s mi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sh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ychological deva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trench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2133720"/>
            <a:ext cx="46101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ard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ied by the w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ned out soldier’s lu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dly in the trench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t woul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 at the 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c080027"/>
          <p:cNvPicPr/>
          <p:nvPr/>
        </p:nvPicPr>
        <p:blipFill>
          <a:blip r:embed="rId1"/>
          <a:stretch/>
        </p:blipFill>
        <p:spPr>
          <a:xfrm>
            <a:off x="4038480" y="1984320"/>
            <a:ext cx="510552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nch warfare baffled militar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empt a break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return to a war of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lions of young men sacrificed attempting the break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Trench%20Warfare"/>
          <p:cNvPicPr/>
          <p:nvPr/>
        </p:nvPicPr>
        <p:blipFill>
          <a:blip r:embed="rId1"/>
          <a:stretch/>
        </p:blipFill>
        <p:spPr>
          <a:xfrm>
            <a:off x="4038480" y="2114640"/>
            <a:ext cx="464832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afterbattle_small"/>
          <p:cNvPicPr/>
          <p:nvPr/>
        </p:nvPicPr>
        <p:blipFill>
          <a:blip r:embed="rId1"/>
          <a:stretch/>
        </p:blipFill>
        <p:spPr>
          <a:xfrm>
            <a:off x="4038480" y="1495440"/>
            <a:ext cx="495324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Underground gallery at Verdun"/>
          <p:cNvPicPr/>
          <p:nvPr/>
        </p:nvPicPr>
        <p:blipFill>
          <a:blip r:embed="rId1"/>
          <a:stretch/>
        </p:blipFill>
        <p:spPr>
          <a:xfrm>
            <a:off x="2971800" y="1681200"/>
            <a:ext cx="594360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weapons crippled the “frozen fro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son gas (mustard g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 gren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me thr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frenchgasmasks"/>
          <p:cNvPicPr/>
          <p:nvPr/>
        </p:nvPicPr>
        <p:blipFill>
          <a:blip r:embed="rId1"/>
          <a:stretch/>
        </p:blipFill>
        <p:spPr>
          <a:xfrm>
            <a:off x="5489640" y="2286000"/>
            <a:ext cx="3179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g fights in the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mbing in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s and London bom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ots fired pistols and threw hand gren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doghanim"/>
          <p:cNvPicPr/>
          <p:nvPr/>
        </p:nvPicPr>
        <p:blipFill>
          <a:blip r:embed="rId1"/>
          <a:stretch/>
        </p:blipFill>
        <p:spPr>
          <a:xfrm>
            <a:off x="4927680" y="1676520"/>
            <a:ext cx="34574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n army moved into Eastern Germany on August 30, 19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strians kicked out of Ser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alians attacked Austria in 19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 came to Austrian aid and pushed Russians back 300 miles into own terr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e47781gigot"/>
          <p:cNvPicPr/>
          <p:nvPr/>
        </p:nvPicPr>
        <p:blipFill>
          <a:blip r:embed="rId1"/>
          <a:stretch/>
        </p:blipFill>
        <p:spPr>
          <a:xfrm>
            <a:off x="4495680" y="169056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 more mobile more than the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loss of life still very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15:  2.5 million Russians killed, captured, or w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4802040" y="1295280"/>
            <a:ext cx="37101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y and Austria Hungary joined by Bulgaria in Sept. 19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acked and eliminated Serbia from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4746600" y="1219320"/>
            <a:ext cx="35434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e inevitability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July 28, 1914 A-H declares war on Ser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July 29, 1914 Russia orders full mobilization of its tr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ugust 1,1914 Germany declares war on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ugust 2, 1914 Germany demands Belgium declare access to German tr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MAP1"/>
          <p:cNvPicPr/>
          <p:nvPr/>
        </p:nvPicPr>
        <p:blipFill>
          <a:blip r:embed="rId1"/>
          <a:stretch/>
        </p:blipFill>
        <p:spPr>
          <a:xfrm>
            <a:off x="4495680" y="2206800"/>
            <a:ext cx="426744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 took war factory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d lower wages than 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shortages made running a household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women_say_go"/>
          <p:cNvPicPr/>
          <p:nvPr/>
        </p:nvPicPr>
        <p:blipFill>
          <a:blip r:embed="rId1"/>
          <a:stretch/>
        </p:blipFill>
        <p:spPr>
          <a:xfrm>
            <a:off x="5057640" y="1447920"/>
            <a:ext cx="3302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old about high death t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diers have died a beautiful death, in noble battle, we shall rediscover poetry…epic and chivalrou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trench3"/>
          <p:cNvPicPr/>
          <p:nvPr/>
        </p:nvPicPr>
        <p:blipFill>
          <a:blip r:embed="rId1"/>
          <a:stretch/>
        </p:blipFill>
        <p:spPr>
          <a:xfrm>
            <a:off x="4267080" y="2273400"/>
            <a:ext cx="487692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spapers described troops as itching to go over the top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ernment reported to the press that life in the trenches promoted good health and clear ai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Poppi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746360"/>
            <a:ext cx="480060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Lea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ops would stay together so they could sympathize wit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02451"/>
          <p:cNvPicPr/>
          <p:nvPr/>
        </p:nvPicPr>
        <p:blipFill>
          <a:blip r:embed="rId1"/>
          <a:stretch/>
        </p:blipFill>
        <p:spPr>
          <a:xfrm>
            <a:off x="4267080" y="2003400"/>
            <a:ext cx="4267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ssible to hide 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men in mou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ly wounded soldiers returned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sition began to eme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ypres-cemeteries1"/>
          <p:cNvPicPr/>
          <p:nvPr/>
        </p:nvPicPr>
        <p:blipFill>
          <a:blip r:embed="rId1"/>
          <a:stretch/>
        </p:blipFill>
        <p:spPr>
          <a:xfrm>
            <a:off x="3809880" y="2209680"/>
            <a:ext cx="5029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ar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17 – Russia surrenders (a separate pe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joins the war on the Allied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. 11, 1918 Armis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armistice"/>
          <p:cNvPicPr/>
          <p:nvPr/>
        </p:nvPicPr>
        <p:blipFill>
          <a:blip r:embed="rId1"/>
          <a:stretch/>
        </p:blipFill>
        <p:spPr>
          <a:xfrm>
            <a:off x="3886200" y="1800360"/>
            <a:ext cx="5257800" cy="38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th Toll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1752480"/>
          <a:ext cx="8077320" cy="2921040"/>
        </p:xfrm>
        <a:graphic>
          <a:graphicData uri="http://schemas.openxmlformats.org/drawingml/2006/table">
            <a:tbl>
              <a:tblPr/>
              <a:tblGrid>
                <a:gridCol w="4038840"/>
                <a:gridCol w="4038480"/>
              </a:tblGrid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ied Pow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 Pow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 million serv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million serv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million casual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million casual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 lost limbs and were muti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thrate fell marked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alids unable to 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nic host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uenza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ychological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such innocence agai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tterness towards aristocratic officers whose lives were never in d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lgium is a country, not a road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King Albert I of Belgium denied per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ugust 2, 1914 Germany declared war o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hy??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he Schlieffen Pla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ugust 4, 1914 Great Britain declared war on Germany for violating Belgian neut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albert"/>
          <p:cNvPicPr/>
          <p:nvPr/>
        </p:nvPicPr>
        <p:blipFill>
          <a:blip r:embed="rId1"/>
          <a:stretch/>
        </p:blipFill>
        <p:spPr>
          <a:xfrm>
            <a:off x="4923000" y="1295280"/>
            <a:ext cx="3417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ww1"/>
          <p:cNvPicPr/>
          <p:nvPr/>
        </p:nvPicPr>
        <p:blipFill>
          <a:blip r:embed="rId1"/>
          <a:stretch/>
        </p:blipFill>
        <p:spPr>
          <a:xfrm>
            <a:off x="457200" y="304920"/>
            <a:ext cx="80010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1914 – 1915 Illusions and Stale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uropeans were excited about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nd yourself against the aggressor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estic differences were put a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bwbay"/>
          <p:cNvPicPr/>
          <p:nvPr/>
        </p:nvPicPr>
        <p:blipFill>
          <a:blip r:embed="rId1"/>
          <a:stretch/>
        </p:blipFill>
        <p:spPr>
          <a:xfrm>
            <a:off x="4876920" y="1523880"/>
            <a:ext cx="38862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1914 – 1915 Illusions and Stale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would be over in a few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nored the length and brutality of the American Civil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ototype to World War 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j0149430[1]"/>
          <p:cNvPicPr/>
          <p:nvPr/>
        </p:nvPicPr>
        <p:blipFill>
          <a:blip r:embed="rId1"/>
          <a:stretch/>
        </p:blipFill>
        <p:spPr>
          <a:xfrm>
            <a:off x="5113440" y="2776680"/>
            <a:ext cx="310824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1914 – 1915 Illusions and Stale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ief that Modern industrial war could not be conducted for more than a few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by Christma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vickersmg"/>
          <p:cNvPicPr/>
          <p:nvPr/>
        </p:nvPicPr>
        <p:blipFill>
          <a:blip r:embed="rId1"/>
          <a:stretch/>
        </p:blipFill>
        <p:spPr>
          <a:xfrm>
            <a:off x="4343400" y="2473200"/>
            <a:ext cx="457200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1914 – 1915 Illusions and Stale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al attraction of 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hilarating release from every day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lorious adven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 would rid the nations of selfish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rk a national re-birth based on hero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2" descr="soldier2"/>
          <p:cNvPicPr/>
          <p:nvPr/>
        </p:nvPicPr>
        <p:blipFill>
          <a:blip r:embed="rId1"/>
          <a:stretch/>
        </p:blipFill>
        <p:spPr>
          <a:xfrm>
            <a:off x="5151600" y="1143000"/>
            <a:ext cx="3186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0T12:40:34Z</dcterms:created>
  <dc:creator>padmin</dc:creator>
  <dc:description/>
  <dc:language>en-US</dc:language>
  <cp:lastModifiedBy>RomaK</cp:lastModifiedBy>
  <dcterms:modified xsi:type="dcterms:W3CDTF">2015-09-04T09:36:03Z</dcterms:modified>
  <cp:revision>12</cp:revision>
  <dc:subject/>
  <dc:title>Slide 1</dc:title>
</cp:coreProperties>
</file>