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A8BC-A913-4595-94A8-27A3ED7D09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4CD4-C948-46DD-9A3D-4F81F54FE9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933F-3CF4-4D91-BB36-035480B286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A546-2A32-4CEF-A6A9-59692FE16A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E912-2C51-4862-8D3A-1660EB5851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7BE7-046F-460C-91A9-FDDB63ED9F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B877-881B-4B16-B2CA-4314C3BF76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47A0-85BC-4CB0-B5EE-3128F3730E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EFDE-841B-4D06-BAE7-8F0F7BA90C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665B-1793-4681-AF9C-27818F55C0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8A2C-56A1-44A1-B00A-17FD591486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A3B3-9B37-4262-A345-2F35A47C02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C16F-8378-4652-BC16-8965978997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B747-13C2-4E37-9FF4-C57D9BCC19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9975-77EF-452D-BCBC-C02082D0B7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9EC1-363B-4445-8B1F-931045DBB1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D25-09B5-461F-979F-CAABA7EE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072B-6B7D-462D-8353-5C6D25FA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525-9291-4630-B69A-2727B117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E6F3-12B6-4217-928B-73326444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53D3-05FD-40E1-AF9F-FC924C3A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DC40-F9B7-478B-A320-B6E2BB84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AD66-41EE-4213-B2B2-E43F979C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27B7-CA8C-41AF-B037-210878E3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877-B624-4B88-9985-61A7FA2E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5D1-A8DB-4E4D-93B7-2EA6D799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AF9-208F-49CA-9DEB-21C23B3E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A563-D67E-4D5E-BDCA-80176867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D498-8E86-4573-95F4-B6BDF1C0B1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39640" y="522360"/>
            <a:ext cx="82803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mic rays are __________ particles from the Sun, ______ and ________. The most common type of particle is a __________ particle. They interact with the Earth’s __________ field. Energy from these charged particles is converted into light which can be seen in the _______ _______ and _______ ______ called Auroras. These bright lights are caused by ________ rays streaming out from the sun and striking earths upper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34560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381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843360" y="189000"/>
            <a:ext cx="53006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324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5796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is a ___________ above the suns surface. A large amount of _________ is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consists of charged particles from the ______ that travel at high speed and produce strong ________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ar _______ interfere with the operation of satellites by interfering with ______________ and _______________. They also can cause ____________  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258920" y="40464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474560"/>
            <a:ext cx="77724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38080" y="63244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11280" y="189000"/>
            <a:ext cx="601956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Solar flares and Cosmic rays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610160" cy="3197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475920"/>
            <a:ext cx="48942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1280" y="3933720"/>
            <a:ext cx="770400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rays interact with the magnetic field of the earth, spiralling around the field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ing a concentration of cosmic rays at the north and south p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284720" y="189000"/>
            <a:ext cx="4557600" cy="6481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50920" y="193680"/>
            <a:ext cx="3673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certain nights these shifting patterns can be seen in the s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are called Aur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bright lights are caused by cosmic rays streaming out from the sun and striking earths upper 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from these charged particles is converted into light and forms visible glows, rays, arcs, bands and vei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ually green but can be red or pur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urora_021002.mpeg" descr=""/>
          <p:cNvPicPr/>
          <p:nvPr/>
        </p:nvPicPr>
        <p:blipFill>
          <a:blip r:embed="rId1"/>
          <a:stretch/>
        </p:blipFill>
        <p:spPr>
          <a:xfrm>
            <a:off x="395280" y="4906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912960" y="609480"/>
            <a:ext cx="731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395280" y="66204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39640" y="612720"/>
            <a:ext cx="8136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RomaK</cp:lastModifiedBy>
  <dcterms:modified xsi:type="dcterms:W3CDTF">2015-08-20T12:27:58Z</dcterms:modified>
  <cp:revision>26</cp:revision>
  <dc:subject>Physics for You Support File</dc:subject>
  <dc:title>Physics for You</dc:title>
</cp:coreProperties>
</file>