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8E72-C371-4911-9CC0-72DE8AB642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AF8-BDB9-46BA-825F-9967E4AAAB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968A-37D0-42C8-A9CD-53ACC73919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F9340-0205-42F4-8A9E-6ED83F5EB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8BFF-9D06-48B5-AF6D-62865F9935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350-C649-4C00-A5DE-7E70AE5ECA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1A4D-239C-45EF-ADFE-50D266287F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A48F-03D8-46B0-A926-663100A87C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B3AA-6FE9-4352-BA90-BD9668DF79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323-8FEB-4760-B215-1F0BCB4135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B535-5D63-4DA2-89D2-F5257931BB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FCCA-7BB6-42BC-8A51-FCACA62DCE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A6F31-C82D-422E-A07A-8F975FFC34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C0B-DE60-4D4A-A9E0-2EF457455E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120A-7BA5-4F86-AF74-9EED0988E2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0979-DBBD-4AF4-AAC0-2AB701AD1C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FD02-FCBB-4135-BB82-4BC57D98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4818-F0CC-4FA7-8906-25A536D2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34A-86B6-4E07-A233-F8B9BD8E0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AAE8-29CE-4C48-9E9A-945B2F81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774-9176-4B51-B6FC-12145DE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C9B-E17D-49E6-B6F2-B47FD2B3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60A3-C25C-4F32-9AF8-E391ED2A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5B2-BCC7-4F64-940D-5EF806C4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5DB-109B-4400-B07C-B4D97F2C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4E1-BBCF-41E1-A872-DF3608E3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AE43-9034-40FC-8DF7-C9D98AC8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F3D-D599-4595-A103-38A36A2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50D-832C-4514-B921-EFD848FA19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 and 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raw in the back of your book the life cycle of a s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539640" y="522360"/>
            <a:ext cx="828036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smic rays are __________ particles from the Sun, ______ and ________. The most common type of particle is a __________ particle. They interact with the Earth’s __________ field. Energy from these charged particles is converted into light which can be seen in the _______ _______ and _______ ______ called Auroras. These bright lights are caused by ________ rays streaming out from the sun and striking earths upper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34560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3381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solar flare is a violent explosion above the suns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large amount of energy is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3843360" y="189000"/>
            <a:ext cx="5300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06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lar flares may last for 10 mins and will produce more energy than a MILLION hydrogen bomb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is a peak in this type of activity ever 10-11 yrs, during which large numbers of charged particles are released at very high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results in the production of a magnetic field that interacts with the earths magnetic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3240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ly  a small amount of energy reaches the earth from a solar flare, but it is enough to interfere with radio and microwave trans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also affect electrical power distribution in the national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348000" y="260280"/>
            <a:ext cx="579600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1430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is a ___________ above the suns surface. A large amount of _________ is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olar flare consists of charged particles from the ______ that travel at high speed and produce strong ________ fiel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lar _______ interfere with the operation of satellites by interfering with ______________ and _______________. They also can cause ____________ 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258920" y="404640"/>
            <a:ext cx="61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ar fla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474560"/>
            <a:ext cx="77724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mic rays are fast-moving ionising particles from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104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arth’s magnetic field prevents them from reaching us because they would be ver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ar flares (bursts of energy from the Sun) interfere with these satellit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38080" y="6324480"/>
            <a:ext cx="17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8080"/>
                </a:solidFill>
                <a:latin typeface="Arial"/>
              </a:rPr>
              <a:t>P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11280" y="189000"/>
            <a:ext cx="601956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Solar flares and Cosmic rays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should lear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are not really rays at all, they are a stream of particles of ionised ato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can range from a single proton to the nucleus of an iron atom-or lar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ost common cosmic ray is a alpha particle (3protons and 2 neutr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smic rays originate in space and are produced form sourc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ther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upernova and their re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utron stars and black ho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nt galax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610160" cy="31975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475920"/>
            <a:ext cx="48942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mic ray particles are travelling at speeds close to that of light and they have a lot of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611280" y="3933720"/>
            <a:ext cx="7704000" cy="24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rays interact with the magnetic field of the earth, spiralling around the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ing a concentration of cosmic rays at the north and south p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557600" cy="648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250920" y="193680"/>
            <a:ext cx="3673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 certain nights these shifting patterns can be seen in the sk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are called Aur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bright lights are caused by cosmic rays streaming out from the sun and striking earths upper atm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from these charged particles is converted into light and forms visible glows, rays, arcs, bands and vei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 green but can be red or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urora_021002.mpeg" descr=""/>
          <p:cNvPicPr/>
          <p:nvPr/>
        </p:nvPicPr>
        <p:blipFill>
          <a:blip r:embed="rId1"/>
          <a:stretch/>
        </p:blipFill>
        <p:spPr>
          <a:xfrm>
            <a:off x="395280" y="49068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912960" y="609480"/>
            <a:ext cx="7318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395280" y="66204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539640" y="612720"/>
            <a:ext cx="8136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ith Johnson (c)   www.timetabler.com</dc:creator>
  <dc:description>Show Full Screen, via &lt;F5&gt;, or right-click with mouse.</dc:description>
  <cp:keywords>GCSE Physics  (c) Keith and Ann Johnson</cp:keywords>
  <dc:language>en-US</dc:language>
  <cp:lastModifiedBy>RomaK</cp:lastModifiedBy>
  <dcterms:modified xsi:type="dcterms:W3CDTF">2015-08-20T12:27:58Z</dcterms:modified>
  <cp:revision>26</cp:revision>
  <dc:subject>Physics for You Support File</dc:subject>
  <dc:title>Physics for You</dc:title>
</cp:coreProperties>
</file>