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E30F-328F-449F-8BF8-EE3DFC9E32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C20B-2CF5-44AA-970F-B9C76DD73E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s and solar 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aw in the back of your book the life cycle of a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174F-2238-48F4-BF1F-3DEC9833C0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1F8E-D1A6-4262-ADFE-D50417CEF9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0571-5DB6-4EB8-972B-7271B60781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olar flare is a violent explosion above the sun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large amount of energy is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939B-FD04-4C36-B0E7-8F96990D2A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ar flares may last for 10 mins and will produce more energy than a MILLION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peak in this type of activity ever 10-11 yrs, during which large numbers of charged particles are released at very high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results in the production of a magnetic field that interacts with the earths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7001-C7F2-45CF-A2B7-184B9F9549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 a small amount of energy reaches the earth from a solar flare, but it is enough to interfere with radio and microwave trans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y can also affect electrical power distribution in the national 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C488-4940-4172-A58C-3631386456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6D57-8D86-40F9-871C-E971482723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ic rays are fast-moving ionising particles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magnetic field prevents them from reaching us because they would be very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s (bursts of energy from the Sun) interfere with these satellit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CA08-3D73-4115-8AB5-F78C57A525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are not really rays at all, they are a stream of particles of ionis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range from a single proton to the nucleus of an iron atom-or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st common cosmic ray is a alpha particle (3protons and 2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originate in space and are produced form sour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ernova and their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tron stars and 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8B4B-5CEF-46F3-9EFB-51935F0D73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 particles are travelling at speeds close to that of light and they have a lot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6710-45B2-4AF7-B623-53862CD8FE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CC85-5D6A-4CEA-BA76-016C1A3C87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E0E2-6497-4ABB-8881-1AC2A27240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6301-DAA5-470B-B385-B7FE0F0E54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059E-4BB4-4C6F-AFDD-24367EE581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2385-DC8F-47E0-B88C-26845651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64B-8C3F-4BD3-A7EA-C71C6370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B69-7A56-46B7-9D7B-89B6CF2C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C4A-2CCF-4E34-ADAE-E9CEDE70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479-8399-4517-A797-BA3EDAF3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25A-872B-4D82-8828-01ABB7D7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5A7A-B747-4DF9-BBB7-5152F4D3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657C-4ACD-4A28-A7D8-1EF7330D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316-17AE-49E0-960C-4052EDF4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A59-00B9-4C33-B3A0-0A197F14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C081-686C-4016-A8D0-763C28F8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2A5-BE1D-4008-84F4-7D505E3B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103B-4EBC-40EC-A3E7-6E1D4A363A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smic rays and 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raw in the back of your book the life cycle of a 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39640" y="522360"/>
            <a:ext cx="82803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smic rays are __________ particles from the Sun, ______ and ________. The most common type of particle is a __________ particle. They interact with the Earth’s __________ field. Energy from these charged particles is converted into light which can be seen in the _______ _______ and _______ ______ called Auroras. These bright lights are caused by ________ rays streaming out from the sun and striking earths upper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34560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381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olar flare is a violent explosion above the suns su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large amount of energy is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843360" y="189000"/>
            <a:ext cx="53006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ar flares may last for 10 mins and will produce more energy than a MILLION hydrogen bom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 is a peak in this type of activity ever 10-11 yrs, during which large numbers of charged particles are released at very high sp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results in the production of a magnetic field that interacts with the earths magnetic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324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 a small amount of energy reaches the earth from a solar flare, but it is enough to interfere with radio and microwave trans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also affect electrical power distribution in the national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5796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olar flare is a ___________ above the suns surface. A large amount of _________ is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olar flare consists of charged particles from the ______ that travel at high speed and produce strong ________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ar _______ interfere with the operation of satellites by interfering with ______________ and _______________. They also can cause ____________  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258920" y="40464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474560"/>
            <a:ext cx="77724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mic rays are fast-moving ionising particles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th’s magnetic field prevents them from reaching us because they would be very harm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ar flares (bursts of energy from the Sun) interfere with these satellit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38080" y="63244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11280" y="189000"/>
            <a:ext cx="601956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Solar flares and Cosmic rays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are not really rays at all, they are a stream of particles of ionis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range from a single proton to the nucleus of an iron atom-or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st common cosmic ray is a alpha particle (3protons and 2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originate in space and are produced form sour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ernova and their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tron stars and 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610160" cy="3197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475920"/>
            <a:ext cx="48942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smic ray particles are travelling at speeds close to that of light and they have a lot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1280" y="3933720"/>
            <a:ext cx="770400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rays interact with the magnetic field of the earth, spiralling around the field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ing a concentration of cosmic rays at the north and south p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284720" y="189000"/>
            <a:ext cx="4557600" cy="6481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50920" y="193680"/>
            <a:ext cx="3673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certain nights these shifting patterns can be seen in the s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are called Aur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bright lights are caused by cosmic rays streaming out from the sun and striking earths upper 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from these charged particles is converted into light and forms visible glows, rays, arcs, bands and vei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ually green but can be red or pur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urora_021002.mpeg" descr=""/>
          <p:cNvPicPr/>
          <p:nvPr/>
        </p:nvPicPr>
        <p:blipFill>
          <a:blip r:embed="rId1"/>
          <a:stretch/>
        </p:blipFill>
        <p:spPr>
          <a:xfrm>
            <a:off x="395280" y="49068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912960" y="609480"/>
            <a:ext cx="731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395280" y="66204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39640" y="612720"/>
            <a:ext cx="8136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RomaK</cp:lastModifiedBy>
  <dcterms:modified xsi:type="dcterms:W3CDTF">2015-08-20T12:27:58Z</dcterms:modified>
  <cp:revision>26</cp:revision>
  <dc:subject>Physics for You Support File</dc:subject>
  <dc:title>Physics for You</dc:title>
</cp:coreProperties>
</file>