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01E2-E1DF-4558-BF30-04CCBB181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D599-4AA4-4421-BB8E-D1300F65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CB8-1AF6-44D5-B40B-C81B36EE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9B0A-8C04-4340-95E0-6590035F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4237-282A-43CB-AFDC-394A7C32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6088-CCE9-40F0-8A94-C74CBA0B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1522-21DB-41D7-BC3E-120AD499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99C0-8294-4224-969C-3E2E4760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E71F-D978-41B2-B0F0-3208B21E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2C88-3A8F-4B3E-9761-077688E4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D28F-9E5C-41B3-810B-9275DC72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4D79-B78D-44CB-8A8C-0254092C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EA01-EF89-4FE6-ACA5-4831B64B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0151-FBC2-4132-BAA9-193177A3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C6EA-B1F9-4798-A00B-80110943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F6DE-AE1C-4F46-BBAF-1074EB8A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5B7A-E44F-442A-BB78-73663013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7B38-BE29-4B0F-BB39-00339A95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B51F-4637-49ED-BA0F-9A444293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5E5C-E22C-43D8-B4AD-EC9BC339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E0C6-1589-4619-9BEE-964E9BFA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837-EE5C-4828-AAA1-2C8FD49B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0CD-CAD1-431F-974A-BD8C3D99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B4CC-174F-4F7B-9AEF-D92EB19E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174D-5174-486E-86CC-B100DCBA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3819-6CDA-4AE4-9376-5220F7B7F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12CF-70BF-4873-B873-BD46D855B3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ddess" TargetMode="External"/><Relationship Id="rId2" Type="http://schemas.openxmlformats.org/officeDocument/2006/relationships/hyperlink" Target="http://en.wikipedia.org/wiki/Mercantile" TargetMode="External"/><Relationship Id="rId3" Type="http://schemas.openxmlformats.org/officeDocument/2006/relationships/hyperlink" Target="http://en.wikipedia.org/wiki/Ti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sia Minor Standard 10.1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s is the area were most civilization began in prehistory and history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many water ways and food source the fertile crescent became the center of the universe to its peopl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It is believed that this area was an abundant food source to the hunters and gather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farming a bi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population of people emerged out of the lan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The people of the Asia Minor Standard 10.1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esopotamia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gyp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Sumeri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Aramae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Phoenici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Lydia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ertile_crescent_350"/>
          <p:cNvPicPr/>
          <p:nvPr/>
        </p:nvPicPr>
        <p:blipFill>
          <a:blip r:embed="rId2"/>
          <a:stretch/>
        </p:blipFill>
        <p:spPr>
          <a:xfrm>
            <a:off x="1905120" y="350532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Greek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 Greeks sprang out of three civilizations,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ino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ycenae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Dorian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19360" y="837720"/>
            <a:ext cx="4724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Both civilizations are known as the Aegean civilization which lived around the Mediterranean sea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28600" y="56386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6" descr="asiaminormap"/>
          <p:cNvPicPr/>
          <p:nvPr/>
        </p:nvPicPr>
        <p:blipFill>
          <a:blip r:embed="rId1"/>
          <a:stretch/>
        </p:blipFill>
        <p:spPr>
          <a:xfrm>
            <a:off x="4495680" y="3124080"/>
            <a:ext cx="2800440" cy="261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Minoan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inoans lived on the islands off Greec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Minoans culture is often characterized as a society centered on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ddess</a:t>
            </a: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worship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Minoans were primarily a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mercantil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eople engaged in overseas trade. Many historians and archaeologists believe that the Minoans were involved in the Bronze Age's important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ti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rade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Knossos_bull"/>
          <p:cNvPicPr/>
          <p:nvPr/>
        </p:nvPicPr>
        <p:blipFill>
          <a:blip r:embed="rId4"/>
          <a:stretch/>
        </p:blipFill>
        <p:spPr>
          <a:xfrm>
            <a:off x="1447920" y="1295280"/>
            <a:ext cx="5165640" cy="337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were the Mycenaen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he Mycenaens lived on the main land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Mycenaean civilization was dominated by a warrior aristocracy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Not only did the Mycenaeans defeat the Minoans, but according to legend, they defeated Troy, a powerful city-stat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The Mycenaean period flourished between 1600BC and the collapse of their Bronze-Age civilization around 1100BC.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ap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09" name="Picture 5" descr="europa-popoli"/>
          <p:cNvPicPr/>
          <p:nvPr/>
        </p:nvPicPr>
        <p:blipFill>
          <a:blip r:embed="rId1"/>
          <a:stretch/>
        </p:blipFill>
        <p:spPr>
          <a:xfrm>
            <a:off x="4038480" y="762120"/>
            <a:ext cx="4870440" cy="58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edseamaplarge"/>
          <p:cNvPicPr/>
          <p:nvPr/>
        </p:nvPicPr>
        <p:blipFill>
          <a:blip r:embed="rId2"/>
          <a:stretch/>
        </p:blipFill>
        <p:spPr>
          <a:xfrm>
            <a:off x="0" y="76212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152280" y="5410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How the Greeks became a civilization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overtook the Minoans and the two merg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became powerful, but civil war weakened its strong fortresses and when invaders came they were easily overtak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invaders were the Dorians who spoke the Greek languag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With the invaders the lost of many skills followed. Skills such as writing and boat making. This was know as the Dark Age for Greec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066680" y="5943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ime Lin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inoans 2500 B.C. -1450 B.C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ycenaeans 2000 B.C.- 1150 B.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Dorians 1150B.C – 700B.C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(Dark Age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The Greeks (HELLENIC) emerged from the mix of these three civilizations to rule from 700B.C. to 336  B.C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hat we know as the Greeks were influenced more by the culture of these three civilization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23440" y="57913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01:38:55Z</dcterms:created>
  <dc:creator>Jason lundblad</dc:creator>
  <dc:description/>
  <cp:keywords/>
  <dc:language>en-US</dc:language>
  <cp:lastModifiedBy>RomaK</cp:lastModifiedBy>
  <dcterms:modified xsi:type="dcterms:W3CDTF">2015-09-04T09:35:56Z</dcterms:modified>
  <cp:revision>5</cp:revision>
  <dc:subject/>
  <dc:title>Who are the Greek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01033</vt:lpwstr>
  </property>
</Properties>
</file>