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D070-4DC8-4609-9526-B26DFEEBE883}"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0A991-AF59-421A-B0CF-4804554D2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64F44-59DA-483E-A798-20B074E05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F052A-CD87-4FD3-A9BD-939C08612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66F6A-4AD0-4628-8B02-0D72F0F49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7B87E-9AC7-424E-8613-B38C266F0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3D37A-D724-4850-813D-FF4020852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019DB-F99B-472A-A096-ADDD199BE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10804-14BE-4F23-BCAE-606326D81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EF171-067C-4669-8066-828A2763F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049E7-143B-4C56-8653-4379C98CB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1FB13-2B0C-484A-BEE9-2BD939298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FEC14-5D7C-4426-AC05-75D562321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F5F19-905D-47B9-B98F-D9F41E67D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82F85-30E0-42FB-BC43-A037AD1F6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7C181-372A-4C57-903D-A80FEF417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7EBD2-A892-421D-A47F-40E7E5515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CE5D5-F401-4827-ACFB-D9455A495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BAF7D-2C00-499F-BE91-8088A1264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BE59C-2DC1-4F7B-9BFC-BC61103B9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82186-9E56-4533-A739-0ACECD0DB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C3FE5-862D-4494-AAC8-FAE0A707A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2B37-F9A7-4FF4-B54A-CB29CAC8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14F6-77F9-4885-9DAC-9CBFCEA02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6910D-386F-4904-B199-B528094FA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8592-C8D2-415F-BED6-9325B1E1C033}"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A0D4-82FD-4CBF-9204-802E8CA024F3}"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RomaK</cp:lastModifiedBy>
  <dcterms:modified xsi:type="dcterms:W3CDTF">2015-09-04T09:35:48Z</dcterms:modified>
  <cp:revision>6</cp:revision>
  <dc:subject/>
  <dc:title>What were Social effects of the industrial revolution</dc:title>
</cp:coreProperties>
</file>