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F3B3-D527-4E35-878E-601F0325C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ord culture, from the Latin colo, -ere, with its root meaning "to cultivate“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lture refers to the universal human capacity to classify, and communicate their experiences symbolically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culture, from the Latin colo, -ere, with its root meaning "to cultivate“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e refers to the universal human capacity to classify, and communicate their experiences symbolical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lture -  has been called "the way of life for an entire society." As such, it includes codes of manners, dress, language, religion, rituals, norms of behaviors and systems of belief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e -  has been called "the way of life for an entire society." As such, it includes codes of manners, dress, language, religion, rituals, norms of behaviors and systems of belie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lu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itu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ac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f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lues comprise ideas about what in life seems importan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Fast write) What are the Values in the United States and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comprise ideas about what in life seems impor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ast write) What are the Values in the United States and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s consist of expectations of how people will behave in various situation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Fast write) What are the norms in the United states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s consist of expectations of how people will behave in various situ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ast write) What are the norms in the United stat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t write) What institution do you go to daily and show values and social norm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write) What institution do you go to daily and show values and social nor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t write) What artifact in your life describes you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write) What artifact in your life describes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cultures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lting Pot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culturalism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cultu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culturalis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14BA-9C52-4C51-9FB6-4473B954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90FE-B33A-46F6-86FE-AB0CA9D5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E09C-5168-4229-A64B-FB6FDE4C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2F13-0E35-485B-A17C-670EE6F04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F426-CF79-4882-9B17-A5296AA8B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D9D4-1B78-47D8-B9CB-7F9AFE74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FF61-BA84-495F-9FBE-CF526F88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11CA-9941-4993-B86F-0E7D4B63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1FA8-6698-4030-A720-B52251A1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7D46-7362-4E78-BD86-E943725C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A111-03FA-4905-9AA6-04D91A71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A838-BFF3-4F48-8892-4808F14C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FCE3-C99E-4F01-B64B-A61040B0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FF65-A953-4C97-960B-3299AFD5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51E1-6BD6-4D7B-86A3-CB9989B7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BA59-7FED-49F0-88B7-D8E096E3E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1328-C376-4826-B91F-CA154D8D2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F477-3F51-44C2-ADB6-D4776C2E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73EC-1007-4DF8-8FD2-C016A96C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EF88-A955-420E-9C3C-38E566A8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9552-13C6-49F8-A9DC-5A3DE167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CF6F-8647-47A8-909D-FEFD6CAD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E8F1-3F30-4DEC-B7DF-2E8E3AA9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7C23-8A03-4AC7-B48C-B8A034BD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FB0D-ABAB-4F5A-BF65-3EE56596E2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86D6-9859-4BFB-8555-A7E0A8A0E8A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Latin" TargetMode="External"/><Relationship Id="rId2" Type="http://schemas.openxmlformats.org/officeDocument/2006/relationships/hyperlink" Target="http://en.wikipedia.org/wiki/Symbol" TargetMode="External"/><Relationship Id="rId3" Type="http://schemas.openxmlformats.org/officeDocument/2006/relationships/image" Target="../media/image1.jpeg"/><Relationship Id="rId4" Type="http://schemas.openxmlformats.org/officeDocument/2006/relationships/hyperlink" Target="http://images.google.com/imgres?imgurl=http://www.tvdance.com/william-hung/william-hung-american-idol-reject.jpg&amp;imgrefurl=http://www.tvdance.com/william-hung/&amp;h=162&amp;w=158&amp;sz=5&amp;hl=en&amp;start=6&amp;tbnid=Qq_kns9gSFciBM:&amp;tbnh=98&amp;tbnw=96&amp;prev=/images%3Fq%3DAmerican%2Bidol%26svnum%3D10%26hl%3Den%26lr%3D%26rls%3DGWYE,GWYE:2006-32,GWYE:en%26sa%3DN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eligion" TargetMode="External"/><Relationship Id="rId2" Type="http://schemas.openxmlformats.org/officeDocument/2006/relationships/hyperlink" Target="http://en.wikipedia.org/wiki/Rituals" TargetMode="External"/><Relationship Id="rId3" Type="http://schemas.openxmlformats.org/officeDocument/2006/relationships/hyperlink" Target="http://images.google.com/imgres?imgurl=http://waste2glass.com/images/right_side_picts/worship.jpg&amp;imgrefurl=http://waste2glass.com/worship.html&amp;h=202&amp;w=274&amp;sz=11&amp;hl=en&amp;start=1&amp;tbnid=GoNhRXGRKlojDM:&amp;tbnh=83&amp;tbnw=113&amp;prev=/images%3Fq%3Dworship%26svnum%3D10%26hl%3Den%26lr%3D%26rls%3DGWYE,GWYE:2006-32,GWYE:en%26sa%3DN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m/imgres?imgurl=http://www.fashion-411.com/Trends/TrendsS06/JillStuartDress.jpg&amp;imgrefurl=http://www.fashion-411.com/&amp;h=480&amp;w=320&amp;sz=43&amp;hl=en&amp;start=10&amp;tbnid=zeTHEfacg8V8rM:&amp;tbnh=129&amp;tbnw=86&amp;prev=/images%3Fq%3Dfashion%26svnum%3D10%26hl%3Den%26lr%3D%26rls%3DGWYE,GWYE:2006-32,GWYE:en%26sa%3D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com/imgres?imgurl=http://www.mdlsoft.co.uk/PrimaryPics1/hello.jpg&amp;imgrefurl=http://www.mdlsoft.co.uk/PrimaryPics.htm&amp;h=198&amp;w=213&amp;sz=4&amp;hl=en&amp;start=9&amp;tbnid=mgDjUhRF8lycSM:&amp;tbnh=99&amp;tbnw=106&amp;prev=/images%3Fq%3Dhello%26svnum%3D10%26hl%3Den%26lr%3D%26rls%3DGWYE,GWYE:2006-32,GWYE:en%26sa%3DG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Value_%28personal_and_cultural%29" TargetMode="External"/><Relationship Id="rId2" Type="http://schemas.openxmlformats.org/officeDocument/2006/relationships/hyperlink" Target="http://en.wikipedia.org/wiki/Norm_%28sociology%29" TargetMode="External"/><Relationship Id="rId3" Type="http://schemas.openxmlformats.org/officeDocument/2006/relationships/hyperlink" Target="http://en.wikipedia.org/wiki/Institutions" TargetMode="External"/><Relationship Id="rId4" Type="http://schemas.openxmlformats.org/officeDocument/2006/relationships/hyperlink" Target="http://en.wikipedia.org/wiki/Artifact_%28archaeology%29" TargetMode="External"/><Relationship Id="rId5" Type="http://schemas.openxmlformats.org/officeDocument/2006/relationships/hyperlink" Target="http://images.google.com/imgres?imgurl=http://www3.cancer.gov/rrp/cdrp/images/shaking-hands.jpg&amp;imgrefurl=http://www3.cancer.gov/rrp/cdrp/&amp;h=253&amp;w=250&amp;sz=22&amp;tbnid=29cOG1RZXHPe5M:&amp;tbnh=106&amp;tbnw=104&amp;prev=/images%3Fq%3Dshaking%2Bhands&amp;start=3&amp;sa=X&amp;oi=images&amp;ct=image&amp;cd=3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google.com/imgres?imgurl=http://library.thinkquest.org/J003358F/money_tree5.jpg&amp;imgrefurl=http://library.thinkquest.org/J003358F/trivia.html&amp;h=1762&amp;w=1949&amp;sz=1139&amp;hl=en&amp;start=8&amp;tbnid=kFA6lC91uco_eM:&amp;tbnh=136&amp;tbnw=150&amp;prev=/images%3Fq%3Dmoney%26svnum%3D10%26hl%3Den%26lr%3D%26rls%3DGWYE,GWYE:2006-32,GWYE:en%26sa%3DN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google.com/imgres?imgurl=http://www.rapides.k12.la.us/VI/School%2520House.jpg&amp;imgrefurl=http://www.rapides.k12.la.us/VI/mspublisher.htm&amp;h=1119&amp;w=779&amp;sz=215&amp;hl=en&amp;start=5&amp;tbnid=CIMW4mm9Zm0SsM:&amp;tbnh=150&amp;tbnw=104&amp;prev=/images%3Fq%3Dschool%2Bhouse%26svnum%3D10%26hl%3Den%26lr%3D%26rls%3DGWYE,GWYE:2006-32,GWYE:en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images.google.com/imgres?imgurl=http://www.cr.nps.gov/history/online_books/nace/images/fig5.jpg&amp;imgrefurl=http://www.cr.nps.gov/history/online_books/nace/adhi2a.htm&amp;h=341&amp;w=450&amp;sz=20&amp;hl=en&amp;start=3&amp;tbnid=S6nTmQs2Od-p2M:&amp;tbnh=96&amp;tbnw=127&amp;prev=/images%3Fq%3DLincoln%2Bmemorial%26svnum%3D10%26hl%3Den%26lr%3D%26rls%3DGWYE,GWYE:2006-32,GWYE:en%26sa%3DG" TargetMode="External"/><Relationship Id="rId12" Type="http://schemas.openxmlformats.org/officeDocument/2006/relationships/image" Target="../media/image9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dwarereport.com/mt/archives/ipods.jpg&amp;imgrefurl=http://www.adwarereport.com/mt/archives/cat_news.html&amp;h=227&amp;w=406&amp;sz=24&amp;hl=en&amp;start=1&amp;tbnid=jFg3e8eru5LEGM:&amp;tbnh=69&amp;tbnw=124&amp;prev=/images%3Fq%3Dipods%26svnum%3D10%26hl%3Den%26lr%3D%26rls%3DGWYE,GWYE:2006-32,GWYE:en%26sa%3D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sers.ox.ac.uk/~newc2520/napoleon%2520dynamite.jpg&amp;imgrefurl=http://users.ox.ac.uk/~newc2520/dynamite.htm&amp;h=768&amp;w=1024&amp;sz=141&amp;hl=en&amp;start=7&amp;tbnid=tQ9_Tzn67A4ctM:&amp;tbnh=113&amp;tbnw=150&amp;prev=/images%3Fq%3Dnapoleon%2Bdynamite%26svnum%3D10%26hl%3Den%26lr%3D%26rls%3DGWYE,GWYE:2006-32,GWYE:en%26sa%3DX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hecancerblog.com/media/2006/05/mcdonalds.jpg&amp;imgrefurl=http://www.thecancerblog.com/2006/05/10/fast-food-notion-from-a-fast-food-nation-icon/&amp;h=152&amp;w=171&amp;sz=10&amp;hl=en&amp;start=17&amp;tbnid=PUYmKQH8RNhdSM:&amp;tbnh=89&amp;tbnw=100&amp;prev=/images%3Fq%3Dfast%2Bfood%26svnum%3D10%26hl%3Den%26lr%3D%26rls%3DGWYE,GWYE:2006-32,GWYE:en%26sa%3DX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m/imgres?imgurl=http://www.daphnes-restaurant.co.uk/support/6/images/conservatory1.jpg&amp;imgrefurl=http://www.daphnes-restaurant.co.uk/index.asp%3Farea%3D6&amp;h=280&amp;w=431&amp;sz=30&amp;hl=en&amp;start=16&amp;tbnid=yxfv-nd__iSutM:&amp;tbnh=82&amp;tbnw=126&amp;prev=/images%3Fq%3Drestaurant%26svnum%3D10%26hl%3Den%26lr%3D%26rls%3DGWYE,GWYE:2006-32,GWYE:en%26sa%3DX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helleytherepublican.com/uploaded_images/america-790957.jpg&amp;imgrefurl=http://shelleytherepublican.com/&amp;h=538&amp;w=800&amp;sz=56&amp;hl=en&amp;start=7&amp;tbnid=G2KoXZKrs8KRVM:&amp;tbnh=96&amp;tbnw=143&amp;prev=/images%3Fq%3DAmerica%2B%26svnum%3D10%26hl%3Den%26lr%3D%26rls%3DGWYE,GWYE:2006-32,GWYE:en%26sa%3D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www.calendars.com/images/014/1433/200500001001_hs.jpg&amp;imgrefurl=http://www.calendars2004.com/america/&amp;h=144&amp;w=145&amp;sz=6&amp;hl=en&amp;start=9&amp;tbnid=-SG89jd9s7nCEM:&amp;tbnh=94&amp;tbnw=95&amp;prev=/images%3Fq%3DAmerica%2Bmonuments%26svnum%3D10%26hl%3Den%26lr%3D%26rls%3DGWYE,GWYE:2006-32,GWYE:en%26sa%3DG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ult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from the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Lat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lo, -e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with its root meaning "to cultivate“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lture refers to the universal human capacity to classify, and communicate their experience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symbolical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8" descr="farming"/>
          <p:cNvPicPr/>
          <p:nvPr/>
        </p:nvPicPr>
        <p:blipFill>
          <a:blip r:embed="rId3"/>
          <a:stretch/>
        </p:blipFill>
        <p:spPr>
          <a:xfrm>
            <a:off x="914400" y="3733920"/>
            <a:ext cx="2004840" cy="2819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william-hung-american-idol-rejec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52880" y="4267080"/>
            <a:ext cx="2389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e -  has been called "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way of lif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an entire society." As such, it includes codes of manners, dress, language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relig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ritu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norms of behaviors and systems of belief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worshi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4343400"/>
            <a:ext cx="3047760" cy="2238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JillStuartDres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72200" y="4038480"/>
            <a:ext cx="1778040" cy="2667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hell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772400" y="152280"/>
            <a:ext cx="100980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valu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nor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institu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Artifact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7" descr="http://www3.cancer.gov/rrp/cdrp/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4343400"/>
            <a:ext cx="990720" cy="1009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money_tree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91520" y="3048120"/>
            <a:ext cx="1428480" cy="1295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School%2520Hous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81480" y="4724280"/>
            <a:ext cx="99072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fig5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276720" y="5638680"/>
            <a:ext cx="1209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ues comprise ideas about what in life seems importa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ast write) What are the Values in the United States and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ipo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4191120"/>
            <a:ext cx="30859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s consist of expectations of how people will behave in various situat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ast write) What are the norms in the United stat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napoleon%2520dynam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4419720"/>
            <a:ext cx="295272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1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 write) What institution do you go to daily and show values and social norm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mcdonal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5105520"/>
            <a:ext cx="1828800" cy="1627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conservatory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0080" y="4800600"/>
            <a:ext cx="310536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1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 write) What artifact in your life describes yo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5" descr="america-7909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4952880"/>
            <a:ext cx="1362240" cy="914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200500001001_h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4952880"/>
            <a:ext cx="1523880" cy="1508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3608"/>
          <p:cNvPicPr/>
          <p:nvPr/>
        </p:nvPicPr>
        <p:blipFill>
          <a:blip r:embed="rId5"/>
          <a:stretch/>
        </p:blipFill>
        <p:spPr>
          <a:xfrm>
            <a:off x="4343400" y="4648320"/>
            <a:ext cx="1479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bculture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ting Pot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culturalism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04:34:37Z</dcterms:created>
  <dc:creator>Jason lundblad</dc:creator>
  <dc:description/>
  <dc:language>en-US</dc:language>
  <cp:lastModifiedBy>RomaK</cp:lastModifiedBy>
  <dcterms:modified xsi:type="dcterms:W3CDTF">2015-09-04T09:35:42Z</dcterms:modified>
  <cp:revision>8</cp:revision>
  <dc:subject/>
  <dc:title>What is culture? Standard 10.1</dc:title>
</cp:coreProperties>
</file>