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809E-CD0B-4541-AFD8-1F4ACCE162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F8DCE-DBE3-40D7-9AF3-4BE9E6421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EF1DF-2BDB-4F4B-BF3C-BD26EB454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14696-0643-412C-95EF-EC7B685F9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95D7B-E998-40D5-87E1-97E3B21AD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ABE95-5733-45CE-A5BE-3F2CFF08E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B01BB-E1CC-4F85-9901-4CE6F4349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5D144-AA52-434C-A472-7238FB297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6562C-4EE9-46B5-91C9-1292016FC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BB739-35E3-4050-B3F0-984B40FE4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A77E1-A80E-4E1B-91CB-23DC0D239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42464-5983-41D6-AE2C-A36269CB3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B229C-5754-44FD-A339-DED0C5CF2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7D5BE-2D06-457F-9FDC-7EAE72FE6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420AA-708B-4174-AB0D-947624DA2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FE7FF-3EDC-43D1-8A2D-7B0917AAA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9EA77-97AE-477E-97E3-E0339FED25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630CA-CFA4-4B18-8927-345E51690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E75B5-18AC-4207-97F9-89386DCA9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BB9E8-E97C-4DE3-A2C3-57C0E762B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B7017-D231-4432-B4B1-70C83A7CB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8770A-5469-4F1D-B3D6-C55CB35C8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0D7A3-F24C-4CB7-958E-2BAB9BA39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59E7F-D928-4C3F-8693-6235BD08E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099DB-E2E0-4E18-A001-192C44983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3137-D007-44B2-A86C-D2E3823B501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5166-4DCB-40A3-B4E2-F51102D46D34}"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RomaK</cp:lastModifiedBy>
  <dcterms:modified xsi:type="dcterms:W3CDTF">2015-09-04T09:35:35Z</dcterms:modified>
  <cp:revision>9</cp:revision>
  <dc:subject/>
  <dc:title>What is civilization?</dc:title>
</cp:coreProperties>
</file>